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28E6-9D87-44C6-92C0-EB090D79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042F-7040-4498-B817-ACAE70F1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22A5-3BCC-4171-9AB1-B2B13253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51F9-C3DB-4311-AF4E-9D29221B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A4A0-AE49-4141-880C-04743002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158F-439F-40D2-9AAA-1CFE5B31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CE52-7968-4F6F-A2CF-741B080F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4ABD-F292-4367-8D36-13AADA05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4A3E-7C43-476A-91F3-88DC8BBE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97D5-6520-423E-9470-C787D4B1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5453-9564-48C0-9735-679633EC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7780-9556-4F1C-AA74-7A914FD2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A93A-8F84-4523-9EF0-52CE9A39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FC75-F289-4517-81BC-2C9545F5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A580-8D4D-48B5-B83F-ECAA2E79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33F4-5C5C-48C2-9EC3-5CB1E6D1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D0AF-8E59-4024-AB63-FB0EB9E0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AAF6-CE2E-458E-9DD0-A4F56E00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2C8B-B9DF-4906-A14D-20618B36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6FFC-AF4A-440F-B6F6-B23F3B83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3DC4-6F1C-4626-A8E3-619F892F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954C-A1CD-4A4E-A614-31CA21AD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6394-65FE-4936-8075-962FF4F0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9835-66FA-42D7-ABD2-3734C3C6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9B85-BEDE-4C98-94EE-84A34E976C2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C0C9-8855-4729-A8F1-48F8E3AD5C2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9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yandex.ru/yandsearch?text=&#1072;&#1088;&#1084;&#1080;&#1103;%20&#1056;&#1086;&#1089;&#1089;&#1080;&#1080;%20&#1089;&#1090;&#1080;&#1093;&#1080;&amp;fp=0&amp;img_url=http://cdn4.img22.rian.ru/images/91181/70/911817015.jpg&amp;pos=7&amp;rpt=simage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hyperlink" Target="http://images.yandex.ru/yandsearch?p=1&amp;text=&#1087;&#1086;&#1078;&#1072;&#1088;&#1085;&#1072;&#1103;%20&#1086;&#1093;&#1088;&#1072;&#1085;&#1072;&amp;fp=1&amp;img_url=http://izvestiaur.ru/upload/iblock/3c7/01.jpg&amp;pos=45&amp;uinfo=ww-1350-wh-660-fw-1125-fh-454-pd-1&amp;rpt=simage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8.jpeg"/><Relationship Id="rId4" Type="http://schemas.openxmlformats.org/officeDocument/2006/relationships/image" Target="../media/image7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307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ект </a:t>
            </a:r>
            <a:br>
              <a:rPr sz="4400"/>
            </a:br>
            <a:r>
              <a:rPr b="0" lang="ru-RU" sz="5400" spc="-1" strike="noStrike">
                <a:solidFill>
                  <a:srgbClr val="45c984"/>
                </a:solidFill>
                <a:latin typeface="Arial"/>
              </a:rPr>
              <a:t>«Забота у нас простая,</a:t>
            </a:r>
            <a:br>
              <a:rPr sz="5400"/>
            </a:br>
            <a:r>
              <a:rPr b="0" lang="ru-RU" sz="5400" spc="-1" strike="noStrike">
                <a:solidFill>
                  <a:srgbClr val="45c984"/>
                </a:solidFill>
                <a:latin typeface="Arial"/>
              </a:rPr>
              <a:t> забота наша такая- </a:t>
            </a:r>
            <a:br>
              <a:rPr sz="5400"/>
            </a:br>
            <a:r>
              <a:rPr b="0" lang="ru-RU" sz="5400" spc="-1" strike="noStrike">
                <a:solidFill>
                  <a:srgbClr val="45c984"/>
                </a:solidFill>
                <a:latin typeface="Arial"/>
              </a:rPr>
              <a:t>жила бы страна родная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80520" y="396216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ыполнил ученик 4Б клас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ыданов Ма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уководитель Максимова Оксана Владимиро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5c984"/>
                </a:solidFill>
                <a:latin typeface="Arial"/>
              </a:rPr>
              <a:t>Поли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иция, как служба обеспечения правопорядка и безопасности зародилась еще в античности. Афины располагали полицией, вооруженной луками, численностью 300 человек. В Египте существовала полиция, организованная  по военному образц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1602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1602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1602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1602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1602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1602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5c984"/>
                </a:solidFill>
                <a:latin typeface="Arial"/>
              </a:rPr>
              <a:t>Скорая медицинская помощ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нь и ночь, скорей, скорей!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любые мчимся жалобы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ки верные врачей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ельдшера-универсалы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нимем боли при гастритах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познаем перелом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им раненых, избитых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болевших тяжело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http://im6-tub-ru.yandex.net/i?id=540512328-16-72&amp;n=21"/>
          <p:cNvPicPr/>
          <p:nvPr/>
        </p:nvPicPr>
        <p:blipFill>
          <a:blip r:embed="rId2"/>
          <a:stretch/>
        </p:blipFill>
        <p:spPr>
          <a:xfrm>
            <a:off x="6019920" y="1600200"/>
            <a:ext cx="2971800" cy="2309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http://kraj.by/img/content/news/2012/07/06/134158407533317-i0.jpeg"/>
          <p:cNvPicPr/>
          <p:nvPr/>
        </p:nvPicPr>
        <p:blipFill>
          <a:blip r:embed="rId3"/>
          <a:stretch/>
        </p:blipFill>
        <p:spPr>
          <a:xfrm>
            <a:off x="5486400" y="4495680"/>
            <a:ext cx="3200400" cy="2043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5c984"/>
                </a:solidFill>
                <a:latin typeface="Arial"/>
              </a:rPr>
              <a:t>Скорая  медицинская помощ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орая медицинская помощь оказывалась с самых древних времен, и возникла она на полях боя. Специалисты лечили раненых рыцарей,  советовали им лекарства, в состав которых, конечно же, входили разнообразные травы. Медиков в те времена называли госпитальерами, и среди общества они пользовались особым уважением и почита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ое транспортное средство для перевозки пациентов использовали еще во времена наполеоновских войн. Создал его главный врач Наполеона – Доминик Жан Ларре. Это был вагон на четырех колесах. Транспортное средство перевозилось двойкой лошадей. А во время похода на египетские земли – верблюд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5c984"/>
                </a:solidFill>
                <a:latin typeface="Arial"/>
              </a:rPr>
              <a:t>Аварийная газовая служб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гонь горит на нашей кухн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 газа вспыхнет и не тухн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сть ваша служба нелег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 труд ваш нужный, не напрасны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4" descr="133"/>
          <p:cNvPicPr/>
          <p:nvPr/>
        </p:nvPicPr>
        <p:blipFill>
          <a:blip r:embed="rId1"/>
          <a:stretch/>
        </p:blipFill>
        <p:spPr>
          <a:xfrm>
            <a:off x="609480" y="4038480"/>
            <a:ext cx="2743200" cy="2194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://im6-tub-ru.yandex.net/i?id=134594570-69-72&amp;n=21"/>
          <p:cNvPicPr/>
          <p:nvPr/>
        </p:nvPicPr>
        <p:blipFill>
          <a:blip r:embed="rId2"/>
          <a:stretch/>
        </p:blipFill>
        <p:spPr>
          <a:xfrm>
            <a:off x="5257800" y="4038480"/>
            <a:ext cx="2666880" cy="2187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5c984"/>
                </a:solidFill>
                <a:latin typeface="Arial"/>
              </a:rPr>
              <a:t>Служба спасения-112 </a:t>
            </a:r>
            <a:br>
              <a:rPr sz="4400"/>
            </a:br>
            <a:r>
              <a:rPr b="1" lang="ru-RU" sz="3600" spc="-1" strike="noStrike">
                <a:solidFill>
                  <a:srgbClr val="45c984"/>
                </a:solidFill>
                <a:latin typeface="Arial"/>
              </a:rPr>
              <a:t>(поисково – спасательная служба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ботает в городе 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лужба спасения,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ботает в будни 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 в воскресенье.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сли вдруг с кем-то 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лучится беда -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лужба спасенья 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может всег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2" descr="http://articles.gazeta.kz/preview/?s=26&amp;fid=37333&amp;w=340"/>
          <p:cNvPicPr/>
          <p:nvPr/>
        </p:nvPicPr>
        <p:blipFill>
          <a:blip r:embed="rId2"/>
          <a:stretch/>
        </p:blipFill>
        <p:spPr>
          <a:xfrm>
            <a:off x="5715000" y="3429000"/>
            <a:ext cx="2819520" cy="1584360"/>
          </a:xfrm>
          <a:prstGeom prst="rect">
            <a:avLst/>
          </a:prstGeom>
          <a:ln w="9360">
            <a:solidFill>
              <a:srgbClr val="000063"/>
            </a:solidFill>
            <a:miter/>
          </a:ln>
        </p:spPr>
      </p:pic>
      <p:pic>
        <p:nvPicPr>
          <p:cNvPr id="216" name="Picture 6" descr="i?id=c3797a63ea1851822b88e9f8bb9abb93&amp;n=33&amp;h=190&amp;w=285"/>
          <p:cNvPicPr/>
          <p:nvPr/>
        </p:nvPicPr>
        <p:blipFill>
          <a:blip r:embed="rId3"/>
          <a:stretch/>
        </p:blipFill>
        <p:spPr>
          <a:xfrm>
            <a:off x="6429240" y="1600200"/>
            <a:ext cx="2714760" cy="1809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1424178099_2"/>
          <p:cNvPicPr/>
          <p:nvPr/>
        </p:nvPicPr>
        <p:blipFill>
          <a:blip r:embed="rId4"/>
          <a:stretch/>
        </p:blipFill>
        <p:spPr>
          <a:xfrm>
            <a:off x="4114800" y="4952880"/>
            <a:ext cx="2590920" cy="1716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ои родные, которые нас защища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962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c984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45c984"/>
                </a:solidFill>
                <a:latin typeface="Arial"/>
              </a:rPr>
              <a:t>Гзюнов Юнис Юсифович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прадедушка ушел на войну в 1942 году добровольцем. Пропал без вести. До этого работал директором  шко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3219480" cy="4952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ои родные, которые защищают на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c984"/>
                </a:solidFill>
                <a:latin typeface="Arial"/>
              </a:rPr>
              <a:t>Гзюнов Усман Абдулло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ядах Советской и Российской Армии прослужил 25 л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c984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 командира взвода</a:t>
            </a:r>
            <a:r>
              <a:rPr b="1" lang="ru-RU" sz="24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лужился до </a:t>
            </a:r>
            <a:r>
              <a:rPr b="1" lang="ru-RU" sz="2400" spc="-1" strike="noStrike">
                <a:solidFill>
                  <a:srgbClr val="45c984"/>
                </a:solidFill>
                <a:latin typeface="Arial"/>
              </a:rPr>
              <a:t>полковн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гражден государственными наградами СССР, Российской Федерации и Удмурдской Республ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image?t=3&amp;bid=813531510422&amp;id=556019005846&amp;plc=WEB&amp;tkn=*oaBxv0QBcyFhkeFAojEyL5lX8Nw"/>
          <p:cNvPicPr/>
          <p:nvPr/>
        </p:nvPicPr>
        <p:blipFill>
          <a:blip r:embed="rId2"/>
          <a:stretch/>
        </p:blipFill>
        <p:spPr>
          <a:xfrm>
            <a:off x="5029200" y="1600200"/>
            <a:ext cx="3571920" cy="4572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c984"/>
                </a:solidFill>
                <a:latin typeface="Arial"/>
              </a:rPr>
              <a:t>Гзюнов Рустам Усмано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62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ончил Вольское военное училище ты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ужил в ави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есть лет воевал в Чечне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л ранен. Затем служил в Северной Осет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5c984"/>
                </a:solidFill>
                <a:latin typeface="Arial"/>
              </a:rPr>
              <a:t>Подполковни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image?t=0&amp;bid=329055798675&amp;id=329055798675&amp;plc=WEB&amp;tkn=*cd5bgKvmFxIX1p4jShYlAhrdGnI"/>
          <p:cNvPicPr/>
          <p:nvPr/>
        </p:nvPicPr>
        <p:blipFill>
          <a:blip r:embed="rId5"/>
          <a:stretch/>
        </p:blipFill>
        <p:spPr>
          <a:xfrm>
            <a:off x="5715000" y="4343400"/>
            <a:ext cx="2895480" cy="2271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image?t=0&amp;bid=329055799443&amp;id=329055799443&amp;plc=WEB&amp;tkn=*3Yhty8ZFrn12hElWG5KDEpEpGfE"/>
          <p:cNvPicPr/>
          <p:nvPr/>
        </p:nvPicPr>
        <p:blipFill>
          <a:blip r:embed="rId6"/>
          <a:stretch/>
        </p:blipFill>
        <p:spPr>
          <a:xfrm>
            <a:off x="685800" y="4648320"/>
            <a:ext cx="2743200" cy="1822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image?t=3&amp;bid=543876068499&amp;id=543876068499&amp;plc=WEB&amp;tkn=*1zQ_TqQlaYt1UjJ_nNBeNv6nCNE"/>
          <p:cNvPicPr/>
          <p:nvPr/>
        </p:nvPicPr>
        <p:blipFill>
          <a:blip r:embed="rId7"/>
          <a:stretch/>
        </p:blipFill>
        <p:spPr>
          <a:xfrm>
            <a:off x="5029200" y="1295280"/>
            <a:ext cx="3581280" cy="2686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419112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c984"/>
                </a:solidFill>
                <a:latin typeface="Arial"/>
              </a:rPr>
              <a:t>Юсупов Мансур Равилье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733560" y="-360"/>
            <a:ext cx="57150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ужил в системе МВД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 постового милиционера дослужился до начальника Управления Внутренних д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гражден многими государственными и ведомственными наградами, автор учебников и монографии на правовую и антикоррупционную темати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фессор кафедры УП Международного юридического институ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лен ОС Прокуратуры Москвы, Межрегиональной транспортной прокуратуры, УФССП РФ по Москве. Эксперт ГД РФ (комитет по безопасности и противодействия коррупции) и Мосгордумы (комиссия по безопасност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5" descr="i?id=d03f975803b658ec0fe989f9b9eb83f0&amp;n=33&amp;h=190&amp;w=267"/>
          <p:cNvPicPr/>
          <p:nvPr/>
        </p:nvPicPr>
        <p:blipFill>
          <a:blip r:embed="rId6"/>
          <a:stretch/>
        </p:blipFill>
        <p:spPr>
          <a:xfrm>
            <a:off x="228600" y="2133720"/>
            <a:ext cx="3657600" cy="2678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узнал об истории возникновения специальных служ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л ,что мои родственники стоят на защите нашей Род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е захотелось продолжить славную традицию моих предков по защите нашей Род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5c984"/>
                </a:solidFill>
                <a:latin typeface="Arial"/>
              </a:rPr>
              <a:t>Цель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5c984"/>
                </a:solidFill>
                <a:latin typeface="Arial"/>
              </a:rPr>
              <a:t>провести исследование на тему «Мои родственники на защите нашей Родины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5c984"/>
                </a:solidFill>
                <a:latin typeface="Arial"/>
              </a:rPr>
              <a:t>Задачи проекта:</a:t>
            </a:r>
            <a:br>
              <a:rPr sz="4800"/>
            </a:br>
            <a:br>
              <a:rPr sz="4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Узнать историю появления специальных служб для защиты населения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Выяснить, кто из моих родственников работает в этих службах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Рассказать о результатах исследований одноклассник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5c984"/>
                </a:solidFill>
                <a:latin typeface="Arial"/>
              </a:rPr>
              <a:t>Пробле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обходимость ознакомления детей с историей возникновения специальных служб, с защитниками Отечества с целью формирования патриотических чув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т проект даёт возможность испытать чувство гордости за свой народ, за армию, Родину. Вызвать желание быть похожими на смелых и отважных воинов своей страны, помогать в трудную мину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c984"/>
                </a:solidFill>
                <a:latin typeface="Arial"/>
              </a:rPr>
              <a:t>Благодаря кому мы можем жить и спокойно работать? Какие службы защищают население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жарная охрана-0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иция-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рая помощь-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ужба газа-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ужба спас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6" descr="http://im6-tub-ru.yandex.net/i?id=173378545-23-72&amp;n=21"/>
          <p:cNvPicPr/>
          <p:nvPr/>
        </p:nvPicPr>
        <p:blipFill>
          <a:blip r:embed="rId6"/>
          <a:stretch/>
        </p:blipFill>
        <p:spPr>
          <a:xfrm>
            <a:off x="7238880" y="15238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http://im8-tub-ru.yandex.net/i?id=374276596-61-72&amp;n=21"/>
          <p:cNvPicPr/>
          <p:nvPr/>
        </p:nvPicPr>
        <p:blipFill>
          <a:blip r:embed="rId7"/>
          <a:stretch/>
        </p:blipFill>
        <p:spPr>
          <a:xfrm>
            <a:off x="6324480" y="26668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http://im5-tub-ru.yandex.net/i?id=358440006-29-72&amp;n=21"/>
          <p:cNvPicPr/>
          <p:nvPr/>
        </p:nvPicPr>
        <p:blipFill>
          <a:blip r:embed="rId8"/>
          <a:stretch/>
        </p:blipFill>
        <p:spPr>
          <a:xfrm>
            <a:off x="5410080" y="3809880"/>
            <a:ext cx="1944720" cy="1235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http://articles.gazeta.kz/preview/?s=26&amp;fid=37333&amp;w=340"/>
          <p:cNvPicPr/>
          <p:nvPr/>
        </p:nvPicPr>
        <p:blipFill>
          <a:blip r:embed="rId9"/>
          <a:stretch/>
        </p:blipFill>
        <p:spPr>
          <a:xfrm>
            <a:off x="2743200" y="5745240"/>
            <a:ext cx="1981080" cy="1112760"/>
          </a:xfrm>
          <a:prstGeom prst="rect">
            <a:avLst/>
          </a:prstGeom>
          <a:ln w="9360">
            <a:solidFill>
              <a:srgbClr val="000063"/>
            </a:solidFill>
            <a:miter/>
          </a:ln>
        </p:spPr>
      </p:pic>
      <p:pic>
        <p:nvPicPr>
          <p:cNvPr id="175" name="Picture 10" descr="1356"/>
          <p:cNvPicPr/>
          <p:nvPr/>
        </p:nvPicPr>
        <p:blipFill>
          <a:blip r:embed="rId10"/>
          <a:stretch/>
        </p:blipFill>
        <p:spPr>
          <a:xfrm>
            <a:off x="4419720" y="4800600"/>
            <a:ext cx="2057400" cy="1373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5c984"/>
                </a:solidFill>
                <a:latin typeface="Arial"/>
              </a:rPr>
              <a:t>Наша армия род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685800" y="1600200"/>
            <a:ext cx="3657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горах высоких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степном простор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храняет нашу Родину солдат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 взлетает в неб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 уходит в мор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страшны защитник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ждь и снегопад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http://im0-tub-ru.yandex.net/i?id=148486908-04-72&amp;n=21"/>
          <p:cNvPicPr/>
          <p:nvPr/>
        </p:nvPicPr>
        <p:blipFill>
          <a:blip r:embed="rId1"/>
          <a:stretch/>
        </p:blipFill>
        <p:spPr>
          <a:xfrm>
            <a:off x="4038480" y="2057400"/>
            <a:ext cx="2590920" cy="1725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http://im2-tub-ru.yandex.net/i?id=420822099-63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5000760"/>
            <a:ext cx="2743200" cy="1857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113"/>
          <p:cNvPicPr/>
          <p:nvPr/>
        </p:nvPicPr>
        <p:blipFill>
          <a:blip r:embed="rId4"/>
          <a:stretch/>
        </p:blipFill>
        <p:spPr>
          <a:xfrm>
            <a:off x="2666880" y="3886200"/>
            <a:ext cx="2667240" cy="17762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2"/>
          <p:cNvSpPr/>
          <p:nvPr/>
        </p:nvSpPr>
        <p:spPr>
          <a:xfrm>
            <a:off x="6383160" y="4114800"/>
            <a:ext cx="2757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Шелестят берёзы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певают птицы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растают де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 родной страны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оро я в дозор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тану на границ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бы только мирн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нились людям сны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13" descr="123"/>
          <p:cNvPicPr/>
          <p:nvPr/>
        </p:nvPicPr>
        <p:blipFill>
          <a:blip r:embed="rId5"/>
          <a:stretch/>
        </p:blipFill>
        <p:spPr>
          <a:xfrm>
            <a:off x="6324480" y="1219320"/>
            <a:ext cx="2819520" cy="1747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5c984"/>
                </a:solidFill>
                <a:latin typeface="Arial"/>
              </a:rPr>
              <a:t>Пожарная охра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сутками сутки и ночью, и днем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товы пожарные к битве с огнем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нету на службе секунды для сна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кунды - у них дорогая цена!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8" descr="http://image.tsn.ua/media/images/original/Jul2010/245548.jpg"/>
          <p:cNvPicPr/>
          <p:nvPr/>
        </p:nvPicPr>
        <p:blipFill>
          <a:blip r:embed="rId1"/>
          <a:stretch/>
        </p:blipFill>
        <p:spPr>
          <a:xfrm>
            <a:off x="3429000" y="4983120"/>
            <a:ext cx="2819520" cy="1874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http://im8-tub-ru.yandex.net/i?id=143930827-17-72&amp;n=21"/>
          <p:cNvPicPr/>
          <p:nvPr/>
        </p:nvPicPr>
        <p:blipFill>
          <a:blip r:embed="rId2"/>
          <a:stretch/>
        </p:blipFill>
        <p:spPr>
          <a:xfrm>
            <a:off x="5029200" y="29718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http://im2-tub-ru.yandex.net/i?id=95440500-25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0200" y="1219320"/>
            <a:ext cx="2593800" cy="1944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рия служб спас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3200" spc="-1" strike="noStrike">
                <a:solidFill>
                  <a:srgbClr val="45c984"/>
                </a:solidFill>
                <a:latin typeface="Arial"/>
              </a:rPr>
              <a:t>Пожар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же в Древнем Риме работали команды пожарных. Их называли "вигилии", что означает "бодрствующие". Эти пожарные несли еще и полицейскую службу по ночам. Наиболее богатые римляне содержали "персональные" пожарные коман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России первая пожарная команда была организована в 1803 году по приказу императора Александра I. Сейчас пожарные команды есть в каждом горо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5c984"/>
                </a:solidFill>
                <a:latin typeface="Arial"/>
              </a:rPr>
              <a:t>Поли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4114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YaHei"/>
              </a:rPr>
              <a:t>В зной и в холод, в дожди и в туманы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icrosoft YaHei"/>
              </a:rPr>
              <a:t>В час, когда Вам опасность грозит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icrosoft YaHei"/>
              </a:rPr>
              <a:t>На почетном посту постоянно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icrosoft YaHei"/>
              </a:rPr>
              <a:t>Полицейский России сто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YaHe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icrosoft YaHei"/>
              </a:rPr>
              <a:t>Он, порою, ценой своей жизни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icrosoft YaHei"/>
              </a:rPr>
              <a:t>Защитит Вас от бед и невзгод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icrosoft YaHei"/>
              </a:rPr>
              <a:t>Полицейский свободной Отчизны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icrosoft YaHei"/>
              </a:rPr>
              <a:t>Непременно на помощь придё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http://www.sbor.ru/news/img/5576-full.jpg"/>
          <p:cNvPicPr/>
          <p:nvPr/>
        </p:nvPicPr>
        <p:blipFill>
          <a:blip r:embed="rId3"/>
          <a:stretch/>
        </p:blipFill>
        <p:spPr>
          <a:xfrm>
            <a:off x="6545160" y="1143000"/>
            <a:ext cx="2598840" cy="1681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http://im8-tub-ru.yandex.net/i?id=374276596-61-72&amp;n=21"/>
          <p:cNvPicPr/>
          <p:nvPr/>
        </p:nvPicPr>
        <p:blipFill>
          <a:blip r:embed="rId4"/>
          <a:stretch/>
        </p:blipFill>
        <p:spPr>
          <a:xfrm>
            <a:off x="5943600" y="289548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127"/>
          <p:cNvPicPr/>
          <p:nvPr/>
        </p:nvPicPr>
        <p:blipFill>
          <a:blip r:embed="rId5"/>
          <a:stretch/>
        </p:blipFill>
        <p:spPr>
          <a:xfrm>
            <a:off x="4572000" y="4978440"/>
            <a:ext cx="2819520" cy="1879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9T17:54:51Z</dcterms:created>
  <dc:creator>Эдуард</dc:creator>
  <dc:description/>
  <dc:language>en-US</dc:language>
  <cp:lastModifiedBy>name</cp:lastModifiedBy>
  <dcterms:modified xsi:type="dcterms:W3CDTF">2016-05-16T08:31:5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