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B62-7E3B-4BD1-81C1-C652EC2F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44C-5FBE-4239-98BB-64AE370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ABD-9A16-4415-89F9-79C7FEB3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A16-B236-4275-B236-A3E0CA1A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E93C-E117-4C41-8629-D8A734A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92BA-BF4E-4D7E-AE7B-22BE3EF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750-9278-4C5D-9C4F-6A50802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174-86F6-4C4E-80DB-1129F31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182E-29C8-47A3-B066-E3E0CC1B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6C4-DFC5-4AAF-9A05-4EB489C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CDD6-2303-424D-999E-C7651E8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56C-F80C-414C-AF99-FEB235C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5703-2D08-4C9E-A612-A2E3B83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8D49-2ED1-4DFA-B262-97F28D2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9CF9-06B0-4740-800E-E3515184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EC9-F6D0-4FA6-880E-4C1FB6D0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5A50-E952-4094-AB0F-5581ECC1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ECD-E0D8-4A50-91D8-21E5A5F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A51-EA83-41D8-8DA6-B8323CB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E25-C406-4E7C-9CCA-9F506942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8DD-59A9-4D04-8266-637A6E14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4E5-264E-4A62-B3F1-AAF973C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FF8-E67B-40FC-8512-0D971CB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E88-68E9-4E49-8707-1778537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04E-A8DA-42A6-B312-786A0229AE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429-0C0E-4AEF-BFE2-A664A08637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search?text=&#1072;&#1088;&#1084;&#1080;&#1103;%20&#1056;&#1086;&#1089;&#1089;&#1080;&#1080;%20&#1089;&#1090;&#1080;&#1093;&#1080;&amp;fp=0&amp;img_url=http://cdn4.img22.rian.ru/images/91181/70/911817015.jpg&amp;pos=7&amp;rpt=simage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p=1&amp;text=&#1087;&#1086;&#1078;&#1072;&#1088;&#1085;&#1072;&#1103;%20&#1086;&#1093;&#1088;&#1072;&#1085;&#1072;&amp;fp=1&amp;img_url=http://izvestiaur.ru/upload/iblock/3c7/01.jpg&amp;pos=45&amp;uinfo=ww-1350-wh-660-fw-1125-fh-454-pd-1&amp;rpt=simag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jpeg"/><Relationship Id="rId4" Type="http://schemas.openxmlformats.org/officeDocument/2006/relationships/image" Target="../media/image7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0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 </a:t>
            </a:r>
            <a:br>
              <a:rPr sz="4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«Забота у нас простая,</a:t>
            </a:r>
            <a:br>
              <a:rPr sz="5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 забота наша такая- </a:t>
            </a:r>
            <a:br>
              <a:rPr sz="5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жила бы страна родна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полнил ученик 4Б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данов Ма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итель Максимова Оксана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ция, как служба обеспечения правопорядка и безопасности зародилась еще в античности. Афины располагали полицией, вооруженной луками, численностью 300 человек. В Египте существовала полиция, организованная  по военному образ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60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c984"/>
                </a:solidFill>
                <a:latin typeface="Arial"/>
              </a:rPr>
              <a:t>Скорая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нь и ночь, скорей, скорей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любые мчимся жалоб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и верные врачей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льдшера-универсал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мем боли при гастритах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знаем перело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им раненых, избитых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ших тяжел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http://im6-tub-ru.yandex.net/i?id=540512328-16-72&amp;n=21"/>
          <p:cNvPicPr/>
          <p:nvPr/>
        </p:nvPicPr>
        <p:blipFill>
          <a:blip r:embed="rId2"/>
          <a:stretch/>
        </p:blipFill>
        <p:spPr>
          <a:xfrm>
            <a:off x="6019920" y="160020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kraj.by/img/content/news/2012/07/06/134158407533317-i0.jpeg"/>
          <p:cNvPicPr/>
          <p:nvPr/>
        </p:nvPicPr>
        <p:blipFill>
          <a:blip r:embed="rId3"/>
          <a:stretch/>
        </p:blipFill>
        <p:spPr>
          <a:xfrm>
            <a:off x="5486400" y="4495680"/>
            <a:ext cx="3200400" cy="2043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c984"/>
                </a:solidFill>
                <a:latin typeface="Arial"/>
              </a:rPr>
              <a:t>Скорая 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ая медицинская помощь оказывалась с самых древних времен, и возникла она на полях боя. Специалисты лечили раненых рыцарей,  советовали им лекарства, в состав которых, конечно же, входили разнообразные травы. Медиков в те времена называли госпитальерами, и среди общества они пользовались особым уважением и почит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е транспортное средство для перевозки пациентов использовали еще во времена наполеоновских войн. Создал его главный врач Наполеона – Доминик Жан Ларре. Это был вагон на четырех колесах. Транспортное средство перевозилось двойкой лошадей. А во время похода на египетские земли – верблю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Аварийная газовая служ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нь горит на нашей кух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газа вспыхнет и не тух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ь ваша служба нелег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труд ваш нужный, не напрасны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133"/>
          <p:cNvPicPr/>
          <p:nvPr/>
        </p:nvPicPr>
        <p:blipFill>
          <a:blip r:embed="rId1"/>
          <a:stretch/>
        </p:blipFill>
        <p:spPr>
          <a:xfrm>
            <a:off x="609480" y="403848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im6-tub-ru.yandex.net/i?id=134594570-69-72&amp;n=21"/>
          <p:cNvPicPr/>
          <p:nvPr/>
        </p:nvPicPr>
        <p:blipFill>
          <a:blip r:embed="rId2"/>
          <a:stretch/>
        </p:blipFill>
        <p:spPr>
          <a:xfrm>
            <a:off x="5257800" y="4038480"/>
            <a:ext cx="2666880" cy="218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Служба спасения-112 </a:t>
            </a:r>
            <a:br>
              <a:rPr sz="4400"/>
            </a:br>
            <a:r>
              <a:rPr b="1" lang="ru-RU" sz="3600" spc="-1" strike="noStrike">
                <a:solidFill>
                  <a:srgbClr val="45c984"/>
                </a:solidFill>
                <a:latin typeface="Arial"/>
              </a:rPr>
              <a:t>(поисково – спасательная служб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ет в городе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жба спасения,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ет в будни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в воскресенье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друг с кем-то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чится беда -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ужба спасенья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может всег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http://articles.gazeta.kz/preview/?s=26&amp;fid=37333&amp;w=340"/>
          <p:cNvPicPr/>
          <p:nvPr/>
        </p:nvPicPr>
        <p:blipFill>
          <a:blip r:embed="rId2"/>
          <a:stretch/>
        </p:blipFill>
        <p:spPr>
          <a:xfrm>
            <a:off x="5715000" y="3429000"/>
            <a:ext cx="2819520" cy="1584360"/>
          </a:xfrm>
          <a:prstGeom prst="rect">
            <a:avLst/>
          </a:prstGeom>
          <a:ln w="9360">
            <a:solidFill>
              <a:srgbClr val="000063"/>
            </a:solidFill>
            <a:miter/>
          </a:ln>
        </p:spPr>
      </p:pic>
      <p:pic>
        <p:nvPicPr>
          <p:cNvPr id="216" name="Picture 6" descr="i?id=c3797a63ea1851822b88e9f8bb9abb93&amp;n=33&amp;h=190&amp;w=285"/>
          <p:cNvPicPr/>
          <p:nvPr/>
        </p:nvPicPr>
        <p:blipFill>
          <a:blip r:embed="rId3"/>
          <a:stretch/>
        </p:blipFill>
        <p:spPr>
          <a:xfrm>
            <a:off x="6429240" y="16002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1424178099_2"/>
          <p:cNvPicPr/>
          <p:nvPr/>
        </p:nvPicPr>
        <p:blipFill>
          <a:blip r:embed="rId4"/>
          <a:stretch/>
        </p:blipFill>
        <p:spPr>
          <a:xfrm>
            <a:off x="4114800" y="4952880"/>
            <a:ext cx="2590920" cy="171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и родные, которые нас защищ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Гзюнов Юнис Юсифо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прадедушка ушел на войну в 1942 году добровольцем. Пропал без вести. До этого работал директором 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9480" cy="49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и родные, которые защищают н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c984"/>
                </a:solidFill>
                <a:latin typeface="Arial"/>
              </a:rPr>
              <a:t>Гзюнов Усман Абдулл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ядах Советской и Российской Армии прослужил 25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омандира взвода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лужился до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полковн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государственными наградами СССР, Российской Федерации и Удмурдской Республ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?t=3&amp;bid=813531510422&amp;id=556019005846&amp;plc=WEB&amp;tkn=*oaBxv0QBcyFhkeFAojEyL5lX8Nw"/>
          <p:cNvPicPr/>
          <p:nvPr/>
        </p:nvPicPr>
        <p:blipFill>
          <a:blip r:embed="rId2"/>
          <a:stretch/>
        </p:blipFill>
        <p:spPr>
          <a:xfrm>
            <a:off x="5029200" y="160020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Гзюнов Рустам Усма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62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нчил Вольское военное училище ты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л в ави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сть лет воевал в Чечне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 ранен. Затем служил в Северной Осе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5c984"/>
                </a:solidFill>
                <a:latin typeface="Arial"/>
              </a:rPr>
              <a:t>Подполков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image?t=0&amp;bid=329055798675&amp;id=329055798675&amp;plc=WEB&amp;tkn=*cd5bgKvmFxIX1p4jShYlAhrdGnI"/>
          <p:cNvPicPr/>
          <p:nvPr/>
        </p:nvPicPr>
        <p:blipFill>
          <a:blip r:embed="rId5"/>
          <a:stretch/>
        </p:blipFill>
        <p:spPr>
          <a:xfrm>
            <a:off x="5715000" y="4343400"/>
            <a:ext cx="2895480" cy="227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?t=0&amp;bid=329055799443&amp;id=329055799443&amp;plc=WEB&amp;tkn=*3Yhty8ZFrn12hElWG5KDEpEpGfE"/>
          <p:cNvPicPr/>
          <p:nvPr/>
        </p:nvPicPr>
        <p:blipFill>
          <a:blip r:embed="rId6"/>
          <a:stretch/>
        </p:blipFill>
        <p:spPr>
          <a:xfrm>
            <a:off x="685800" y="464832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image?t=3&amp;bid=543876068499&amp;id=543876068499&amp;plc=WEB&amp;tkn=*1zQ_TqQlaYt1UjJ_nNBeNv6nCNE"/>
          <p:cNvPicPr/>
          <p:nvPr/>
        </p:nvPicPr>
        <p:blipFill>
          <a:blip r:embed="rId7"/>
          <a:stretch/>
        </p:blipFill>
        <p:spPr>
          <a:xfrm>
            <a:off x="5029200" y="12952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419112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c984"/>
                </a:solidFill>
                <a:latin typeface="Arial"/>
              </a:rPr>
              <a:t>Юсупов Мансур Равил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33560" y="-360"/>
            <a:ext cx="5715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л в системе МВД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остового милиционера дослужился до начальника Управления Внутренних д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многими государственными и ведомственными наградами, автор учебников и монографии на правовую и антикоррупционную тема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ор кафедры УП Международного юридического инстит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лен ОС Прокуратуры Москвы, Межрегиональной транспортной прокуратуры, УФССП РФ по Москве. Эксперт ГД РФ (комитет по безопасности и противодействия коррупции) и Мосгордумы (комиссия по безопас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i?id=d03f975803b658ec0fe989f9b9eb83f0&amp;n=33&amp;h=190&amp;w=267"/>
          <p:cNvPicPr/>
          <p:nvPr/>
        </p:nvPicPr>
        <p:blipFill>
          <a:blip r:embed="rId6"/>
          <a:stretch/>
        </p:blipFill>
        <p:spPr>
          <a:xfrm>
            <a:off x="228600" y="2133720"/>
            <a:ext cx="3657600" cy="267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узнал об истории возникновения специальных служ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л ,что мои родственники стоят на защите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захотелось продолжить славную традицию моих предков по защите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ровести исследование на тему «Мои родственники на защите нашей Родин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c984"/>
                </a:solidFill>
                <a:latin typeface="Arial"/>
              </a:rPr>
              <a:t>Задачи проекта:</a:t>
            </a:r>
            <a:br>
              <a:rPr sz="4800"/>
            </a:br>
            <a:br>
              <a:rPr sz="4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Узнать историю появления специальных служб для защиты насел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Выяснить, кто из моих родственников работает в этих службах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Рассказать о результатах исследований однокласс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c984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сть ознакомления детей с историей возникновения специальных служб, с защитниками Отечества с целью формирования патриотических чув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роект даёт возможность испытать чувство гордости за свой народ, за армию, Родину. Вызвать желание быть похожими на смелых и отважных воинов своей страны, помогать в трудную мину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Благодаря кому мы можем жить и спокойно работать? Какие службы защищают население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жарная охрана-0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ция-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ая помощь-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ба газа-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ба спас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http://im6-tub-ru.yandex.net/i?id=173378545-23-72&amp;n=21"/>
          <p:cNvPicPr/>
          <p:nvPr/>
        </p:nvPicPr>
        <p:blipFill>
          <a:blip r:embed="rId6"/>
          <a:stretch/>
        </p:blipFill>
        <p:spPr>
          <a:xfrm>
            <a:off x="7238880" y="1523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im8-tub-ru.yandex.net/i?id=374276596-61-72&amp;n=21"/>
          <p:cNvPicPr/>
          <p:nvPr/>
        </p:nvPicPr>
        <p:blipFill>
          <a:blip r:embed="rId7"/>
          <a:stretch/>
        </p:blipFill>
        <p:spPr>
          <a:xfrm>
            <a:off x="6324480" y="2666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im5-tub-ru.yandex.net/i?id=358440006-29-72&amp;n=21"/>
          <p:cNvPicPr/>
          <p:nvPr/>
        </p:nvPicPr>
        <p:blipFill>
          <a:blip r:embed="rId8"/>
          <a:stretch/>
        </p:blipFill>
        <p:spPr>
          <a:xfrm>
            <a:off x="5410080" y="3809880"/>
            <a:ext cx="1944720" cy="1235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articles.gazeta.kz/preview/?s=26&amp;fid=37333&amp;w=340"/>
          <p:cNvPicPr/>
          <p:nvPr/>
        </p:nvPicPr>
        <p:blipFill>
          <a:blip r:embed="rId9"/>
          <a:stretch/>
        </p:blipFill>
        <p:spPr>
          <a:xfrm>
            <a:off x="2743200" y="5745240"/>
            <a:ext cx="1981080" cy="1112760"/>
          </a:xfrm>
          <a:prstGeom prst="rect">
            <a:avLst/>
          </a:prstGeom>
          <a:ln w="9360">
            <a:solidFill>
              <a:srgbClr val="000063"/>
            </a:solidFill>
            <a:miter/>
          </a:ln>
        </p:spPr>
      </p:pic>
      <p:pic>
        <p:nvPicPr>
          <p:cNvPr id="175" name="Picture 10" descr="1356"/>
          <p:cNvPicPr/>
          <p:nvPr/>
        </p:nvPicPr>
        <p:blipFill>
          <a:blip r:embed="rId10"/>
          <a:stretch/>
        </p:blipFill>
        <p:spPr>
          <a:xfrm>
            <a:off x="4419720" y="4800600"/>
            <a:ext cx="2057400" cy="137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Наша армия род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85800" y="1600200"/>
            <a:ext cx="365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горах высоки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тепном прост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раняет нашу Родину солда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взлетает в неб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уходит в мор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трашны защитн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ждь и снегопад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im0-tub-ru.yandex.net/i?id=148486908-04-72&amp;n=21"/>
          <p:cNvPicPr/>
          <p:nvPr/>
        </p:nvPicPr>
        <p:blipFill>
          <a:blip r:embed="rId1"/>
          <a:stretch/>
        </p:blipFill>
        <p:spPr>
          <a:xfrm>
            <a:off x="4038480" y="2057400"/>
            <a:ext cx="2590920" cy="172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im2-tub-ru.yandex.net/i?id=420822099-63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000760"/>
            <a:ext cx="2743200" cy="185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113"/>
          <p:cNvPicPr/>
          <p:nvPr/>
        </p:nvPicPr>
        <p:blipFill>
          <a:blip r:embed="rId4"/>
          <a:stretch/>
        </p:blipFill>
        <p:spPr>
          <a:xfrm>
            <a:off x="2666880" y="3886200"/>
            <a:ext cx="2667240" cy="1776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6383160" y="4114800"/>
            <a:ext cx="27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елестят берёз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евают птиц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растают де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родной стран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ро я в доз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ану на границ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только мир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лись людям сны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3" descr="123"/>
          <p:cNvPicPr/>
          <p:nvPr/>
        </p:nvPicPr>
        <p:blipFill>
          <a:blip r:embed="rId5"/>
          <a:stretch/>
        </p:blipFill>
        <p:spPr>
          <a:xfrm>
            <a:off x="6324480" y="1219320"/>
            <a:ext cx="281952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жарная охр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сутками сутки и ночью, и днем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ы пожарные к битве с огне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нету на службе секунды для сн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кунды - у них дорогая цена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http://image.tsn.ua/media/images/original/Jul2010/245548.jpg"/>
          <p:cNvPicPr/>
          <p:nvPr/>
        </p:nvPicPr>
        <p:blipFill>
          <a:blip r:embed="rId1"/>
          <a:stretch/>
        </p:blipFill>
        <p:spPr>
          <a:xfrm>
            <a:off x="3429000" y="4983120"/>
            <a:ext cx="2819520" cy="1874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m8-tub-ru.yandex.net/i?id=143930827-17-72&amp;n=21"/>
          <p:cNvPicPr/>
          <p:nvPr/>
        </p:nvPicPr>
        <p:blipFill>
          <a:blip r:embed="rId2"/>
          <a:stretch/>
        </p:blipFill>
        <p:spPr>
          <a:xfrm>
            <a:off x="50292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im2-tub-ru.yandex.net/i?id=95440500-2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0200" y="1219320"/>
            <a:ext cx="2593800" cy="194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служб спас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Пожа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м Риме работали команды пожарных. Их называли "вигилии", что означает "бодрствующие". Эти пожарные несли еще и полицейскую службу по ночам. Наиболее богатые римляне содержали "персональные" пожарные коман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первая пожарная команда была организована в 1803 году по приказу императора Александра I. Сейчас пожарные команды есть в каждом г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Поли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В зной и в холод, в дожди и в туман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В час, когда Вам опасность грози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На почетном посту постоянн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Полицейский России сто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Он, порою, ценой своей жизн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Защитит Вас от бед и невзго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Полицейский свободной Отчизны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icrosoft YaHei"/>
              </a:rPr>
              <a:t>Непременно на помощь придё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http://www.sbor.ru/news/img/5576-full.jpg"/>
          <p:cNvPicPr/>
          <p:nvPr/>
        </p:nvPicPr>
        <p:blipFill>
          <a:blip r:embed="rId3"/>
          <a:stretch/>
        </p:blipFill>
        <p:spPr>
          <a:xfrm>
            <a:off x="6545160" y="1143000"/>
            <a:ext cx="259884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http://im8-tub-ru.yandex.net/i?id=374276596-61-72&amp;n=21"/>
          <p:cNvPicPr/>
          <p:nvPr/>
        </p:nvPicPr>
        <p:blipFill>
          <a:blip r:embed="rId4"/>
          <a:stretch/>
        </p:blipFill>
        <p:spPr>
          <a:xfrm>
            <a:off x="5943600" y="28954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127"/>
          <p:cNvPicPr/>
          <p:nvPr/>
        </p:nvPicPr>
        <p:blipFill>
          <a:blip r:embed="rId5"/>
          <a:stretch/>
        </p:blipFill>
        <p:spPr>
          <a:xfrm>
            <a:off x="4572000" y="49784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7:54:51Z</dcterms:created>
  <dc:creator>Эдуард</dc:creator>
  <dc:description/>
  <dc:language>en-US</dc:language>
  <cp:lastModifiedBy>name</cp:lastModifiedBy>
  <dcterms:modified xsi:type="dcterms:W3CDTF">2016-05-16T08:31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