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9.jpeg" ContentType="image/jpeg"/>
  <Override PartName="/ppt/media/image6.jpeg" ContentType="image/jpeg"/>
  <Override PartName="/ppt/media/image38.jpeg" ContentType="image/jpeg"/>
  <Override PartName="/ppt/media/image7.jpeg" ContentType="image/jpeg"/>
  <Override PartName="/ppt/media/image5.gif" ContentType="image/gif"/>
  <Override PartName="/ppt/media/image23.jpeg" ContentType="image/jpeg"/>
  <Override PartName="/ppt/media/image41.jpeg" ContentType="image/jpeg"/>
  <Override PartName="/ppt/media/image14.jpeg" ContentType="image/jpeg"/>
  <Override PartName="/ppt/media/image18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5.jpeg" ContentType="image/jpeg"/>
  <Override PartName="/ppt/media/image1.jpeg" ContentType="image/jpeg"/>
  <Override PartName="/ppt/media/image24.jpeg" ContentType="image/jpeg"/>
  <Override PartName="/ppt/media/image17.jpeg" ContentType="image/jpeg"/>
  <Override PartName="/ppt/media/image22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8.gif" ContentType="image/gif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A7D-26F6-4777-9F7B-F11739E7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9FC-9D61-4FF5-A22D-A778B47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70C-3D8E-4C0F-9421-6ABD6444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437-0BE8-4CFE-BEBF-F42D20C3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CF5-30D2-47A6-85A9-D52F3B6E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ACD-BE11-4102-A154-7B8E2D6A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808-1F11-4517-BEF3-5C6973F9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D37-3F59-42F8-98E1-CC54D9E5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890-EE79-4F0E-BF7D-DA74ED03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39E-5F4A-41B4-97B4-CB4A9C1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C3E-4503-4F1B-BB4E-335C109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B29-6DFC-4E55-B7CC-BD6DB01B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B78E-83C2-4B74-832B-4C83809476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56944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Развивающая предметно пространственная среда с использованием нестандартного оборудования на занятиях по физической культур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14760" y="3786120"/>
            <a:ext cx="574488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Шаварина Серафим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нструктор по физической культур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ГБОУ СОШ  пос. Ленинск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. р.  Красноармей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.с. «Жураву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0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684360" y="836640"/>
            <a:ext cx="7991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539640" y="27860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785880" y="928800"/>
            <a:ext cx="721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фективность работы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родителями способствовала обогащению развивающей среды группы, формированию потребности родителей в формировании двигательной активности ребенка, созданию в семье нестандартного спортивного оборудования и его использование для интереса к физическим упраж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s://im1-tub-ru.yandex.net/i?id=d30827ceeee055bffd89d3bfd2cf022e&amp;n=33&amp;h=215&amp;w=215"/>
          <p:cNvPicPr/>
          <p:nvPr/>
        </p:nvPicPr>
        <p:blipFill>
          <a:blip r:embed="rId2"/>
          <a:stretch/>
        </p:blipFill>
        <p:spPr>
          <a:xfrm>
            <a:off x="1214280" y="328608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486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611280" y="620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итарно-гигиенические требования   к нестандартному оборуд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1785960" y="2071800"/>
            <a:ext cx="55720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андартное оборудование должно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Безопас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Максимально эффек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Удобным к приме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Компак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Универс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остым  и технологичным в использ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Эсте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Доступным для свободного при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755640" y="692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Заклю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611280" y="1338120"/>
            <a:ext cx="619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анализ проведенной работы позволяет убедиться, что использование нестандартного оборудования в системе работы по формированию двигательной активности детей, способствует более быстрому и качественному формированию двигательных умений и навыков, повышению интереса к физкультурным занят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на физкультурных занятиях должен почувствовать мышечную радость и полюбить движение. Это поможет ребенку пронести через всю жизнь потребность в движениях, приобщиться к спорту и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"/>
          <p:cNvPicPr/>
          <p:nvPr/>
        </p:nvPicPr>
        <p:blipFill>
          <a:blip r:embed="rId2"/>
          <a:stretch/>
        </p:blipFill>
        <p:spPr>
          <a:xfrm>
            <a:off x="6516720" y="1628640"/>
            <a:ext cx="187164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571680" y="642960"/>
            <a:ext cx="7786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 Чудесная  змейка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для прыжков, а также для метания в цель, если змейку соединить в круг, как длинную скакал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 ловкость, координацию движений, меткость, выносли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1000080" y="2286000"/>
            <a:ext cx="2357640" cy="400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3"/>
          <a:stretch/>
        </p:blipFill>
        <p:spPr>
          <a:xfrm>
            <a:off x="4000680" y="2286000"/>
            <a:ext cx="3857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642960" y="500040"/>
            <a:ext cx="742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ороткие косичк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концах которых сделаны петелька и пуговичка, можно  использовать для выполнения ОРУ, ОВД,в играх, а также  как трансформер (можно из нескольких коротких сделать одну длинну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714240" y="2357280"/>
            <a:ext cx="3143520" cy="3124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4000680" y="1928880"/>
            <a:ext cx="4071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14240" y="857160"/>
            <a:ext cx="75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ольцеброс «Слоненок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развивает ловкость, меткость, глазо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357120" y="200016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500280" y="1785960"/>
            <a:ext cx="45007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857160" y="928800"/>
            <a:ext cx="75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анси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уется для координации  движения, равновесия, развития самосто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3286080" cy="385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4000680" y="1928880"/>
            <a:ext cx="4267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14240" y="785880"/>
            <a:ext cx="721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азноцветные лент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ля игры «Ловишка с ленточк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3286080" cy="4071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3857760" y="1857240"/>
            <a:ext cx="4267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0" y="936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857160" y="71424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Лунки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в самостоятельной игровой деятельности  Развитие ловкости, терпения, умения играть в пара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1214280" y="1714680"/>
            <a:ext cx="50007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571680" y="7142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еометрические мишен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спользуются в метании, а также как цветные ориенти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овкости, глазомера, координации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642960" y="2000160"/>
            <a:ext cx="2531880" cy="381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4000680" y="2071800"/>
            <a:ext cx="40716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85690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Чтобы сделать ребенка умным и рассудительным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сделайте его крепким и здоровым!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785880" y="4357800"/>
            <a:ext cx="17143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428760" y="0"/>
            <a:ext cx="8286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неж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мячи эти мягкие, их удобно использовать для бросков в движущуюся цель (друг в друга); при беге с увёртыванием; подходят они и для ловли, метания в цель. Развитие ловкости, координации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еселый снеговик»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юрпризный момент,  веселый д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428760" y="2286000"/>
            <a:ext cx="2857320" cy="426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4214880" y="2357280"/>
            <a:ext cx="39290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714240" y="642960"/>
            <a:ext cx="73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ешки с ногами»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ыжков в мешках во время соревн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силы, выносливости, быстроты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езвые лошад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–для игр –сорев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5643720" y="2000160"/>
            <a:ext cx="3000240" cy="426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1071720" y="2214720"/>
            <a:ext cx="3500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642960" y="78588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ажки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ы для ОРУ, игр-соревнований.  Развивает синхронность движений, чувство ритма,  чувств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714240" y="200016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4214880" y="2143080"/>
            <a:ext cx="40719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785880" y="714240"/>
            <a:ext cx="7858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одульки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ы для выполнения ОВД, для самостоятельной   игровой деятельности, игр-соревн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 вестибулярного аппарата - координации движения,  равновес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714240" y="2428920"/>
            <a:ext cx="328644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4643280" y="2286000"/>
            <a:ext cx="35006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-22320" y="936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>
            <a:off x="785880" y="71424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елкино колесо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линолеума  шириной 20см длиной 2 метра делается кольцо, дети, встают в него, передвигая руками, и ногами идут вперед.  Используется в играх-соревнованиях, ОВД. Развивает ловкость, координацию движений, выносливость, положительные эмо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2143080" cy="3910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3"/>
          <a:stretch/>
        </p:blipFill>
        <p:spPr>
          <a:xfrm>
            <a:off x="2286000" y="207180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4"/>
          <a:stretch/>
        </p:blipFill>
        <p:spPr>
          <a:xfrm>
            <a:off x="5357880" y="200016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0"/>
          <p:cNvSpPr/>
          <p:nvPr/>
        </p:nvSpPr>
        <p:spPr>
          <a:xfrm>
            <a:off x="928800" y="7142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ная дорож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Кубы», «Массажные пало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для массажа ступней, ходьба с целью профилактики плоскостопия., ходьбы с   препятст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имулирует работу внутренних органов. Развивает координацию движений, равновес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4143240" y="1857240"/>
            <a:ext cx="1643040" cy="23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3"/>
          <a:stretch/>
        </p:blipFill>
        <p:spPr>
          <a:xfrm>
            <a:off x="571680" y="2286000"/>
            <a:ext cx="2000160" cy="3170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4"/>
          <a:stretch/>
        </p:blipFill>
        <p:spPr>
          <a:xfrm>
            <a:off x="2286000" y="3429000"/>
            <a:ext cx="2000160" cy="3147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5"/>
          <a:stretch/>
        </p:blipFill>
        <p:spPr>
          <a:xfrm>
            <a:off x="5429160" y="3000240"/>
            <a:ext cx="328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-22320" y="936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642960" y="500040"/>
            <a:ext cx="757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бивные мяч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для ходьбы змейкой между мячами, толкание мяча головой перед собой, перешагивание через мя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 координацию движений, глазомер, ловкость,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857160" y="2214720"/>
            <a:ext cx="3414960" cy="3786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4500720" y="228600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642960" y="642960"/>
            <a:ext cx="7143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Умная мишень» «Огненный обруч», « Хитрая мише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 и в самостоятельной деятельности, ОВ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ткости, глазомера, лов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571680" y="2000160"/>
            <a:ext cx="2700000" cy="426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3"/>
          <a:stretch/>
        </p:blipFill>
        <p:spPr>
          <a:xfrm>
            <a:off x="3429000" y="2000160"/>
            <a:ext cx="2357280" cy="4214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4"/>
          <a:stretch/>
        </p:blipFill>
        <p:spPr>
          <a:xfrm>
            <a:off x="5929200" y="2000160"/>
            <a:ext cx="27147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6"/>
          <p:cNvSpPr/>
          <p:nvPr/>
        </p:nvSpPr>
        <p:spPr>
          <a:xfrm>
            <a:off x="857160" y="714240"/>
            <a:ext cx="7572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имнастические ленты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ля спортивных танцев, ОРУ, акробатических 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 чувство ритма, красоту  движений, гибкость, координацию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4286160" y="2071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642960" y="571680"/>
            <a:ext cx="771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есёлый зонтик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именяется для  игры, дыхательной гимнастики. В зависимости от времени года и проводимого мероприятия «зонтик» может менять свои элементы (бабочки, осенние разноцветные листья, дождинки, снежинки и т. д.) П.И.»Карусе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3200400" cy="3909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4214880" y="228600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3059280" y="1773360"/>
            <a:ext cx="576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ить предметно-развивающую среду путём создания нового нестандартного оборудования, помогающего полноценному  физическому и психическому развитию детей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411280" y="98100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https://im1-tub-ru.yandex.net/i?id=33fe3602804c57cb8987985798f5b0f3&amp;n=33&amp;h=215&amp;w=168"/>
          <p:cNvPicPr/>
          <p:nvPr/>
        </p:nvPicPr>
        <p:blipFill>
          <a:blip r:embed="rId2"/>
          <a:stretch/>
        </p:blipFill>
        <p:spPr>
          <a:xfrm>
            <a:off x="785880" y="1000080"/>
            <a:ext cx="1957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785880" y="428760"/>
            <a:ext cx="7429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ильбок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о для попадания в цель. Развивает глазомер, внимание, быстроту реакции, ловкость рук и синхронизацию движений, а также терпение и аккуратнос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4429080" y="178596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642960" y="200016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Админ\Desktop\Мои документы\фото 2016(4)\Фото1630.jpg"/>
          <p:cNvPicPr/>
          <p:nvPr/>
        </p:nvPicPr>
        <p:blipFill>
          <a:blip r:embed="rId2"/>
          <a:stretch/>
        </p:blipFill>
        <p:spPr>
          <a:xfrm>
            <a:off x="500040" y="1571760"/>
            <a:ext cx="3286080" cy="46688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928800" y="4287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олшебная под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используется в самостоятельной игровой деятельности, для зимних  заб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4429080" y="1500120"/>
            <a:ext cx="38577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714240" y="857160"/>
            <a:ext cx="785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оннель»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ется для ОВД, соревновани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 быстроту движений, ловкость, координацию в замкнутом пространстве, смел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14240" y="2214720"/>
            <a:ext cx="2584440" cy="3714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3714840" y="2071800"/>
            <a:ext cx="42670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5"/>
          <p:cNvSpPr/>
          <p:nvPr/>
        </p:nvSpPr>
        <p:spPr>
          <a:xfrm>
            <a:off x="928800" y="714240"/>
            <a:ext cx="742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Домашние  санки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в самостоятельной игровой деятельности, для зимних  заб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положительных эмоций, силы, вынос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928800" y="2786040"/>
            <a:ext cx="3000240" cy="3357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4286160" y="2214720"/>
            <a:ext cx="35719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571760" y="85716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ти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прыжков в высоту,  дыхательной гимнас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1785960" y="1785960"/>
            <a:ext cx="5214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7"/>
          <p:cNvSpPr/>
          <p:nvPr/>
        </p:nvSpPr>
        <p:spPr>
          <a:xfrm>
            <a:off x="714240" y="78588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удные лыжи»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вивают  быстроту движения, желание добиваться хороших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2"/>
          <a:stretch/>
        </p:blipFill>
        <p:spPr>
          <a:xfrm>
            <a:off x="500040" y="2500200"/>
            <a:ext cx="2714760" cy="3143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3643200" y="1643040"/>
            <a:ext cx="39290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785880" y="642960"/>
            <a:ext cx="765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итрые шарики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используется для  игр –соревнов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 ловкости, меткости,  профилактики  искривления  позвоночник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4429080" y="1857240"/>
            <a:ext cx="3571920" cy="4267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500040" y="1928880"/>
            <a:ext cx="35719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0" y="936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5"/>
          <p:cNvSpPr/>
          <p:nvPr/>
        </p:nvSpPr>
        <p:spPr>
          <a:xfrm>
            <a:off x="1428840" y="85716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мпо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642960" y="2357280"/>
            <a:ext cx="3571920" cy="370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4286160" y="2286000"/>
            <a:ext cx="4214880" cy="3700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928800" y="128592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в ОРУ, ОВД, забава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 координацию движения, синхронность, внимание, повышает интерес к физическим упражнен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5"/>
          <p:cNvSpPr/>
          <p:nvPr/>
        </p:nvSpPr>
        <p:spPr>
          <a:xfrm>
            <a:off x="1000080" y="714240"/>
            <a:ext cx="58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льнейшие перспек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857160" y="1143000"/>
            <a:ext cx="34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-платфор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785880" y="1214280"/>
            <a:ext cx="7643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ы : высота 8 см, ширина 30 см, длина 40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-аэробикой можно заниматься в различных вариа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форме полных занятий оздоровительно-тренирующего характера с детьми старшего дошкольного возраста, продолжительностью 25-3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к часть занятия (продолжительностью от 10 до 1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форме утренней гимнастики, что усиливает ее оздоровительный и эмоциональный эффе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показательных выступлениях детей на праздни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к степ-развле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нятиях по степ-аэробике решаются следующие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оптимизации роста и развитию опорно-двигательного аппар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ать работоспособность и двигательную а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 правильную ос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ть умения эмоционального выражения, раскрепощенности и творчества в движ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ть коллективные движения (синхронн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785880" y="114300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-платфор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3071880" cy="3843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000680" y="1643040"/>
            <a:ext cx="4267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48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642960" y="357120"/>
            <a:ext cx="76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785880" y="1000080"/>
            <a:ext cx="83581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овысить интерес детей к различным видам двигательной деятель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Увеличить объём двигательной активности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оздать условия для проявления максимума самостоятельности, инициативы, волевых усил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днять эмоциональный настро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«Здоровье свыше нам дано, учись, малыш, беречь е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2"/>
          <a:stretch/>
        </p:blipFill>
        <p:spPr>
          <a:xfrm>
            <a:off x="3571920" y="4572000"/>
            <a:ext cx="504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48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6"/>
          <p:cNvSpPr/>
          <p:nvPr/>
        </p:nvSpPr>
        <p:spPr>
          <a:xfrm>
            <a:off x="2214720" y="2286000"/>
            <a:ext cx="36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642960" y="357120"/>
            <a:ext cx="76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214280" y="1000080"/>
            <a:ext cx="7143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 из приёмов повышения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ффективности физкультурного оборудования - новизна, которая создается за счёт внесения нов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тандартного оборуд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андартное физкультурное оборуд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  это оборудование, сделанное своими руками из бросового материала, списанного инвентаря и подручных средст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Работая над проблемой повышения интереса детей к различным видам двигательной деятельности, я решила разнообразить самостоятельную двигательную активность детей с помощью нестандартного физкультурного оборудования, сделанного своими руками и руками родителей детей, из различных подручных средств и матери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3714840" y="4572000"/>
            <a:ext cx="44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-25560" y="-285840"/>
            <a:ext cx="9169560" cy="6850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684360" y="836640"/>
            <a:ext cx="7991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785880" y="857160"/>
            <a:ext cx="728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одительском собрании провела мастер-класс по изготовлению нестандартного обору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масса родителей отнеслась к предложению сделать для садика  вместе с детьми без особого энтузиазма. Некоторые откликнулись сразу, что вызвало у детей большое восхищение и это подтолкнуло и други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казала практика, одна только развивающая среда уже позволяет повысить двигательную активность, подтолкнуть дошкольника к движению, совершаемому по собственной воле, желанию, без принуждения. Поэтому одной из первых задач в работе по физическому развитию, есть оформление зала, чтобы придать ему яркий, необычный в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928960" y="2143080"/>
            <a:ext cx="71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571680" y="928800"/>
            <a:ext cx="75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0" y="4714920"/>
            <a:ext cx="504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7920"/>
            <a:ext cx="9169560" cy="6850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684360" y="836640"/>
            <a:ext cx="7991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539640" y="27860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357280" y="1143000"/>
            <a:ext cx="6000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я нестандартное оборудования, внося элементы необычности, эти самым вызывая интерес, желание поиграть с новыми для них атрибутами. Дети с большим удовольствием лазают, бегают, прыгают, выполняют всевозможные упражнения, играют в подвижные игры. Поэтому крайне необходимо удовлетворить потребность ребенка в движении. Оно служит важным условием формирования всех систем и функций организма, одним из способов познания мира, ориентировки в нем, а так же средством всестороннего развития до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s://im1-tub-ru.yandex.net/i?id=022225a28cf0c67d16bd37009e3b96f8&amp;n=33&amp;h=215&amp;w=133"/>
          <p:cNvPicPr/>
          <p:nvPr/>
        </p:nvPicPr>
        <p:blipFill>
          <a:blip r:embed="rId2"/>
          <a:stretch/>
        </p:blipFill>
        <p:spPr>
          <a:xfrm>
            <a:off x="857160" y="1214280"/>
            <a:ext cx="12668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-1440"/>
            <a:ext cx="9169560" cy="68500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684360" y="836640"/>
            <a:ext cx="7991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539640" y="27860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785880" y="928800"/>
            <a:ext cx="7215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е, яркие, нестандартные пособия - повышает у детей интерес к занятиям, позволяет шире использовать знакомые упражнения, варьировать задания. Нестандартное оборудование объединяет физкультуру с игрой, что создает условия для наиболее полного самовыражения ребенка в двиг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собия и оборудование используется во всех видах физкультурно-оздоровительной работы: на утренней гимнастике, физкультурных занятиях, в игровой деятельности. Теперь в непогоду дети с удовольствием находят себе применение в игровой комн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2"/>
          <a:stretch/>
        </p:blipFill>
        <p:spPr>
          <a:xfrm>
            <a:off x="3571920" y="3571920"/>
            <a:ext cx="504036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2857680" y="3500280"/>
            <a:ext cx="5040000" cy="2571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714240" y="905760"/>
            <a:ext cx="76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857160" y="928800"/>
            <a:ext cx="7215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я нестандартное оборудование, с заинтересованностью, выдумкой, фантазией подходя к определению тематики и отбору физкультурных занятий, уделяя особое внимание ощущениям детьми радости от активного участия в различных спортивных мероприятиях, значительно увеличилась двигательная активность детей, улучшилась техника выполнения движений, возрос интерес к занятиям физкультурой. Это мы можем узнать из рассказов детей, отзывов их родителей и по результатам диагно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Админ</cp:lastModifiedBy>
  <dcterms:modified xsi:type="dcterms:W3CDTF">2017-01-31T16:27:01Z</dcterms:modified>
  <cp:revision>196</cp:revision>
  <dc:subject/>
  <dc:title>Слайд 1</dc:title>
</cp:coreProperties>
</file>