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EC6-FD16-46A2-A758-2439A326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E8B-A7D8-45AD-9BB7-6C556D39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3A2-5DF1-4A19-8235-B3109FCF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E66-0C26-4280-B7F4-1D577947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FFA8-1C49-43A0-AF34-16BF31E1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14E-AA09-45B4-9D01-BBAD009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5F75-7BEF-4E85-9173-02352618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F07D-3F15-433E-AF7D-F83301B1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6ED5-330B-4E2D-A469-8789733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6D0-5DD0-467D-AD01-8B57B0DF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4F4B-7E6F-48D4-8222-22AECEFE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958-FA6F-4565-8DAB-C318A8E6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B919-3394-4868-9286-9039A90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C00E-721B-4C01-9674-057BA99B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B88C-D24F-41D7-AB0F-978DE8A2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2E4-69B0-44DF-92FF-39D3EE96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2EAD-98A6-4B75-B31F-356CD90C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D7F9-B3E7-481B-B89B-ECE374A3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B0D8-1BA7-465F-9D51-C35C8E52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F0FD-0107-4B16-ACB4-50648DD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38EC-B492-4137-95EE-C7D03AC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8FA0-1A19-4B42-869E-7E23F2C1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F99-ED15-4A54-98E2-E0754EFC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5137-533E-4E55-B12B-FABAD70F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654E-B06E-40AC-9569-32C6629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4A4F-7C2C-4B61-9D88-E3CC8C2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9FAD-0C27-42F3-A757-2CAFAEBE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F28A-A28B-4B14-BFB2-C4FC8A0F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C810-F491-4A37-87C3-27D106DF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6C7F-65FC-4941-AD64-780723CD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D1B3-9875-4FD2-950F-FBD2BD4A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B674-81AC-4367-B9D5-8021D0B3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852D-0C93-49C5-9138-B18CC27A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C86-EA16-440D-9C39-5FB183D4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207E-4D80-4879-AA36-494C75C1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0458-B956-42AF-9004-2DAA3E0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5E040-4ADD-4553-8FED-2BB09A2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ABE2-00DB-4371-BF2F-36671470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C0FD-FD4F-4ABF-AD19-0F50DDF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2B5D-015D-42EA-AF41-227C09C7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04A2-ED8F-41C2-9913-0738361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1828-11BA-4BF4-B04F-19B364C2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05E9-3F59-41C0-915D-5FC987A9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4D38-2BBD-43C6-9FA3-3F00E24E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B09-1DFF-4B71-AB2C-8733F573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A815-5D17-4C49-A023-4F599899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EA3CE-83F0-4CEB-8713-CAA5341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06EC-16B8-4BCF-9055-6953C02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9F0C3-5748-478D-A58A-B732ABF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813D-AC05-4968-9A92-7B95A184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800A-BE97-4C1B-8822-329B64BA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0180-1A5F-40AD-A787-0C902A3B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CE13-E33E-444D-974A-7B01EAF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25361-2F62-4BD0-BD25-36E1C6A0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59C35-B88C-4DA2-81D4-BC24B5EC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327-6405-429F-A4A9-1F25002D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FB7C-412B-40DE-A65D-0C7DC6CA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87C-4678-4EA1-9B12-0F53D74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6F3-7C49-42FD-B7E4-185E44A6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243-32DD-4FEE-A537-116B342A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CABE-27FE-4BE8-986A-5FEDC753F84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8E47-2277-4202-AD96-E113E4C448A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0CA-D8FB-4A75-8328-9939FB1DEDE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C375-61CE-4496-9F30-C4F1774C85A6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CAD3-C394-476B-96F1-FCE50CDF940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odvrs.ru/article/art/php?id_article=206" TargetMode="External"/><Relationship Id="rId2" Type="http://schemas.openxmlformats.org/officeDocument/2006/relationships/hyperlink" Target="http://www.magik.ru/s68.asp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8458200" cy="1643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НАЗВАНИЕ ПРОЕКТА</a:t>
            </a:r>
            <a:br>
              <a:rPr sz="4400"/>
            </a:br>
            <a:r>
              <a:rPr b="0" lang="ru-RU" sz="4400" spc="-1" strike="noStrike">
                <a:solidFill>
                  <a:srgbClr val="f96a1b"/>
                </a:solidFill>
                <a:latin typeface="Franklin Gothic Medium"/>
                <a:ea typeface="Arial"/>
              </a:rPr>
              <a:t>«СКВЕРНОСЛОВИЕ И ЗДОРОВЬЕ»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427280" y="3357720"/>
            <a:ext cx="4530600" cy="20872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НЯГИНА ЛАРИСА ВЛАДИМИРОВН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АЩИЕСЯ 7-9 КЛАССОВ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52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6a1b"/>
                </a:solidFill>
                <a:latin typeface="Franklin Gothic Medium"/>
              </a:rPr>
              <a:t>ЗАЩИТА ПРОЕКТ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 групп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формляет газету-плакат  с текстовым сообщением и агитационным материалом против употребления злых слов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 группа оформляет результаты анкетирования, разрабатывает правила борьбы со сквернословием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 группа оформляет фото-буклет с описанием опыта над растениями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7072200" y="4929120"/>
            <a:ext cx="1690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96a1b"/>
                </a:solidFill>
                <a:latin typeface="Franklin Gothic Medium"/>
              </a:rPr>
              <a:t>КРИТЕРИИ ОЦЕНКИ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000080"/>
          <a:ext cx="8400960" cy="564516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  <a:gridCol w="2100240"/>
                <a:gridCol w="2100240"/>
              </a:tblGrid>
              <a:tr h="94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ролевский»  (высо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На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хоро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учше подума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я работа в команде, четкое распределение обязанностей и продуманный план работы, взаимодополняем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ува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боте участвовало большинство членов группы, работали по план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ясного плана работы, обязанности распределены не четко, работали несколько членов  групп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и качеств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оставлены правиль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актуален, познавателен, научен. Представлено более одного ресур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ны конкретные выв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оставлены правильно. Материал содержателен, однако выводы сформулированы в общем ви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раскрыта частично. Не сформулированы выв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4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оформлен эстетично, красочно. Продумано расположение текста и картинок, сх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оригинальные иде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 немного перенасыщен картинками, схемами и т.д., либо содержит недостаточное их количество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 представлен частично только в виде текстовой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245" name="Рисунок 4" descr=""/>
          <p:cNvPicPr/>
          <p:nvPr/>
        </p:nvPicPr>
        <p:blipFill>
          <a:blip r:embed="rId1"/>
          <a:srcRect l="26038" t="0" r="19740" b="50143"/>
          <a:stretch/>
        </p:blipFill>
        <p:spPr>
          <a:xfrm>
            <a:off x="3857760" y="1143000"/>
            <a:ext cx="714240" cy="7081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"/>
          <p:cNvPicPr/>
          <p:nvPr/>
        </p:nvPicPr>
        <p:blipFill>
          <a:blip r:embed="rId2"/>
          <a:srcRect l="0" t="0" r="0" b="12194"/>
          <a:stretch/>
        </p:blipFill>
        <p:spPr>
          <a:xfrm>
            <a:off x="5857920" y="1214280"/>
            <a:ext cx="714240" cy="628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6" descr=""/>
          <p:cNvPicPr/>
          <p:nvPr/>
        </p:nvPicPr>
        <p:blipFill>
          <a:blip r:embed="rId3"/>
          <a:srcRect l="0" t="0" r="0" b="13471"/>
          <a:stretch/>
        </p:blipFill>
        <p:spPr>
          <a:xfrm>
            <a:off x="7929720" y="1214280"/>
            <a:ext cx="7855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0"/>
          <p:cNvSpPr txBox="1"/>
          <p:nvPr/>
        </p:nvSpPr>
        <p:spPr>
          <a:xfrm>
            <a:off x="3500280" y="285840"/>
            <a:ext cx="500076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43634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5 ступенек роста"</a:t>
            </a:r>
            <a:endParaRPr b="0" lang="en-US" sz="1800" spc="1" strike="noStrike">
              <a:ln w="12600">
                <a:solidFill>
                  <a:srgbClr val="943634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840" y="1071720"/>
            <a:ext cx="4357440" cy="18302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ОДХОДЯЩИЙ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ЕБЕ  ВАРИАНТ ОТВЕТА</a:t>
            </a:r>
            <a:br>
              <a:rPr sz="2400"/>
            </a:b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ЗАДАНИЕ С УСТАНОВ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ФЛАЖКОВОЙ ФОРМЫ)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2928960" cy="843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96a1b"/>
                </a:solidFill>
                <a:latin typeface="Franklin Gothic Book"/>
                <a:ea typeface="Tunga"/>
              </a:rPr>
              <a:t>РЕФЛЕКСИЯ</a:t>
            </a:r>
            <a:endParaRPr b="1" lang="en-US" sz="31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51" name="Group 7"/>
          <p:cNvGrpSpPr/>
          <p:nvPr/>
        </p:nvGrpSpPr>
        <p:grpSpPr>
          <a:xfrm>
            <a:off x="1428840" y="2000160"/>
            <a:ext cx="7056360" cy="4449960"/>
            <a:chOff x="1428840" y="2000160"/>
            <a:chExt cx="7056360" cy="4449960"/>
          </a:xfrm>
        </p:grpSpPr>
        <p:sp>
          <p:nvSpPr>
            <p:cNvPr id="252" name="Rectangle 8"/>
            <p:cNvSpPr/>
            <p:nvPr/>
          </p:nvSpPr>
          <p:spPr>
            <a:xfrm>
              <a:off x="5032080" y="2000160"/>
              <a:ext cx="3453120" cy="601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5. Результ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доволен        не дово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4131000" y="2841840"/>
              <a:ext cx="4353840" cy="601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Lucida Sans Unicode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Lucida Sans Unicode"/>
                </a:rPr>
                <a:t>4.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Ступенька защи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сложно                                лег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3230280" y="3683520"/>
              <a:ext cx="5254560" cy="601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3. Ступенька совместимости в групп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легко и интересно                   лучше работать одном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2329560" y="4525920"/>
              <a:ext cx="6155640" cy="841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Ступенька труд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Lucida Sans Unicode"/>
                </a:rPr>
                <a:t>сложно искать                    трудно сделать               сложно оформить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Lucida Sans Unicode"/>
                </a:rPr>
                <a:t>       </a:t>
              </a:r>
              <a:r>
                <a:rPr b="1" lang="ru-RU" sz="1100" spc="-1" strike="noStrike">
                  <a:solidFill>
                    <a:srgbClr val="000000"/>
                  </a:solidFill>
                  <a:latin typeface="Lucida Sans Unicode"/>
                </a:rPr>
                <a:t>информацию                              выводы                                  рабо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428840" y="5728320"/>
              <a:ext cx="7056360" cy="721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Ступенька настроения в начале 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отличное                        хорошее                       плох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14"/>
          <p:cNvSpPr/>
          <p:nvPr/>
        </p:nvSpPr>
        <p:spPr>
          <a:xfrm>
            <a:off x="4143240" y="4286160"/>
            <a:ext cx="21456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7358040" y="4286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5072040" y="350028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7358040" y="350028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7358040" y="264312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5572080" y="257184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7429680" y="63579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3071880" y="5429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5072040" y="5429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7358040" y="5429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3214800" y="63579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5143680" y="63579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6" descr=""/>
          <p:cNvPicPr/>
          <p:nvPr/>
        </p:nvPicPr>
        <p:blipFill>
          <a:blip r:embed="rId1"/>
          <a:stretch/>
        </p:blipFill>
        <p:spPr>
          <a:xfrm>
            <a:off x="114480" y="4724280"/>
            <a:ext cx="1089000" cy="1689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7" descr=""/>
          <p:cNvPicPr/>
          <p:nvPr/>
        </p:nvPicPr>
        <p:blipFill>
          <a:blip r:embed="rId2"/>
          <a:stretch/>
        </p:blipFill>
        <p:spPr>
          <a:xfrm>
            <a:off x="8199360" y="784080"/>
            <a:ext cx="7416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6a1b"/>
                </a:solidFill>
                <a:latin typeface="Franklin Gothic Medium"/>
              </a:rPr>
              <a:t>ИСПОЛЬЗУЕМАЯ ЛИТЕРАТУРА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85840" y="2285640"/>
            <a:ext cx="8501040" cy="33577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ЛЕКЦИЯ О СКВЕРНОСЛОВИИ. 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Franklin Gothic Book"/>
                <a:ea typeface="Tunga"/>
                <a:hlinkClick r:id="rId1"/>
              </a:rPr>
              <a:t>HTTP://OODVRS.RU/ARTICLE/ART/PHP?ID_ARTICLE=206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СКВЕРНОСЛОВИЕ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//CENTRE MAGIK. 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Franklin Gothic Book"/>
                <a:ea typeface="Tunga"/>
                <a:hlinkClick r:id="rId2"/>
              </a:rPr>
              <a:t>HTTP://WWW.MAGIK.RU/S68.A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ВИРУС СКВЕРНОСЛОВИЯ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ШКОЛЬНЫЙ ПСИХОЛОГ/ОКТЯБРЬ 2008, № 20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т по внекласс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2600" y="2071800"/>
            <a:ext cx="8015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деятельности: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здорового образа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.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6372360" y="4191120"/>
            <a:ext cx="240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6a1b"/>
                </a:solidFill>
                <a:latin typeface="Franklin Gothic Medium"/>
              </a:rPr>
              <a:t>ЦЕЛИ И ЗАДАЧИ ПРОЕКТА.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980640"/>
            <a:ext cx="8329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представление о вредном воздействии сквернословия на физическое и духовное здоровье человека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с  понятием "сквернословие", механизмом его влияния на человека;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навыки работы  в группе, способность планировать свои действия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рабатывать навыки культурного общения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привычку употребления в речи вежливых, культурных слов 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6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96a1b"/>
                </a:solidFill>
                <a:latin typeface="Arial"/>
                <a:ea typeface="Arial"/>
              </a:rPr>
              <a:t>ПРОБЛЕМНЫЕ И ИССЛЕДОВАТЕЛЬСКИЕ ВОПРОСЫ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57160" y="2214360"/>
            <a:ext cx="7872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жет ли сквернословие повлиять на здоровье человека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куда возникло сквернословие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 ли сегодня ругательных слов присутствует в речи школьников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к злые слова могут повлиять на растения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6715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6a1b"/>
                </a:solidFill>
                <a:latin typeface="Franklin Gothic Medium"/>
              </a:rPr>
              <a:t>ЭТАПЫ И СРОКИ ПРОВЕДЕНИЯ ПРОЕКТА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d7237"/>
                </a:solidFill>
                <a:uFillTx/>
                <a:latin typeface="Arial"/>
                <a:ea typeface="Arial"/>
              </a:rPr>
              <a:t>1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Мотивация. Выдвижение гипотез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Планирование исследовательской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деятель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48658"/>
                </a:solidFill>
                <a:uFillTx/>
                <a:latin typeface="Arial"/>
                <a:ea typeface="Arial"/>
              </a:rPr>
              <a:t>2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Самостоятельная работа в группах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48658"/>
                </a:solidFill>
                <a:uFillTx/>
                <a:latin typeface="Arial"/>
                <a:ea typeface="Arial"/>
              </a:rPr>
              <a:t>3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Создание продукта деятель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48658"/>
                </a:solidFill>
                <a:uFillTx/>
                <a:latin typeface="Arial"/>
                <a:ea typeface="Arial"/>
              </a:rPr>
              <a:t>4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Защита проекта. Рефлекс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6a1b"/>
                </a:solidFill>
                <a:latin typeface="Franklin Gothic Medium"/>
              </a:rPr>
              <a:t>МОТИВ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в беседе подводит детей к размышлению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Давным-давно В.Даль записал в свой знаменитый словарь поговорку: «Слово не обух, а от него люди гибнут». А мы живем в мире, где злые, ругательные  слова можно услышать не только на улице и в общественном месте, но и по радио... При этом многим кажется, что все нормально и нет в этом ничего особенного. Даже дети запросто произносят слова, которые и знать-то им не положено. Как вы считаете, может ли сквернословие повлиять на здоровье человека?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, отталкиваясь от проблемного вопрос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двигают гипотез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5" descr="C:\Documents and Settings\Галина\Мои документы\Мои рисунки\Организатор клипов (Microsoft)\j0432665.png"/>
          <p:cNvPicPr/>
          <p:nvPr/>
        </p:nvPicPr>
        <p:blipFill>
          <a:blip r:embed="rId1"/>
          <a:stretch/>
        </p:blipFill>
        <p:spPr>
          <a:xfrm>
            <a:off x="6715080" y="46432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6a1b"/>
                </a:solidFill>
                <a:latin typeface="Franklin Gothic Medium"/>
              </a:rPr>
              <a:t>ВЫДВИЖЕНИЕ ГИПОТЕЗ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Содержимое 15" descr=""/>
          <p:cNvPicPr/>
          <p:nvPr/>
        </p:nvPicPr>
        <p:blipFill>
          <a:blip r:embed="rId1"/>
          <a:srcRect l="0" t="0" r="0" b="10506"/>
          <a:stretch/>
        </p:blipFill>
        <p:spPr>
          <a:xfrm>
            <a:off x="2071800" y="4137120"/>
            <a:ext cx="2357280" cy="2435040"/>
          </a:xfrm>
          <a:prstGeom prst="rect">
            <a:avLst/>
          </a:prstGeom>
          <a:ln w="0">
            <a:noFill/>
          </a:ln>
        </p:spPr>
      </p:pic>
      <p:sp>
        <p:nvSpPr>
          <p:cNvPr id="233" name="Выноска-облако 10"/>
          <p:cNvSpPr/>
          <p:nvPr/>
        </p:nvSpPr>
        <p:spPr>
          <a:xfrm>
            <a:off x="428760" y="1357200"/>
            <a:ext cx="3429000" cy="2143080"/>
          </a:xfrm>
          <a:prstGeom prst="cloudCallout">
            <a:avLst>
              <a:gd name="adj1" fmla="val 33263"/>
              <a:gd name="adj2" fmla="val 69898"/>
            </a:avLst>
          </a:prstGeom>
          <a:solidFill>
            <a:srgbClr val="b5c4c7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квернословие на здоровье не вли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носка-облако 13"/>
          <p:cNvSpPr/>
          <p:nvPr/>
        </p:nvSpPr>
        <p:spPr>
          <a:xfrm>
            <a:off x="5148360" y="1197000"/>
            <a:ext cx="3282840" cy="2376360"/>
          </a:xfrm>
          <a:prstGeom prst="cloudCallout">
            <a:avLst>
              <a:gd name="adj1" fmla="val -86074"/>
              <a:gd name="adj2" fmla="val 63291"/>
            </a:avLst>
          </a:prstGeom>
          <a:solidFill>
            <a:srgbClr val="b5e9f4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В школе мало детей, употребляющих ругате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носка-облако 14"/>
          <p:cNvSpPr/>
          <p:nvPr/>
        </p:nvSpPr>
        <p:spPr>
          <a:xfrm>
            <a:off x="5214960" y="3933720"/>
            <a:ext cx="3429000" cy="2679840"/>
          </a:xfrm>
          <a:prstGeom prst="cloudCallout">
            <a:avLst>
              <a:gd name="adj1" fmla="val -70092"/>
              <a:gd name="adj2" fmla="val -5509"/>
            </a:avLst>
          </a:prstGeom>
          <a:solidFill>
            <a:srgbClr val="b5e9f4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Если плохие слова  могут «убить» человека, то  значит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ействуют  и на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96a1b"/>
                </a:solidFill>
                <a:latin typeface="Franklin Gothic Medium"/>
              </a:rPr>
              <a:t>ПЛАНИРОВАНИЕ ИССЛЕДОВАТЕЛЬСКОЙ ДЕЯТЕЛЬНОСТИ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делятся на мини-группы, определяют для себя "цепочки" вопросов и ответов, которые надо доказать в исследованиях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задает план действий согласно схеме: 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(проведи опыт, анкетирование).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йдите факты, доказывающие ил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овергающие гипотезы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ьте сообщение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вывод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формите работу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обсуждает возможные источники информаци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96a1b"/>
                </a:solidFill>
                <a:latin typeface="Franklin Gothic Medium"/>
              </a:rPr>
              <a:t>САМОСТОЯТЕЛЬНАЯ РАБОТА В ГРУППАХ</a:t>
            </a:r>
            <a:br>
              <a:rPr sz="2500"/>
            </a:br>
            <a:r>
              <a:rPr b="0" lang="ru-RU" sz="2500" spc="-1" strike="noStrike">
                <a:solidFill>
                  <a:srgbClr val="f96a1b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a48658"/>
                </a:solidFill>
                <a:latin typeface="Franklin Gothic Medium"/>
              </a:rPr>
              <a:t>(ДЕТИ РАСПРЕДЕЛЯЮТ ОБЯЗАННОСТИ И СРОКИ ВЫПОЛНЕНИЯ РАБОТЫ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 группа занимается поиском информации об истории возникновения сквернословия, фактах его отрицательного воздействия на человека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 группа проводит анкетирование учащихся в школе, чтобы выяснить количественный состав злоупотребляющих плохими словами учащихся и степень воздействия таких слов на настроение ребят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 группа проводит опыты с растениями, чтобы определить влияние злых и добрых слов на рост растени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5:07:34Z</dcterms:created>
  <dc:creator>Пекная Галина Ивановна</dc:creator>
  <dc:description/>
  <dc:language>en-US</dc:language>
  <cp:lastModifiedBy>1</cp:lastModifiedBy>
  <dcterms:modified xsi:type="dcterms:W3CDTF">2016-02-19T13:02:15Z</dcterms:modified>
  <cp:revision>43</cp:revision>
  <dc:subject/>
  <dc:title>Школа без сквернословия</dc:title>
</cp:coreProperties>
</file>