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DE6-E9A2-4025-897E-F84CBEED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777-F5C7-4EF9-A492-54B2DFBC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A97-A596-47B3-A23B-3663DB69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72A-016A-44C9-BD45-BDF8DDDA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DC3E-ED68-4EB0-8E51-507C7DEE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5ABE-C700-4E5F-8D09-A81FE545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81FF-10D8-4FB8-99E3-3A740B38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A660-0149-4DFA-8AE1-D6DBA2FC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B9B7-AEF1-46FA-AD94-A960297C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C7F3-801F-43BD-A097-50F7C77A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FFC3-EB74-49D0-83D7-11E9C144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7B0-982F-43E4-89B7-56408D0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B492-0DE9-4813-AE0F-2417C620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89C1-82CD-4DDA-AADC-5DEED4CC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C15F-82C3-4225-A180-214B70E7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E5DE-0C6F-41DE-A490-4B859480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8E05-1D03-4FBC-ADCF-FBA92A2E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0382-E8CF-4040-BF21-7BAA051B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7F6B4-F085-4B60-91C7-AC9D245E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6F4D-9570-4B48-9FBD-2581977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1E86-430D-4B49-A976-041C151B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1E68-26C5-48BC-8A7B-E37C837F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7A5-1718-4A95-BFB4-253B3EBB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2865-2273-4560-A975-7EDC7023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DBAD-4599-495A-AE52-E25A82D1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CD16-1D57-4688-B2AF-1C6EABF9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0192-ABBC-4803-A954-4A4C1417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B286-52D6-4C02-968A-BDC8ADF1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10D4A-1029-424A-9011-921DEA98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2535-6090-4E49-AD92-D9B7AE09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E62D-3D2A-49F7-AF00-8DBD75DE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15CB3-82B2-41A6-A9E4-AFFFFDAE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DA31-D350-4790-96B5-13B3980F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3E7-928F-4ED7-BCB1-AA96F389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87D95-A105-4D2F-965C-7ECB0C4B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FF8D-E675-436E-A2AF-81A07672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2760C-3423-4431-BDE2-63BBF0A9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3417-2043-4926-8C3B-E5AEA769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F162-5EAD-477F-8A32-5B095089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942C-CEC1-4E3F-86D4-A84A3B10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C3AC9-E149-42B4-82B5-82B6A068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8A89D-C85D-4125-809C-62AF39B7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0A25-99BE-44A7-BA23-F76B37F8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47539-ABF8-4DAA-9193-E16F8A57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594-505D-496F-BDD3-9F9B1DC8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88200-F52E-4D41-A542-1665EA45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31198-D7FE-4A11-9746-673CB4C7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75FA-BA28-402F-9416-E86B0AB6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B417C-489D-49B2-8EBB-E1151234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803D6-6E2B-449C-B2E4-39001120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D2BF7-1A79-4803-911E-C5429FF7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CCE6-692C-4DC1-9B52-36EECE80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CA701-7D24-4D44-A091-65469648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B2F04-976C-4A72-A66B-503124A1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4DE9D-4CF3-4531-8795-F04BBA9C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477-8630-44B7-B149-107742A8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F63B1-D8F6-42EB-9162-DFEDBD0C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116-3F85-449B-92CD-28F32210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550-0CB9-4C3C-8B50-6FF04453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A27-E921-46EC-9427-5E984B64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7D72-3715-4E6F-9E4B-D3B118A8849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9734-1F13-4253-8550-AE71FBEE3F1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0C63-106E-4DE3-8F2F-8890A138D19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78EE-3B1E-4F81-8FFC-1628ED9ED747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6CD6-0489-4B43-863E-34D9340588C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odvrs.ru/article/art/php?id_article=206" TargetMode="External"/><Relationship Id="rId2" Type="http://schemas.openxmlformats.org/officeDocument/2006/relationships/hyperlink" Target="http://www.magik.ru/s68.asp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400" y="1000080"/>
            <a:ext cx="8458200" cy="16430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НАЗВАНИЕ ПРОЕКТА</a:t>
            </a:r>
            <a:br>
              <a:rPr sz="4400"/>
            </a:br>
            <a:r>
              <a:rPr b="0" lang="ru-RU" sz="4400" spc="-1" strike="noStrike">
                <a:solidFill>
                  <a:srgbClr val="f96a1b"/>
                </a:solidFill>
                <a:latin typeface="Franklin Gothic Medium"/>
                <a:ea typeface="Arial"/>
              </a:rPr>
              <a:t>«СКВЕРНОСЛОВИЕ И ЗДОРОВЬЕ»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427280" y="3357720"/>
            <a:ext cx="4530600" cy="20872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ТНЯГИНА ЛАРИСА ВЛАДИМИРОВНА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АЩИЕСЯ 7-9 КЛАССОВ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2526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6a1b"/>
                </a:solidFill>
                <a:latin typeface="Franklin Gothic Medium"/>
              </a:rPr>
              <a:t>ЗАЩИТА ПРОЕКТ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 групп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формляет газету-плакат  с текстовым сообщением и агитационным материалом против употребления злых слов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 группа оформляет результаты анкетирования, разрабатывает правила борьбы со сквернословием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3 группа оформляет фото-буклет с описанием опыта над растениями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7072200" y="4929120"/>
            <a:ext cx="1690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96a1b"/>
                </a:solidFill>
                <a:latin typeface="Franklin Gothic Medium"/>
              </a:rPr>
              <a:t>КРИТЕРИИ ОЦЕНКИ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000080"/>
          <a:ext cx="8400960" cy="5645160"/>
        </p:xfrm>
        <a:graphic>
          <a:graphicData uri="http://schemas.openxmlformats.org/drawingml/2006/table">
            <a:tbl>
              <a:tblPr/>
              <a:tblGrid>
                <a:gridCol w="2100240"/>
                <a:gridCol w="2100240"/>
                <a:gridCol w="2100240"/>
                <a:gridCol w="2100240"/>
              </a:tblGrid>
              <a:tr h="941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оролевский»  (высо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На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хорош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Лучше подума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ая работа в команде, четкое распределение обязанностей и продуманный план работы, взаимодополняем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ува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боте участвовало большинство членов группы, работали по план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ясного плана работы, обязанности распределены не четко, работали несколько членов  групп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и качество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оставлены правиль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актуален, познавателен, научен. Представлено более одного ресур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ны конкретные выв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оставлены правильно. Материал содержателен, однако выводы сформулированы в общем ви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раскрыта частично. Не сформулированы выв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4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оформлен эстетично, красочно. Продумано расположение текста и картинок, сх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оригинальные иде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 немного перенасыщен картинками, схемами и т.д., либо содержит недостаточное их количество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 представлен частично только в виде текстовой информ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245" name="Рисунок 4" descr=""/>
          <p:cNvPicPr/>
          <p:nvPr/>
        </p:nvPicPr>
        <p:blipFill>
          <a:blip r:embed="rId1"/>
          <a:srcRect l="26038" t="0" r="19740" b="50143"/>
          <a:stretch/>
        </p:blipFill>
        <p:spPr>
          <a:xfrm>
            <a:off x="3857760" y="1143000"/>
            <a:ext cx="714240" cy="7081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" descr=""/>
          <p:cNvPicPr/>
          <p:nvPr/>
        </p:nvPicPr>
        <p:blipFill>
          <a:blip r:embed="rId2"/>
          <a:srcRect l="0" t="0" r="0" b="12194"/>
          <a:stretch/>
        </p:blipFill>
        <p:spPr>
          <a:xfrm>
            <a:off x="5857920" y="1214280"/>
            <a:ext cx="714240" cy="6289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6" descr=""/>
          <p:cNvPicPr/>
          <p:nvPr/>
        </p:nvPicPr>
        <p:blipFill>
          <a:blip r:embed="rId3"/>
          <a:srcRect l="0" t="0" r="0" b="13471"/>
          <a:stretch/>
        </p:blipFill>
        <p:spPr>
          <a:xfrm>
            <a:off x="7929720" y="1214280"/>
            <a:ext cx="7855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0"/>
          <p:cNvSpPr txBox="1"/>
          <p:nvPr/>
        </p:nvSpPr>
        <p:spPr>
          <a:xfrm>
            <a:off x="3500280" y="285840"/>
            <a:ext cx="500076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43634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5 ступенек роста"</a:t>
            </a:r>
            <a:endParaRPr b="0" lang="en-US" sz="1800" spc="1" strike="noStrike">
              <a:ln w="12600">
                <a:solidFill>
                  <a:srgbClr val="943634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5840" y="1071720"/>
            <a:ext cx="4357440" cy="18302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ОДХОДЯЩИЙ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ТЕБЕ  ВАРИАНТ ОТВЕТА</a:t>
            </a:r>
            <a:br>
              <a:rPr sz="2400"/>
            </a:b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ЗАДАНИЕ С УСТАНОВ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ФЛАЖКОВОЙ ФОРМЫ) 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2928960" cy="843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96a1b"/>
                </a:solidFill>
                <a:latin typeface="Franklin Gothic Book"/>
                <a:ea typeface="Tunga"/>
              </a:rPr>
              <a:t>РЕФЛЕКСИЯ</a:t>
            </a:r>
            <a:endParaRPr b="1" lang="en-US" sz="31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51" name="Group 7"/>
          <p:cNvGrpSpPr/>
          <p:nvPr/>
        </p:nvGrpSpPr>
        <p:grpSpPr>
          <a:xfrm>
            <a:off x="1428840" y="2000160"/>
            <a:ext cx="7056360" cy="4449960"/>
            <a:chOff x="1428840" y="2000160"/>
            <a:chExt cx="7056360" cy="4449960"/>
          </a:xfrm>
        </p:grpSpPr>
        <p:sp>
          <p:nvSpPr>
            <p:cNvPr id="252" name="Rectangle 8"/>
            <p:cNvSpPr/>
            <p:nvPr/>
          </p:nvSpPr>
          <p:spPr>
            <a:xfrm>
              <a:off x="5032080" y="2000160"/>
              <a:ext cx="3453120" cy="601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5. Результ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доволен        не дово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4131000" y="2841840"/>
              <a:ext cx="4353840" cy="601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Lucida Sans Unicode"/>
                </a:rPr>
                <a:t>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Lucida Sans Unicode"/>
                </a:rPr>
                <a:t>4. 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Ступенька защи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сложно                                лег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3230280" y="3683520"/>
              <a:ext cx="5254560" cy="601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3. Ступенька совместимости в групп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легко и интересно                   лучше работать одном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2329560" y="4525920"/>
              <a:ext cx="6155640" cy="841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Ступенька труд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Lucida Sans Unicode"/>
                </a:rPr>
                <a:t>сложно искать                    трудно сделать               сложно оформить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Lucida Sans Unicode"/>
                </a:rPr>
                <a:t>       </a:t>
              </a:r>
              <a:r>
                <a:rPr b="1" lang="ru-RU" sz="1100" spc="-1" strike="noStrike">
                  <a:solidFill>
                    <a:srgbClr val="000000"/>
                  </a:solidFill>
                  <a:latin typeface="Lucida Sans Unicode"/>
                </a:rPr>
                <a:t>информацию                              выводы                                  рабо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428840" y="5728320"/>
              <a:ext cx="7056360" cy="721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1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Ступенька настроения в начале 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Lucida Sans Unicode"/>
                </a:rPr>
                <a:t>отличное                        хорошее                       плох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Rectangle 14"/>
          <p:cNvSpPr/>
          <p:nvPr/>
        </p:nvSpPr>
        <p:spPr>
          <a:xfrm>
            <a:off x="4143240" y="4286160"/>
            <a:ext cx="21456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7358040" y="42861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5072040" y="350028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7"/>
          <p:cNvSpPr/>
          <p:nvPr/>
        </p:nvSpPr>
        <p:spPr>
          <a:xfrm>
            <a:off x="7358040" y="350028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8"/>
          <p:cNvSpPr/>
          <p:nvPr/>
        </p:nvSpPr>
        <p:spPr>
          <a:xfrm>
            <a:off x="7358040" y="264312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5572080" y="257184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0"/>
          <p:cNvSpPr/>
          <p:nvPr/>
        </p:nvSpPr>
        <p:spPr>
          <a:xfrm>
            <a:off x="7429680" y="63579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3071880" y="54291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5072040" y="54291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7358040" y="54291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3214800" y="63579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5"/>
          <p:cNvSpPr/>
          <p:nvPr/>
        </p:nvSpPr>
        <p:spPr>
          <a:xfrm>
            <a:off x="5143680" y="6357960"/>
            <a:ext cx="214200" cy="177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6" descr=""/>
          <p:cNvPicPr/>
          <p:nvPr/>
        </p:nvPicPr>
        <p:blipFill>
          <a:blip r:embed="rId1"/>
          <a:stretch/>
        </p:blipFill>
        <p:spPr>
          <a:xfrm>
            <a:off x="114480" y="4724280"/>
            <a:ext cx="1089000" cy="1689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7" descr=""/>
          <p:cNvPicPr/>
          <p:nvPr/>
        </p:nvPicPr>
        <p:blipFill>
          <a:blip r:embed="rId2"/>
          <a:stretch/>
        </p:blipFill>
        <p:spPr>
          <a:xfrm>
            <a:off x="8199360" y="784080"/>
            <a:ext cx="74160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96a1b"/>
                </a:solidFill>
                <a:latin typeface="Franklin Gothic Medium"/>
              </a:rPr>
              <a:t>ИСПОЛЬЗУЕМАЯ ЛИТЕРАТУРА: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85840" y="2285640"/>
            <a:ext cx="8501040" cy="33577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ЛЕКЦИЯ О СКВЕРНОСЛОВИИ. 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Franklin Gothic Book"/>
                <a:ea typeface="Tunga"/>
                <a:hlinkClick r:id="rId1"/>
              </a:rPr>
              <a:t>HTTP://OODVRS.RU/ARTICLE/ART/PHP?ID_ARTICLE=206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СКВЕРНОСЛОВИЕ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//CENTRE MAGIK. 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Franklin Gothic Book"/>
                <a:ea typeface="Tunga"/>
                <a:hlinkClick r:id="rId2"/>
              </a:rPr>
              <a:t>HTTP://WWW.MAGIK.RU/S68.ASP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ВИРУС СКВЕРНОСЛОВИЯ.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ШКОЛЬНЫЙ ПСИХОЛОГ/ОКТЯБРЬ 2008, № 20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ект по внекласс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2600" y="2071800"/>
            <a:ext cx="8015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деятельности: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здорового образа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и.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6372360" y="4191120"/>
            <a:ext cx="240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96a1b"/>
                </a:solidFill>
                <a:latin typeface="Franklin Gothic Medium"/>
              </a:rPr>
              <a:t>ЦЕЛИ И ЗАДАЧИ ПРОЕКТА.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980640"/>
            <a:ext cx="8329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и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ть представление о вредном воздействии сквернословия на физическое и духовное здоровье человека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 с  понятием "сквернословие", механизмом его влияния на человека;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навыки работы  в группе, способность планировать свои действия;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рабатывать навыки культурного общения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ть привычку употребления в речи вежливых, культурных слов 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46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96a1b"/>
                </a:solidFill>
                <a:latin typeface="Arial"/>
                <a:ea typeface="Arial"/>
              </a:rPr>
              <a:t>ПРОБЛЕМНЫЕ И ИССЛЕДОВАТЕЛЬСКИЕ ВОПРОСЫ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57160" y="2214360"/>
            <a:ext cx="7872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жет ли сквернословие повлиять на здоровье человека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куда возникло сквернословие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ного ли сегодня ругательных слов присутствует в речи школьников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ак злые слова могут повлиять на растения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6715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6a1b"/>
                </a:solidFill>
                <a:latin typeface="Franklin Gothic Medium"/>
              </a:rPr>
              <a:t>ЭТАПЫ И СРОКИ ПРОВЕДЕНИЯ ПРОЕКТА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4810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d7237"/>
                </a:solidFill>
                <a:uFillTx/>
                <a:latin typeface="Arial"/>
                <a:ea typeface="Arial"/>
              </a:rPr>
              <a:t>1 месяц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Мотивация. Выдвижение гипотез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Планирование исследовательской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деятельност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48658"/>
                </a:solidFill>
                <a:uFillTx/>
                <a:latin typeface="Arial"/>
                <a:ea typeface="Arial"/>
              </a:rPr>
              <a:t>2 месяц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Самостоятельная работа в группах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48658"/>
                </a:solidFill>
                <a:uFillTx/>
                <a:latin typeface="Arial"/>
                <a:ea typeface="Arial"/>
              </a:rPr>
              <a:t>3 месяц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Создание продукта деятельност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48658"/>
                </a:solidFill>
                <a:uFillTx/>
                <a:latin typeface="Arial"/>
                <a:ea typeface="Arial"/>
              </a:rPr>
              <a:t>4 месяц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Защита проекта. Рефлекс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6a1b"/>
                </a:solidFill>
                <a:latin typeface="Franklin Gothic Medium"/>
              </a:rPr>
              <a:t>МОТИВ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в беседе подводит детей к размышлению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Давным-давно В.Даль записал в свой знаменитый словарь поговорку: «Слово не обух, а от него люди гибнут». А мы живем в мире, где злые, ругательные  слова можно услышать не только на улице и в общественном месте, но и по радио... При этом многим кажется, что все нормально и нет в этом ничего особенного. Даже дети запросто произносят слова, которые и знать-то им не положено. Как вы считаете, может ли сквернословие повлиять на здоровье человека?»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, отталкиваясь от проблемного вопроса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двигают гипотезы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Picture 5" descr="C:\Documents and Settings\Галина\Мои документы\Мои рисунки\Организатор клипов (Microsoft)\j0432665.png"/>
          <p:cNvPicPr/>
          <p:nvPr/>
        </p:nvPicPr>
        <p:blipFill>
          <a:blip r:embed="rId1"/>
          <a:stretch/>
        </p:blipFill>
        <p:spPr>
          <a:xfrm>
            <a:off x="6715080" y="4643280"/>
            <a:ext cx="2214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96a1b"/>
                </a:solidFill>
                <a:latin typeface="Franklin Gothic Medium"/>
              </a:rPr>
              <a:t>ВЫДВИЖЕНИЕ ГИПОТЕЗ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2" name="Содержимое 15" descr=""/>
          <p:cNvPicPr/>
          <p:nvPr/>
        </p:nvPicPr>
        <p:blipFill>
          <a:blip r:embed="rId1"/>
          <a:srcRect l="0" t="0" r="0" b="10506"/>
          <a:stretch/>
        </p:blipFill>
        <p:spPr>
          <a:xfrm>
            <a:off x="2071800" y="4137120"/>
            <a:ext cx="2357280" cy="2435040"/>
          </a:xfrm>
          <a:prstGeom prst="rect">
            <a:avLst/>
          </a:prstGeom>
          <a:ln w="0">
            <a:noFill/>
          </a:ln>
        </p:spPr>
      </p:pic>
      <p:sp>
        <p:nvSpPr>
          <p:cNvPr id="233" name="Выноска-облако 10"/>
          <p:cNvSpPr/>
          <p:nvPr/>
        </p:nvSpPr>
        <p:spPr>
          <a:xfrm>
            <a:off x="428760" y="1357200"/>
            <a:ext cx="3429000" cy="2143080"/>
          </a:xfrm>
          <a:prstGeom prst="cloudCallout">
            <a:avLst>
              <a:gd name="adj1" fmla="val 33263"/>
              <a:gd name="adj2" fmla="val 69898"/>
            </a:avLst>
          </a:prstGeom>
          <a:solidFill>
            <a:srgbClr val="b5c4c7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квернословие на здоровье не вли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ыноска-облако 13"/>
          <p:cNvSpPr/>
          <p:nvPr/>
        </p:nvSpPr>
        <p:spPr>
          <a:xfrm>
            <a:off x="5148360" y="1197000"/>
            <a:ext cx="3282840" cy="2376360"/>
          </a:xfrm>
          <a:prstGeom prst="cloudCallout">
            <a:avLst>
              <a:gd name="adj1" fmla="val -86074"/>
              <a:gd name="adj2" fmla="val 63291"/>
            </a:avLst>
          </a:prstGeom>
          <a:solidFill>
            <a:srgbClr val="b5e9f4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В школе мало детей, употребляющих ругате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ыноска-облако 14"/>
          <p:cNvSpPr/>
          <p:nvPr/>
        </p:nvSpPr>
        <p:spPr>
          <a:xfrm>
            <a:off x="5214960" y="3933720"/>
            <a:ext cx="3429000" cy="2679840"/>
          </a:xfrm>
          <a:prstGeom prst="cloudCallout">
            <a:avLst>
              <a:gd name="adj1" fmla="val -70092"/>
              <a:gd name="adj2" fmla="val -5509"/>
            </a:avLst>
          </a:prstGeom>
          <a:solidFill>
            <a:srgbClr val="b5e9f4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Если плохие слова  могут «убить» человека, то  значит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действуют  и на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96a1b"/>
                </a:solidFill>
                <a:latin typeface="Franklin Gothic Medium"/>
              </a:rPr>
              <a:t>ПЛАНИРОВАНИЕ ИССЛЕДОВАТЕЛЬСКОЙ ДЕЯТЕЛЬНОСТИ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делятся на мини-группы, определяют для себя "цепочки" вопросов и ответов, которые надо доказать в исследованиях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задает план действий согласно схеме: 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(проведи опыт, анкетирование).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йдите факты, доказывающие или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ровергающие гипотезы…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ьте сообщение…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вывод…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формите работу…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обсуждает возможные источники информации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96a1b"/>
                </a:solidFill>
                <a:latin typeface="Franklin Gothic Medium"/>
              </a:rPr>
              <a:t>САМОСТОЯТЕЛЬНАЯ РАБОТА В ГРУППАХ</a:t>
            </a:r>
            <a:br>
              <a:rPr sz="2500"/>
            </a:br>
            <a:r>
              <a:rPr b="0" lang="ru-RU" sz="2500" spc="-1" strike="noStrike">
                <a:solidFill>
                  <a:srgbClr val="f96a1b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a48658"/>
                </a:solidFill>
                <a:latin typeface="Franklin Gothic Medium"/>
              </a:rPr>
              <a:t>(ДЕТИ РАСПРЕДЕЛЯЮТ ОБЯЗАННОСТИ И СРОКИ ВЫПОЛНЕНИЯ РАБОТЫ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 группа занимается поиском информации об истории возникновения сквернословия, фактах его отрицательного воздействия на человека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 группа проводит анкетирование учащихся в школе, чтобы выяснить количественный состав злоупотребляющих плохими словами учащихся и степень воздействия таких слов на настроение ребят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 группа проводит опыты с растениями, чтобы определить влияние злых и добрых слов на рост растени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5:07:34Z</dcterms:created>
  <dc:creator>Пекная Галина Ивановна</dc:creator>
  <dc:description/>
  <dc:language>en-US</dc:language>
  <cp:lastModifiedBy>1</cp:lastModifiedBy>
  <dcterms:modified xsi:type="dcterms:W3CDTF">2016-02-19T13:02:15Z</dcterms:modified>
  <cp:revision>43</cp:revision>
  <dc:subject/>
  <dc:title>Школа без сквернословия</dc:title>
</cp:coreProperties>
</file>