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301-500B-428E-BED4-FF454B8A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93C-BEB8-413F-97AD-21E19436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627-01CD-4B84-8C12-8D94E177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5A9-B6E3-4850-956A-CAC3128A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9A1-051B-4C29-B86B-8E222AD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A15-EA43-48B2-B737-0D41D826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C14-0B18-40C1-A606-95F5C3B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FF0-CA0F-4512-9022-6C7B005A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D70-A293-486A-BD20-6C815BD1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668-CA53-4D7A-BA6B-83DEC78A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4A5-D795-4E21-A58B-AAAF2DE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BBC-04B0-4B70-B66F-C4375DC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05C-0AC6-460C-AE51-09C64DC46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420840" y="353880"/>
            <a:ext cx="7785000" cy="183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29040" y="214200"/>
            <a:ext cx="4757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спитание и обучение Киевской Руси X–XIII вв. характеризуется смешением языческих и христианских традиций. Первые шаги книжного обучения предприняты болгарами, оказавшимися в Киеве в результате завоевания Болгарии Византией. Значительное влияние на культуру и содержание обучения на Руси оказала Византия. Это объясняется происхождением христианства в Киевской Руси из Византии. В качестве учебных книг использовались византийские, например, учения Иоанна Златоуста (344–40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Картинки по запросу воспитание и обучение в киевской руси"/>
          <p:cNvPicPr/>
          <p:nvPr/>
        </p:nvPicPr>
        <p:blipFill>
          <a:blip r:embed="rId2"/>
          <a:stretch/>
        </p:blipFill>
        <p:spPr>
          <a:xfrm>
            <a:off x="357120" y="1428840"/>
            <a:ext cx="3929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4929120" y="642960"/>
            <a:ext cx="421488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-360" y="0"/>
            <a:ext cx="60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рождение образования в Киевской Руси предопределилось появлением городов и государственных институтов. Обучение содержало преимущественно религиозные направления. Главный способ воспитания – подражание отцу, в чем отражается патриархально-родовой характер отношений в обществе. Подтверждение этому можно найти в труде «Поучение Владимира Мономаха детям» (1096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500040"/>
            <a:ext cx="4643280" cy="564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357440" y="0"/>
            <a:ext cx="4786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X–XI вв. письменность проникла во все слои населения. Уровень образованности в Киевской Руси был примерно таким же как и в Западной Европе того же периода. О высоком уровне образования Киевской Руси свидетельствует большое количество рукописей, составляющее примерно 140 тысяч книг. Содержание книжных произведений позволяет судить о высокой нравственности русского нар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-360"/>
            <a:ext cx="4286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Элементарное образование дети получали в семье, на которую возлагалась так же воспитательная функция. Дети из наиболее состоятельных семей обучались специально приглашенными учителями-священниками. Церковь осуществляла контроль семейного воспитания. Позже начальное обучение производили так называемые мастера грамоты, обучавшие детей всех сословий. Оно содержало основы грамотности и арифмети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4581360" y="666720"/>
            <a:ext cx="4562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14200" y="-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олы в Киевской Руси появились при церквях, где ощущался недостаток грамотных священнослужителей. Первая такая «школа учения книжного» открылась в Киеве в 988 г. при князе Владимире Святославиче. С этого момента развитие книжного обучения шло быстрыми темпами, несмотря на негативное отношение к нему широких масс населения, привыкших к традиционному семейному обучению. Первая школа, открытая князем Владимиром была уже учебным заведением повышенного типа, так как предполагала владение учениками элементарной грамот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начально школы возникали в крупных городах – Киеве и Новгороде, позже в Суздале, Переяславле, Чернигове, Полоцке, Муроме, Владимире и др. обучение было платным. Учиться могли только дети высших сосло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и по запросу новгород в древней руси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-143280" y="1285920"/>
            <a:ext cx="928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оссии XVII в. границы между средними и высшими школами были размыты. Современные российские историки (А.Н. Джуринский, А.И. Пискунов и др.) выделяют три подхода к воспитанию, обучению и образованию во второй половине XVII в.: латинское направление (С. Полоцкий, С. Медведев), грекофильское (Е. Славинецкий, Ф. Ртищев), старообрядческое (протопоп Аввакум и его последователи). В целом преобладала ориентация на греческую школу, византийскую систему образо­вания. Однако со второй половины XVII в. распространяется изучение латыни и греческого. Западная, греко-римская тради­ция пускает корни в среде высшей знати и служащих Посоль­ского приказа. Своеобразным мостом к культуре Западной Ев­ропы выступала польская культу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4T17:07:39Z</dcterms:created>
  <dc:creator>Пользователь</dc:creator>
  <dc:description/>
  <dc:language>en-US</dc:language>
  <cp:lastModifiedBy>Yra</cp:lastModifiedBy>
  <dcterms:modified xsi:type="dcterms:W3CDTF">2017-04-04T19:19:33Z</dcterms:modified>
  <cp:revision>5</cp:revision>
  <dc:subject/>
  <dc:title>Воспитание и обучение в Киевской Руси</dc:title>
</cp:coreProperties>
</file>