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653-FC29-4B67-B650-951204AE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195-4E47-4D6C-BCAA-1463D8EB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B5A-FACA-49CE-830E-E8B29228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3DB-BE99-43B8-8FD5-42CE5007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DA8A-61E4-403F-99F3-B4781DFE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D7BA-A4F5-43C2-89F6-E0DA533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1C0C-BBAA-4DEB-9BA4-14A9E27C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1814-5AA3-4C2F-857C-510C979A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F2BF-FFF0-4251-B545-384F8B64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2B86-4B84-40BA-8831-8BAA9ED6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8212-28C6-4E99-A7E9-EA672AB5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2F8-A6DB-4E11-8E05-D72330A7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C6D3-BABE-4FE9-AE52-64668C52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1F55-0701-416C-A2CC-7B2D2499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4596-EB81-4B82-8F83-665AC6FD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C061-AA5E-4093-A44F-728EAAF5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1CC2-60A3-4F00-B4CE-C2FDD66F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86750-0F9D-4619-86F2-3805AA5A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539C-B5D9-43C1-B42B-EF27CFA6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44C93-D716-4030-B3D0-CC81A361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C99F-1FE7-4DB5-8F15-ABBB4990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4AD22-B549-440E-A273-3A68677E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44B-9907-4E46-824F-0E22B1CC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F2B1-C910-4F44-BA9E-E8F169E5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F7953-5F70-43EA-9199-9077739B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05EA-9371-4082-8BB3-3FB4F2F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285F-6744-4B86-A705-3F1C1CFD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46C2-1DCD-49D4-8036-A189D9FE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EAEE-0C84-4C36-8B08-396E6140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0DE6-9882-4479-A92F-240F7303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4F9D-2FB6-48FA-B44D-10217801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33E1E-B85B-4E65-B6C3-A20A6524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45B6B-74AB-4E78-9755-738337DD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4DF-BD86-45E1-A41A-DBEB4FEA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EF0F-4C22-42E2-80C6-DC7AEFDD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2577-2A54-412C-95FE-A5237BCB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B2B7-D6BE-430F-A844-5AC566EC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10EFA-CD8C-442D-9F8A-EAFF1C62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FBAD-66E4-4EA0-9449-07291598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2070-7062-47E4-916F-EC2C91A2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74FD-05AA-4EED-BD01-BCF124E7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424D3-AEDD-4DAA-B2B1-03873C30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BCF9-3EFF-4B1A-A60B-6284F5BB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3D9C7-75F9-4F3D-B961-F70A1C57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F5A-DBC6-4F20-8B59-9AF7B5C7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1A7C9-60AD-49D8-9545-4D24A487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CB365-43A4-419D-A8E9-4190FC73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2E1E7-7526-4673-9EED-19B7B794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8F403-7DA1-4A83-85F5-7152EF99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26B0-631C-4CA0-9C14-5EE8F885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21FD6-A772-459D-8FC9-6802704C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37D1E-B217-40AD-83E6-74DB362F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5C06F-68EE-48EA-A975-D212245C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CE85E-E8F0-4047-8C78-FD9622FE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8275A-4B44-46E8-97EB-05149B14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75B-D355-41DE-86D6-010DD89B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E6AB8-9ACF-4655-A8F3-1EFFE622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3B5-C3CE-433C-80ED-41CF0CAD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D8A-A6ED-46A4-A3D2-B784F66F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1FD-B7E5-46F0-B99D-33AC0015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717C-0883-49CF-A0E5-AE7E607CA5C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9076-6014-4CB8-96D9-14EDB3BCC41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A25B-4773-4E2C-9FC0-A978DE5E50A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BD90-7934-49E3-88EC-6149702A1D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21AB-DF03-4106-8455-3AAAA017A3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оспитание и обучение в Киевской Руси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410080" y="4876920"/>
            <a:ext cx="335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готовил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тудентка 112 группы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икерова Елизаве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52280" y="914400"/>
            <a:ext cx="426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спитание и обучение Киевской Руси X–XIII вв. характеризуется смешением языческих и христианских традиций. Первые шаги книжного обучения предприняты болгарами, оказавшимися в Киеве в результате завоевания Болгарии Византией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2" descr="Картинки по запросу образование в киевской руси"/>
          <p:cNvPicPr/>
          <p:nvPr/>
        </p:nvPicPr>
        <p:blipFill>
          <a:blip r:embed="rId1"/>
          <a:stretch/>
        </p:blipFill>
        <p:spPr>
          <a:xfrm>
            <a:off x="4538520" y="533520"/>
            <a:ext cx="4319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начительное влияни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 культуру и содержание обучения на Руси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казала Византия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объясняется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исхождением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христианства в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иевской Руси из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изантии. В качестве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чебных книг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спользовались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изантийские,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пример, учения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оанна Златоуст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344–407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2" descr="Картинки по запросу учение иоанна златоуста"/>
          <p:cNvPicPr/>
          <p:nvPr/>
        </p:nvPicPr>
        <p:blipFill>
          <a:blip r:embed="rId1"/>
          <a:stretch/>
        </p:blipFill>
        <p:spPr>
          <a:xfrm>
            <a:off x="4952880" y="228600"/>
            <a:ext cx="3810240" cy="651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6200" y="533520"/>
            <a:ext cx="632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рождение образования в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иевской Руси предопределилос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явлением городов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 государственных институтов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учение содержало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еимущественно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елигиозные направления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лавный способ воспитания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дражание отцу, в чем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ражается патриархально-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овой характер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ношений в обществе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дтверждение этому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ожно найти в труде «Поучени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ладимира Мономаха детям»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1096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2" descr="Картинки по запросу «Поучение Владимира Мономаха детям»"/>
          <p:cNvPicPr/>
          <p:nvPr/>
        </p:nvPicPr>
        <p:blipFill>
          <a:blip r:embed="rId1"/>
          <a:stretch/>
        </p:blipFill>
        <p:spPr>
          <a:xfrm>
            <a:off x="609480" y="914400"/>
            <a:ext cx="299736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X–XI вв. письменность проникла во все слои населения. Уровень образованности в Киевской Руси был примерно таким же как и в Западной Европе того же периода. О высоком уровне образования Киевской Руси свидетельствует большое количество рукописей, составляющее примерно 140 тысяч книг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держание книжных произведений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зволяет судить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 высокой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равственности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усского народ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4" descr="Картинки по запросу обучение в киевской руси"/>
          <p:cNvPicPr/>
          <p:nvPr/>
        </p:nvPicPr>
        <p:blipFill>
          <a:blip r:embed="rId1"/>
          <a:srcRect l="3159" t="3170" r="4211" b="8096"/>
          <a:stretch/>
        </p:blipFill>
        <p:spPr>
          <a:xfrm>
            <a:off x="3036960" y="2971800"/>
            <a:ext cx="6107040" cy="3886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-360" y="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лементарное образование дети получали в семье, на которую возлагалась так же воспитательная функция. Дети из наиболее состоятельных семей обучались специально приглашенными учителями-священниками. Церковь осуществляла контроль семейного воспитания. Позже начальное обучение производили так называемые мастера грамоты, обучавшие детей всех сословий. Оно содержало основы грамотности и арифметики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2" descr="Картинки по запросу образование в киевской руси"/>
          <p:cNvPicPr/>
          <p:nvPr/>
        </p:nvPicPr>
        <p:blipFill>
          <a:blip r:embed="rId1"/>
          <a:stretch/>
        </p:blipFill>
        <p:spPr>
          <a:xfrm>
            <a:off x="228600" y="3657600"/>
            <a:ext cx="3733920" cy="3067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Картинки по запросу обучение в киевской руси"/>
          <p:cNvPicPr/>
          <p:nvPr/>
        </p:nvPicPr>
        <p:blipFill>
          <a:blip r:embed="rId2"/>
          <a:stretch/>
        </p:blipFill>
        <p:spPr>
          <a:xfrm>
            <a:off x="4267080" y="3352680"/>
            <a:ext cx="4648320" cy="335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419360" y="457200"/>
            <a:ext cx="472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Школы в Киевской Руси появились при церквях, где ощущался недостаток грамотных священнослужителей. Первая такая «школа учения книжного» открылась в Киеве в 988 г. при князе Владимире Святославиче. С этого момента развитие книжного обучения шло быстрыми темпами, несмотря на негативное отношение к нему широких масс населения, привыкших к традиционному семейному обучению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Картинки по запросу Первая такая «школа учения книжного» открылась в Киеве"/>
          <p:cNvPicPr/>
          <p:nvPr/>
        </p:nvPicPr>
        <p:blipFill>
          <a:blip r:embed="rId1"/>
          <a:stretch/>
        </p:blipFill>
        <p:spPr>
          <a:xfrm>
            <a:off x="152280" y="3733920"/>
            <a:ext cx="4496040" cy="2790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Картинки по запросу обучение в киевской руси"/>
          <p:cNvPicPr/>
          <p:nvPr/>
        </p:nvPicPr>
        <p:blipFill>
          <a:blip r:embed="rId2"/>
          <a:stretch/>
        </p:blipFill>
        <p:spPr>
          <a:xfrm>
            <a:off x="228600" y="457200"/>
            <a:ext cx="4343400" cy="3195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2578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ервая школа, открытая князем Владимиром была уже учебным заведением повышенного типа, так как предполагала владение учениками элементарной грамотой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Picture 2" descr="Картинки по запросу обучение в киевской руси"/>
          <p:cNvPicPr/>
          <p:nvPr/>
        </p:nvPicPr>
        <p:blipFill>
          <a:blip r:embed="rId1"/>
          <a:stretch/>
        </p:blipFill>
        <p:spPr>
          <a:xfrm>
            <a:off x="152280" y="304920"/>
            <a:ext cx="4953240" cy="6216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нязья и княгини – потомки Владимира – продолжали его дело, открывая новые церкви и школы при них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1089 году было открыто даже женское училище, где девушки учились грамоте, пению и различным ремеслам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2" descr="Картинки по запросу обучение в киевской руси женское училище"/>
          <p:cNvPicPr/>
          <p:nvPr/>
        </p:nvPicPr>
        <p:blipFill>
          <a:blip r:embed="rId1"/>
          <a:stretch/>
        </p:blipFill>
        <p:spPr>
          <a:xfrm>
            <a:off x="380880" y="4038480"/>
            <a:ext cx="3764160" cy="2667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Картинки по запросу обучение в киевской руси женское училище"/>
          <p:cNvPicPr/>
          <p:nvPr/>
        </p:nvPicPr>
        <p:blipFill>
          <a:blip r:embed="rId2"/>
          <a:stretch/>
        </p:blipFill>
        <p:spPr>
          <a:xfrm>
            <a:off x="4495680" y="22860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7"/>
          <p:cNvSpPr/>
          <p:nvPr/>
        </p:nvSpPr>
        <p:spPr>
          <a:xfrm>
            <a:off x="4952880" y="4495680"/>
            <a:ext cx="4724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школах обучали изготовлению книг, переписыванию, иллюстрированию и переплету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4T18:22:09Z</dcterms:created>
  <dc:creator>Yra</dc:creator>
  <dc:description/>
  <dc:language>en-US</dc:language>
  <cp:lastModifiedBy>Yra</cp:lastModifiedBy>
  <dcterms:modified xsi:type="dcterms:W3CDTF">2017-04-04T19:17:06Z</dcterms:modified>
  <cp:revision>6</cp:revision>
  <dc:subject/>
  <dc:title>Воспитание и обучение в Киевской Руси</dc:title>
</cp:coreProperties>
</file>