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369-F99D-4CE2-B464-2D64687C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038-B224-40A2-AA3B-7AC6243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6A4-7F4C-4321-8AB4-5E9EE897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DC3-726D-4EEB-BB6F-B2DB2A93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27D-0BAB-4E47-9770-6E3153A0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69CB-F17E-4DD3-B01E-C17DF1F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53D-A9F8-4018-A689-143E6D1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277-D5A1-4037-A388-CF4A6189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F20-609D-4C5B-A4F0-DF37BBFE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220-A4F2-454E-BA96-E5F72FE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5A0-49EA-4318-805A-D7B0829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34F-E86F-4091-8DB5-236E8E3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6D27-6F15-4788-89E7-EEB1D04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B2C9-146E-4702-8086-C4941E5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C00-5D42-4774-8FC2-4AF45D6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88E-B7A7-4431-958E-9D72E0FD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981-7EEC-4A2F-9CCB-27FBB7B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FE20-49F2-47F3-ADEB-71580B05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E6BC-C9FA-4881-9EDC-CFE0D50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2A6D-9270-4441-BDB5-847D07E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29F0-DAA7-458A-B662-E664DE15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5E31-D789-4AF9-877C-6AD37DB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2AA-89C7-4E67-8792-A6B7984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1514-4EB0-4C92-B80E-B3BE9E5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8991-F336-443A-A0FB-2357E65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15AD-4C57-4990-8223-46AF61E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AD9F-2DDA-4AF5-97F6-F46CF3D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1DFB-D3CD-4D07-874E-AAE8A79A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D8F5-8FC1-4AA3-9732-3FDA510D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14AB-AC82-4249-8AD9-FE7EF179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43EF-9E34-4E3F-BCD5-FAF8EF05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D060-42BF-4A26-A227-9CD4F47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7585-573C-4EC8-ABF8-1CD60C3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B75-654C-4F78-9D85-7C54E09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F315-104E-47FD-B30E-B459768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69BD-D7E1-4306-9A84-2B5168F2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430C-A8F7-480F-B191-97D481CF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67A3-103F-44DA-B750-F6C1C276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83AC-D742-4F61-91FC-43FFC54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0DA6-37DA-441F-A4B2-A0F4C4D4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DB24-B7AB-4AC4-A5E5-E0ABCBC7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3352-CF32-4110-86CB-E2FBFE06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D4F9-1151-4EAB-890D-574CB022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B9FA-2D71-43B4-B307-BA374F3F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E66-5FAB-47AC-B77D-146F3D75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120A-AE94-4C93-8465-C1D555B2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2CB6-A8CD-411F-897B-56D48338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B813-14D4-422C-B2FD-F7A1AE19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166B-DD8C-4769-84C1-20C93B0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CC72-F3CA-47B1-809D-3198931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CEDD-1F7C-4635-9321-B4284200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4658-804D-43EC-A491-A219BCD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700E7-062D-437C-8FAF-AF7C58C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4712-5EE6-4CB8-B8DF-A5A9A02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CEC0-64B1-42EF-9E4E-ACBB2404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C81-4114-43A6-AAC5-2F9BCE1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AEED-5CA4-4593-A1DF-090B83C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2D8-1622-462A-B3B5-BE9D120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E40-D7A2-4969-BFEC-684D9D6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BB6-82BE-48A8-A228-DA96FE8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014-E1E9-4AA2-9495-AE0C640A38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2843-2701-44D8-896C-5D484ED7D1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838A-772D-45C2-A249-AFB20E8070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BA9-8F1B-4B66-9AB1-05DD6B7902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2B75-43E8-4E8C-8A57-1D1813A13D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оспитание и обучение в Киевской Руси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410080" y="487692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готовил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тудентка 112 группы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икерова Елизаве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52280" y="9144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питание и обучение Киевской Руси X–XIII вв. характеризуется смешением языческих и христианских традиций. Первые шаги книжного обучения предприняты болгарами, оказавшимися в Киеве в результате завоевания Болгарии Византией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Картинки по запросу образование в киевской руси"/>
          <p:cNvPicPr/>
          <p:nvPr/>
        </p:nvPicPr>
        <p:blipFill>
          <a:blip r:embed="rId1"/>
          <a:stretch/>
        </p:blipFill>
        <p:spPr>
          <a:xfrm>
            <a:off x="4538520" y="533520"/>
            <a:ext cx="4319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начительное влияни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 культуру и содержание обучения на Руси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казала Византия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объясняется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исхождением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ристианства в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иевской Руси из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зантии. В качестве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ебных книг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спользовались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зантийские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пример, учения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оанна Златоуст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344–407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Картинки по запросу учение иоанна златоуста"/>
          <p:cNvPicPr/>
          <p:nvPr/>
        </p:nvPicPr>
        <p:blipFill>
          <a:blip r:embed="rId1"/>
          <a:stretch/>
        </p:blipFill>
        <p:spPr>
          <a:xfrm>
            <a:off x="4952880" y="228600"/>
            <a:ext cx="3810240" cy="651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6200" y="533520"/>
            <a:ext cx="632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рождение образования в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иевской Руси предопределилос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явлением городов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государственных институтов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учение содержал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имущественн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лигиозные направления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лавный способ воспитани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ражание отцу, в чем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ражается патриархально-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овой характер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ношений в обществе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тверждение этом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жно найти в труде «Поуче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ладимира Мономаха детям»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1096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Картинки по запросу «Поучение Владимира Мономаха детям»"/>
          <p:cNvPicPr/>
          <p:nvPr/>
        </p:nvPicPr>
        <p:blipFill>
          <a:blip r:embed="rId1"/>
          <a:stretch/>
        </p:blipFill>
        <p:spPr>
          <a:xfrm>
            <a:off x="609480" y="914400"/>
            <a:ext cx="299736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X–XI вв. письменность проникла во все слои населения. Уровень образованности в Киевской Руси был примерно таким же как и в Западной Европе того же периода. О высоком уровне образования Киевской Руси свидетельствует большое количество рукописей, составляющее примерно 140 тысяч книг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держание книжных произведений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зволяет судить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 высокой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равственности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сского народ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4" descr="Картинки по запросу обучение в киевской руси"/>
          <p:cNvPicPr/>
          <p:nvPr/>
        </p:nvPicPr>
        <p:blipFill>
          <a:blip r:embed="rId1"/>
          <a:srcRect l="3159" t="3170" r="4211" b="8096"/>
          <a:stretch/>
        </p:blipFill>
        <p:spPr>
          <a:xfrm>
            <a:off x="3036960" y="2971800"/>
            <a:ext cx="610704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-360" y="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лементарное образование дети получали в семье, на которую возлагалась так же воспитательная функция. Дети из наиболее состоятельных семей обучались специально приглашенными учителями-священниками. Церковь осуществляла контроль семейного воспитания. Позже начальное обучение производили так называемые мастера грамоты, обучавшие детей всех сословий. Оно содержало основы грамотности и арифметик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Картинки по запросу образование в киевской руси"/>
          <p:cNvPicPr/>
          <p:nvPr/>
        </p:nvPicPr>
        <p:blipFill>
          <a:blip r:embed="rId1"/>
          <a:stretch/>
        </p:blipFill>
        <p:spPr>
          <a:xfrm>
            <a:off x="228600" y="3657600"/>
            <a:ext cx="3733920" cy="3067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Картинки по запросу обучение в киевской руси"/>
          <p:cNvPicPr/>
          <p:nvPr/>
        </p:nvPicPr>
        <p:blipFill>
          <a:blip r:embed="rId2"/>
          <a:stretch/>
        </p:blipFill>
        <p:spPr>
          <a:xfrm>
            <a:off x="4267080" y="3352680"/>
            <a:ext cx="4648320" cy="335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419360" y="45720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Школы в Киевской Руси появились при церквях, где ощущался недостаток грамотных священнослужителей. Первая такая «школа учения книжного» открылась в Киеве в 988 г. при князе Владимире Святославиче. С этого момента развитие книжного обучения шло быстрыми темпами, несмотря на негативное отношение к нему широких масс населения, привыкших к традиционному семейному обучению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Картинки по запросу Первая такая «школа учения книжного» открылась в Киеве"/>
          <p:cNvPicPr/>
          <p:nvPr/>
        </p:nvPicPr>
        <p:blipFill>
          <a:blip r:embed="rId1"/>
          <a:stretch/>
        </p:blipFill>
        <p:spPr>
          <a:xfrm>
            <a:off x="152280" y="3733920"/>
            <a:ext cx="44960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Картинки по запросу обучение в киевской руси"/>
          <p:cNvPicPr/>
          <p:nvPr/>
        </p:nvPicPr>
        <p:blipFill>
          <a:blip r:embed="rId2"/>
          <a:stretch/>
        </p:blipFill>
        <p:spPr>
          <a:xfrm>
            <a:off x="228600" y="457200"/>
            <a:ext cx="4343400" cy="319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2578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ервая школа, открытая князем Владимиром была уже учебным заведением повышенного типа, так как предполагала владение учениками элементарной грамотой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2" descr="Картинки по запросу обучение в киевской руси"/>
          <p:cNvPicPr/>
          <p:nvPr/>
        </p:nvPicPr>
        <p:blipFill>
          <a:blip r:embed="rId1"/>
          <a:stretch/>
        </p:blipFill>
        <p:spPr>
          <a:xfrm>
            <a:off x="152280" y="304920"/>
            <a:ext cx="4953240" cy="6216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нязья и княгини – потомки Владимира – продолжали его дело, открывая новые церкви и школы при них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1089 году было открыто даже женское училище, где девушки учились грамоте, пению и различным ремеслам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2" descr="Картинки по запросу обучение в киевской руси женское училище"/>
          <p:cNvPicPr/>
          <p:nvPr/>
        </p:nvPicPr>
        <p:blipFill>
          <a:blip r:embed="rId1"/>
          <a:stretch/>
        </p:blipFill>
        <p:spPr>
          <a:xfrm>
            <a:off x="380880" y="4038480"/>
            <a:ext cx="3764160" cy="2667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Картинки по запросу обучение в киевской руси женское училище"/>
          <p:cNvPicPr/>
          <p:nvPr/>
        </p:nvPicPr>
        <p:blipFill>
          <a:blip r:embed="rId2"/>
          <a:stretch/>
        </p:blipFill>
        <p:spPr>
          <a:xfrm>
            <a:off x="4495680" y="2286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4952880" y="4495680"/>
            <a:ext cx="4724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школах обучали изготовлению книг, переписыванию, иллюстрированию и переплет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8:22:09Z</dcterms:created>
  <dc:creator>Yra</dc:creator>
  <dc:description/>
  <dc:language>en-US</dc:language>
  <cp:lastModifiedBy>Yra</cp:lastModifiedBy>
  <dcterms:modified xsi:type="dcterms:W3CDTF">2017-04-04T19:17:06Z</dcterms:modified>
  <cp:revision>6</cp:revision>
  <dc:subject/>
  <dc:title>Воспитание и обучение в Киевской Руси</dc:title>
</cp:coreProperties>
</file>