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6AB-1FC9-4FD9-A3C7-59AAB9E3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E85-32D2-4E10-AEC1-B6E2272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C8B-ACC4-4307-9B43-BA3845A4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D77-F105-48FC-8A1D-B33B2ED8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1D9-D759-42E0-B8E1-6095B70B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3E9-0CB0-4B7F-B57D-DE50AC6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0DD-9A05-411F-95A0-5262EF0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E6E-3F76-49BE-B230-01A370A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C69-73B0-44F7-B64F-8C221CC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B0C-61E9-45E2-8E05-015C7190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221-9E73-4B3E-B037-B5769A7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362-3DBC-4B68-BA42-7B5F7F6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D9A-13C4-4677-AB01-8D9F58BCA4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2920" y="1341000"/>
            <a:ext cx="659916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оздух нам необходи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Ковыршина В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382320"/>
            <a:ext cx="6589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5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92960" cy="554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0800000">
            <a:off x="1944000" y="475920"/>
            <a:ext cx="6589800" cy="1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2" descr=""/>
          <p:cNvPicPr/>
          <p:nvPr/>
        </p:nvPicPr>
        <p:blipFill>
          <a:blip r:embed="rId1"/>
          <a:stretch/>
        </p:blipFill>
        <p:spPr>
          <a:xfrm>
            <a:off x="1403280" y="987480"/>
            <a:ext cx="2468520" cy="4386240"/>
          </a:xfrm>
          <a:prstGeom prst="rect">
            <a:avLst/>
          </a:prstGeom>
          <a:ln w="0">
            <a:noFill/>
          </a:ln>
        </p:spPr>
      </p:pic>
      <p:pic>
        <p:nvPicPr>
          <p:cNvPr id="48" name="Объект 4" descr=""/>
          <p:cNvPicPr/>
          <p:nvPr/>
        </p:nvPicPr>
        <p:blipFill>
          <a:blip r:embed="rId2"/>
          <a:stretch/>
        </p:blipFill>
        <p:spPr>
          <a:xfrm>
            <a:off x="5229360" y="987480"/>
            <a:ext cx="24685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382320"/>
            <a:ext cx="6589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5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43640" y="2136240"/>
            <a:ext cx="290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2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7252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4360" y="279720"/>
            <a:ext cx="65898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09112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/>
          <p:cNvPicPr/>
          <p:nvPr/>
        </p:nvPicPr>
        <p:blipFill>
          <a:blip r:embed="rId2"/>
          <a:stretch/>
        </p:blipFill>
        <p:spPr>
          <a:xfrm>
            <a:off x="3073320" y="3429000"/>
            <a:ext cx="4986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280" y="197280"/>
            <a:ext cx="6264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203864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271476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5" descr=""/>
          <p:cNvPicPr/>
          <p:nvPr/>
        </p:nvPicPr>
        <p:blipFill>
          <a:blip r:embed="rId2"/>
          <a:stretch/>
        </p:blipFill>
        <p:spPr>
          <a:xfrm>
            <a:off x="4932360" y="979560"/>
            <a:ext cx="2714760" cy="482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203864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467000" y="1254240"/>
            <a:ext cx="2565360" cy="456084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5" descr=""/>
          <p:cNvPicPr/>
          <p:nvPr/>
        </p:nvPicPr>
        <p:blipFill>
          <a:blip r:embed="rId2"/>
          <a:stretch/>
        </p:blipFill>
        <p:spPr>
          <a:xfrm>
            <a:off x="4859280" y="1254240"/>
            <a:ext cx="34322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0:17:13Z</dcterms:created>
  <dc:creator>User</dc:creator>
  <dc:description/>
  <dc:language>en-US</dc:language>
  <cp:lastModifiedBy>demon_666_96@mail.ru</cp:lastModifiedBy>
  <dcterms:modified xsi:type="dcterms:W3CDTF">2017-05-21T19:01:42Z</dcterms:modified>
  <cp:revision>29</cp:revision>
  <dc:subject/>
  <dc:title>Слайд 1</dc:title>
</cp:coreProperties>
</file>