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2D88-0B0D-40EE-9468-49A1841498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C710-BAC3-4D35-83D5-D2C46A58B8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98EA-C60B-4D33-87CF-38E2138461B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2EF-486B-49D8-9A19-A5533906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C41-3C08-446B-B953-5D4C4545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E6E33B-7604-4B3F-B9B2-E6A8EC17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B16FF9-9FC8-49A9-BACA-3D79100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79BB74-F673-4DDC-BDE2-CFAC1830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C98BA-83BA-40A7-8349-344409FF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E9A8C2-B017-4A53-9EE4-0CFA44A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17FDD2-F1FC-4FF7-B0AA-F0057DC5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976D16-235D-4B28-BA26-125C894F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DE6A4F-5160-4855-8C3B-99CB3A03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337481-96A8-4718-A35E-12F129D0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D15-5D47-432B-864F-4E098EA5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F7B-B420-4CEC-BF4F-8DC3C8EA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B305E-7975-4B77-B63E-0C33CF92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1CFB8-168E-4206-83E3-3ED4FC3C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9613F-E049-4A7C-A5A1-83DC83CE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8D418-F80E-4D61-9CE5-1AC84630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6F4AB-1B0C-4F82-9CFD-6E190E4A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40FF3-D42F-49DA-A066-0E7367C0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CBE44-FACD-4143-88B6-AE38F579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EC2-12E5-457A-8242-5B282FE7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49C3A-2906-499B-9D8D-4AC0E2A5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A0267-4DB7-4411-9595-FE2636FB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C20E7-5A79-4C1F-AD2D-31508BEE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1EC74-95FD-4808-A356-E312A075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7486B-FA7F-4AFC-9926-D704EBC8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9A11-16D3-4583-B91E-DD8C5831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5505-8F20-4E49-B2C4-5FBB561E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E73C-FA30-4448-819B-07FADECE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6CA3-3B28-4F7B-9A55-FA838BAE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46F2-CC46-4B12-BEA4-65648684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521-4DD9-428B-9550-0EE366E3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4D04-F8FB-4F84-9D64-EFA4E71E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D255-6CF5-4481-A3DE-62C61046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CA08-362B-4112-936F-D60E5D8E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3612-0AFE-49B6-97D5-FBFADDD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7AD0-168B-405F-A842-AF9F9B53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3B02-A893-434B-85B8-84B90FF8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5873-F2E1-4265-9B80-D2507C67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11ADC-2B35-4784-BEF1-A9898790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A9239-4480-4411-AB68-20F4ADBD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85080-8EB4-4DCF-B64B-EF5E2D06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91C-3378-42C6-8A42-B60E4828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7F273-89B7-4AFC-8AAF-EC77D3FE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6BB22-30FF-47E1-8C53-CD378EC8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25427-33CD-4618-9D3D-461BD47D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A312E-A882-437D-97FC-5380C38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64E51-1A59-4ADC-B0E3-5D6AA207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03CE5-66BF-416B-9FCD-F4467D8A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16B06-0695-4D4C-8276-1E0460B0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B1D1C-DF54-40BC-BBD9-A1399A20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D699C-B784-4C1F-BA75-9CBED4F1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3819-E00C-4E0A-B633-670D9F13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DDA-C04F-48E1-BC75-F7FD6CFE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40C95-696D-4C30-8D2D-FB982A97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A4589-FB25-4046-8EC0-E8DC64AA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5542D-CE65-492F-A050-F7164D0A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31F58-31EA-4DF7-B516-69F70B2C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C74FA-63D6-4B7D-8A03-A37BE291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7AF3F-B2D3-400C-80B0-491BDA3A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A2DBE-851B-4C4E-AEE1-92227E3C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FE12D-0879-451A-8142-B5155323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D11A4-51CE-46D8-909C-51CBFA7D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7E10-9FBB-437F-B072-989F608E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6B2-CEC4-43EF-9869-A39117E2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3B10-3223-4E0C-9778-875EEAB5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CCEA3-EDE2-4BEB-8F6B-EE79BFE1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A6FE3-643A-44B3-8432-FFA8DDC8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B6DDB-4081-4C57-B120-AA7C16F7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339E2-68A3-4F6D-91A1-EA4E34E8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BBAA6-E13F-468E-9CAA-4506D9BE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84EE8-33CF-4FE4-8B0F-0EB3F3DC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96A4D-5FB0-434C-B27C-155654C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D226E-F060-4B56-A0AE-B9770D4B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86C38-C4C2-4515-AF7D-DB7D65C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40C-0A4B-46E8-9BAC-9D1D608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455F6-0086-48C6-BBAE-15136B58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8BF67-AA67-4E89-BF90-58EAA209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CBF5D-4429-4250-9D78-1200C998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638E2-547A-4D00-B80A-69EB3921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75359-14B0-4C41-AC29-96057982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A301C-1230-467F-8CDE-082A0D4F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C8229-FA95-4250-840E-05368519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ADF2A-A6D4-4604-96AC-E7ECD847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069FB-9977-4960-9642-B3C1CD70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99A48-3A28-4D43-B25F-2119E8F1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02B-BD7E-4C3C-A8C8-B9CCB524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14198-6680-4DC1-B4C6-F50382E9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2B34-76C3-4633-ABF6-97036D79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FBB75-F96B-4883-ABA4-AB74096B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7F8DB-7364-499E-9751-BFAEF994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9BA6F-7223-4C59-9921-840A04A1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0D21F-5241-472B-92E3-009B47D9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55ED46-C22C-426D-9AAF-000A691E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6A32E5-A53B-4640-AB78-EFA9AB99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19B33C-C233-433D-86F5-2BAA8AF9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466CE-471C-466D-9A7F-41DD3BBE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06F-D830-47D1-B162-79D0531B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3B6D22-703A-4EB7-A747-4B7DAC52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437C8-EB7E-41E4-9611-E3CCA50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EA60C8-EF08-4885-9B8C-577F255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F851E6-5F82-4126-902F-CEA23F63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E8BA3-DC4F-4037-AEC9-19F6522C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1775AB-A639-4592-806E-3745D7A9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517840-FE6E-4212-8652-896D20CB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69859-5913-4203-AB10-D41D5AAB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8DBFA4-96B3-49FE-A0C7-2B910E7C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E2EAE-57D9-4EC6-B249-9646CAF7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1ADC-B5E0-46D7-BA4B-F2D81F4A1DE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3452-6F73-4837-9B23-90545A688EA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CE4C-E7DD-4582-918E-BF13AE6FF16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FD86-CAE0-493D-988B-B357B3D5771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6DCB-BF1B-439C-AFBE-178C5D08E3E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C747-16C9-4EAC-B960-4AA6A99AD6E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8D04-0DAF-4AEB-8E45-1B9A4BC1929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8FA5-EBAC-4597-804A-014A7192E86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FA07-6270-4137-A7A1-0D201C387A0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8242200" cy="15112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160"/>
            <a:ext cx="6559560" cy="29667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пециальность:  «Дошкольное образование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 дисциплине: Возрастная анотомия,физиология и гигиена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ема: Сердечно сосудистая систем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тудентка 1 курса, гр. ДО-16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угунова.К.В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"/>
          <p:cNvSpPr/>
          <p:nvPr/>
        </p:nvSpPr>
        <p:spPr>
          <a:xfrm>
            <a:off x="1000080" y="357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ровообращ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Рисунок 2" descr="Схема кровообращения человека"/>
          <p:cNvPicPr/>
          <p:nvPr/>
        </p:nvPicPr>
        <p:blipFill>
          <a:blip r:embed="rId1"/>
          <a:stretch/>
        </p:blipFill>
        <p:spPr>
          <a:xfrm>
            <a:off x="214200" y="1285920"/>
            <a:ext cx="4286520" cy="521496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"/>
          <p:cNvSpPr/>
          <p:nvPr/>
        </p:nvSpPr>
        <p:spPr>
          <a:xfrm>
            <a:off x="4643280" y="1416960"/>
            <a:ext cx="428652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0077"/>
                </a:solidFill>
                <a:latin typeface="Calibri"/>
                <a:ea typeface="Times New Roman"/>
              </a:rPr>
              <a:t>Кровь, выталкиваемая из сердца в артерии, проходит по всему организму (либо доходит до легких) и снова возвращается в сердце. Это процесс носит название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Times New Roman"/>
              </a:rPr>
              <a:t>кровообращение.</a:t>
            </a:r>
            <a:r>
              <a:rPr b="0" lang="ru-RU" sz="2000" spc="-1" strike="noStrike">
                <a:solidFill>
                  <a:srgbClr val="110077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0077"/>
                </a:solidFill>
                <a:latin typeface="Arial"/>
                <a:ea typeface="Times New Roman"/>
              </a:rPr>
              <a:t>Кровообращение условно разделяют на два круга: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большой круг кровообращения и малый круг кровообращения.</a:t>
            </a:r>
            <a:r>
              <a:rPr b="0" lang="ru-RU" sz="2000" spc="-1" strike="noStrike">
                <a:solidFill>
                  <a:srgbClr val="110077"/>
                </a:solidFill>
                <a:latin typeface="Arial"/>
                <a:ea typeface="Times New Roman"/>
              </a:rPr>
              <a:t> Большой круг кровообращения еще называют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системным,</a:t>
            </a:r>
            <a:r>
              <a:rPr b="0" lang="ru-RU" sz="2000" spc="-1" strike="noStrike">
                <a:solidFill>
                  <a:srgbClr val="110077"/>
                </a:solidFill>
                <a:latin typeface="Arial"/>
                <a:ea typeface="Times New Roman"/>
              </a:rPr>
              <a:t> а малый круг кровообращения еще называют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легочным.</a:t>
            </a:r>
            <a:r>
              <a:rPr b="0" lang="ru-RU" sz="2000" spc="-1" strike="noStrike">
                <a:solidFill>
                  <a:srgbClr val="110077"/>
                </a:solidFill>
                <a:latin typeface="Arial"/>
                <a:ea typeface="Times New Roman"/>
              </a:rPr>
              <a:t> </a:t>
            </a:r>
            <a:br>
              <a:rPr sz="1300"/>
            </a:br>
            <a:br>
              <a:rPr sz="13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1" descr="Большой круг кровообращения. Упрощенная схема."/>
          <p:cNvPicPr/>
          <p:nvPr/>
        </p:nvPicPr>
        <p:blipFill>
          <a:blip r:embed="rId1"/>
          <a:stretch/>
        </p:blipFill>
        <p:spPr>
          <a:xfrm>
            <a:off x="1000080" y="1285920"/>
            <a:ext cx="7143840" cy="500076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642960" y="35712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Большой круг кровообращ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1" descr="Малый круг кровообращения. Упрощенная схема."/>
          <p:cNvPicPr/>
          <p:nvPr/>
        </p:nvPicPr>
        <p:blipFill>
          <a:blip r:embed="rId1"/>
          <a:stretch/>
        </p:blipFill>
        <p:spPr>
          <a:xfrm>
            <a:off x="1643040" y="1285920"/>
            <a:ext cx="5857920" cy="50007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"/>
          <p:cNvSpPr/>
          <p:nvPr/>
        </p:nvSpPr>
        <p:spPr>
          <a:xfrm>
            <a:off x="1071720" y="285840"/>
            <a:ext cx="77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алый круг кровообращ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500040" y="1071720"/>
          <a:ext cx="8215200" cy="5760720"/>
        </p:xfrm>
        <a:graphic>
          <a:graphicData uri="http://schemas.openxmlformats.org/drawingml/2006/table">
            <a:tbl>
              <a:tblPr/>
              <a:tblGrid>
                <a:gridCol w="2054160"/>
                <a:gridCol w="2052720"/>
                <a:gridCol w="2054160"/>
                <a:gridCol w="2054160"/>
              </a:tblGrid>
              <a:tr h="2330280"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aa"/>
                          </a:solidFill>
                          <a:latin typeface="Times New Roman"/>
                          <a:ea typeface="Times New Roman"/>
                        </a:rPr>
                        <a:t>Органы, кровоток в которых существенно увеличивается при мышечн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aa"/>
                          </a:solidFill>
                          <a:latin typeface="Times New Roman"/>
                          <a:ea typeface="Times New Roman"/>
                        </a:rPr>
                        <a:t>Максимальное увеличение кровотока по сравнению с уровнем поко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aa"/>
                          </a:solidFill>
                          <a:latin typeface="Times New Roman"/>
                          <a:ea typeface="Times New Roman"/>
                        </a:rPr>
                        <a:t>Органы, кровоток в которых существенно снижается при интенсивной и длительной мышечн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aa"/>
                          </a:solidFill>
                          <a:latin typeface="Times New Roman"/>
                          <a:ea typeface="Times New Roman"/>
                        </a:rPr>
                        <a:t>Максимальное снижение кровотока по сравнению с уровнем поко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64620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ботающие мыш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20-30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работающие мыш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4-6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120960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рдц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5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рганы брюшной полости (органы пищеварения, печень селезен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5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927000"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жа - при легкой и средней мышечной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3 р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жа - при истощающей мышечной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овоток близок к кровотоку в состоянии поко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647640">
                <a:tc gridSpan="2"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чки - при тяжелой мышечной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0" rIns="43200" tIns="43200" bIns="43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5 раз и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41" name="Rectangle 1"/>
          <p:cNvSpPr/>
          <p:nvPr/>
        </p:nvSpPr>
        <p:spPr>
          <a:xfrm>
            <a:off x="1143000" y="1728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00cc"/>
                </a:solidFill>
                <a:latin typeface="Calibri"/>
                <a:ea typeface="Times New Roman"/>
              </a:rPr>
              <a:t>Возможные изменения кровотока различных областей организма при мышечной раб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6"/>
          <p:cNvSpPr/>
          <p:nvPr/>
        </p:nvSpPr>
        <p:spPr>
          <a:xfrm flipH="1">
            <a:off x="2498760" y="1071720"/>
            <a:ext cx="1440" cy="600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ая соединительная линия 8"/>
          <p:cNvSpPr/>
          <p:nvPr/>
        </p:nvSpPr>
        <p:spPr>
          <a:xfrm flipH="1">
            <a:off x="4570560" y="1071720"/>
            <a:ext cx="2880" cy="578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ая соединительная линия 10"/>
          <p:cNvSpPr/>
          <p:nvPr/>
        </p:nvSpPr>
        <p:spPr>
          <a:xfrm flipH="1">
            <a:off x="6714720" y="1071720"/>
            <a:ext cx="1800" cy="578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ая соединительная линия 12"/>
          <p:cNvSpPr/>
          <p:nvPr/>
        </p:nvSpPr>
        <p:spPr>
          <a:xfrm>
            <a:off x="500040" y="3429000"/>
            <a:ext cx="8143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ая соединительная линия 14"/>
          <p:cNvSpPr/>
          <p:nvPr/>
        </p:nvSpPr>
        <p:spPr>
          <a:xfrm>
            <a:off x="500040" y="5286240"/>
            <a:ext cx="82152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1"/>
          <p:cNvSpPr/>
          <p:nvPr/>
        </p:nvSpPr>
        <p:spPr>
          <a:xfrm>
            <a:off x="285840" y="14292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 влиянием многолетних систематических тренировок увеличивается число сосудов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Рисунок 2" descr="Сердце неспортсмена"/>
          <p:cNvPicPr/>
          <p:nvPr/>
        </p:nvPicPr>
        <p:blipFill>
          <a:blip r:embed="rId1"/>
          <a:stretch/>
        </p:blipFill>
        <p:spPr>
          <a:xfrm>
            <a:off x="500040" y="2000160"/>
            <a:ext cx="3286080" cy="392904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3"/>
          <p:cNvSpPr/>
          <p:nvPr/>
        </p:nvSpPr>
        <p:spPr>
          <a:xfrm>
            <a:off x="224640" y="614376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судистая сеть сердца неспортс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Рисунок 4" descr="Сердце спортсмена"/>
          <p:cNvPicPr/>
          <p:nvPr/>
        </p:nvPicPr>
        <p:blipFill>
          <a:blip r:embed="rId2"/>
          <a:stretch/>
        </p:blipFill>
        <p:spPr>
          <a:xfrm>
            <a:off x="5072040" y="2000160"/>
            <a:ext cx="3262320" cy="385776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5"/>
          <p:cNvSpPr/>
          <p:nvPr/>
        </p:nvSpPr>
        <p:spPr>
          <a:xfrm>
            <a:off x="4794840" y="614376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судистая сеть сердца спортс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"/>
          <p:cNvSpPr/>
          <p:nvPr/>
        </p:nvSpPr>
        <p:spPr>
          <a:xfrm>
            <a:off x="785880" y="314280"/>
            <a:ext cx="7429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00cc"/>
                </a:solidFill>
                <a:latin typeface="Calibri"/>
                <a:ea typeface="Times New Roman"/>
              </a:rPr>
              <a:t>Что такое пульс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0000"/>
                </a:solidFill>
                <a:latin typeface="Calibri"/>
                <a:ea typeface="Times New Roman"/>
              </a:rPr>
              <a:t>Пульс,</a:t>
            </a:r>
            <a:r>
              <a:rPr b="0" lang="ru-RU" sz="3600" spc="-1" strike="noStrike">
                <a:solidFill>
                  <a:srgbClr val="110077"/>
                </a:solidFill>
                <a:latin typeface="Calibri"/>
                <a:ea typeface="Times New Roman"/>
              </a:rPr>
              <a:t> который можно прощупать при надавливании на артерию, есть ни что иное, как удар крови о стенку артерии. Число пульсовых ударов соответствует числу сокращений сердца. Поэтому по пульсу часто определяют частоту сердечных сокращений (число сердечных сокращений в единицу времени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"/>
          <p:cNvSpPr/>
          <p:nvPr/>
        </p:nvSpPr>
        <p:spPr>
          <a:xfrm>
            <a:off x="0" y="257760"/>
            <a:ext cx="91440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00cc"/>
                </a:solidFill>
                <a:latin typeface="Calibri"/>
                <a:ea typeface="Times New Roman"/>
              </a:rPr>
              <a:t>О 8-часовом рабочем дне сердц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2"/>
          <p:cNvSpPr/>
          <p:nvPr/>
        </p:nvSpPr>
        <p:spPr>
          <a:xfrm>
            <a:off x="285840" y="116676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 фазой сокращения, в течение которой сердце работает, следует фаза расслабления, в течение которой сердце отдыхает. В обычных условиях фаза сокращения желудочков примерно в 2 раза короче, чем фаза их расслабления, а фаза сокращения предсердий в 7 раз короче фазы их расслаблени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учается, что из 24 часов в сутки желудочки работают около 12 часов, а предсердия всего 3.5 часа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 некоторой долей юмора можно сказать, что в целом рабочий день сердца не превышает 8 часов, как и у большинства трудового населения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500040" y="1714680"/>
            <a:ext cx="77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Calibri"/>
              </a:rPr>
              <a:t>Спасибо за внимание! </a:t>
            </a:r>
            <a:r>
              <a:rPr b="1" i="1" lang="ru-RU" sz="8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32800" cy="14810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Система сердца и кровеносных сосудов"/>
          <p:cNvPicPr/>
          <p:nvPr/>
        </p:nvPicPr>
        <p:blipFill>
          <a:blip r:embed="rId2"/>
          <a:stretch/>
        </p:blipFill>
        <p:spPr>
          <a:xfrm>
            <a:off x="714240" y="1428840"/>
            <a:ext cx="1785960" cy="52149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2714760" y="1599120"/>
            <a:ext cx="62150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a"/>
                </a:solidFill>
                <a:latin typeface="Calibri"/>
                <a:ea typeface="Times New Roman"/>
              </a:rPr>
              <a:t>Основной функцией сердечно-сосудистой системы</a:t>
            </a:r>
            <a:r>
              <a:rPr b="0" lang="ru-RU" sz="1800" spc="-1" strike="noStrike">
                <a:solidFill>
                  <a:srgbClr val="110077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являетс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обеспечение тока физиологических жидкостей - крови и лимф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alibri"/>
              </a:rPr>
              <a:t>Другие функции сердечно-сосудистой сист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 Обеспечение клеток питательными веществами и кислородо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2.Удаление из клеток продуктов жизнедеятельност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3. Обеспечение переноса гормонов и, соответственно, участие в гормональной регуляции функций организм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4. Участие в процессах терморегуляции (за счет расширения или сужения кровеносных сосудов кожи) и обеспечение равномерного распределения температуры тела  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 5.Обеспечение перераспределения крови между работающими и неработающими органам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6. Выработка и передача в кровоток клеток иммунитета и иммунных тел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эту функцию выполняет лимфатическая система - часть сердечно-сосудистой системы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785880" y="357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ердц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" descr="Сердце человека. Вид спереди"/>
          <p:cNvPicPr/>
          <p:nvPr/>
        </p:nvPicPr>
        <p:blipFill>
          <a:blip r:embed="rId1"/>
          <a:stretch/>
        </p:blipFill>
        <p:spPr>
          <a:xfrm>
            <a:off x="285840" y="128592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Движение крови по сердцу"/>
          <p:cNvPicPr/>
          <p:nvPr/>
        </p:nvPicPr>
        <p:blipFill>
          <a:blip r:embed="rId2"/>
          <a:stretch/>
        </p:blipFill>
        <p:spPr>
          <a:xfrm>
            <a:off x="4572000" y="1285920"/>
            <a:ext cx="43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1000080" y="21420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ровеносные сосу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Рисунок 2" descr="Основные виды кровеносных сосудов человека"/>
          <p:cNvPicPr/>
          <p:nvPr/>
        </p:nvPicPr>
        <p:blipFill>
          <a:blip r:embed="rId1"/>
          <a:stretch/>
        </p:blipFill>
        <p:spPr>
          <a:xfrm>
            <a:off x="214200" y="1214280"/>
            <a:ext cx="4714920" cy="457200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4857840" y="1143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ртер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- это сосуды, по которым кровь движется от сердц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а не те, по которым течет артериальная кров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!)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4"/>
          <p:cNvSpPr/>
          <p:nvPr/>
        </p:nvSpPr>
        <p:spPr>
          <a:xfrm>
            <a:off x="4929120" y="278604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ен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- это сосуды, по которым кровь движется к сердцу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а не те, по которым течет венозная кров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!)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оугольник 5"/>
          <p:cNvSpPr/>
          <p:nvPr/>
        </p:nvSpPr>
        <p:spPr>
          <a:xfrm>
            <a:off x="4929120" y="450072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апилляр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- это мельчайшие сосуды, настолько тонкие, что вещества могут свободно проникать через их стенку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1" descr="Упрощенная схема диффуции веществ сквозь стенку капилляра"/>
          <p:cNvPicPr/>
          <p:nvPr/>
        </p:nvPicPr>
        <p:blipFill>
          <a:blip r:embed="rId1"/>
          <a:stretch/>
        </p:blipFill>
        <p:spPr>
          <a:xfrm>
            <a:off x="214200" y="357120"/>
            <a:ext cx="4286520" cy="36435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"/>
          <p:cNvSpPr/>
          <p:nvPr/>
        </p:nvSpPr>
        <p:spPr>
          <a:xfrm>
            <a:off x="214200" y="4221000"/>
            <a:ext cx="692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Суммарная длина кровеносных капилляров в организме человека равна примерно 100 000 км (такой нитью можно три раза опоясать земной шар по экватору). Общая поверхность кровеносных капилляров в организме равна примерно 1500 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4500720" y="1071720"/>
            <a:ext cx="43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з общего числа кровеносных капилляров в покое функционирует только небольшая часть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- порядка 30 %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57168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вижение крови по вена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Рисунок 2" descr="Помощь сокращающихся мышц движению крови против силы тяжести"/>
          <p:cNvPicPr/>
          <p:nvPr/>
        </p:nvPicPr>
        <p:blipFill>
          <a:blip r:embed="rId1"/>
          <a:stretch/>
        </p:blipFill>
        <p:spPr>
          <a:xfrm>
            <a:off x="214200" y="1285920"/>
            <a:ext cx="4286520" cy="42148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"/>
          <p:cNvSpPr/>
          <p:nvPr/>
        </p:nvSpPr>
        <p:spPr>
          <a:xfrm>
            <a:off x="4643280" y="1164600"/>
            <a:ext cx="3929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Наличие клапанов в венах делает возможным ток крови по ним только в одном направлении - к сердц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Механическое сдавление вен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 (например, при массаже) также способствует продвижению крови по венам, а клапаны обеспечивают направление этого движения только к сердц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Во время мышечной работы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сокращение мышц нижних конечностей оказывает на вены то же влияние, что и массаж.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Сокращающаяся мышца сдавливает вены, способствуя тем самым продвижению крови к сердцу</a:t>
            </a:r>
            <a:r>
              <a:rPr b="1" lang="ru-RU" sz="1800" spc="-1" strike="noStrike">
                <a:solidFill>
                  <a:srgbClr val="0000aa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500040" y="35712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троение лимфатической систе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Рисунок 3" descr="Схема образования лимфы"/>
          <p:cNvPicPr/>
          <p:nvPr/>
        </p:nvPicPr>
        <p:blipFill>
          <a:blip r:embed="rId1"/>
          <a:stretch/>
        </p:blipFill>
        <p:spPr>
          <a:xfrm>
            <a:off x="285840" y="1285920"/>
            <a:ext cx="4286160" cy="500076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4"/>
          <p:cNvSpPr/>
          <p:nvPr/>
        </p:nvSpPr>
        <p:spPr>
          <a:xfrm>
            <a:off x="4714920" y="121428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Лимфатическая система начинается с лимфатических капилляров, которые располагаются между клет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5"/>
          <p:cNvSpPr/>
          <p:nvPr/>
        </p:nvSpPr>
        <p:spPr>
          <a:xfrm>
            <a:off x="4643280" y="507204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На рисунке показан механизм образования лимфы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трелки указывают направление движения жидк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1" descr="Схема строения лимфатической системы человека"/>
          <p:cNvPicPr/>
          <p:nvPr/>
        </p:nvPicPr>
        <p:blipFill>
          <a:blip r:embed="rId1"/>
          <a:stretch/>
        </p:blipFill>
        <p:spPr>
          <a:xfrm>
            <a:off x="214200" y="571680"/>
            <a:ext cx="3714840" cy="564336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2"/>
          <p:cNvSpPr/>
          <p:nvPr/>
        </p:nvSpPr>
        <p:spPr>
          <a:xfrm>
            <a:off x="4071960" y="5716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alibri"/>
              </a:rPr>
              <a:t>Несколько лимфатических капилляров впадают в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лимфатический сосуд</a:t>
            </a:r>
            <a:r>
              <a:rPr b="0" lang="ru-RU" sz="1800" spc="-1" strike="noStrike">
                <a:solidFill>
                  <a:srgbClr val="003300"/>
                </a:solidFill>
                <a:latin typeface="Calibri"/>
              </a:rPr>
              <a:t>, а несколько мелких лимфатических сосудов - в более крупный лимфатический сосуд. В местах впадения лимфатических сосудов друг в друга, а также по ходу лимфатических сосудов расположены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лимфатические узлы</a:t>
            </a:r>
            <a:r>
              <a:rPr b="0" lang="ru-RU" sz="1800" spc="-1" strike="noStrike">
                <a:solidFill>
                  <a:srgbClr val="003300"/>
                </a:solidFill>
                <a:latin typeface="Calibri"/>
              </a:rPr>
              <a:t>. В лимфатических узлах лимфа задерживается и «очищается». Лимфатические узлы содержат специальные клетки, которые обезвреживают некоторые вредные вещества, прежде чем лимфа попадет в кров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4071960" y="4643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имфатические стволы впадают в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имфатические прото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У человека имеется два лимфатических протока - грудной и шей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428760" y="35712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Ток лимфы в организ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9"/>
          <p:cNvSpPr/>
          <p:nvPr/>
        </p:nvSpPr>
        <p:spPr>
          <a:xfrm>
            <a:off x="312120" y="128700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00cc"/>
                </a:solidFill>
                <a:latin typeface="Calibri"/>
                <a:ea typeface="Times New Roman"/>
              </a:rPr>
              <a:t>Некоторые факторы, обуславливающие ток лимф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21"/>
          <p:cNvSpPr/>
          <p:nvPr/>
        </p:nvSpPr>
        <p:spPr>
          <a:xfrm>
            <a:off x="285840" y="20001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 Непрерывное образование жидкости в организ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22"/>
          <p:cNvSpPr/>
          <p:nvPr/>
        </p:nvSpPr>
        <p:spPr>
          <a:xfrm>
            <a:off x="214200" y="2714760"/>
            <a:ext cx="721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. Присасывающее действие грудной клетки во время вдох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23"/>
          <p:cNvSpPr/>
          <p:nvPr/>
        </p:nvSpPr>
        <p:spPr>
          <a:xfrm>
            <a:off x="214200" y="3429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. Сокращение гладких мышц лимфатических сосу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25"/>
          <p:cNvSpPr/>
          <p:nvPr/>
        </p:nvSpPr>
        <p:spPr>
          <a:xfrm>
            <a:off x="285840" y="41432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4. Сокращение скелетных мышц во время выполнения дв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3:48:31Z</dcterms:created>
  <dc:creator>www.MRMARKER.ru</dc:creator>
  <dc:description/>
  <dc:language>en-US</dc:language>
  <cp:lastModifiedBy>BomBa</cp:lastModifiedBy>
  <dcterms:modified xsi:type="dcterms:W3CDTF">2017-03-01T13:32:06Z</dcterms:modified>
  <cp:revision>10</cp:revision>
  <dc:subject/>
  <dc:title>Сердечно-сосудистая система</dc:title>
</cp:coreProperties>
</file>