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0023-82EF-40AB-8574-BDC16E1031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FE1E-B256-4AC7-B0C6-D3AE31E48A7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39F6-CC9D-4327-A090-48697289F53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6D6-E0C4-4A20-B64D-FF0C7BF0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D9C3-C92F-4BA2-B747-D2D65280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B22470-85DA-40F0-BAB7-DE52A0BE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21727D-C8DF-4983-82E0-B9A316ED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6CA02D-2066-41AB-ABEE-5D66C0A2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60EB82-6C51-49E5-A155-E95D3882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02CD69-18CA-4A7B-817E-F454D67B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28FEF3-1460-4E57-AF7C-D48FDE24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0560D0-6AB2-4C83-BFCA-8EA75477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AC0EB1-075C-4852-B640-5084BCFC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86FD8D-E4EF-4F74-B721-CD090CAE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6E3F-E0B0-4872-A1FC-66C2C0B3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BE3-D679-410E-A478-DDF4DD8A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83F40-C181-43B7-BDB1-15C4FF56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3D01D-59AC-4CA1-BA2E-66CFCEE5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45955-BCAB-4755-AE2C-5F93C8C3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1056C-8A8A-410A-AF58-54D5DC50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0F30E-4D7C-4995-BA60-C8684238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A2445-CE0F-435E-BC5C-71400F71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C4C68-5D3E-4C21-8523-EDCDA251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311-5BB1-497F-A764-1FA91D72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E65BF-F94C-45FE-B36B-1681B441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10D6A-B23F-406B-905F-A17A2536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94D66-DAA9-4A30-8968-04FABD9A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6B515-8192-43FA-9750-BA3F06CF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929D3-D792-404F-BA93-355E6509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EBBDB-DEB5-4483-BE1D-8FC2A032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84DDF-3E75-4FD3-BDF5-B8F47B95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B6CE5-4E43-4C22-B945-23729929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77A61-0169-47ED-BCED-0950EA76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F03BE-62B2-4FA6-B73F-735D324F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F6E-8D0A-4AD3-9809-7FC85476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B0F7E-8B16-4524-A942-3BF76075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D6E0B-9BD1-4117-B26A-A01AA450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1B4FC-66D2-4CE8-BA03-96EEE154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90A60-72A0-4DC6-8E7D-7B5B9643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BA7E0-A6C5-47EF-9045-02F89989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37BB0-2D18-4318-9EBF-75F2F5CE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9D0D-43D2-4F77-9669-CAD689BB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D5C235-0BB7-41AB-9B10-97BE339B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57307E-D090-4229-BBE7-FC7C23FD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07FD28-B79E-43F8-B749-2D92BA28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103-B62A-4635-B1EB-DF9A08F3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43D9D0-7BB6-41C4-9FAC-E8B61BD8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62841B-5067-4763-B363-7BE1D80F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57F140-2B64-4045-95C8-97AFE5D7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713EE9-65AA-4FF0-9C9B-94C22F58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76D9CA-14BA-47AF-9E7E-B47C9219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C1666C-A963-467C-9970-FC7321B9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850BD3-1AA1-4A6E-97F1-9335ED06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1CFA17-75FD-4C50-BF74-EDE04B43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08C81E-3B12-41E6-8D96-EF0D46D9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E07F9-B8B0-478E-A564-BA659A27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C1BD-388A-40C6-B558-1D1F3429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7998E-BF61-42DD-A37D-77ABCC49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1B69B-D32F-4B16-8A20-2E33B68C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B7B3F-F516-4BF9-B01F-148FA281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3B5B1-3354-4DC2-9F63-2D628617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46009-D73A-4D93-B09E-6C7E180E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38C47-CEBA-47D0-A49C-FB76E8CA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3FB1D-CD72-4A47-8E64-C6C7C3F9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5BD22-F0F8-44A7-83D3-70BE787A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D0384-85C0-45A8-A76A-67AC1B6E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F2A58-CCF5-437C-A03C-12CEB543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832-5E4D-4A0B-92A1-64F86167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51370-5801-4488-B298-B02EFC1E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9A580-8804-494E-9F83-6BE808DC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F791C-F74F-47E5-AFFB-A9F30830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BFFE4-515A-4B3D-BD6D-D7F231CE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35DF5-14E4-4AC2-B514-7259DFDA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2BEAF-0AD8-453D-ADA8-967BABCA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3D9A7-E28A-4CFC-BC99-BFC5A26D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5C12B-0E0A-4876-959A-289BDB97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5A188-90F0-41E2-B272-3B8DBEC3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59E17-572B-41E9-A78E-AA449954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C7D-DCED-4730-A95D-0E2E881F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2AB92-2E7A-477F-8D7D-645C37FA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A0CAA-EA0D-4374-A7EE-81D7A386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56B0B-4072-4DF8-BA3C-2B1CE142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CE2C0-C112-47AC-B1C9-970890AE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4B1AC-0740-40DC-9EB6-D2B04CB3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5322C-D631-4D6B-B192-1E50B59F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7F01F-DE38-41EC-85B9-FAF8BA5A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15130-2741-462A-A10A-24DA8158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596F1-2BF8-42C0-9D22-605D4A02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E00CB-6DDF-4D5B-B6E3-4DE5B1C4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B2A6-89BB-4CA5-8A02-9B0D8605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F39C0-409E-4821-8587-7800EC37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E733B-BE8A-4E38-87A8-C829B10F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91018-4EBD-4BFD-AD01-AA65F57D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AB9B9-940A-443C-8666-BC54E0D0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9DFA4-28DF-40D6-88F4-6B3160DE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923AB7-DD09-40CB-AD55-EE4617EF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1B5D4E-A3B4-424F-B88F-D4DB50ED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595A26-0988-435D-8752-DBEE3366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68F5CD-FCFF-4284-A5FC-116FEAAE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F0268F-2A5C-49B7-977A-05ED4011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1A5-76F9-424B-84FE-3DAE381E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A6A6A7-F6CC-4A6C-952B-01EE6D4B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744902-32F3-4D24-AC00-8183DC16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60625D-FD16-4A77-A9B1-EA71DBCF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B236EF-275F-429B-9A86-C6F9CB11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0A01DB-5273-4FFE-B258-7C68159C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1CD26F-2A72-412D-BFCF-9E4C5D6C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170E78-F105-4E38-951C-D81BFA5C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68062D-FFB5-44BC-8E9E-29C170E7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621D18-7788-4623-BBFA-A1043B52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61B2C3-5B74-4A62-BC40-4C2D44C6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5779-5A1D-4865-BBC4-D5A5EE60729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BB62-412C-43A8-9760-A03DF195140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3618-CFD1-4B05-98D2-94D59D3C6C9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D60D-D256-4AF6-9F7F-AB323579141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E5FA-DB30-45C0-A65D-6C33208568A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1942-11CE-4DEB-83D0-47466F6379C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6DDF-A11A-4F07-B98D-F81F1766158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50F8-F1BD-401F-B92A-75A98D7C53E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DFEE-D41F-4B2B-831C-92900EE6C00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8242200" cy="15112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33360" y="2819160"/>
            <a:ext cx="6559560" cy="296676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пециальность:  «Дошкольное образование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 дисциплине: Возрастная анотомия,физиология и гигиена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Тема: Сердечно сосудистая систем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ыполнила: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тудентка 1 курса, гр. ДО-16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Бугунова.К.В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1"/>
          <p:cNvSpPr/>
          <p:nvPr/>
        </p:nvSpPr>
        <p:spPr>
          <a:xfrm>
            <a:off x="1000080" y="35712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ровообращ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Рисунок 2" descr="Схема кровообращения человека"/>
          <p:cNvPicPr/>
          <p:nvPr/>
        </p:nvPicPr>
        <p:blipFill>
          <a:blip r:embed="rId1"/>
          <a:stretch/>
        </p:blipFill>
        <p:spPr>
          <a:xfrm>
            <a:off x="214200" y="1285920"/>
            <a:ext cx="4286520" cy="521496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1"/>
          <p:cNvSpPr/>
          <p:nvPr/>
        </p:nvSpPr>
        <p:spPr>
          <a:xfrm>
            <a:off x="4643280" y="1416960"/>
            <a:ext cx="4286520" cy="47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0077"/>
                </a:solidFill>
                <a:latin typeface="Calibri"/>
                <a:ea typeface="Times New Roman"/>
              </a:rPr>
              <a:t>Кровь, выталкиваемая из сердца в артерии, проходит по всему организму (либо доходит до легких) и снова возвращается в сердце. Это процесс носит название </a:t>
            </a:r>
            <a:r>
              <a:rPr b="1" lang="ru-RU" sz="2000" spc="-1" strike="noStrike">
                <a:solidFill>
                  <a:srgbClr val="cc0000"/>
                </a:solidFill>
                <a:latin typeface="Calibri"/>
                <a:ea typeface="Times New Roman"/>
              </a:rPr>
              <a:t>кровообращение.</a:t>
            </a:r>
            <a:r>
              <a:rPr b="0" lang="ru-RU" sz="2000" spc="-1" strike="noStrike">
                <a:solidFill>
                  <a:srgbClr val="110077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0077"/>
                </a:solidFill>
                <a:latin typeface="Arial"/>
                <a:ea typeface="Times New Roman"/>
              </a:rPr>
              <a:t>Кровообращение условно разделяют на два круга: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большой круг кровообращения и малый круг кровообращения.</a:t>
            </a:r>
            <a:r>
              <a:rPr b="0" lang="ru-RU" sz="2000" spc="-1" strike="noStrike">
                <a:solidFill>
                  <a:srgbClr val="110077"/>
                </a:solidFill>
                <a:latin typeface="Arial"/>
                <a:ea typeface="Times New Roman"/>
              </a:rPr>
              <a:t> Большой круг кровообращения еще называют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системным,</a:t>
            </a:r>
            <a:r>
              <a:rPr b="0" lang="ru-RU" sz="2000" spc="-1" strike="noStrike">
                <a:solidFill>
                  <a:srgbClr val="110077"/>
                </a:solidFill>
                <a:latin typeface="Arial"/>
                <a:ea typeface="Times New Roman"/>
              </a:rPr>
              <a:t> а малый круг кровообращения еще называют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легочным.</a:t>
            </a:r>
            <a:r>
              <a:rPr b="0" lang="ru-RU" sz="2000" spc="-1" strike="noStrike">
                <a:solidFill>
                  <a:srgbClr val="110077"/>
                </a:solidFill>
                <a:latin typeface="Arial"/>
                <a:ea typeface="Times New Roman"/>
              </a:rPr>
              <a:t> </a:t>
            </a:r>
            <a:br>
              <a:rPr sz="1300"/>
            </a:br>
            <a:br>
              <a:rPr sz="13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Рисунок 1" descr="Большой круг кровообращения. Упрощенная схема."/>
          <p:cNvPicPr/>
          <p:nvPr/>
        </p:nvPicPr>
        <p:blipFill>
          <a:blip r:embed="rId1"/>
          <a:stretch/>
        </p:blipFill>
        <p:spPr>
          <a:xfrm>
            <a:off x="1000080" y="1285920"/>
            <a:ext cx="7143840" cy="5000760"/>
          </a:xfrm>
          <a:prstGeom prst="rect">
            <a:avLst/>
          </a:prstGeom>
          <a:ln w="0">
            <a:noFill/>
          </a:ln>
        </p:spPr>
      </p:pic>
      <p:sp>
        <p:nvSpPr>
          <p:cNvPr id="437" name="TextBox 2"/>
          <p:cNvSpPr/>
          <p:nvPr/>
        </p:nvSpPr>
        <p:spPr>
          <a:xfrm>
            <a:off x="642960" y="35712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Большой круг кровообращ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Рисунок 1" descr="Малый круг кровообращения. Упрощенная схема."/>
          <p:cNvPicPr/>
          <p:nvPr/>
        </p:nvPicPr>
        <p:blipFill>
          <a:blip r:embed="rId1"/>
          <a:stretch/>
        </p:blipFill>
        <p:spPr>
          <a:xfrm>
            <a:off x="1643040" y="1285920"/>
            <a:ext cx="5857920" cy="5000760"/>
          </a:xfrm>
          <a:prstGeom prst="rect">
            <a:avLst/>
          </a:prstGeom>
          <a:ln w="0">
            <a:noFill/>
          </a:ln>
        </p:spPr>
      </p:pic>
      <p:sp>
        <p:nvSpPr>
          <p:cNvPr id="439" name="TextBox 2"/>
          <p:cNvSpPr/>
          <p:nvPr/>
        </p:nvSpPr>
        <p:spPr>
          <a:xfrm>
            <a:off x="1071720" y="285840"/>
            <a:ext cx="771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алый круг кровообращ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"/>
          <p:cNvGraphicFramePr/>
          <p:nvPr/>
        </p:nvGraphicFramePr>
        <p:xfrm>
          <a:off x="500040" y="1071720"/>
          <a:ext cx="8215200" cy="5760720"/>
        </p:xfrm>
        <a:graphic>
          <a:graphicData uri="http://schemas.openxmlformats.org/drawingml/2006/table">
            <a:tbl>
              <a:tblPr/>
              <a:tblGrid>
                <a:gridCol w="2054160"/>
                <a:gridCol w="2052720"/>
                <a:gridCol w="2054160"/>
                <a:gridCol w="2054160"/>
              </a:tblGrid>
              <a:tr h="2330280"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aa"/>
                          </a:solidFill>
                          <a:latin typeface="Times New Roman"/>
                          <a:ea typeface="Times New Roman"/>
                        </a:rPr>
                        <a:t>Органы, кровоток в которых существенно увеличивается при мышечной деятель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aa"/>
                          </a:solidFill>
                          <a:latin typeface="Times New Roman"/>
                          <a:ea typeface="Times New Roman"/>
                        </a:rPr>
                        <a:t>Максимальное увеличение кровотока по сравнению с уровнем поко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aa"/>
                          </a:solidFill>
                          <a:latin typeface="Times New Roman"/>
                          <a:ea typeface="Times New Roman"/>
                        </a:rPr>
                        <a:t>Органы, кровоток в которых существенно снижается при интенсивной и длительной мышечной деятель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aa"/>
                          </a:solidFill>
                          <a:latin typeface="Times New Roman"/>
                          <a:ea typeface="Times New Roman"/>
                        </a:rPr>
                        <a:t>Максимальное снижение кровотока по сравнению с уровнем поко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646200"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ботающие мыш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20-30 р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работающие мыш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4-6 р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1209600"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ердц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5 р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рганы брюшной полости (органы пищеварения, печень селезенк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5 р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927000"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жа - при легкой и средней мышечной рабо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3 р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жа - при истощающей мышечной рабо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ровоток близок к кровотоку в состоянии поко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647640">
                <a:tc gridSpan="2"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чки - при тяжелой мышечной рабо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5 раз и 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441" name="Rectangle 1"/>
          <p:cNvSpPr/>
          <p:nvPr/>
        </p:nvSpPr>
        <p:spPr>
          <a:xfrm>
            <a:off x="1143000" y="17280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00cc"/>
                </a:solidFill>
                <a:latin typeface="Calibri"/>
                <a:ea typeface="Times New Roman"/>
              </a:rPr>
              <a:t>Возможные изменения кровотока различных областей организма при мышечной рабо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Прямая соединительная линия 6"/>
          <p:cNvSpPr/>
          <p:nvPr/>
        </p:nvSpPr>
        <p:spPr>
          <a:xfrm flipH="1">
            <a:off x="2498760" y="1071720"/>
            <a:ext cx="1440" cy="600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Прямая соединительная линия 8"/>
          <p:cNvSpPr/>
          <p:nvPr/>
        </p:nvSpPr>
        <p:spPr>
          <a:xfrm flipH="1">
            <a:off x="4570560" y="1071720"/>
            <a:ext cx="2880" cy="5787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Прямая соединительная линия 10"/>
          <p:cNvSpPr/>
          <p:nvPr/>
        </p:nvSpPr>
        <p:spPr>
          <a:xfrm flipH="1">
            <a:off x="6714720" y="1071720"/>
            <a:ext cx="1800" cy="5787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Прямая соединительная линия 12"/>
          <p:cNvSpPr/>
          <p:nvPr/>
        </p:nvSpPr>
        <p:spPr>
          <a:xfrm>
            <a:off x="500040" y="3429000"/>
            <a:ext cx="8143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Прямая соединительная линия 14"/>
          <p:cNvSpPr/>
          <p:nvPr/>
        </p:nvSpPr>
        <p:spPr>
          <a:xfrm>
            <a:off x="500040" y="5286240"/>
            <a:ext cx="82152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Box 1"/>
          <p:cNvSpPr/>
          <p:nvPr/>
        </p:nvSpPr>
        <p:spPr>
          <a:xfrm>
            <a:off x="285840" y="142920"/>
            <a:ext cx="828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д влиянием многолетних систематических тренировок увеличивается число сосудов серд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Рисунок 2" descr="Сердце неспортсмена"/>
          <p:cNvPicPr/>
          <p:nvPr/>
        </p:nvPicPr>
        <p:blipFill>
          <a:blip r:embed="rId1"/>
          <a:stretch/>
        </p:blipFill>
        <p:spPr>
          <a:xfrm>
            <a:off x="500040" y="2000160"/>
            <a:ext cx="3286080" cy="3929040"/>
          </a:xfrm>
          <a:prstGeom prst="rect">
            <a:avLst/>
          </a:prstGeom>
          <a:ln w="0">
            <a:noFill/>
          </a:ln>
        </p:spPr>
      </p:pic>
      <p:sp>
        <p:nvSpPr>
          <p:cNvPr id="449" name="Прямоугольник 3"/>
          <p:cNvSpPr/>
          <p:nvPr/>
        </p:nvSpPr>
        <p:spPr>
          <a:xfrm>
            <a:off x="224640" y="6143760"/>
            <a:ext cx="44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осудистая сеть сердца неспортс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Рисунок 4" descr="Сердце спортсмена"/>
          <p:cNvPicPr/>
          <p:nvPr/>
        </p:nvPicPr>
        <p:blipFill>
          <a:blip r:embed="rId2"/>
          <a:stretch/>
        </p:blipFill>
        <p:spPr>
          <a:xfrm>
            <a:off x="5072040" y="2000160"/>
            <a:ext cx="3262320" cy="385776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5"/>
          <p:cNvSpPr/>
          <p:nvPr/>
        </p:nvSpPr>
        <p:spPr>
          <a:xfrm>
            <a:off x="4794840" y="614376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осудистая сеть сердца спортс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1"/>
          <p:cNvSpPr/>
          <p:nvPr/>
        </p:nvSpPr>
        <p:spPr>
          <a:xfrm>
            <a:off x="785880" y="314280"/>
            <a:ext cx="7429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00cc"/>
                </a:solidFill>
                <a:latin typeface="Calibri"/>
                <a:ea typeface="Times New Roman"/>
              </a:rPr>
              <a:t>Что такое пульс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c0000"/>
                </a:solidFill>
                <a:latin typeface="Calibri"/>
                <a:ea typeface="Times New Roman"/>
              </a:rPr>
              <a:t>Пульс,</a:t>
            </a:r>
            <a:r>
              <a:rPr b="0" lang="ru-RU" sz="3600" spc="-1" strike="noStrike">
                <a:solidFill>
                  <a:srgbClr val="110077"/>
                </a:solidFill>
                <a:latin typeface="Calibri"/>
                <a:ea typeface="Times New Roman"/>
              </a:rPr>
              <a:t> который можно прощупать при надавливании на артерию, есть ни что иное, как удар крови о стенку артерии. Число пульсовых ударов соответствует числу сокращений сердца. Поэтому по пульсу часто определяют частоту сердечных сокращений (число сердечных сокращений в единицу времени)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1"/>
          <p:cNvSpPr/>
          <p:nvPr/>
        </p:nvSpPr>
        <p:spPr>
          <a:xfrm>
            <a:off x="0" y="257760"/>
            <a:ext cx="914400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00cc"/>
                </a:solidFill>
                <a:latin typeface="Calibri"/>
                <a:ea typeface="Times New Roman"/>
              </a:rPr>
              <a:t>О 8-часовом рабочем дне сердц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2"/>
          <p:cNvSpPr/>
          <p:nvPr/>
        </p:nvSpPr>
        <p:spPr>
          <a:xfrm>
            <a:off x="285840" y="1166760"/>
            <a:ext cx="8572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За фазой сокращения, в течение которой сердце работает, следует фаза расслабления, в течение которой сердце отдыхает. В обычных условиях фаза сокращения желудочков примерно в 2 раза короче, чем фаза их расслабления, а фаза сокращения предсердий в 7 раз короче фазы их расслабления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лучается, что из 24 часов в сутки желудочки работают около 12 часов, а предсердия всего 3.5 часа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 некоторой долей юмора можно сказать, что в целом рабочий день сердца не превышает 8 часов, как и у большинства трудового населения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1"/>
          <p:cNvSpPr/>
          <p:nvPr/>
        </p:nvSpPr>
        <p:spPr>
          <a:xfrm>
            <a:off x="500040" y="1714680"/>
            <a:ext cx="77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99"/>
                </a:solidFill>
                <a:latin typeface="Calibri"/>
              </a:rPr>
              <a:t>Спасибо за внимание! </a:t>
            </a:r>
            <a:r>
              <a:rPr b="1" i="1" lang="ru-RU" sz="8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632800" cy="148104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2" descr="Система сердца и кровеносных сосудов"/>
          <p:cNvPicPr/>
          <p:nvPr/>
        </p:nvPicPr>
        <p:blipFill>
          <a:blip r:embed="rId2"/>
          <a:stretch/>
        </p:blipFill>
        <p:spPr>
          <a:xfrm>
            <a:off x="714240" y="1428840"/>
            <a:ext cx="1785960" cy="521496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"/>
          <p:cNvSpPr/>
          <p:nvPr/>
        </p:nvSpPr>
        <p:spPr>
          <a:xfrm>
            <a:off x="2714760" y="1599120"/>
            <a:ext cx="621504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aa"/>
                </a:solidFill>
                <a:latin typeface="Calibri"/>
                <a:ea typeface="Times New Roman"/>
              </a:rPr>
              <a:t>Основной функцией сердечно-сосудистой системы</a:t>
            </a:r>
            <a:r>
              <a:rPr b="0" lang="ru-RU" sz="1800" spc="-1" strike="noStrike">
                <a:solidFill>
                  <a:srgbClr val="110077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являетс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обеспечение тока физиологических жидкостей - крови и лимф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alibri"/>
              </a:rPr>
              <a:t>Другие функции сердечно-сосудистой систе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. Обеспечение клеток питательными веществами и кислородо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2.Удаление из клеток продуктов жизнедеятельност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3. Обеспечение переноса гормонов и, соответственно, участие в гормональной регуляции функций организм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4. Участие в процессах терморегуляции (за счет расширения или сужения кровеносных сосудов кожи) и обеспечение равномерного распределения температуры тела  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 5.Обеспечение перераспределения крови между работающими и неработающими органам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6. Выработка и передача в кровоток клеток иммунитета и иммунных тел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эту функцию выполняет лимфатическая система - часть сердечно-сосудистой системы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785880" y="35712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ердц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Рисунок 2" descr="Сердце человека. Вид спереди"/>
          <p:cNvPicPr/>
          <p:nvPr/>
        </p:nvPicPr>
        <p:blipFill>
          <a:blip r:embed="rId1"/>
          <a:stretch/>
        </p:blipFill>
        <p:spPr>
          <a:xfrm>
            <a:off x="285840" y="1285920"/>
            <a:ext cx="4000320" cy="457200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3" descr="Движение крови по сердцу"/>
          <p:cNvPicPr/>
          <p:nvPr/>
        </p:nvPicPr>
        <p:blipFill>
          <a:blip r:embed="rId2"/>
          <a:stretch/>
        </p:blipFill>
        <p:spPr>
          <a:xfrm>
            <a:off x="4572000" y="1285920"/>
            <a:ext cx="4319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1"/>
          <p:cNvSpPr/>
          <p:nvPr/>
        </p:nvSpPr>
        <p:spPr>
          <a:xfrm>
            <a:off x="1000080" y="214200"/>
            <a:ext cx="72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ровеносные сосу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Рисунок 2" descr="Основные виды кровеносных сосудов человека"/>
          <p:cNvPicPr/>
          <p:nvPr/>
        </p:nvPicPr>
        <p:blipFill>
          <a:blip r:embed="rId1"/>
          <a:stretch/>
        </p:blipFill>
        <p:spPr>
          <a:xfrm>
            <a:off x="214200" y="1214280"/>
            <a:ext cx="4714920" cy="457200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3"/>
          <p:cNvSpPr/>
          <p:nvPr/>
        </p:nvSpPr>
        <p:spPr>
          <a:xfrm>
            <a:off x="4857840" y="1143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ртер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- это сосуды, по которым кровь движется от сердц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а не те, по которым течет артериальная кровь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!)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Прямоугольник 4"/>
          <p:cNvSpPr/>
          <p:nvPr/>
        </p:nvSpPr>
        <p:spPr>
          <a:xfrm>
            <a:off x="4929120" y="2786040"/>
            <a:ext cx="4214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ены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- это сосуды, по которым кровь движется к сердцу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а не те, по которым течет венозная кровь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!)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Прямоугольник 5"/>
          <p:cNvSpPr/>
          <p:nvPr/>
        </p:nvSpPr>
        <p:spPr>
          <a:xfrm>
            <a:off x="4929120" y="450072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апилляры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- это мельчайшие сосуды, настолько тонкие, что вещества могут свободно проникать через их стенку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Рисунок 1" descr="Упрощенная схема диффуции веществ сквозь стенку капилляра"/>
          <p:cNvPicPr/>
          <p:nvPr/>
        </p:nvPicPr>
        <p:blipFill>
          <a:blip r:embed="rId1"/>
          <a:stretch/>
        </p:blipFill>
        <p:spPr>
          <a:xfrm>
            <a:off x="214200" y="357120"/>
            <a:ext cx="4286520" cy="364356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"/>
          <p:cNvSpPr/>
          <p:nvPr/>
        </p:nvSpPr>
        <p:spPr>
          <a:xfrm>
            <a:off x="214200" y="4221000"/>
            <a:ext cx="692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Суммарная длина кровеносных капилляров в организме человека равна примерно 100 000 км (такой нитью можно три раза опоясать земной шар по экватору). Общая поверхность кровеносных капилляров в организме равна примерно 1500 г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оугольник 3"/>
          <p:cNvSpPr/>
          <p:nvPr/>
        </p:nvSpPr>
        <p:spPr>
          <a:xfrm>
            <a:off x="4500720" y="1071720"/>
            <a:ext cx="43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з общего числа кровеносных капилляров в покое функционирует только небольшая часть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- порядка 30 %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"/>
          <p:cNvSpPr/>
          <p:nvPr/>
        </p:nvSpPr>
        <p:spPr>
          <a:xfrm>
            <a:off x="571680" y="2142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вижение крови по вена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Рисунок 2" descr="Помощь сокращающихся мышц движению крови против силы тяжести"/>
          <p:cNvPicPr/>
          <p:nvPr/>
        </p:nvPicPr>
        <p:blipFill>
          <a:blip r:embed="rId1"/>
          <a:stretch/>
        </p:blipFill>
        <p:spPr>
          <a:xfrm>
            <a:off x="214200" y="1285920"/>
            <a:ext cx="4286520" cy="421488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"/>
          <p:cNvSpPr/>
          <p:nvPr/>
        </p:nvSpPr>
        <p:spPr>
          <a:xfrm>
            <a:off x="4643280" y="1164600"/>
            <a:ext cx="3929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Наличие клапанов в венах делает возможным ток крови по ним только в одном направлении - к сердц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Механическое сдавление вен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 (например, при массаже) также способствует продвижению крови по венам, а клапаны обеспечивают направление этого движения только к сердцу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Во время мышечной работы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сокращение мышц нижних конечностей оказывает на вены то же влияние, что и массаж.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Сокращающаяся мышца сдавливает вены, способствуя тем самым продвижению крови к сердцу</a:t>
            </a:r>
            <a:r>
              <a:rPr b="1" lang="ru-RU" sz="1800" spc="-1" strike="noStrike">
                <a:solidFill>
                  <a:srgbClr val="0000aa"/>
                </a:solidFill>
                <a:latin typeface="Calibri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1"/>
          <p:cNvSpPr/>
          <p:nvPr/>
        </p:nvSpPr>
        <p:spPr>
          <a:xfrm>
            <a:off x="500040" y="35712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троение лимфатической систе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Рисунок 3" descr="Схема образования лимфы"/>
          <p:cNvPicPr/>
          <p:nvPr/>
        </p:nvPicPr>
        <p:blipFill>
          <a:blip r:embed="rId1"/>
          <a:stretch/>
        </p:blipFill>
        <p:spPr>
          <a:xfrm>
            <a:off x="285840" y="1285920"/>
            <a:ext cx="4286160" cy="500076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4"/>
          <p:cNvSpPr/>
          <p:nvPr/>
        </p:nvSpPr>
        <p:spPr>
          <a:xfrm>
            <a:off x="4714920" y="1214280"/>
            <a:ext cx="421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Лимфатическая система начинается с лимфатических капилляров, которые располагаются между клет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5"/>
          <p:cNvSpPr/>
          <p:nvPr/>
        </p:nvSpPr>
        <p:spPr>
          <a:xfrm>
            <a:off x="4643280" y="507204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На рисунке показан механизм образования лимфы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Стрелки указывают направление движения жидкос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Рисунок 1" descr="Схема строения лимфатической системы человека"/>
          <p:cNvPicPr/>
          <p:nvPr/>
        </p:nvPicPr>
        <p:blipFill>
          <a:blip r:embed="rId1"/>
          <a:stretch/>
        </p:blipFill>
        <p:spPr>
          <a:xfrm>
            <a:off x="214200" y="571680"/>
            <a:ext cx="3714840" cy="564336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2"/>
          <p:cNvSpPr/>
          <p:nvPr/>
        </p:nvSpPr>
        <p:spPr>
          <a:xfrm>
            <a:off x="4071960" y="5716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alibri"/>
              </a:rPr>
              <a:t>Несколько лимфатических капилляров впадают в </a:t>
            </a: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лимфатический сосуд</a:t>
            </a:r>
            <a:r>
              <a:rPr b="0" lang="ru-RU" sz="1800" spc="-1" strike="noStrike">
                <a:solidFill>
                  <a:srgbClr val="003300"/>
                </a:solidFill>
                <a:latin typeface="Calibri"/>
              </a:rPr>
              <a:t>, а несколько мелких лимфатических сосудов - в более крупный лимфатический сосуд. В местах впадения лимфатических сосудов друг в друга, а также по ходу лимфатических сосудов расположены </a:t>
            </a: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лимфатические узлы</a:t>
            </a:r>
            <a:r>
              <a:rPr b="0" lang="ru-RU" sz="1800" spc="-1" strike="noStrike">
                <a:solidFill>
                  <a:srgbClr val="003300"/>
                </a:solidFill>
                <a:latin typeface="Calibri"/>
              </a:rPr>
              <a:t>. В лимфатических узлах лимфа задерживается и «очищается». Лимфатические узлы содержат специальные клетки, которые обезвреживают некоторые вредные вещества, прежде чем лимфа попадет в кров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оугольник 3"/>
          <p:cNvSpPr/>
          <p:nvPr/>
        </p:nvSpPr>
        <p:spPr>
          <a:xfrm>
            <a:off x="4071960" y="4643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имфатические стволы впадают в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имфатические прото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 У человека имеется два лимфатических протока - грудной и шей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1"/>
          <p:cNvSpPr/>
          <p:nvPr/>
        </p:nvSpPr>
        <p:spPr>
          <a:xfrm>
            <a:off x="428760" y="357120"/>
            <a:ext cx="90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Ток лимфы в организм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19"/>
          <p:cNvSpPr/>
          <p:nvPr/>
        </p:nvSpPr>
        <p:spPr>
          <a:xfrm>
            <a:off x="312120" y="1287000"/>
            <a:ext cx="71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00cc"/>
                </a:solidFill>
                <a:latin typeface="Calibri"/>
                <a:ea typeface="Times New Roman"/>
              </a:rPr>
              <a:t>Некоторые факторы, обуславливающие ток лимф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ямоугольник 21"/>
          <p:cNvSpPr/>
          <p:nvPr/>
        </p:nvSpPr>
        <p:spPr>
          <a:xfrm>
            <a:off x="285840" y="20001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. Непрерывное образование жидкости в организ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ямоугольник 22"/>
          <p:cNvSpPr/>
          <p:nvPr/>
        </p:nvSpPr>
        <p:spPr>
          <a:xfrm>
            <a:off x="214200" y="2714760"/>
            <a:ext cx="721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. Присасывающее действие грудной клетки во время вдох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Прямоугольник 23"/>
          <p:cNvSpPr/>
          <p:nvPr/>
        </p:nvSpPr>
        <p:spPr>
          <a:xfrm>
            <a:off x="214200" y="34290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3. Сокращение гладких мышц лимфатических сосу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25"/>
          <p:cNvSpPr/>
          <p:nvPr/>
        </p:nvSpPr>
        <p:spPr>
          <a:xfrm>
            <a:off x="285840" y="414324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4. Сокращение скелетных мышц во время выполнения дви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3:48:31Z</dcterms:created>
  <dc:creator>www.MRMARKER.ru</dc:creator>
  <dc:description/>
  <dc:language>en-US</dc:language>
  <cp:lastModifiedBy>BomBa</cp:lastModifiedBy>
  <dcterms:modified xsi:type="dcterms:W3CDTF">2017-03-01T13:32:06Z</dcterms:modified>
  <cp:revision>10</cp:revision>
  <dc:subject/>
  <dc:title>Сердечно-сосудистая система</dc:title>
</cp:coreProperties>
</file>