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578-B272-4ADC-8F56-CACB2675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A92-3916-47C4-9451-7F659E46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B62-5F06-4E02-AAB8-EFB46DBD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B4F-207F-4CB9-8ABD-E89C3938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4A98-DACC-4528-8915-EC85B36F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6619-1E15-42F8-BD6B-6FD82BBE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7BB0-4FD8-42BF-BBE4-B77E0629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C936-C8CF-4384-A1D6-53006CDC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254B-C9F8-4FF9-87E6-FAD35414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65C1-C0AD-40CF-BA60-69607893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DD00-5325-43FF-AAA5-A75D6EB8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704-CD13-4B6A-A4C1-DD70A71F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AE29-AD62-436A-9714-FA0187D7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432A-CB16-4638-A57C-5358C705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F452-B725-4B30-96ED-06B3BC98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5FCA-D981-482A-8A6F-952267F7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5B09-3976-4FCA-9CC1-89556655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AF1D-F018-4A6B-B374-CE9839D4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853A-2983-46AA-81B4-E1B6FF94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485A-4C89-4478-B515-DF832F91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50E8-B8D2-4412-ABBC-82F96CF3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FF87-358B-4D22-AA60-39622E8B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5CA-6A48-4D42-8064-D69283CD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8BCE-4AC3-4AA4-BE91-FC27D189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3E5D-C106-4262-A316-EF507BFA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9DF1-3378-482C-B694-45D604F6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C8B5-832D-4864-9EB9-018E3591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2329-6466-4EF0-A6A1-4253DB14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61C57-40B1-4F71-9738-30BD4243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A7FB-5942-42F5-ACF8-4E61BB6A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F50E-A4A8-4D74-AB23-3A61CDF0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78736-FD4D-40A2-AE0F-BF8FEF77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0BCC5-1094-49CB-9DA5-67617CC4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6FE-D385-4DFC-8C08-447381AC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C7AFC-18FA-427F-BA9B-5410A7FC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DEA08-9F42-47A2-AA91-5A8AE81B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D0539-5661-4612-95F1-90046E1D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14E4-4570-4BAF-9663-B4A1E3FD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39925-02B3-451F-8C36-F189E00D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1847-BDA1-4DAF-ABB5-F738931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BBE6F-0FEC-4E77-A0ED-0127DC2E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3AC7-EF4C-44BB-81FE-5FBC96DC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F67C-6BD8-46C3-834E-53BB7AAF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31BEE-FBDF-448F-9EF6-9A9D1591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A1F-B1D5-4BB7-8FD4-DC85D71E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F2653-B152-4366-88E3-C549BA33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DFEF6-2D8D-49F2-8939-AD392C12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74FE3-387B-48D7-A154-F6DC54FD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62CD9-2F77-4501-8F1C-4997E898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BFB6E-FD2E-4EC1-ACA3-253044AB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FFA5F-C54D-4E0C-B7C6-84AF9A00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BF417-B71C-4913-8A31-A6900747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9F18-EBCB-48AD-B438-2C8F8AFC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53464-A243-44F9-8F85-0382E3C3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BB552-5D0B-4C18-BF98-572DFC4F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661-AFEF-4BC4-8470-14284842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F0BEF-CFE1-44B2-BFE5-F1C51F7C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339-9F93-4D88-85A6-C2761612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FF0-E2EA-4500-B510-BFD75571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782-483C-48DD-B4F1-24E1116E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DAF0-DC4E-4572-99B2-CE7A323FDA3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0546-E56D-4523-B2CB-C2C6A545DCA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992D-66BE-499E-B8F1-697AF3C0529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0A24-935B-497B-874A-D7E7C9B396C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F10F-0AE9-44DE-8B5C-87102EDD715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нформация. Виды и свойства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Задание на закрепл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дача № 2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В следующих примерах определите свойства встречающейся информации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В) Один персидский царь, собираясь завоевать соседнее государство, обратился к оракулу с вопросом: “Что произойдет, если я со своим войском переправлюсь через пограничную реку?” Оракул ответил: “Государь, ты разрушишь великое царство”. Удовлетворившись таким предсказанием, завоеватель переправился со своим войском через реку и был разгромлен войском противной стороны. В гневе он обратился к оракулу, обвиняя того в обмане. На что оракул ответил: “Государь, а разве твое царство было не велико?”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Задание на закрепл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Задача № 3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Поговорку “Ты, парень, срубил дерево не по плечу” можно трактовать как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а) срубить - срубил, а унести не смог;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б) завоевал женщину, которую не удержать;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) пробился к месту, которое не по способностям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кие свойства информации здесь проявляются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пис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иведите примеры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остоверной, но необъективной информаци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ъективной, но недостоверной информаци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лной, достоверной, но бесполезной информаци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актуальной информаци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ктуальной, но непонятной информац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нятие информац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14400" y="1447920"/>
          <a:ext cx="7772400" cy="5211720"/>
        </p:xfrm>
        <a:graphic>
          <a:graphicData uri="http://schemas.openxmlformats.org/drawingml/2006/table">
            <a:tbl>
              <a:tblPr/>
              <a:tblGrid>
                <a:gridCol w="2228760"/>
                <a:gridCol w="554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бласть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Толк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нтро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ведения об окружающем ми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иберне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а часть знаний, которая используется для ориентирования, активного действия, у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 бы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юбые данные, сведения, знания, которые кого-либо интересу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 техн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общения, передаваемые в форме знаков или сигн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ория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ведения об объектах и явлениях окружающей среды, их параметрах, свойствах и состоянии, которые уменьшают имеющуюся о них степень неопределенности, неполноты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2" name="Прямая со стрелкой 22"/>
          <p:cNvCxnSpPr/>
          <p:nvPr/>
        </p:nvCxnSpPr>
        <p:spPr>
          <a:xfrm flipH="1">
            <a:off x="6998400" y="1499760"/>
            <a:ext cx="2520" cy="715320"/>
          </a:xfrm>
          <a:prstGeom prst="straightConnector1">
            <a:avLst/>
          </a:prstGeom>
          <a:ln w="4428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928800" y="357120"/>
            <a:ext cx="771516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иды информаци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928800" y="2214720"/>
            <a:ext cx="3357360" cy="1214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способу восприят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Прямоугольник 6"/>
          <p:cNvSpPr/>
          <p:nvPr/>
        </p:nvSpPr>
        <p:spPr>
          <a:xfrm>
            <a:off x="928800" y="4214880"/>
            <a:ext cx="7786440" cy="1214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общественному значению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5357880" y="2214720"/>
            <a:ext cx="3357360" cy="1214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форме представл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38" name="Прямая со стрелкой 9"/>
          <p:cNvCxnSpPr>
            <a:stCxn id="234" idx="2"/>
          </p:cNvCxnSpPr>
          <p:nvPr/>
        </p:nvCxnSpPr>
        <p:spPr>
          <a:xfrm flipH="1">
            <a:off x="4785480" y="1499760"/>
            <a:ext cx="2520" cy="26456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39" name="Прямая со стрелкой 21"/>
          <p:cNvCxnSpPr/>
          <p:nvPr/>
        </p:nvCxnSpPr>
        <p:spPr>
          <a:xfrm flipH="1">
            <a:off x="2642400" y="1499760"/>
            <a:ext cx="2520" cy="71532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 способу восприят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Picture 2" descr="Image7"/>
          <p:cNvPicPr/>
          <p:nvPr/>
        </p:nvPicPr>
        <p:blipFill>
          <a:blip r:embed="rId1"/>
          <a:stretch/>
        </p:blipFill>
        <p:spPr>
          <a:xfrm>
            <a:off x="1428840" y="1428840"/>
            <a:ext cx="6143400" cy="3643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4357800" y="4500720"/>
            <a:ext cx="44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ритель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кусов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онятель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язатель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лухов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 форме представл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857160" y="4857840"/>
            <a:ext cx="750096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ультимедийна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857160" y="3357720"/>
            <a:ext cx="285768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графическая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Прямоугольник 5"/>
          <p:cNvSpPr/>
          <p:nvPr/>
        </p:nvSpPr>
        <p:spPr>
          <a:xfrm>
            <a:off x="5500800" y="3357720"/>
            <a:ext cx="285732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звукова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5500800" y="1785960"/>
            <a:ext cx="285732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числова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Прямоугольник 7"/>
          <p:cNvSpPr/>
          <p:nvPr/>
        </p:nvSpPr>
        <p:spPr>
          <a:xfrm>
            <a:off x="857160" y="1785960"/>
            <a:ext cx="285768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текстова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50" name="Прямая со стрелкой 10"/>
          <p:cNvCxnSpPr>
            <a:stCxn id="246" idx="2"/>
          </p:cNvCxnSpPr>
          <p:nvPr/>
        </p:nvCxnSpPr>
        <p:spPr>
          <a:xfrm flipH="1">
            <a:off x="2284200" y="4502160"/>
            <a:ext cx="2160" cy="3578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51" name="Прямая со стрелкой 11"/>
          <p:cNvCxnSpPr/>
          <p:nvPr/>
        </p:nvCxnSpPr>
        <p:spPr>
          <a:xfrm flipH="1">
            <a:off x="6998400" y="4500720"/>
            <a:ext cx="2520" cy="3578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  <p:grpSp>
        <p:nvGrpSpPr>
          <p:cNvPr id="252" name="Группа 16"/>
          <p:cNvGrpSpPr/>
          <p:nvPr/>
        </p:nvGrpSpPr>
        <p:grpSpPr>
          <a:xfrm>
            <a:off x="3714840" y="2357280"/>
            <a:ext cx="285840" cy="2502360"/>
            <a:chOff x="3714840" y="2357280"/>
            <a:chExt cx="285840" cy="2502360"/>
          </a:xfrm>
        </p:grpSpPr>
        <p:sp>
          <p:nvSpPr>
            <p:cNvPr id="253" name="Прямая соединительная линия 13"/>
            <p:cNvSpPr/>
            <p:nvPr/>
          </p:nvSpPr>
          <p:spPr>
            <a:xfrm>
              <a:off x="3714840" y="2357280"/>
              <a:ext cx="285120" cy="1440"/>
            </a:xfrm>
            <a:prstGeom prst="line">
              <a:avLst/>
            </a:prstGeom>
            <a:ln w="381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254" name="Прямая со стрелкой 15"/>
            <p:cNvCxnSpPr/>
            <p:nvPr/>
          </p:nvCxnSpPr>
          <p:spPr>
            <a:xfrm flipH="1">
              <a:off x="3998880" y="2358000"/>
              <a:ext cx="2160" cy="2502000"/>
            </a:xfrm>
            <a:prstGeom prst="straightConnector1">
              <a:avLst/>
            </a:prstGeom>
            <a:ln w="38160">
              <a:solidFill>
                <a:srgbClr val="af3408"/>
              </a:solidFill>
              <a:miter/>
              <a:tailEnd len="med" type="triangle" w="med"/>
            </a:ln>
          </p:spPr>
        </p:cxnSp>
      </p:grpSp>
      <p:grpSp>
        <p:nvGrpSpPr>
          <p:cNvPr id="255" name="Группа 18"/>
          <p:cNvGrpSpPr/>
          <p:nvPr/>
        </p:nvGrpSpPr>
        <p:grpSpPr>
          <a:xfrm>
            <a:off x="5214960" y="2357280"/>
            <a:ext cx="285840" cy="2502360"/>
            <a:chOff x="5214960" y="2357280"/>
            <a:chExt cx="285840" cy="2502360"/>
          </a:xfrm>
        </p:grpSpPr>
        <p:sp>
          <p:nvSpPr>
            <p:cNvPr id="256" name="Прямая соединительная линия 19"/>
            <p:cNvSpPr/>
            <p:nvPr/>
          </p:nvSpPr>
          <p:spPr>
            <a:xfrm flipH="1">
              <a:off x="5215680" y="2357280"/>
              <a:ext cx="285120" cy="1440"/>
            </a:xfrm>
            <a:prstGeom prst="line">
              <a:avLst/>
            </a:prstGeom>
            <a:ln w="381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257" name="Прямая со стрелкой 20"/>
            <p:cNvCxnSpPr/>
            <p:nvPr/>
          </p:nvCxnSpPr>
          <p:spPr>
            <a:xfrm>
              <a:off x="5214960" y="2358000"/>
              <a:ext cx="2160" cy="2502000"/>
            </a:xfrm>
            <a:prstGeom prst="straightConnector1">
              <a:avLst/>
            </a:prstGeom>
            <a:ln w="38160">
              <a:solidFill>
                <a:srgbClr val="af3408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о общественному значению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000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лична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опыт, интуиция, умения, эмоции, наследственность конкретного человека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общественна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то, что мы получаем из средств массовой информации, опыт всего человечества, исторические, культурные и национальные традици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обыденна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та, которой мы обмениваемся в процессе общения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эстетическа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изобразительное искусство, музыка, театр и др.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специальна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научная, производственная, техническая, управленческая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914400" y="-14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Свойства информации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928800" y="1143000"/>
            <a:ext cx="2143080" cy="4287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вой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3714840" y="1143000"/>
            <a:ext cx="4929120" cy="4287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ротивоположное свой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928800" y="1643040"/>
            <a:ext cx="2143080" cy="5000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бъектив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Прямоугольник 8"/>
          <p:cNvSpPr/>
          <p:nvPr/>
        </p:nvSpPr>
        <p:spPr>
          <a:xfrm>
            <a:off x="3714840" y="4000680"/>
            <a:ext cx="4929120" cy="7142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еактуальная (устаревшая, незначимая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3714840" y="3429000"/>
            <a:ext cx="4929120" cy="5000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епол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Прямоугольник 10"/>
          <p:cNvSpPr/>
          <p:nvPr/>
        </p:nvSpPr>
        <p:spPr>
          <a:xfrm>
            <a:off x="3714840" y="2214720"/>
            <a:ext cx="492912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едостоверная (преднамеренное искажение, помехи, преувеличение или уменьшение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3714840" y="1643040"/>
            <a:ext cx="4929120" cy="5000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убъектив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Прямоугольник 13"/>
          <p:cNvSpPr/>
          <p:nvPr/>
        </p:nvSpPr>
        <p:spPr>
          <a:xfrm>
            <a:off x="928800" y="2214720"/>
            <a:ext cx="214308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остовер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Прямоугольник 14"/>
          <p:cNvSpPr/>
          <p:nvPr/>
        </p:nvSpPr>
        <p:spPr>
          <a:xfrm>
            <a:off x="928800" y="3429000"/>
            <a:ext cx="2143080" cy="5000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л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Прямоугольник 15"/>
          <p:cNvSpPr/>
          <p:nvPr/>
        </p:nvSpPr>
        <p:spPr>
          <a:xfrm>
            <a:off x="928800" y="4000680"/>
            <a:ext cx="2143080" cy="7142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актуаль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16"/>
          <p:cNvSpPr/>
          <p:nvPr/>
        </p:nvSpPr>
        <p:spPr>
          <a:xfrm>
            <a:off x="928800" y="4786200"/>
            <a:ext cx="214308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лез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928800" y="5429160"/>
            <a:ext cx="214308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нят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3714840" y="4786200"/>
            <a:ext cx="4929120" cy="571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бесполез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Прямоугольник 19"/>
          <p:cNvSpPr/>
          <p:nvPr/>
        </p:nvSpPr>
        <p:spPr>
          <a:xfrm>
            <a:off x="3714840" y="5429160"/>
            <a:ext cx="4929120" cy="642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епонятна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Задание на закрепл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Задача № 1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Назовите виды информации, которые являются основными для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животных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мпьютер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Задание на закрепл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Задача № 2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 В следующих примерах определите свойства встречающейся информаци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) Идет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ступительный экзамен по математике. Вы попросили у соседа его решение задачи. Шпаргалка содержала полное и правильное решение, но ... на японском язык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)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На следующий день вступительная комиссия вывесила правильные решения всех задач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0:15:25Z</dcterms:created>
  <dc:creator>Татьяна</dc:creator>
  <dc:description/>
  <dc:language>en-US</dc:language>
  <cp:lastModifiedBy>Татьяна</cp:lastModifiedBy>
  <dcterms:modified xsi:type="dcterms:W3CDTF">2010-09-06T21:44:33Z</dcterms:modified>
  <cp:revision>9</cp:revision>
  <dc:subject/>
  <dc:title>Информация. Виды и свойства.</dc:title>
</cp:coreProperties>
</file>