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255-CF45-48AC-81A1-80143889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44B-BA8B-42DD-A34A-B1BF7A9C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5B6-6AEA-4ECC-ADDC-340F8F8B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D4F-BE44-44DB-87E2-F49CCA5A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5595-1CAB-41EE-BF92-058AA1CE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3C6B-FE3A-428F-911E-0807BB0C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8A92-8A84-4994-9D18-366DAAE6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1471-B5DA-4BC5-92E9-87EB267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041-C6F0-492A-818D-366E7584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0F97-CDBD-4DCC-B72A-8B420E1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9DE5-5950-485A-9927-A4BC2DFC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D46-FAAA-47E0-94D8-BC2574B7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EDC7-988C-4C28-8F07-4BE488D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A056-2415-43B7-A7EA-A9B0D281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5763-C00B-4950-AB03-977B6324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1A42-A24E-4EC2-A629-0F482CF7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F0F2-F759-4342-8255-E387891A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39B8E-A2AD-470C-81BF-78CB1F17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8106-8E01-4840-A421-3C5C648A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A323-4F60-4FB7-8812-E3253AF5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D701-54B8-4E83-9B37-67401F24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65C0-E245-413A-A2CA-5BC0B9D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E54-7560-4425-AE93-5CFA4095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E592-FEC4-40FD-A020-DC7840E3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E667-AACD-4464-BFDA-E8483BEC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6F77-BDF2-4C3B-8AB1-3CE99CD9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E079-AC62-416C-B038-BBB70BED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2FDD-E098-4CBA-A7CC-EF6566F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DEF9-D168-4546-B958-FBB3F8E8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8669-99A5-433B-8F81-69798968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E4200-9CA0-4E6C-8CCE-B8B246FF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DD2D-B7AA-43D9-AD68-E161274E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5373-E74B-4C6F-909D-F773042C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828-3710-429D-88CB-15A04D19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BB59-D5E2-4BFF-8C66-DB7766DF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A7FD5-7CE1-448F-95B1-5A754F66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3A1CD-AFD7-4528-9BB6-D8481CBF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0B45D-7C3B-4EB7-BC02-A0507734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37FC-7DC0-41E8-9512-4BB9B94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914E-C1E1-434C-B4EF-8FCA473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A366-51E6-41FE-828B-61D0B0AD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088D-3726-4662-B256-15D22F13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5D92-F5E0-4947-B5BF-623806D7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02D5-9FF2-46CD-BD7B-27EAFE03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453-D470-4683-B91B-CDDA7FDC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77BC-8F3F-4B45-B2F0-AEEFEB8F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3ADB1-B173-4B65-A83D-A3C2CC37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4734-4E86-4653-AB33-FF32BF4B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D9BC-7191-4DDC-B618-8FFE8B30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4E2DF-4287-40C6-BFA0-32DD699D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69717-CFB1-497B-A0B1-A7D4C070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6B44E-C944-4744-A8EF-3C8B36B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ABC66-3E2A-4CD2-8555-7174D787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E8F8-21BD-49C1-A39A-1A0C1501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E602D-0016-4830-AC55-DF6A64F8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95F-1C75-49FD-B37D-57068FA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3C77-6140-4367-BAA8-ACBF8086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79A-0ED6-4B1B-A3D9-B4EA407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50F-6202-4BE5-8A7F-EB8DFC2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B0C-60B9-45B2-9725-D4223257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12FC-9AB3-46ED-974F-7D14581953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2FE3-8425-4D52-A271-5AD1E8C6A0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F46-7BD9-49BC-8471-285BE0211FA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24AA-B018-49A5-B76F-229237DBE85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5727-D3D1-433A-9B96-7BE2F308DB5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нформация. Виды и свойства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Задание на закрепл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дача № 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В следующих примерах определите свойства встречающейся информации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В) Один персидский царь, собираясь завоевать соседнее государство, обратился к оракулу с вопросом: “Что произойдет, если я со своим войском переправлюсь через пограничную реку?” Оракул ответил: “Государь, ты разрушишь великое царство”. Удовлетворившись таким предсказанием, завоеватель переправился со своим войском через реку и был разгромлен войском противной стороны. В гневе он обратился к оракулу, обвиняя того в обмане. На что оракул ответил: “Государь, а разве твое царство было не велико?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Задание на закрепл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Задача № 3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Поговорку “Ты, парень, срубил дерево не по плечу” можно трактовать как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а) срубить - срубил, а унести не смог;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б) завоевал женщину, которую не удержать;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) пробился к месту, которое не по способностям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кие свойства информации здесь проявляются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пис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иведите примеры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остоверной, но необъективной информа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ъективной, но недостоверной информа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лной, достоверной, но бесполезной информа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актуальной информа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ктуальной, но непонятной информа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нятие информац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447920"/>
          <a:ext cx="7772400" cy="5211720"/>
        </p:xfrm>
        <a:graphic>
          <a:graphicData uri="http://schemas.openxmlformats.org/drawingml/2006/table">
            <a:tbl>
              <a:tblPr/>
              <a:tblGrid>
                <a:gridCol w="2228760"/>
                <a:gridCol w="554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бласть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Толк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нтро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ведения об окружающем ми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иберне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а часть знаний, которая используется для ориентирования, активного действия,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 бы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юбые данные, сведения, знания, которые кого-либо интересу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 техн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общения, передаваемые в форме знаков или сигн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ория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ведения об объектах и явлениях окружающей среды, их параметрах, свойствах и состоянии, которые уменьшают имеющуюся о них степень неопределенности, неполноты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2" name="Прямая со стрелкой 22"/>
          <p:cNvCxnSpPr/>
          <p:nvPr/>
        </p:nvCxnSpPr>
        <p:spPr>
          <a:xfrm flipH="1">
            <a:off x="6998400" y="1499760"/>
            <a:ext cx="2520" cy="715320"/>
          </a:xfrm>
          <a:prstGeom prst="straightConnector1">
            <a:avLst/>
          </a:prstGeom>
          <a:ln w="4428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928800" y="357120"/>
            <a:ext cx="771516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иды информаци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928800" y="2214720"/>
            <a:ext cx="3357360" cy="1214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способу восприят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Прямоугольник 6"/>
          <p:cNvSpPr/>
          <p:nvPr/>
        </p:nvSpPr>
        <p:spPr>
          <a:xfrm>
            <a:off x="928800" y="4214880"/>
            <a:ext cx="7786440" cy="1214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общественному значению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5357880" y="2214720"/>
            <a:ext cx="3357360" cy="1214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форме представл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38" name="Прямая со стрелкой 9"/>
          <p:cNvCxnSpPr>
            <a:stCxn id="234" idx="2"/>
          </p:cNvCxnSpPr>
          <p:nvPr/>
        </p:nvCxnSpPr>
        <p:spPr>
          <a:xfrm flipH="1">
            <a:off x="4785480" y="1499760"/>
            <a:ext cx="2520" cy="26456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39" name="Прямая со стрелкой 21"/>
          <p:cNvCxnSpPr/>
          <p:nvPr/>
        </p:nvCxnSpPr>
        <p:spPr>
          <a:xfrm flipH="1">
            <a:off x="2642400" y="1499760"/>
            <a:ext cx="2520" cy="71532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 способу восприят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2" descr="Image7"/>
          <p:cNvPicPr/>
          <p:nvPr/>
        </p:nvPicPr>
        <p:blipFill>
          <a:blip r:embed="rId1"/>
          <a:stretch/>
        </p:blipFill>
        <p:spPr>
          <a:xfrm>
            <a:off x="1428840" y="1428840"/>
            <a:ext cx="6143400" cy="3643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4357800" y="4500720"/>
            <a:ext cx="44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ритель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кусов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онятель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язатель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лухов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 форме представл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57160" y="4857840"/>
            <a:ext cx="750096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ультимедийна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857160" y="3357720"/>
            <a:ext cx="285768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графическая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Прямоугольник 5"/>
          <p:cNvSpPr/>
          <p:nvPr/>
        </p:nvSpPr>
        <p:spPr>
          <a:xfrm>
            <a:off x="5500800" y="3357720"/>
            <a:ext cx="285732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звукова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5500800" y="1785960"/>
            <a:ext cx="285732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ислова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Прямоугольник 7"/>
          <p:cNvSpPr/>
          <p:nvPr/>
        </p:nvSpPr>
        <p:spPr>
          <a:xfrm>
            <a:off x="857160" y="1785960"/>
            <a:ext cx="285768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текстова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50" name="Прямая со стрелкой 10"/>
          <p:cNvCxnSpPr>
            <a:stCxn id="246" idx="2"/>
          </p:cNvCxnSpPr>
          <p:nvPr/>
        </p:nvCxnSpPr>
        <p:spPr>
          <a:xfrm flipH="1">
            <a:off x="2284200" y="4502160"/>
            <a:ext cx="2160" cy="3578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51" name="Прямая со стрелкой 11"/>
          <p:cNvCxnSpPr/>
          <p:nvPr/>
        </p:nvCxnSpPr>
        <p:spPr>
          <a:xfrm flipH="1">
            <a:off x="6998400" y="4500720"/>
            <a:ext cx="2520" cy="3578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grpSp>
        <p:nvGrpSpPr>
          <p:cNvPr id="252" name="Группа 16"/>
          <p:cNvGrpSpPr/>
          <p:nvPr/>
        </p:nvGrpSpPr>
        <p:grpSpPr>
          <a:xfrm>
            <a:off x="3714840" y="2357280"/>
            <a:ext cx="285840" cy="2502360"/>
            <a:chOff x="3714840" y="2357280"/>
            <a:chExt cx="285840" cy="2502360"/>
          </a:xfrm>
        </p:grpSpPr>
        <p:sp>
          <p:nvSpPr>
            <p:cNvPr id="253" name="Прямая соединительная линия 13"/>
            <p:cNvSpPr/>
            <p:nvPr/>
          </p:nvSpPr>
          <p:spPr>
            <a:xfrm>
              <a:off x="3714840" y="2357280"/>
              <a:ext cx="285120" cy="1440"/>
            </a:xfrm>
            <a:prstGeom prst="line">
              <a:avLst/>
            </a:prstGeom>
            <a:ln w="381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254" name="Прямая со стрелкой 15"/>
            <p:cNvCxnSpPr/>
            <p:nvPr/>
          </p:nvCxnSpPr>
          <p:spPr>
            <a:xfrm flipH="1">
              <a:off x="3998880" y="2358000"/>
              <a:ext cx="2160" cy="2502000"/>
            </a:xfrm>
            <a:prstGeom prst="straightConnector1">
              <a:avLst/>
            </a:prstGeom>
            <a:ln w="38160">
              <a:solidFill>
                <a:srgbClr val="af3408"/>
              </a:solidFill>
              <a:miter/>
              <a:tailEnd len="med" type="arrow" w="med"/>
            </a:ln>
          </p:spPr>
        </p:cxnSp>
      </p:grpSp>
      <p:grpSp>
        <p:nvGrpSpPr>
          <p:cNvPr id="255" name="Группа 18"/>
          <p:cNvGrpSpPr/>
          <p:nvPr/>
        </p:nvGrpSpPr>
        <p:grpSpPr>
          <a:xfrm>
            <a:off x="5214960" y="2357280"/>
            <a:ext cx="285840" cy="2502360"/>
            <a:chOff x="5214960" y="2357280"/>
            <a:chExt cx="285840" cy="2502360"/>
          </a:xfrm>
        </p:grpSpPr>
        <p:sp>
          <p:nvSpPr>
            <p:cNvPr id="256" name="Прямая соединительная линия 19"/>
            <p:cNvSpPr/>
            <p:nvPr/>
          </p:nvSpPr>
          <p:spPr>
            <a:xfrm flipH="1">
              <a:off x="5215680" y="2357280"/>
              <a:ext cx="285120" cy="1440"/>
            </a:xfrm>
            <a:prstGeom prst="line">
              <a:avLst/>
            </a:prstGeom>
            <a:ln w="381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257" name="Прямая со стрелкой 20"/>
            <p:cNvCxnSpPr/>
            <p:nvPr/>
          </p:nvCxnSpPr>
          <p:spPr>
            <a:xfrm>
              <a:off x="5214960" y="2358000"/>
              <a:ext cx="2160" cy="2502000"/>
            </a:xfrm>
            <a:prstGeom prst="straightConnector1">
              <a:avLst/>
            </a:prstGeom>
            <a:ln w="38160">
              <a:solidFill>
                <a:srgbClr val="af340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 общественному значению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000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личн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опыт, интуиция, умения, эмоции, наследственность конкретного человека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общественн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то, что мы получаем из средств массовой информации, опыт всего человечества, исторические, культурные и национальные тради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обыденн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та, которой мы обмениваемся в процессе общения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эстетическ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изобразительное искусство, музыка, театр и др.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специальн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научная, производственная, техническая, управленческая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914400" y="-14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Свойства информаци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928800" y="1143000"/>
            <a:ext cx="2143080" cy="4287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3714840" y="1143000"/>
            <a:ext cx="4929120" cy="4287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ротивоположное свой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928800" y="1643040"/>
            <a:ext cx="2143080" cy="5000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бъектив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3714840" y="4000680"/>
            <a:ext cx="4929120" cy="7142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актуальная (устаревшая, незначимая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3714840" y="3429000"/>
            <a:ext cx="4929120" cy="5000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Прямоугольник 10"/>
          <p:cNvSpPr/>
          <p:nvPr/>
        </p:nvSpPr>
        <p:spPr>
          <a:xfrm>
            <a:off x="3714840" y="2214720"/>
            <a:ext cx="492912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достоверная (преднамеренное искажение, помехи, преувеличение или уменьшение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3714840" y="1643040"/>
            <a:ext cx="4929120" cy="5000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убъектив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Прямоугольник 13"/>
          <p:cNvSpPr/>
          <p:nvPr/>
        </p:nvSpPr>
        <p:spPr>
          <a:xfrm>
            <a:off x="928800" y="2214720"/>
            <a:ext cx="214308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остовер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Прямоугольник 14"/>
          <p:cNvSpPr/>
          <p:nvPr/>
        </p:nvSpPr>
        <p:spPr>
          <a:xfrm>
            <a:off x="928800" y="3429000"/>
            <a:ext cx="2143080" cy="5000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л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Прямоугольник 15"/>
          <p:cNvSpPr/>
          <p:nvPr/>
        </p:nvSpPr>
        <p:spPr>
          <a:xfrm>
            <a:off x="928800" y="4000680"/>
            <a:ext cx="2143080" cy="7142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ктуаль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16"/>
          <p:cNvSpPr/>
          <p:nvPr/>
        </p:nvSpPr>
        <p:spPr>
          <a:xfrm>
            <a:off x="928800" y="4786200"/>
            <a:ext cx="214308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лез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928800" y="5429160"/>
            <a:ext cx="214308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нят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3714840" y="4786200"/>
            <a:ext cx="492912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бесполез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Прямоугольник 19"/>
          <p:cNvSpPr/>
          <p:nvPr/>
        </p:nvSpPr>
        <p:spPr>
          <a:xfrm>
            <a:off x="3714840" y="5429160"/>
            <a:ext cx="492912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понят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Задание на закрепл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Задача № 1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азовите виды информации, которые являются основными для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животных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мпьютер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Задание на закрепл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Задача № 2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 В следующих примерах определите свойства встречающейся информаци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) Идет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ступительный экзамен по математике. Вы попросили у соседа его решение задачи. Шпаргалка содержала полное и правильное решение, но ... на японском язык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)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На следующий день вступительная комиссия вывесила правильные решения всех задач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0:15:25Z</dcterms:created>
  <dc:creator>Татьяна</dc:creator>
  <dc:description/>
  <dc:language>en-US</dc:language>
  <cp:lastModifiedBy>Татьяна</cp:lastModifiedBy>
  <dcterms:modified xsi:type="dcterms:W3CDTF">2010-09-06T21:44:33Z</dcterms:modified>
  <cp:revision>9</cp:revision>
  <dc:subject/>
  <dc:title>Информация. Виды и свойства.</dc:title>
</cp:coreProperties>
</file>