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6CB-3991-42C7-A7AE-2C0AC848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A77-C2E8-4BE4-B89D-CA2AAB8E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66F-1C71-49FC-BBA5-4726D00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87F-5D4D-4FA7-B8C5-37B694E0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2C3C-7E3A-4ED8-BB93-89CB5DFB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7D6-B9BA-4736-BEE2-C88B4C36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91A-3D9D-4C49-99D2-2B1F5A5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FC2-C3D4-4069-A16D-A416444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C8F4-A8C6-44D8-9B11-F0AB07F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AD90-D01D-44EA-9993-4217EAF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E2AC-EDA3-4063-A2DE-585A896B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3DE-5EB8-4AD5-A881-DFF7665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D61F-D85C-4A19-AFE9-590C855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E34A-2047-47B7-ADFD-71130FC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646D-FBF2-4F1F-9B88-FB9600B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829D-7300-4239-80ED-CD8557C7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D9E-61A6-42A9-9CFB-9D53A1C3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1C17-72B9-4AAB-A139-5C4C696D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6397-3F5D-4378-B10B-961CCDB1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4535-A2F8-442C-AF49-023F910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14A6-D224-41B8-BCA7-7C5D840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5D12-442D-4BEB-BE34-6B287E5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562-4010-415F-BA1C-868009E6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D102-4E5B-4FE7-BA09-B746BFFC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D248-2C25-4A63-B5B2-0C706BF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7B3B-4B8F-418A-B4E5-4B02286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4B33-2158-4960-893F-F162DE1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F714-A7BE-44AA-BA66-F090D861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F53C-90B5-428D-93D1-09D76E42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363A-1767-4359-A854-9417A5E0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C2AF-1182-4F42-AC17-D94B769C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DCA7-0071-4BC6-90E4-64C2B4E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6268-ACCE-4F09-9145-3D4FF82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13E-FE17-43C1-9C66-72B6C055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2638-2BA7-452F-A25A-348DDD19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C0D69-D3C2-4023-8BB2-538BE279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BD004-C58D-4BA1-97F6-8A500BB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B738-9431-4131-98BA-74C229F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F4FF-9692-4D7D-922D-CD74F41D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739B-6D26-4C86-876E-971BEF9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6FFB-4DAD-430A-86D1-054737F4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73C3-3302-4223-ADA3-DC0912C1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D059-CB6E-4E83-85CC-6EECEEC4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0548-4652-4B7E-BB1C-28BB1D83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1C2-7B40-4FC9-BEDC-36146168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89E61-F622-43A5-BD15-5380A6BE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F414-A173-4C66-8220-0717A66A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21F83-1E60-4383-BF83-ED8A69E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CD23-8C7C-49FF-82D1-51AE259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4AC7-4880-4020-BE76-A8B5213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A6C9-BE14-4B6B-9EBB-F116E52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05B7-E471-43FA-BFAA-4D42356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01CF-2586-4420-8791-F2D9F71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8779-C2AA-4D81-A470-E74A1C93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D35E-1C5B-4923-B1A9-87809CA3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3A6-0DC8-4EC3-A7E4-170604A4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6E08-EE0E-417B-8301-4B8FA9FA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D08A-6E15-466C-8671-E19673D0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063E-7758-48C1-8913-A128AE36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4B7F3-B0AA-4B75-9177-3D27C00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1790-9861-4B32-B5BE-3D94B3B0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E6BA-95D7-4982-B089-FACBAFA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4B9F-A17F-4829-B1DD-9290A8DD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0249-E55B-469B-8233-EF9FCAE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4BB9-D472-472A-809F-6818236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C5036-BAD7-4746-8CA8-161BAAF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D35-1EAD-4A7A-975D-32B4B24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113BD-D12F-4836-B3D6-C5865B20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E4F63-2BC4-4EB4-8B34-F5F123EB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D07B-D1C2-453D-A1F8-78687537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3A60-301B-46AE-916C-B9C62151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874DC-0D4D-4EEB-8708-50A4C96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70D6-1A59-4D31-BDA3-A1DDA597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2D28A-C41D-472E-BA13-5325BE92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8649-935C-4353-9463-2B203EC9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A723-F333-4A69-AE55-A3A8A1CA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603E-89F8-41A8-B1BD-4E707D9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B18-EC18-49A6-9809-A26268F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4DA15-5C4A-4A5D-A066-0781600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43A2-EA61-4E7F-867C-555366B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6686-DFB5-402F-9D6F-A286B7CB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A345-0466-46C0-AE30-13282F8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68FD-4CBE-41D3-863B-F50C13ED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36F-3620-433D-971E-5AD937D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B01B-88B3-423A-934C-06CEC8DA60D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A81A-6FDB-4533-9A15-55470946843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3C1-C890-42D6-9ABF-7B683709CAD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78A-5FBA-46AE-868A-C113B8E201B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839-C6E9-4F9D-A772-8DB65C55D1B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22FB-5C33-4EEB-B74C-D0BDD3DB640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9515-6171-4F00-8C8D-A0DFBC93873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называется компьютером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370" name="Прямоугольник 3"/>
          <p:cNvGrpSpPr/>
          <p:nvPr/>
        </p:nvGrpSpPr>
        <p:grpSpPr>
          <a:xfrm>
            <a:off x="804960" y="1590840"/>
            <a:ext cx="8040600" cy="2322360"/>
            <a:chOff x="804960" y="1590840"/>
            <a:chExt cx="8040600" cy="2322360"/>
          </a:xfrm>
        </p:grpSpPr>
        <p:pic>
          <p:nvPicPr>
            <p:cNvPr id="371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804960" y="1590840"/>
              <a:ext cx="80406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928800" y="1714680"/>
              <a:ext cx="778644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rbel"/>
                </a:rPr>
                <a:t>Компьютер</a:t>
              </a:r>
              <a:r>
                <a:rPr b="0" lang="ru-RU" sz="2400" spc="-1" strike="noStrike">
                  <a:solidFill>
                    <a:srgbClr val="ffffff"/>
                  </a:solidFill>
                  <a:latin typeface="Corbel"/>
                </a:rPr>
                <a:t> (англ. computer — вычислитель) представляет собой программируемое электронное устройство, способное обрабатывать данные и производить вычисления, а также выполнять другие задачи манипулирования символами.</a:t>
              </a:r>
              <a:endParaRPr b="0" lang="en-US" sz="24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373" name="Picture 2" descr="C:\Users\1\Documents\Работа\Компьютер\компьютер2.jpg"/>
          <p:cNvPicPr/>
          <p:nvPr/>
        </p:nvPicPr>
        <p:blipFill>
          <a:blip r:embed="rId3"/>
          <a:stretch/>
        </p:blipFill>
        <p:spPr>
          <a:xfrm>
            <a:off x="928800" y="3786120"/>
            <a:ext cx="2903400" cy="25862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000680" y="59878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ерсональный компьютер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ульный принцип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928800" y="314316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928800" y="457200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Picture 3" descr="C:\Users\1\Documents\Работа\Компьютер\компьютер2.jpg"/>
          <p:cNvPicPr/>
          <p:nvPr/>
        </p:nvPicPr>
        <p:blipFill>
          <a:blip r:embed="rId1"/>
          <a:stretch/>
        </p:blipFill>
        <p:spPr>
          <a:xfrm>
            <a:off x="1357200" y="178596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1\Documents\Работа\Компьютер\компьютер2.jpg"/>
          <p:cNvPicPr/>
          <p:nvPr/>
        </p:nvPicPr>
        <p:blipFill>
          <a:blip r:embed="rId2"/>
          <a:stretch/>
        </p:blipFill>
        <p:spPr>
          <a:xfrm>
            <a:off x="1357200" y="334332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:\Users\1\Documents\Работа\Компьютер\компьютер2.jpg"/>
          <p:cNvPicPr/>
          <p:nvPr/>
        </p:nvPicPr>
        <p:blipFill>
          <a:blip r:embed="rId3"/>
          <a:stretch/>
        </p:blipFill>
        <p:spPr>
          <a:xfrm>
            <a:off x="1357200" y="4700520"/>
            <a:ext cx="1219320" cy="1085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C:\Users\1\Documents\Работа\Компьютер\принтер3.jpg"/>
          <p:cNvPicPr/>
          <p:nvPr/>
        </p:nvPicPr>
        <p:blipFill>
          <a:blip r:embed="rId4"/>
          <a:stretch/>
        </p:blipFill>
        <p:spPr>
          <a:xfrm>
            <a:off x="3143160" y="178596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C:\Users\1\Documents\Работа\Компьютер\сканер.jpg"/>
          <p:cNvPicPr/>
          <p:nvPr/>
        </p:nvPicPr>
        <p:blipFill>
          <a:blip r:embed="rId5"/>
          <a:srcRect l="0" t="13198" r="0" b="16497"/>
          <a:stretch/>
        </p:blipFill>
        <p:spPr>
          <a:xfrm>
            <a:off x="4803840" y="1785960"/>
            <a:ext cx="1625400" cy="1143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C:\Users\1\Documents\Работа\Компьютер\модем.jpg"/>
          <p:cNvPicPr/>
          <p:nvPr/>
        </p:nvPicPr>
        <p:blipFill>
          <a:blip r:embed="rId6"/>
          <a:stretch/>
        </p:blipFill>
        <p:spPr>
          <a:xfrm>
            <a:off x="4886280" y="4714920"/>
            <a:ext cx="1828800" cy="1071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Users\1\Documents\Работа\Компьютер\принтер3.jpg"/>
          <p:cNvPicPr/>
          <p:nvPr/>
        </p:nvPicPr>
        <p:blipFill>
          <a:blip r:embed="rId7"/>
          <a:stretch/>
        </p:blipFill>
        <p:spPr>
          <a:xfrm>
            <a:off x="3143160" y="4643280"/>
            <a:ext cx="1123920" cy="1124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C:\Users\1\Documents\Работа\Компьютер\модем.jpg"/>
          <p:cNvPicPr/>
          <p:nvPr/>
        </p:nvPicPr>
        <p:blipFill>
          <a:blip r:embed="rId8"/>
          <a:stretch/>
        </p:blipFill>
        <p:spPr>
          <a:xfrm>
            <a:off x="6786720" y="1785960"/>
            <a:ext cx="1828800" cy="1071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22"/>
          <p:cNvSpPr/>
          <p:nvPr/>
        </p:nvSpPr>
        <p:spPr>
          <a:xfrm>
            <a:off x="785880" y="5857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Модульный принцип позволяет потребителю самому комплектовать нужную ему конфигурацию компьютер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стоинства магистрально-модульного принцип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3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ля работы с внешними устройствами используются те же команды процессора, что и дл работы с памятью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Прямоугольник 8"/>
          <p:cNvSpPr/>
          <p:nvPr/>
        </p:nvSpPr>
        <p:spPr>
          <a:xfrm>
            <a:off x="928800" y="342900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3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дключение к магистрали дополнительных устройств не требует изменений в уже существующих , процессоре, памя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Прямоугольник 9"/>
          <p:cNvSpPr/>
          <p:nvPr/>
        </p:nvSpPr>
        <p:spPr>
          <a:xfrm>
            <a:off x="928800" y="521496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няя состав модулей можно изменять мощность и назначение компьютера в процессе его эксплуата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Прямая соединительная линия 11"/>
          <p:cNvSpPr/>
          <p:nvPr/>
        </p:nvSpPr>
        <p:spPr>
          <a:xfrm flipH="1">
            <a:off x="641520" y="2286000"/>
            <a:ext cx="1440" cy="3573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Прямая соединительная линия 13"/>
          <p:cNvSpPr/>
          <p:nvPr/>
        </p:nvSpPr>
        <p:spPr>
          <a:xfrm>
            <a:off x="642960" y="22845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Прямая соединительная линия 14"/>
          <p:cNvSpPr/>
          <p:nvPr/>
        </p:nvSpPr>
        <p:spPr>
          <a:xfrm>
            <a:off x="642960" y="40719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Прямая соединительная линия 15"/>
          <p:cNvSpPr/>
          <p:nvPr/>
        </p:nvSpPr>
        <p:spPr>
          <a:xfrm>
            <a:off x="642960" y="5856120"/>
            <a:ext cx="28584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6"/>
          <p:cNvSpPr/>
          <p:nvPr/>
        </p:nvSpPr>
        <p:spPr>
          <a:xfrm>
            <a:off x="928800" y="3357720"/>
            <a:ext cx="7786440" cy="3500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Этот принцип позволяет не выбрасывать, а модернизировать ранее купленный компьютер, легко заменяя в нем устаревшие блоки на более совершенные и удобные, а так же приобретать и устанавливать новые блок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Прямоугольник 5"/>
          <p:cNvSpPr/>
          <p:nvPr/>
        </p:nvSpPr>
        <p:spPr>
          <a:xfrm>
            <a:off x="928800" y="1714680"/>
            <a:ext cx="7786440" cy="185724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5. 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Принцип открытой архитектур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(каждый новый блок должен быть совместим со старым и легко устанавливаться в том же месте в компьютер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ис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 1.1.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мпоненты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2" descr="C:\Users\1\Documents\Работа\Компьютер\компьютер.jpg"/>
          <p:cNvPicPr/>
          <p:nvPr/>
        </p:nvPicPr>
        <p:blipFill>
          <a:blip r:embed="rId1"/>
          <a:stretch/>
        </p:blipFill>
        <p:spPr>
          <a:xfrm>
            <a:off x="3230640" y="1428840"/>
            <a:ext cx="2555640" cy="21762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ая соединительная линия 5"/>
          <p:cNvSpPr/>
          <p:nvPr/>
        </p:nvSpPr>
        <p:spPr>
          <a:xfrm flipH="1">
            <a:off x="4498560" y="3571920"/>
            <a:ext cx="1800" cy="57132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Прямая соединительная линия 7"/>
          <p:cNvSpPr/>
          <p:nvPr/>
        </p:nvSpPr>
        <p:spPr>
          <a:xfrm>
            <a:off x="2071800" y="4143240"/>
            <a:ext cx="4929120" cy="180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Прямая соединительная линия 8"/>
          <p:cNvSpPr/>
          <p:nvPr/>
        </p:nvSpPr>
        <p:spPr>
          <a:xfrm flipH="1">
            <a:off x="2069640" y="4145040"/>
            <a:ext cx="1800" cy="35712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Прямая соединительная линия 9"/>
          <p:cNvSpPr/>
          <p:nvPr/>
        </p:nvSpPr>
        <p:spPr>
          <a:xfrm flipH="1">
            <a:off x="7000920" y="4145040"/>
            <a:ext cx="1440" cy="357120"/>
          </a:xfrm>
          <a:prstGeom prst="line">
            <a:avLst/>
          </a:prstGeom>
          <a:ln w="381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500040" y="4572000"/>
            <a:ext cx="3143160" cy="8571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Аппаратное  обеспечени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5429160" y="4572000"/>
            <a:ext cx="3143520" cy="8571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рограммное обеспечени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Прямоугольник 21"/>
          <p:cNvSpPr/>
          <p:nvPr/>
        </p:nvSpPr>
        <p:spPr>
          <a:xfrm>
            <a:off x="571680" y="5429160"/>
            <a:ext cx="80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rbel"/>
              </a:rPr>
              <a:t>Команда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— это описание операции, которую должен выполнить компьютер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овокупность команд, выполняемых компьютером, называется </a:t>
            </a:r>
            <a:r>
              <a:rPr b="1" lang="ru-RU" sz="2000" spc="-1" strike="noStrike">
                <a:solidFill>
                  <a:srgbClr val="00ffff"/>
                </a:solidFill>
                <a:latin typeface="Corbel"/>
              </a:rPr>
              <a:t>системой команд компьютера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643720" y="178596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5715000" y="5715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Джон фон Нейман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3"/>
          <a:stretch/>
        </p:blipFill>
        <p:spPr>
          <a:xfrm>
            <a:off x="100080" y="1785960"/>
            <a:ext cx="5543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1. Принцип программного управления (все операции в компьютере выполняются по программе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Скругленный прямоугольник 6"/>
          <p:cNvSpPr/>
          <p:nvPr/>
        </p:nvSpPr>
        <p:spPr>
          <a:xfrm>
            <a:off x="928800" y="3357720"/>
            <a:ext cx="7786440" cy="27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нформация, представленная в цифровой форме и обрабатываемая на компьютере, называется </a:t>
            </a:r>
            <a:r>
              <a:rPr b="0" lang="ru-RU" sz="2400" spc="-1" strike="noStrike">
                <a:solidFill>
                  <a:srgbClr val="1dffff"/>
                </a:solidFill>
                <a:latin typeface="Corbel"/>
              </a:rPr>
              <a:t>данным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следовательность команд, которую выполняет компьютер в процессе обработки данных, называется </a:t>
            </a:r>
            <a:r>
              <a:rPr b="0" lang="ru-RU" sz="2400" spc="-1" strike="noStrike">
                <a:solidFill>
                  <a:srgbClr val="1dffff"/>
                </a:solidFill>
                <a:latin typeface="Corbel"/>
              </a:rPr>
              <a:t>программой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2. Принцип однородности памяти (программы и данные хранятся в одной и той же памяти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Скругленный прямоугольник 6"/>
          <p:cNvSpPr/>
          <p:nvPr/>
        </p:nvSpPr>
        <p:spPr>
          <a:xfrm>
            <a:off x="928800" y="3357720"/>
            <a:ext cx="7786440" cy="27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мпьютер не различает, что хранится в данной ячейке памяти — число, текст или команд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. Принцип адресности памяти (каждая ячейка памяти имеет свой адрес, по которому к ней обращается процессор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Скругленный прямоугольник 6"/>
          <p:cNvSpPr/>
          <p:nvPr/>
        </p:nvSpPr>
        <p:spPr>
          <a:xfrm>
            <a:off x="928800" y="3357720"/>
            <a:ext cx="7786440" cy="27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ы построения компьюте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4. Магистрально-модульный принцип (каждое устройство – отдельный модуль, связанный с другими через магистраль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Скругленный прямоугольник 6"/>
          <p:cNvSpPr/>
          <p:nvPr/>
        </p:nvSpPr>
        <p:spPr>
          <a:xfrm>
            <a:off x="928800" y="3357720"/>
            <a:ext cx="7786440" cy="3500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486080" y="3000240"/>
            <a:ext cx="66578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51264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руктура магистрал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928800" y="1714680"/>
            <a:ext cx="7786440" cy="128556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Шина данных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(передача данных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928800" y="342900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Шина адреса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(выбор устройства или ячейки памяти, куда передаются или откуда считываются данные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928800" y="5214960"/>
            <a:ext cx="7786440" cy="1285920"/>
          </a:xfrm>
          <a:prstGeom prst="rect">
            <a:avLst/>
          </a:prstGeom>
          <a:solidFill>
            <a:srgbClr val="007e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Шина управления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(сигналы, определяющие характер обмена информацией по магистрали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Прямая соединительная линия 11"/>
          <p:cNvSpPr/>
          <p:nvPr/>
        </p:nvSpPr>
        <p:spPr>
          <a:xfrm flipH="1">
            <a:off x="641520" y="2286000"/>
            <a:ext cx="1440" cy="3573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Прямая соединительная линия 13"/>
          <p:cNvSpPr/>
          <p:nvPr/>
        </p:nvSpPr>
        <p:spPr>
          <a:xfrm>
            <a:off x="642960" y="22845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Прямая соединительная линия 14"/>
          <p:cNvSpPr/>
          <p:nvPr/>
        </p:nvSpPr>
        <p:spPr>
          <a:xfrm>
            <a:off x="642960" y="4071960"/>
            <a:ext cx="2858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Прямая соединительная линия 15"/>
          <p:cNvSpPr/>
          <p:nvPr/>
        </p:nvSpPr>
        <p:spPr>
          <a:xfrm>
            <a:off x="642960" y="5856120"/>
            <a:ext cx="28584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9:48:10Z</dcterms:created>
  <dc:creator>Татьяна</dc:creator>
  <dc:description/>
  <dc:language>en-US</dc:language>
  <cp:lastModifiedBy>Татьяна</cp:lastModifiedBy>
  <dcterms:modified xsi:type="dcterms:W3CDTF">2010-12-07T22:40:14Z</dcterms:modified>
  <cp:revision>18</cp:revision>
  <dc:subject/>
  <dc:title>Слайд 1</dc:title>
</cp:coreProperties>
</file>