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237-AAF4-417D-B554-7E0C3C06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F53-BBC7-4107-826D-82C757D6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E90-D8AD-4662-ADBF-B0F72C93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E58-6E86-4311-8C75-9B12369B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2FCB-2031-41A1-864A-A45E11E2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655B-3BDE-4E08-8402-495E2B60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7234-FF82-4353-93DE-779B5601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1260-8E58-4DD6-8FDB-3F7EA5AF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5C74-FCE9-4F29-B1AA-7DC98A93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9163-1AB0-4B08-AB35-F19F30EF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D56A-625C-4A7F-A32F-28F030D4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0E0-7A44-4110-859B-22802F16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85E9-0769-426F-9224-CCE9E0DD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B1CE-9EF3-4FAB-B8AA-A9EB80EB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5198-B40E-41BE-B62E-ABC22684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69EF-0CE5-4BAF-A239-86BD12F5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2458-463D-4EDC-9155-0CE66FD8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FBD9A-14EA-4CAB-BEB5-825434F3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6FBC-D7E0-4401-B161-A0224A5A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8184-5D67-496D-AF8D-537E6D8B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70F3B-54D4-4A99-A2D8-6340FA83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C5C5F-B4EA-45E3-9263-74C4323E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4DB-1883-4CB7-B775-734C8B3C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16B98-4860-4770-8E04-6DAFD951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8EB61-7E38-49B1-BE77-EC1D654F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913EF-EF73-46B3-B238-B2A4642E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CE99-F363-4F89-893E-BD5AB076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98C2-B7AD-4A48-9C53-0D5EED57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B8BD-FC0C-4D5E-9EDD-5F4BBCD3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159D-1547-4BB4-BF90-44076A95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51F4-646A-4308-9FAD-691054A8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440D-4D9B-435C-BFD4-85D2C85F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6310C-3B92-4A0E-AD33-FF00D4C5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9E5-8A47-447A-8E97-65EC6B86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E1E77-54DA-42BD-A322-9390A73D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8796D-DA3D-4021-BC43-91F8C3D2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1EC90-9FC7-489E-AA8E-0A4CCF06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B4B6-DE94-4D5B-88C2-A30F570D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982C-831A-461A-A89A-46FC445F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6804F-DAD2-4046-9AC6-17B24A3A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AC8A6-4F78-43A9-8640-640392BD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259D0-C3E6-4F76-880B-072A824E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A3D26-32D9-4705-9712-8DD66168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DCEC9-8BE7-4962-81C7-81A70BAF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E56-2ACE-4642-8D3B-92AED3B4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9534E-5C90-4BA9-BF76-51BDDA55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C1F68-D65E-4F46-873B-C29EF497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69A1A-88FC-4F6C-93C9-C8A58A5B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82D01-BF0C-47D1-A958-6E4B7746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A4090-F8E4-4F40-9096-910C956D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5335B-8496-4E52-82E4-FFA4DD2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926E9-A178-4A23-926B-46B4AF82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3DE31-159E-482C-864F-DC7255AF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3F439-4FC4-44EF-AB9C-5B37BAD1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E2BA4-130C-4657-8348-C35D5786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8C4-F9F9-4AA9-ADEA-9D2A72F6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D5012-4E0F-40C4-B24F-1C2A2D87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21C8D-7C56-4E10-B571-FC608854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6C54D-2E2A-4CE1-B469-E2B46463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43728-80FD-45F0-B4DE-26736C44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14C6-192B-49FE-B046-DA1FC964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50A6D-364A-4B3B-9E47-D7DBE6C2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8BDEE-7D41-4A48-8EB4-42BF5429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299B3-0FB0-4E7C-9F1E-8B627411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ECCE9-C9E8-4B98-9AD4-2A355140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6ECF3-6314-400A-92FA-FE655FD0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23D-F420-4986-B169-CEBD5839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06C48-886F-4880-BFA2-D7681C11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BCD33-6912-463A-8416-FC879D1A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6A00D-9C61-42B5-B5EA-314EEA40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108D0-84B7-454C-94B7-A9BD9005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08AEE-01A8-4B79-AF13-F29DD425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77E3E-1C89-4767-A309-37648198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6B93E-06FE-4A6E-9FA4-C737D280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A6AFC-8BD2-4F85-9DCF-D9F42FB5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CF806-7AD0-4528-AAD6-D0A42056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FC484-CC55-4482-85C3-A765D6D6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3A1-505B-4CB2-B1F3-03A8CC61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959A4-6237-4B8A-8D3C-72CECA42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7D7D9-C6D9-4D69-A133-B2AE599F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D21F7-DF4A-47C6-944C-26EF0395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EE9CF-F518-4692-BC62-FE68FD67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F844D-E391-435B-9E26-DE5A2C24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9E8-F2DF-4558-8DAC-58C87D6C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686E-8D8E-4483-848D-B2D29C0BDD2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12BF-1414-4EA5-A27D-2751C210B2C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0AAA-9FEA-43C8-B245-C362637AA65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CB34-B6CE-46C5-889B-1F5642F45C4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046B-F056-44E8-9549-35CAE245469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58ED-4554-4429-86CB-A41600F5FBD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9B6E-BCF4-4E0B-8CE0-5316B8FABD4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9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то называется компьютером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370" name="Прямоугольник 3"/>
          <p:cNvGrpSpPr/>
          <p:nvPr/>
        </p:nvGrpSpPr>
        <p:grpSpPr>
          <a:xfrm>
            <a:off x="804960" y="1590840"/>
            <a:ext cx="8040600" cy="2322360"/>
            <a:chOff x="804960" y="1590840"/>
            <a:chExt cx="8040600" cy="2322360"/>
          </a:xfrm>
        </p:grpSpPr>
        <p:pic>
          <p:nvPicPr>
            <p:cNvPr id="371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804960" y="1590840"/>
              <a:ext cx="80406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928800" y="1714680"/>
              <a:ext cx="778644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rbel"/>
                </a:rPr>
                <a:t>Компьютер</a:t>
              </a:r>
              <a:r>
                <a:rPr b="0" lang="ru-RU" sz="2400" spc="-1" strike="noStrike">
                  <a:solidFill>
                    <a:srgbClr val="ffffff"/>
                  </a:solidFill>
                  <a:latin typeface="Corbel"/>
                </a:rPr>
                <a:t> (англ. computer — вычислитель) представляет собой программируемое электронное устройство, способное обрабатывать данные и производить вычисления, а также выполнять другие задачи манипулирования символами.</a:t>
              </a:r>
              <a:endParaRPr b="0" lang="en-US" sz="24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373" name="Picture 2" descr="C:\Users\1\Documents\Работа\Компьютер\компьютер2.jpg"/>
          <p:cNvPicPr/>
          <p:nvPr/>
        </p:nvPicPr>
        <p:blipFill>
          <a:blip r:embed="rId3"/>
          <a:stretch/>
        </p:blipFill>
        <p:spPr>
          <a:xfrm>
            <a:off x="928800" y="3786120"/>
            <a:ext cx="2903400" cy="25862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000680" y="598788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ерсональный компьютер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одульный принцип построения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928800" y="3143160"/>
            <a:ext cx="7786440" cy="128592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928800" y="4572000"/>
            <a:ext cx="7786440" cy="128592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2" name="Picture 3" descr="C:\Users\1\Documents\Работа\Компьютер\компьютер2.jpg"/>
          <p:cNvPicPr/>
          <p:nvPr/>
        </p:nvPicPr>
        <p:blipFill>
          <a:blip r:embed="rId1"/>
          <a:stretch/>
        </p:blipFill>
        <p:spPr>
          <a:xfrm>
            <a:off x="1357200" y="1785960"/>
            <a:ext cx="1219320" cy="1085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Users\1\Documents\Работа\Компьютер\компьютер2.jpg"/>
          <p:cNvPicPr/>
          <p:nvPr/>
        </p:nvPicPr>
        <p:blipFill>
          <a:blip r:embed="rId2"/>
          <a:stretch/>
        </p:blipFill>
        <p:spPr>
          <a:xfrm>
            <a:off x="1357200" y="3343320"/>
            <a:ext cx="1219320" cy="1085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:\Users\1\Documents\Работа\Компьютер\компьютер2.jpg"/>
          <p:cNvPicPr/>
          <p:nvPr/>
        </p:nvPicPr>
        <p:blipFill>
          <a:blip r:embed="rId3"/>
          <a:stretch/>
        </p:blipFill>
        <p:spPr>
          <a:xfrm>
            <a:off x="1357200" y="4700520"/>
            <a:ext cx="1219320" cy="10857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C:\Users\1\Documents\Работа\Компьютер\принтер3.jpg"/>
          <p:cNvPicPr/>
          <p:nvPr/>
        </p:nvPicPr>
        <p:blipFill>
          <a:blip r:embed="rId4"/>
          <a:stretch/>
        </p:blipFill>
        <p:spPr>
          <a:xfrm>
            <a:off x="3143160" y="178596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C:\Users\1\Documents\Работа\Компьютер\сканер.jpg"/>
          <p:cNvPicPr/>
          <p:nvPr/>
        </p:nvPicPr>
        <p:blipFill>
          <a:blip r:embed="rId5"/>
          <a:srcRect l="0" t="13198" r="0" b="16497"/>
          <a:stretch/>
        </p:blipFill>
        <p:spPr>
          <a:xfrm>
            <a:off x="4803840" y="1785960"/>
            <a:ext cx="1625400" cy="1143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C:\Users\1\Documents\Работа\Компьютер\модем.jpg"/>
          <p:cNvPicPr/>
          <p:nvPr/>
        </p:nvPicPr>
        <p:blipFill>
          <a:blip r:embed="rId6"/>
          <a:stretch/>
        </p:blipFill>
        <p:spPr>
          <a:xfrm>
            <a:off x="4886280" y="4714920"/>
            <a:ext cx="1828800" cy="1071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C:\Users\1\Documents\Работа\Компьютер\принтер3.jpg"/>
          <p:cNvPicPr/>
          <p:nvPr/>
        </p:nvPicPr>
        <p:blipFill>
          <a:blip r:embed="rId7"/>
          <a:stretch/>
        </p:blipFill>
        <p:spPr>
          <a:xfrm>
            <a:off x="3143160" y="4643280"/>
            <a:ext cx="1123920" cy="1124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C:\Users\1\Documents\Работа\Компьютер\модем.jpg"/>
          <p:cNvPicPr/>
          <p:nvPr/>
        </p:nvPicPr>
        <p:blipFill>
          <a:blip r:embed="rId8"/>
          <a:stretch/>
        </p:blipFill>
        <p:spPr>
          <a:xfrm>
            <a:off x="6786720" y="1785960"/>
            <a:ext cx="1828800" cy="10717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22"/>
          <p:cNvSpPr/>
          <p:nvPr/>
        </p:nvSpPr>
        <p:spPr>
          <a:xfrm>
            <a:off x="785880" y="5857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Модульный принцип позволяет потребителю самому комплектовать нужную ему конфигурацию компьютера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стоинства магистрально-модульного принцип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3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ля работы с внешними устройствами используются те же команды процессора, что и дл работы с памятью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Прямоугольник 8"/>
          <p:cNvSpPr/>
          <p:nvPr/>
        </p:nvSpPr>
        <p:spPr>
          <a:xfrm>
            <a:off x="928800" y="3429000"/>
            <a:ext cx="7786440" cy="128592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3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дключение к магистрали дополнительных устройств не требует изменений в уже существующих , процессоре, памят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Прямоугольник 9"/>
          <p:cNvSpPr/>
          <p:nvPr/>
        </p:nvSpPr>
        <p:spPr>
          <a:xfrm>
            <a:off x="928800" y="5214960"/>
            <a:ext cx="7786440" cy="128592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няя состав модулей можно изменять мощность и назначение компьютера в процессе его эксплуатац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Прямая соединительная линия 11"/>
          <p:cNvSpPr/>
          <p:nvPr/>
        </p:nvSpPr>
        <p:spPr>
          <a:xfrm flipH="1">
            <a:off x="641520" y="2286000"/>
            <a:ext cx="1440" cy="3573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Прямая соединительная линия 13"/>
          <p:cNvSpPr/>
          <p:nvPr/>
        </p:nvSpPr>
        <p:spPr>
          <a:xfrm>
            <a:off x="642960" y="2284560"/>
            <a:ext cx="28584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Прямая соединительная линия 14"/>
          <p:cNvSpPr/>
          <p:nvPr/>
        </p:nvSpPr>
        <p:spPr>
          <a:xfrm>
            <a:off x="642960" y="4071960"/>
            <a:ext cx="28584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Прямая соединительная линия 15"/>
          <p:cNvSpPr/>
          <p:nvPr/>
        </p:nvSpPr>
        <p:spPr>
          <a:xfrm>
            <a:off x="642960" y="5856120"/>
            <a:ext cx="285840" cy="18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6"/>
          <p:cNvSpPr/>
          <p:nvPr/>
        </p:nvSpPr>
        <p:spPr>
          <a:xfrm>
            <a:off x="928800" y="3357720"/>
            <a:ext cx="7786440" cy="3500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Этот принцип позволяет не выбрасывать, а модернизировать ранее купленный компьютер, легко заменяя в нем устаревшие блоки на более совершенные и удобные, а так же приобретать и устанавливать новые блоки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ы построения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Прямоугольник 5"/>
          <p:cNvSpPr/>
          <p:nvPr/>
        </p:nvSpPr>
        <p:spPr>
          <a:xfrm>
            <a:off x="928800" y="1714680"/>
            <a:ext cx="7786440" cy="1857240"/>
          </a:xfrm>
          <a:prstGeom prst="rect">
            <a:avLst/>
          </a:prstGeom>
          <a:solidFill>
            <a:srgbClr val="007eea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5.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Принцип открытой архитектуры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(каждый новый блок должен быть совместим со старым и легко устанавливаться в том же месте в компьютер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машне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пис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 1.1.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мпоненты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Picture 2" descr="C:\Users\1\Documents\Работа\Компьютер\компьютер.jpg"/>
          <p:cNvPicPr/>
          <p:nvPr/>
        </p:nvPicPr>
        <p:blipFill>
          <a:blip r:embed="rId1"/>
          <a:stretch/>
        </p:blipFill>
        <p:spPr>
          <a:xfrm>
            <a:off x="3230640" y="1428840"/>
            <a:ext cx="2555640" cy="21762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ая соединительная линия 5"/>
          <p:cNvSpPr/>
          <p:nvPr/>
        </p:nvSpPr>
        <p:spPr>
          <a:xfrm flipH="1">
            <a:off x="4498560" y="3571920"/>
            <a:ext cx="1800" cy="571320"/>
          </a:xfrm>
          <a:prstGeom prst="line">
            <a:avLst/>
          </a:prstGeom>
          <a:ln w="381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Прямая соединительная линия 7"/>
          <p:cNvSpPr/>
          <p:nvPr/>
        </p:nvSpPr>
        <p:spPr>
          <a:xfrm>
            <a:off x="2071800" y="4143240"/>
            <a:ext cx="4929120" cy="1800"/>
          </a:xfrm>
          <a:prstGeom prst="line">
            <a:avLst/>
          </a:prstGeom>
          <a:ln w="381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Прямая соединительная линия 8"/>
          <p:cNvSpPr/>
          <p:nvPr/>
        </p:nvSpPr>
        <p:spPr>
          <a:xfrm flipH="1">
            <a:off x="2069640" y="4145040"/>
            <a:ext cx="1800" cy="357120"/>
          </a:xfrm>
          <a:prstGeom prst="line">
            <a:avLst/>
          </a:prstGeom>
          <a:ln w="381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Прямая соединительная линия 9"/>
          <p:cNvSpPr/>
          <p:nvPr/>
        </p:nvSpPr>
        <p:spPr>
          <a:xfrm flipH="1">
            <a:off x="7000920" y="4145040"/>
            <a:ext cx="1440" cy="357120"/>
          </a:xfrm>
          <a:prstGeom prst="line">
            <a:avLst/>
          </a:prstGeom>
          <a:ln w="381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Прямоугольник 18"/>
          <p:cNvSpPr/>
          <p:nvPr/>
        </p:nvSpPr>
        <p:spPr>
          <a:xfrm>
            <a:off x="500040" y="4572000"/>
            <a:ext cx="3143160" cy="857160"/>
          </a:xfrm>
          <a:prstGeom prst="rect">
            <a:avLst/>
          </a:prstGeom>
          <a:solidFill>
            <a:srgbClr val="007eea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Аппаратное  обеспечени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Прямоугольник 19"/>
          <p:cNvSpPr/>
          <p:nvPr/>
        </p:nvSpPr>
        <p:spPr>
          <a:xfrm>
            <a:off x="5429160" y="4572000"/>
            <a:ext cx="3143520" cy="857160"/>
          </a:xfrm>
          <a:prstGeom prst="rect">
            <a:avLst/>
          </a:prstGeom>
          <a:solidFill>
            <a:srgbClr val="007eea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Программное обеспечени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Прямоугольник 21"/>
          <p:cNvSpPr/>
          <p:nvPr/>
        </p:nvSpPr>
        <p:spPr>
          <a:xfrm>
            <a:off x="571680" y="5429160"/>
            <a:ext cx="807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orbel"/>
              </a:rPr>
              <a:t>Команда</a:t>
            </a: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 — это описание операции, которую должен выполнить компьютер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Совокупность команд, выполняемых компьютером, называется </a:t>
            </a:r>
            <a:r>
              <a:rPr b="1" lang="ru-RU" sz="2000" spc="-1" strike="noStrike">
                <a:solidFill>
                  <a:srgbClr val="00ffff"/>
                </a:solidFill>
                <a:latin typeface="Corbel"/>
              </a:rPr>
              <a:t>системой команд компьютера</a:t>
            </a: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5174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труктура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643720" y="1785960"/>
            <a:ext cx="3429000" cy="39052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4"/>
          <p:cNvSpPr/>
          <p:nvPr/>
        </p:nvSpPr>
        <p:spPr>
          <a:xfrm>
            <a:off x="5715000" y="5715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Джон фон Нейман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3"/>
          <a:stretch/>
        </p:blipFill>
        <p:spPr>
          <a:xfrm>
            <a:off x="100080" y="1785960"/>
            <a:ext cx="5543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ы построения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1. Принцип программного управления (все операции в компьютере выполняются по программе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Скругленный прямоугольник 6"/>
          <p:cNvSpPr/>
          <p:nvPr/>
        </p:nvSpPr>
        <p:spPr>
          <a:xfrm>
            <a:off x="928800" y="3357720"/>
            <a:ext cx="7786440" cy="27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нформация, представленная в цифровой форме и обрабатываемая на компьютере, называется </a:t>
            </a:r>
            <a:r>
              <a:rPr b="0" lang="ru-RU" sz="2400" spc="-1" strike="noStrike">
                <a:solidFill>
                  <a:srgbClr val="1dffff"/>
                </a:solidFill>
                <a:latin typeface="Corbel"/>
              </a:rPr>
              <a:t>данным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следовательность команд, которую выполняет компьютер в процессе обработки данных, называется </a:t>
            </a:r>
            <a:r>
              <a:rPr b="0" lang="ru-RU" sz="2400" spc="-1" strike="noStrike">
                <a:solidFill>
                  <a:srgbClr val="1dffff"/>
                </a:solidFill>
                <a:latin typeface="Corbel"/>
              </a:rPr>
              <a:t>программой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ы построения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2. Принцип однородности памяти (программы и данные хранятся в одной и той же памяти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Скругленный прямоугольник 6"/>
          <p:cNvSpPr/>
          <p:nvPr/>
        </p:nvSpPr>
        <p:spPr>
          <a:xfrm>
            <a:off x="928800" y="3357720"/>
            <a:ext cx="7786440" cy="27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Компьютер не различает, что хранится в данной ячейке памяти — число, текст или команд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ы построения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3. Принцип адресности памяти (каждая ячейка памяти имеет свой адрес, по которому к ней обращается процессор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Скругленный прямоугольник 6"/>
          <p:cNvSpPr/>
          <p:nvPr/>
        </p:nvSpPr>
        <p:spPr>
          <a:xfrm>
            <a:off x="928800" y="3357720"/>
            <a:ext cx="7786440" cy="27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ы построения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4. Магистрально-модульный принцип (каждое устройство – отдельный модуль, связанный с другими через магистраль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Скругленный прямоугольник 6"/>
          <p:cNvSpPr/>
          <p:nvPr/>
        </p:nvSpPr>
        <p:spPr>
          <a:xfrm>
            <a:off x="928800" y="3357720"/>
            <a:ext cx="7786440" cy="3500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486080" y="3000240"/>
            <a:ext cx="665784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труктура магистрал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Шина данных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(передача данных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928800" y="3429000"/>
            <a:ext cx="7786440" cy="128592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Шина адреса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(выбор устройства или ячейки памяти, куда передаются или откуда считываются данные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928800" y="5214960"/>
            <a:ext cx="7786440" cy="128592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Шина управления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(сигналы, определяющие характер обмена информацией по магистрали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Прямая соединительная линия 11"/>
          <p:cNvSpPr/>
          <p:nvPr/>
        </p:nvSpPr>
        <p:spPr>
          <a:xfrm flipH="1">
            <a:off x="641520" y="2286000"/>
            <a:ext cx="1440" cy="3573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Прямая соединительная линия 13"/>
          <p:cNvSpPr/>
          <p:nvPr/>
        </p:nvSpPr>
        <p:spPr>
          <a:xfrm>
            <a:off x="642960" y="2284560"/>
            <a:ext cx="28584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Прямая соединительная линия 14"/>
          <p:cNvSpPr/>
          <p:nvPr/>
        </p:nvSpPr>
        <p:spPr>
          <a:xfrm>
            <a:off x="642960" y="4071960"/>
            <a:ext cx="28584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Прямая соединительная линия 15"/>
          <p:cNvSpPr/>
          <p:nvPr/>
        </p:nvSpPr>
        <p:spPr>
          <a:xfrm>
            <a:off x="642960" y="5856120"/>
            <a:ext cx="285840" cy="18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9:48:10Z</dcterms:created>
  <dc:creator>Татьяна</dc:creator>
  <dc:description/>
  <dc:language>en-US</dc:language>
  <cp:lastModifiedBy>Татьяна</cp:lastModifiedBy>
  <dcterms:modified xsi:type="dcterms:W3CDTF">2010-12-07T22:40:14Z</dcterms:modified>
  <cp:revision>18</cp:revision>
  <dc:subject/>
  <dc:title>Слайд 1</dc:title>
</cp:coreProperties>
</file>