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3F3-3FD7-49FC-99EB-8207FC8D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23F-27D6-4C02-A2B0-76BE81BE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379-4084-4640-B193-5FFF7E01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00F-539C-45E1-9C1E-04C100AD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D64-292D-4ECD-A44B-CD93F32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3C8-55DD-4361-9B4B-D4206FC6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731-70EA-4518-B4DA-6665F830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111-6BA5-48B1-BE17-98F2CF99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CF9-6283-401C-BEF3-56E556F1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66C-D8DF-4FA6-93CC-BE2075A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9D6-8F13-4C6B-9ECA-BC3B291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EFA-C458-4861-8332-4DB804F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7C85-247A-4E48-9002-421C78DCE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95280" y="1125360"/>
            <a:ext cx="856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Лечебные   травы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95280" y="2997360"/>
            <a:ext cx="8410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песни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зыка Н. Лукониной, слова Л.Чадово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889440" y="5670720"/>
            <a:ext cx="52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Музыкальный руководитель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Гутник В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3851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не будем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е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чит на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род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1" descr="Картинки по запросу картинки малина с мятой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5796000" cy="3894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Картинки по запросу картинки про лес для детей"/>
          <p:cNvPicPr/>
          <p:nvPr/>
        </p:nvPicPr>
        <p:blipFill>
          <a:blip r:embed="rId2"/>
          <a:stretch/>
        </p:blipFill>
        <p:spPr>
          <a:xfrm>
            <a:off x="3708360" y="3205080"/>
            <a:ext cx="54356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0" y="41418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пе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илый друг, не забу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ль беда случ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 нам в аптеку загля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вами ле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8" descr="Картинки по запросу картинки малина с мятой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1778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4537080" cy="3630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https://go4.imgsmail.ru/imgpreview?key=558c6a12ce4b8b8a&amp;mb=imgdb_preview_1271"/>
          <p:cNvPicPr/>
          <p:nvPr/>
        </p:nvPicPr>
        <p:blipFill>
          <a:blip r:embed="rId3"/>
          <a:stretch/>
        </p:blipFill>
        <p:spPr>
          <a:xfrm rot="1147800">
            <a:off x="324000" y="115560"/>
            <a:ext cx="10285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https://go1.imgsmail.ru/imgpreview?key=64d57d9ff157949b&amp;mb=imgdb_preview_1388"/>
          <p:cNvPicPr/>
          <p:nvPr/>
        </p:nvPicPr>
        <p:blipFill>
          <a:blip r:embed="rId4"/>
          <a:stretch/>
        </p:blipFill>
        <p:spPr>
          <a:xfrm>
            <a:off x="7669080" y="4768920"/>
            <a:ext cx="1474920" cy="2089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https://go3.imgsmail.ru/imgpreview?key=decb4ecd2e25fda&amp;mb=imgdb_preview_1513"/>
          <p:cNvPicPr/>
          <p:nvPr/>
        </p:nvPicPr>
        <p:blipFill>
          <a:blip r:embed="rId5"/>
          <a:stretch/>
        </p:blipFill>
        <p:spPr>
          <a:xfrm rot="19405800">
            <a:off x="7451640" y="333000"/>
            <a:ext cx="1376280" cy="1176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2" descr="http://multik-pic.ru/images/priroda-9.gif"/>
          <p:cNvPicPr/>
          <p:nvPr/>
        </p:nvPicPr>
        <p:blipFill>
          <a:blip r:embed="rId6"/>
          <a:stretch/>
        </p:blipFill>
        <p:spPr>
          <a:xfrm>
            <a:off x="108000" y="5229360"/>
            <a:ext cx="1657440" cy="1373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http://festival.1september.ru/articles/635286/img33.jpg"/>
          <p:cNvPicPr/>
          <p:nvPr/>
        </p:nvPicPr>
        <p:blipFill>
          <a:blip r:embed="rId7"/>
          <a:stretch/>
        </p:blipFill>
        <p:spPr>
          <a:xfrm rot="19631400">
            <a:off x="7740720" y="3212640"/>
            <a:ext cx="85068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https://go1.imgsmail.ru/imgpreview?key=24c1daeccf3bf4f1&amp;mb=imgdb_preview_1580"/>
          <p:cNvPicPr/>
          <p:nvPr/>
        </p:nvPicPr>
        <p:blipFill>
          <a:blip r:embed="rId8"/>
          <a:stretch/>
        </p:blipFill>
        <p:spPr>
          <a:xfrm>
            <a:off x="6300720" y="5345280"/>
            <a:ext cx="1014480" cy="1512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http://flowerlib.ru/books/item/f00/s00/z0000012/pic/000014.gif"/>
          <p:cNvPicPr/>
          <p:nvPr/>
        </p:nvPicPr>
        <p:blipFill>
          <a:blip r:embed="rId9"/>
          <a:stretch/>
        </p:blipFill>
        <p:spPr>
          <a:xfrm>
            <a:off x="6372360" y="1413000"/>
            <a:ext cx="12538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0" y="551664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гаты лекарствами наши л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регите природу,   она творит чуд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0"/>
            <a:ext cx="68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нимание!  Лесные зри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Детеныши и их роди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47640" y="5445000"/>
            <a:ext cx="817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е надо бояться, не надо ди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сегда у природы можно лечи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Картинки по запросу картинки про лес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. Нам  в зеленом лесу хорошо жив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0" descr="Картинки по запросу картинки про лес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ша сказка про лес с вами расст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41418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пе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илый друг, не забу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ль беда случ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 нам в аптеку загля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вами ле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2" descr="Картинки по запросу картинки крапивы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4356000" cy="2776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9" descr="Картинки по запросу картинки зверобоя для детей"/>
          <p:cNvPicPr/>
          <p:nvPr/>
        </p:nvPicPr>
        <p:blipFill>
          <a:blip r:embed="rId2"/>
          <a:stretch/>
        </p:blipFill>
        <p:spPr>
          <a:xfrm>
            <a:off x="4782960" y="0"/>
            <a:ext cx="4361040" cy="244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5" descr="Картинки по запросу картинки малина с мятой для детей"/>
          <p:cNvPicPr/>
          <p:nvPr/>
        </p:nvPicPr>
        <p:blipFill>
          <a:blip r:embed="rId3"/>
          <a:stretch/>
        </p:blipFill>
        <p:spPr>
          <a:xfrm>
            <a:off x="1979640" y="2637000"/>
            <a:ext cx="5040360" cy="3284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десь крапива, зверобой и малина с мя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 целебный настой дарят вам, реб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6" descr="Картинки по запросу картинки зверобоя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0" y="41418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пе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илый друг, не забу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ль беда случ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 нам в аптеку загля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вами ле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3.Пусть дожди, пусть снега, портится по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3" descr="Картинки по запросу картинки дождя и  снега 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8:39:49Z</dcterms:created>
  <dc:creator>Татьяна Викторовна</dc:creator>
  <dc:description/>
  <dc:language>en-US</dc:language>
  <cp:lastModifiedBy>Zaveduyushaya</cp:lastModifiedBy>
  <dcterms:modified xsi:type="dcterms:W3CDTF">2017-04-18T07:14:28Z</dcterms:modified>
  <cp:revision>27</cp:revision>
  <dc:subject/>
  <dc:title>Слайд 1</dc:title>
</cp:coreProperties>
</file>