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838-58C3-4711-A254-7A884284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4D8-C44F-4BBD-83BC-2C440BF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501-D077-42CA-A1DE-3B236034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31C-1100-4EE7-B2B1-C0FFF0AA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657F9-6EB3-4436-A180-4A997B26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84DB7-173B-4F40-A835-84EC9F8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8791F-5EEC-4993-8715-F4E8E5D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A0B21-9ED6-4BDD-AD1C-9608C6F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C5F8-B87B-4DD9-A8CD-448914E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2DF9E-9979-4668-B46B-903F3CD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ADB3B-61F9-4C0B-84B7-FDBE860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AF7-C69C-4A2C-B705-D4CF9FE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E8007-A603-4AF6-8828-36049B5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F30B-4C0B-4981-BA0D-9792703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D43FD-6D6C-4FC2-A8B4-BD0BDA3C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82D70-769F-47EC-AA24-8B1038D7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C7DB4-8C0E-4D44-AD51-69669F2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104-B95B-4763-A6B2-C685F654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D97-AA10-4AF9-982C-123456D5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27A-80A4-40EE-A7AC-A9968A7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D96-AA7B-4051-BD6F-627A4A5A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806-266A-4F82-AFF8-E3F169F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7FF-01AE-4471-A339-1D75A7B2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E67-1DDE-4EC1-A535-9BB4EC8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6070-7E34-4324-9090-591CC08A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8E2-F39E-47EB-BE51-240B7576E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50920" y="187776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очная терап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метод организации совместной деятельности детей 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972440" y="260280"/>
            <a:ext cx="64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БДОУ №121 Выборг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219640" y="4437000"/>
            <a:ext cx="3673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ь ГБДОУ №1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апина Юлия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24360" y="62373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д тем, как начать играть с песком, необходимо проговорить с детьми правила игры в песочнице. В этом поможет стихотворение Т. М. Грабенко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редных нет детей в стране —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едь не место им в песке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Здесь нельзя кусаться, драться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 в глаза песком кидаться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ран чужих не разорять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есок — мирная страна.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ожно строить и чудить,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ожно много сотворить: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ры, реки и моря,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бы жизнь вокруг была.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Дети, поняли меня?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ли надо повторить?!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б запомнить и дружить!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39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гры с пес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Дорожки из песк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Чувствительные ладошки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Мой город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Чей это след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Назови звук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Найди друга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Песочный дождик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Кто это был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Какой звук лишний?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Documents and Settings\Елена\Мои документы\песок\Изображение0002.JPG"/>
          <p:cNvPicPr/>
          <p:nvPr/>
        </p:nvPicPr>
        <p:blipFill>
          <a:blip r:embed="rId1"/>
          <a:srcRect l="32243" t="8285" r="13526" b="64699"/>
          <a:stretch/>
        </p:blipFill>
        <p:spPr>
          <a:xfrm>
            <a:off x="4859280" y="2565360"/>
            <a:ext cx="3807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Какие дети особенно нуждаются в этой игр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ти, имеющие сложности в психическом развитии, конфликты во взаимоотношениях, страхи и др. особенно нуждаются в Песочнице. Как показали исследования, Песочница обладает психотерапевтическим эффектом, помогая ребёнку избавиться от страхов, застенчивости, конфликтности в общении и многих други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8680" y="364500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Какое влияние оказывает на ребёнка эта иг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3657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сочница не только развивает творческий потенциал ребёнка, активизирует пространственное воображение, образно-логическое мышление, тренирует мелкую моторику руки, но ненавязчиво, исподволь настраивает детей на постижение моральных истин добра и зла, строит гармоничный образ мир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Формы и варианты песочной терапии определяются особенностями конкретного ребенка, специфическими задачами работы и ее продолжительность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628640" y="1638360"/>
            <a:ext cx="588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гровые методы могут применятьс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68240" y="4221000"/>
            <a:ext cx="6899400" cy="2303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3"/>
          <p:cNvSpPr/>
          <p:nvPr/>
        </p:nvSpPr>
        <p:spPr>
          <a:xfrm>
            <a:off x="250920" y="141300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 целью диагностик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 целью оказания первичной психологической помощ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 процессе краткосрочной психотерапи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 процессе долгосрочного психотерапевтического воздейств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39092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3ff"/>
                </a:solidFill>
                <a:uFillTx/>
                <a:latin typeface="Arial"/>
              </a:rPr>
              <a:t>Цель такой терапии - не менять и переделывать ребенка, не учить его каким-то специальным поведенческим навыкам, а дать возможность ребенку быть самим соб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Содержимое 3" descr="DSC09673.JPG"/>
          <p:cNvPicPr/>
          <p:nvPr/>
        </p:nvPicPr>
        <p:blipFill>
          <a:blip r:embed="rId1"/>
          <a:srcRect l="0" t="30008" r="0" b="0"/>
          <a:stretch/>
        </p:blipFill>
        <p:spPr>
          <a:xfrm>
            <a:off x="4638600" y="1700280"/>
            <a:ext cx="4326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62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Дидактические игры 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   (этап прикосновений и игр на поверхности песка)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i="1" lang="en-US" sz="1800" spc="-1" strike="noStrike">
                <a:solidFill>
                  <a:srgbClr val="e3e3ff"/>
                </a:solidFill>
                <a:latin typeface="Arial"/>
              </a:rPr>
              <a:t>Песочный дождик»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Содержимое 13" descr="DSC09870.JPG"/>
          <p:cNvPicPr/>
          <p:nvPr/>
        </p:nvPicPr>
        <p:blipFill>
          <a:blip r:embed="rId1"/>
          <a:stretch/>
        </p:blipFill>
        <p:spPr>
          <a:xfrm>
            <a:off x="250920" y="2924280"/>
            <a:ext cx="489744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4" descr="DSC09814.JPG"/>
          <p:cNvPicPr/>
          <p:nvPr/>
        </p:nvPicPr>
        <p:blipFill>
          <a:blip r:embed="rId2"/>
          <a:stretch/>
        </p:blipFill>
        <p:spPr>
          <a:xfrm>
            <a:off x="4500720" y="4005360"/>
            <a:ext cx="439236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13800" y="33577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i="1" lang="en-US" sz="1800" spc="-1" strike="noStrike">
                <a:solidFill>
                  <a:srgbClr val="e3e3ff"/>
                </a:solidFill>
                <a:latin typeface="Arial"/>
              </a:rPr>
              <a:t>узоры на песке</a:t>
            </a: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рисунк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Содержимое 4" descr="DSC09700.JPG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5" descr="DSC09702.JPG"/>
          <p:cNvPicPr/>
          <p:nvPr/>
        </p:nvPicPr>
        <p:blipFill>
          <a:blip r:embed="rId2"/>
          <a:stretch/>
        </p:blipFill>
        <p:spPr>
          <a:xfrm>
            <a:off x="4788000" y="3071880"/>
            <a:ext cx="4127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842160" cy="27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сихопрофилактические игры:                               «</a:t>
            </a: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ладони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»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Содержимое 4" descr="DSC09881.JPG"/>
          <p:cNvPicPr/>
          <p:nvPr/>
        </p:nvPicPr>
        <p:blipFill>
          <a:blip r:embed="rId1"/>
          <a:stretch/>
        </p:blipFill>
        <p:spPr>
          <a:xfrm>
            <a:off x="250920" y="3789360"/>
            <a:ext cx="37447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3" descr="DSC09855.JPG"/>
          <p:cNvPicPr/>
          <p:nvPr/>
        </p:nvPicPr>
        <p:blipFill>
          <a:blip r:embed="rId2"/>
          <a:stretch/>
        </p:blipFill>
        <p:spPr>
          <a:xfrm>
            <a:off x="4500720" y="2708280"/>
            <a:ext cx="4643280" cy="261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472000" y="5445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«Ползут змей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победитель злост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Содержимое 4" descr="DSC09788.JPG"/>
          <p:cNvPicPr/>
          <p:nvPr/>
        </p:nvPicPr>
        <p:blipFill>
          <a:blip r:embed="rId1"/>
          <a:stretch/>
        </p:blipFill>
        <p:spPr>
          <a:xfrm>
            <a:off x="0" y="1413000"/>
            <a:ext cx="47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5" descr="DSC09789.JPG"/>
          <p:cNvPicPr/>
          <p:nvPr/>
        </p:nvPicPr>
        <p:blipFill>
          <a:blip r:embed="rId2"/>
          <a:stretch/>
        </p:blipFill>
        <p:spPr>
          <a:xfrm>
            <a:off x="4859280" y="3857760"/>
            <a:ext cx="405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3213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дея Песочницы великолепна, поскольку песок является тем удивительным природным материалом, который способен передать одновременно многое. И ощущение разнообразия природы, и ощущение возможностей своего тела, и сущности жизни вообще с её текучестью, неожиданностью, множеством фор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6028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ли такая детская игра, которая сможет гармонизировать картину мира, поставить заслон на пути жестокости, даст ощущение разнообразия природы, избавит от внутренних конфликтов и страхов, раскроет понятия добра и зл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ыт работы показал, что использование песоч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метод совместной работы с родителями дает положительные результаты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у детей значительно возрастает интерес к развивающим занятиям, логопедическим и психологическим занятиям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они чувствуют себя более успешными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а занятиях нет места монотонности и ску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оме того игры с песком могут быть и на свежем воздухе; на нашей детской площад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539640" y="473040"/>
            <a:ext cx="8280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бенок выстраивает мосты между внутренним и внешним мирами, однако каков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лавное достоинство этой игры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Главное достоинство Песочницы в том, что она позволяет ребёнку или целой группе детей реально создавать картину мира в живо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ёхмерном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4" descr="DSC09680.JPG"/>
          <p:cNvPicPr/>
          <p:nvPr/>
        </p:nvPicPr>
        <p:blipFill>
          <a:blip r:embed="rId1"/>
          <a:stretch/>
        </p:blipFill>
        <p:spPr>
          <a:xfrm>
            <a:off x="2484360" y="3429000"/>
            <a:ext cx="3581640" cy="3029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27082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апевтический эффект игры с песком  впервые был замечен швейцарским психологом и философо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лом Густавом Юн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50920" y="819000"/>
            <a:ext cx="82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тактильно-кинетическую чувствительность и мелкую моторику рук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снимают мышечную напряжённ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омогают ребёнку чувствовать себя защищённым, в комфортной для него сред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активность, расширяют жизненный опыт, передаваемый педагогом в близкой для ребёнка форме (принцип доступности информ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стабилизируют эмоциональные состояния, поглощая негативную энерги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озволяют ребёнку соотносить игры с реальной жизнью, осмыслить происходящее, найти способы решения проблемн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преодолевают комплекс «плохого художника», создавая художественные композиции из песка при помощи готовых фигурок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·  развивают творческие (креативные) действия, находят нестандартные решения, приводящие к успешному результату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47080" y="15876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гры с пес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404640"/>
            <a:ext cx="85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ршенствуют зрительно-пространственную ориентиров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чевые возмож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способствуют расширению словарного запа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позволяют развивать фонематический слух и восприят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способствуют развитию связной реч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ксико-грамматических представл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·  помогают в изучении букв, осво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выков чтения и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рать в песок можно не т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улице – можно устро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ини-песочницу до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етском  с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76360" y="139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ие условия организации песочной терапи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08800" y="692280"/>
            <a:ext cx="89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качестве песочницы используется больш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донепроницаемый ящ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диционный его размер в сантиметрах для индивиду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ы 50 х 70 х 8 см, (где 50 х 70 — размер поля, а 8 — глуб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групповой работы рекомендуется использ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сочницу размером 100 х 140 х 8 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Елена\Мои документы\песочик\IMGP0464.JPG"/>
          <p:cNvPicPr/>
          <p:nvPr/>
        </p:nvPicPr>
        <p:blipFill>
          <a:blip r:embed="rId1"/>
          <a:srcRect l="18428" t="24577" r="21377" b="0"/>
          <a:stretch/>
        </p:blipFill>
        <p:spPr>
          <a:xfrm>
            <a:off x="395280" y="3068640"/>
            <a:ext cx="4105440" cy="354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1\Desktop\img10.jpg"/>
          <p:cNvPicPr/>
          <p:nvPr/>
        </p:nvPicPr>
        <p:blipFill>
          <a:blip r:embed="rId2"/>
          <a:stretch/>
        </p:blipFill>
        <p:spPr>
          <a:xfrm>
            <a:off x="4788000" y="306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ым и предпочтительным материалом является дерево. В практике работы с песком чаще используются пластиковые ящики, но в них песок не «дышит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ая песочница сочетает естественный цвет дерева и голубой цвет. Дно и борта (за исключением верхней плоскости досок бортов) рекомендуется окрашивать в голубой цвет: дно символизирует воду, а борта — небо. Голубой цвет оказывает на человека умиротворяющее воздействие. Кроме того, наполненная песком «голубая» песочница являет собой миниатюрную модель нашей планеты. Можно экспериментировать и с разноцветными песочницами, когда дно и борта окрашиваются в один или несколько ц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сочница на одну треть или наполовину заполняется чистым (промытым и просеянным), прокаленным в духовом шкафу песком, который не реже одного раза в месяц необходимо менять или очищ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организации игр с песком необходим большой набор миниатюрных предметов и игрушек, в совокупности символизирующих ми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716280"/>
            <a:ext cx="770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гурки – высотой не более 12 см по группам: транспорт, люди, животные, природный материал, жилища, деревья, сказочные герои, украшения, инструменты для работы с песком (лопаточки, совочки, палочки, кисти, сеялки и др.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Игра с песком - это отличный метод организации совместной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детей и родителей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местная деятельность может проходить на родительских собра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ладших группах, родители рано забирающие детей, могут уделить игре немного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шем дошкольном возрасте родители могут не только предложить тему игры, но и  вместе с детьми сделать атрибуты к н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38:53Z</dcterms:created>
  <dc:creator>Admin</dc:creator>
  <dc:description/>
  <dc:language>en-US</dc:language>
  <cp:lastModifiedBy>Usha</cp:lastModifiedBy>
  <dcterms:modified xsi:type="dcterms:W3CDTF">2017-05-22T07:04:12Z</dcterms:modified>
  <cp:revision>74</cp:revision>
  <dc:subject/>
  <dc:title>Слайд 1</dc:title>
</cp:coreProperties>
</file>