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85A-C4C0-4051-84D2-01D608A8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44C-4369-472A-BB55-29AF5AEC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36F-B470-4E1A-BE12-172A6F4C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D6F-3A8D-47D4-8D37-4819CA75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17A47-D94B-4792-8FA9-81DDB49E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62C6E-8CC8-41E1-97A6-5A1C98CB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972E5-93AA-4821-9F89-7663F16D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5314C-FD85-4C83-9C9D-80AFB3F5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4EDB1-4BD4-4C9B-8C92-485FB4BA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E0813-15D2-460A-8C08-C85CC301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7F299-9370-4956-931B-4FA5CFF5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3C5-C3EF-485F-A82A-2C4D9511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D2326-1FC4-41AC-9C12-F8553F33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66FF5-0CE3-4982-8553-778395D1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12AF7-D72A-4D15-8CA4-1F49A5F6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6B6DB-4AC6-4D3B-A38B-3FA4811D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12470-F2EA-48F2-88F9-36CF40AA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2DB4-EC83-450D-8466-78F7DACF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9E2-6601-4B69-AE3D-387192CC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347-36DE-4462-9D1E-CE085FF6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9AB-8010-4250-8731-C7EC5E44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133-2002-49CD-B98F-B48650A7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34C-56CA-4FB6-A1E4-9090DE54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A20-AFF8-4BC0-B723-D80C326F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09B0-26D9-4B89-8330-01B5A8065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756C-18A8-4C13-977A-B2F3621192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250920" y="1877760"/>
            <a:ext cx="86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сочная терап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метод организации совместной деятельности детей и род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972440" y="260280"/>
            <a:ext cx="648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БДОУ №121 Выборгского района Санкт-Петербур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5219640" y="4437000"/>
            <a:ext cx="3673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спитатель ГБДОУ №1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апина Юлия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924360" y="623736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17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д тем, как начать играть с песком, необходимо проговорить с детьми правила игры в песочнице. В этом поможет стихотворение Т. М. Грабенко: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Вредных нет детей в стране —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Ведь не место им в песке!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Здесь нельзя кусаться, драться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И в глаза песком кидаться!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Стран чужих не разорять!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Песок — мирная страна.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Можно строить и чудить,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Можно много сотворить: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Горы, реки и моря,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Чтобы жизнь вокруг была.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Дети, поняли меня?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Или надо повторить?!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Чтоб запомнить и дружить!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859280" y="3429000"/>
            <a:ext cx="39243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гры с песко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Дорожки из песка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Чувствительные ладошки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Мой город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Чей это след?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Назови звук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Найди друга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Песочный дождик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Кто это был?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Какой звук лишний?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и друг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C:\Documents and Settings\Елена\Мои документы\песок\Изображение0002.JPG"/>
          <p:cNvPicPr/>
          <p:nvPr/>
        </p:nvPicPr>
        <p:blipFill>
          <a:blip r:embed="rId1"/>
          <a:srcRect l="32243" t="8285" r="13526" b="64699"/>
          <a:stretch/>
        </p:blipFill>
        <p:spPr>
          <a:xfrm>
            <a:off x="4859280" y="2565360"/>
            <a:ext cx="38070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Какие дети особенно нуждаются в этой игре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ти, имеющие сложности в психическом развитии, конфликты во взаимоотношениях, страхи и др. особенно нуждаются в Песочнице. Как показали исследования, Песочница обладает психотерапевтическим эффектом, помогая ребёнку избавиться от страхов, застенчивости, конфликтности в общении и многих других проб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8680" y="3645000"/>
            <a:ext cx="80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Какое влияние оказывает на ребёнка эта иг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43657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сочница не только развивает творческий потенциал ребёнка, активизирует пространственное воображение, образно-логическое мышление, тренирует мелкую моторику руки, но ненавязчиво, исподволь настраивает детей на постижение моральных истин добра и зла, строит гармоничный образ мира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Формы и варианты песочной терапии определяются особенностями конкретного ребенка, специфическими задачами работы и ее продолжительностью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628640" y="1638360"/>
            <a:ext cx="5886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гровые методы могут применяться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768240" y="4221000"/>
            <a:ext cx="6899400" cy="23036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3"/>
          <p:cNvSpPr/>
          <p:nvPr/>
        </p:nvSpPr>
        <p:spPr>
          <a:xfrm>
            <a:off x="250920" y="141300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 целью диагностики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 целью оказания первичной психологической помощи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в процессе краткосрочной психотерапии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в процессе долгосрочного психотерапевтического воздейств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39092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3e3ff"/>
                </a:solidFill>
                <a:uFillTx/>
                <a:latin typeface="Arial"/>
              </a:rPr>
              <a:t>Цель такой терапии - не менять и переделывать ребенка, не учить его каким-то специальным поведенческим навыкам, а дать возможность ребенку быть самим собой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Содержимое 3" descr="DSC09673.JPG"/>
          <p:cNvPicPr/>
          <p:nvPr/>
        </p:nvPicPr>
        <p:blipFill>
          <a:blip r:embed="rId1"/>
          <a:srcRect l="0" t="30008" r="0" b="0"/>
          <a:stretch/>
        </p:blipFill>
        <p:spPr>
          <a:xfrm>
            <a:off x="4638600" y="1700280"/>
            <a:ext cx="432612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6247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Дидактические игры 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   (этап прикосновений и игр на поверхности песка)</a:t>
            </a:r>
            <a:br>
              <a:rPr sz="3600"/>
            </a:br>
            <a:br>
              <a:rPr sz="3600"/>
            </a:br>
            <a:r>
              <a:rPr b="0" lang="en-US" sz="1800" spc="-1" strike="noStrike">
                <a:solidFill>
                  <a:srgbClr val="e3e3ff"/>
                </a:solidFill>
                <a:latin typeface="Arial"/>
              </a:rPr>
              <a:t>«</a:t>
            </a:r>
            <a:r>
              <a:rPr b="0" i="1" lang="en-US" sz="1800" spc="-1" strike="noStrike">
                <a:solidFill>
                  <a:srgbClr val="e3e3ff"/>
                </a:solidFill>
                <a:latin typeface="Arial"/>
              </a:rPr>
              <a:t>Песочный дождик»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Содержимое 13" descr="DSC09870.JPG"/>
          <p:cNvPicPr/>
          <p:nvPr/>
        </p:nvPicPr>
        <p:blipFill>
          <a:blip r:embed="rId1"/>
          <a:stretch/>
        </p:blipFill>
        <p:spPr>
          <a:xfrm>
            <a:off x="250920" y="2924280"/>
            <a:ext cx="4897440" cy="2879640"/>
          </a:xfrm>
          <a:prstGeom prst="rect">
            <a:avLst/>
          </a:prstGeom>
          <a:ln w="0">
            <a:noFill/>
          </a:ln>
        </p:spPr>
      </p:pic>
      <p:pic>
        <p:nvPicPr>
          <p:cNvPr id="161" name="Содержимое 4" descr="DSC09814.JPG"/>
          <p:cNvPicPr/>
          <p:nvPr/>
        </p:nvPicPr>
        <p:blipFill>
          <a:blip r:embed="rId2"/>
          <a:stretch/>
        </p:blipFill>
        <p:spPr>
          <a:xfrm>
            <a:off x="4500720" y="4005360"/>
            <a:ext cx="4392360" cy="2592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13800" y="335772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e3ff"/>
                </a:solidFill>
                <a:latin typeface="Arial"/>
              </a:rPr>
              <a:t>«</a:t>
            </a:r>
            <a:r>
              <a:rPr b="0" i="1" lang="en-US" sz="1800" spc="-1" strike="noStrike">
                <a:solidFill>
                  <a:srgbClr val="e3e3ff"/>
                </a:solidFill>
                <a:latin typeface="Arial"/>
              </a:rPr>
              <a:t>узоры на песке</a:t>
            </a:r>
            <a:r>
              <a:rPr b="0" lang="en-US" sz="1800" spc="-1" strike="noStrike">
                <a:solidFill>
                  <a:srgbClr val="e3e3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«рисунки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4" name="Содержимое 4" descr="DSC09700.JPG"/>
          <p:cNvPicPr/>
          <p:nvPr/>
        </p:nvPicPr>
        <p:blipFill>
          <a:blip r:embed="rId1"/>
          <a:stretch/>
        </p:blipFill>
        <p:spPr>
          <a:xfrm>
            <a:off x="0" y="1268280"/>
            <a:ext cx="4716360" cy="3240360"/>
          </a:xfrm>
          <a:prstGeom prst="rect">
            <a:avLst/>
          </a:prstGeom>
          <a:ln w="0">
            <a:noFill/>
          </a:ln>
        </p:spPr>
      </p:pic>
      <p:pic>
        <p:nvPicPr>
          <p:cNvPr id="165" name="Содержимое 5" descr="DSC09702.JPG"/>
          <p:cNvPicPr/>
          <p:nvPr/>
        </p:nvPicPr>
        <p:blipFill>
          <a:blip r:embed="rId2"/>
          <a:stretch/>
        </p:blipFill>
        <p:spPr>
          <a:xfrm>
            <a:off x="4788000" y="3071880"/>
            <a:ext cx="4127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6842160" cy="27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сихопрофилактические игры:                               «</a:t>
            </a:r>
            <a:r>
              <a:rPr b="0" i="1" lang="en-US" sz="4400" spc="-1" strike="noStrike">
                <a:solidFill>
                  <a:srgbClr val="e3e3ff"/>
                </a:solidFill>
                <a:latin typeface="Arial"/>
              </a:rPr>
              <a:t>ладони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»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7" name="Содержимое 4" descr="DSC09881.JPG"/>
          <p:cNvPicPr/>
          <p:nvPr/>
        </p:nvPicPr>
        <p:blipFill>
          <a:blip r:embed="rId1"/>
          <a:stretch/>
        </p:blipFill>
        <p:spPr>
          <a:xfrm>
            <a:off x="250920" y="3789360"/>
            <a:ext cx="3744720" cy="2822400"/>
          </a:xfrm>
          <a:prstGeom prst="rect">
            <a:avLst/>
          </a:prstGeom>
          <a:ln w="0">
            <a:noFill/>
          </a:ln>
        </p:spPr>
      </p:pic>
      <p:pic>
        <p:nvPicPr>
          <p:cNvPr id="168" name="Содержимое 3" descr="DSC09855.JPG"/>
          <p:cNvPicPr/>
          <p:nvPr/>
        </p:nvPicPr>
        <p:blipFill>
          <a:blip r:embed="rId2"/>
          <a:stretch/>
        </p:blipFill>
        <p:spPr>
          <a:xfrm>
            <a:off x="4500720" y="2708280"/>
            <a:ext cx="4643280" cy="2610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472000" y="5445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3e3ff"/>
                </a:solidFill>
                <a:latin typeface="Arial"/>
              </a:rPr>
              <a:t>«Ползут змей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«победитель злости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1" name="Содержимое 4" descr="DSC09788.JPG"/>
          <p:cNvPicPr/>
          <p:nvPr/>
        </p:nvPicPr>
        <p:blipFill>
          <a:blip r:embed="rId1"/>
          <a:stretch/>
        </p:blipFill>
        <p:spPr>
          <a:xfrm>
            <a:off x="0" y="1413000"/>
            <a:ext cx="4716360" cy="295272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5" descr="DSC09789.JPG"/>
          <p:cNvPicPr/>
          <p:nvPr/>
        </p:nvPicPr>
        <p:blipFill>
          <a:blip r:embed="rId2"/>
          <a:stretch/>
        </p:blipFill>
        <p:spPr>
          <a:xfrm>
            <a:off x="4859280" y="3857760"/>
            <a:ext cx="4056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0" y="32130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дея Песочницы великолепна, поскольку песок является тем удивительным природным материалом, который способен передать одновременно многое. И ощущение разнообразия природы, и ощущение возможностей своего тела, и сущности жизни вообще с её текучестью, неожиданностью, множеством форм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260280"/>
            <a:ext cx="622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ь ли такая детская игра, которая сможет гармонизировать картину мира, поставить заслон на пути жестокости, даст ощущение разнообразия природы, избавит от внутренних конфликтов и страхов, раскроет понятия добра и зл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ыт работы показал, что использование песочно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метод совместной работы с родителями дает положительные результаты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у детей значительно возрастает интерес к развивающим занятиям, логопедическим и психологическим занятиям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они чувствуют себя более успешными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на занятиях нет места монотонности и ску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роме того игры с песком могут быть и на свежем воздухе; на нашей детской площад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539640" y="473040"/>
            <a:ext cx="8280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бенок выстраивает мосты между внутренним и внешним мирами, однако каково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главное достоинство этой игры?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Главное достоинство Песочницы в том, что она позволяет ребёнку или целой группе детей реально создавать картину мира в живо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ёхмерном простран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4" descr="DSC09680.JPG"/>
          <p:cNvPicPr/>
          <p:nvPr/>
        </p:nvPicPr>
        <p:blipFill>
          <a:blip r:embed="rId1"/>
          <a:stretch/>
        </p:blipFill>
        <p:spPr>
          <a:xfrm>
            <a:off x="2484360" y="3429000"/>
            <a:ext cx="3581640" cy="3029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9640" y="27082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рапевтический эффект игры с песком  впервые был замечен швейцарским психологом и философом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рлом Густавом Юн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250920" y="819000"/>
            <a:ext cx="820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·  развивают тактильно-кинетическую чувствительность и мелкую моторику рук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·  снимают мышечную напряжённость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·  помогают ребёнку чувствовать себя защищённым, в комфортной для него сред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·  развивают активность, расширяют жизненный опыт, передаваемый педагогом в близкой для ребёнка форме (принцип доступности информаци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·  стабилизируют эмоциональные состояния, поглощая негативную энергию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·  позволяют ребёнку соотносить игры с реальной жизнью, осмыслить происходящее, найти способы решения проблемной ситуац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·  преодолевают комплекс «плохого художника», создавая художественные композиции из песка при помощи готовых фигурок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·  развивают творческие (креативные) действия, находят нестандартные решения, приводящие к успешному результату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47080" y="158760"/>
            <a:ext cx="25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гры с пес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395280" y="404640"/>
            <a:ext cx="853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·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вершенствуют зрительно-пространственную ориентировк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чевые возможн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 способствуют расширению словарного запа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 позволяют развивать фонематический слух и восприят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 способствуют развитию связной реч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ксико-грамматических представлен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 помогают в изучении букв, осво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выков чтения и пись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грать в песок можно не толь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улице – можно устро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ини-песочницу дом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детском  са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476360" y="139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щие условия организации песочной терапи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08800" y="692280"/>
            <a:ext cx="893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качестве песочницы используется больш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донепроницаемый ящ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адиционный его размер в сантиметрах для индивидуаль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боты 50 х 70 х 8 см, (где 50 х 70 — размер поля, а 8 — глубин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групповой работы рекомендуется использов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сочницу размером 100 х 140 х 8 с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C:\Documents and Settings\Елена\Мои документы\песочик\IMGP0464.JPG"/>
          <p:cNvPicPr/>
          <p:nvPr/>
        </p:nvPicPr>
        <p:blipFill>
          <a:blip r:embed="rId1"/>
          <a:srcRect l="18428" t="24577" r="21377" b="0"/>
          <a:stretch/>
        </p:blipFill>
        <p:spPr>
          <a:xfrm>
            <a:off x="395280" y="3068640"/>
            <a:ext cx="4105440" cy="3548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1\Desktop\img10.jpg"/>
          <p:cNvPicPr/>
          <p:nvPr/>
        </p:nvPicPr>
        <p:blipFill>
          <a:blip r:embed="rId2"/>
          <a:stretch/>
        </p:blipFill>
        <p:spPr>
          <a:xfrm>
            <a:off x="4788000" y="306864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тери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диционным и предпочтительным материалом является дерево. В практике работы с песком чаще используются пластиковые ящики, но в них песок не «дышит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в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диционная песочница сочетает естественный цвет дерева и голубой цвет. Дно и борта (за исключением верхней плоскости досок бортов) рекомендуется окрашивать в голубой цвет: дно символизирует воду, а борта — небо. Голубой цвет оказывает на человека умиротворяющее воздействие. Кроме того, наполненная песком «голубая» песочница являет собой миниатюрную модель нашей планеты. Можно экспериментировать и с разноцветными песочницами, когда дно и борта окрашиваются в один или несколько цве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сочница на одну треть или наполовину заполняется чистым (промытым и просеянным), прокаленным в духовом шкафу песком, который не реже одного раза в месяц необходимо менять или очищ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организации игр с песком необходим большой набор миниатюрных предметов и игрушек, в совокупности символизирующих ми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3716280"/>
            <a:ext cx="770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гурки – высотой не более 12 см по группам: транспорт, люди, животные, природный материал, жилища, деревья, сказочные герои, украшения, инструменты для работы с песком (лопаточки, совочки, палочки, кисти, сеялки и др.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07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Игра с песком - это отличный метод организации совместной деятельности </a:t>
            </a: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детей и родителей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351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местная деятельность может проходить на родительских собра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младших группах, родители рано забирающие детей, могут уделить игре немного време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таршем дошкольном возрасте родители могут не только предложить тему игры, но и  вместе с детьми сделать атрибуты к н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5:38:53Z</dcterms:created>
  <dc:creator>Admin</dc:creator>
  <dc:description/>
  <dc:language>en-US</dc:language>
  <cp:lastModifiedBy>Usha</cp:lastModifiedBy>
  <dcterms:modified xsi:type="dcterms:W3CDTF">2017-05-22T07:04:12Z</dcterms:modified>
  <cp:revision>74</cp:revision>
  <dc:subject/>
  <dc:title>Слайд 1</dc:title>
</cp:coreProperties>
</file>