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D5D-E17C-4900-838F-E8AA4CD5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B22-2ACF-41AA-BC0A-50F20DF8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246-2EBF-4926-80E9-B458C110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4A8-5A61-460D-84FB-6795478B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E131-4A29-4AB6-AED7-7145E584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481D-0A6D-4F27-B005-1CD5468A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3AD1-869A-46F7-B687-21471DF2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321F-31D4-440B-8235-9550BC3A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DBB4-E1E5-4321-9395-D2B6057E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FE3C-C56F-4CE5-91C0-AC3B64FD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7A86-D229-41CA-9F94-01D9391F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E6E-7E7D-4F1C-AFC2-1CD8AF71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C991-F9FE-4751-880E-2AFD446E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E816-38DC-4AE5-8C96-10E6D507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2AEC-982C-420E-963E-274E7F05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B423-822C-4214-9966-D8748FB5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A983-D5A6-42ED-B567-AC3BC2AB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F5756-DD59-44CD-A1C0-420529ED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5077-BDF6-4EE0-B85E-C6862439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74C53-C6D6-49AE-B990-7270109E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1725-FE5A-4443-B3CA-C509A7EF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6D80A-552E-4AF9-A830-FC68523E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AFF-B849-47E6-8136-77AFB0AE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2637-F23D-491A-B280-C814B592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38FF-80DE-48E0-8FD1-13354426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D786-6A6E-4E63-B307-C741DE59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B52B1-1289-4A13-A4BC-53DE0D68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6547D-1BB9-4FAF-8EF1-55C500E8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5DE5-A114-4458-B9DD-982441A8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AA4CE-872A-445B-97D0-052D4D98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28FF3-C4CE-4411-A579-031D1894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ECEC7-24EC-4D06-9C26-568E39E3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90A99-81E8-4853-B0F1-58CE34D1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61C-A0B6-47D2-8C8D-E0DCB72E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91427-0F56-4268-9826-3AE12E12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41973-1643-4974-A068-B8645E8A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70537-DCD8-4D93-8AF3-7307133A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5073-4783-4F7F-B946-4316109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D2CCE-0C68-4ED9-8029-56B60189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B5CC9-CA6B-462E-A186-3D4F9152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56D50-8B8E-4EC9-8173-8A72C686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8346E-8C1F-4B67-9502-F431F989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C5E9B-7568-40A4-B25F-CC156A1E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15272-9D8B-4832-AF0C-0F323CAC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29D-2976-4A16-8A0E-F77DFB47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2AAD3-029E-42FE-B8A0-0771C194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4B84E-DD03-4FCD-8D33-5300C960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B4B4B-B285-4C73-9367-9FDE9C52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4568-57C9-4561-897A-3FC0AAC0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6F7EC-AC17-47C6-8D51-FF5B8069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AF818-44A7-4E09-ADE7-869AA4E2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30B0D-CF28-4E02-BA44-868841F8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199BD-4156-4961-8BAA-D2F6E377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B00A2-1EAC-403A-AEC2-E22A5598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11E4C-8E86-4CF4-A49A-FBBC07B6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703-0DAA-487B-8982-BCCD05BB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19F85-062D-4BD0-8C88-2B7DB161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075E4-5115-4463-BDE4-2E718257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5345B-0806-41BB-B28F-C400508C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42A2B-880C-44B5-B952-4C8DE341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7862D-7146-4D0B-ACB8-CE5A2797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D7660-60FC-4141-B2D1-3F17CA0F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6AE51-E533-4AB8-A74E-D1268BAC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D676B-C441-4AA1-A93B-C09F58A0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D9715-A861-49BA-A777-572CCC21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668A3-0B37-4A07-993B-ED01D58D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EAC-71CF-4E6A-80C1-090053EE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44A26-8115-4EBE-A8D5-1632BAA8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4E3E4-1472-4D85-9938-E0A36CF4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D83B3-0579-45BB-A088-A724C808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5D638-5D92-4D9D-96C6-8786FE02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F6E98-1076-46C6-964B-88FFE35E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05040-17B8-4B10-8C8F-A6653A16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4E6E1-D164-4232-AE0A-7D099AC9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2A5BF-AEEF-4B60-A7FF-C972F95C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CE65B-CF8A-4F3C-A9E8-5CC10F1A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7E1CC-24CF-421E-B282-A622C64C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06F-61E3-4C84-9E4B-6EA8EB4A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1117F-EDF5-44DA-B111-CD44BC9E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9D630-7DFC-431D-846D-3A926763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95AA5-B3AB-495E-9DB9-C9F06766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31F63-6D63-4BF2-B810-7887D359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1C991-4A36-4B76-A9AE-16278212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BBC-2D34-4F42-A7DA-33C4876A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5205-8751-4F6B-A735-70FBDC67421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63AD-564F-45D7-B96A-52EC0D3CFC9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0CBB-1457-4B70-AB51-208B685C69D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1F79-70C6-4119-BB52-81FE11A0DA9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1B76-23F1-48B1-9DE2-D87B329941A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89D1-AE5F-42C7-8620-36FBF0F0AAB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758F-829A-4818-991F-E7723ABF3A5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matematika_carica_nauk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Предметно-поточное обучение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в начальной школе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73e87"/>
                </a:solidFill>
                <a:latin typeface="Candara"/>
              </a:rPr>
              <a:t>                     </a:t>
            </a:r>
            <a:r>
              <a:rPr b="1" lang="ru-RU" sz="3400" spc="-1" strike="noStrike">
                <a:solidFill>
                  <a:srgbClr val="073e87"/>
                </a:solidFill>
                <a:latin typeface="Candara"/>
              </a:rPr>
              <a:t>(ППО)      </a:t>
            </a:r>
            <a:r>
              <a:rPr b="1" lang="ru-RU" sz="3400" spc="-1" strike="noStrike">
                <a:solidFill>
                  <a:srgbClr val="073e87"/>
                </a:solidFill>
                <a:latin typeface="Arial"/>
              </a:rPr>
              <a:t>     </a:t>
            </a:r>
            <a:r>
              <a:rPr b="1" lang="ru-RU" sz="3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           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7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0" y="1484280"/>
          <a:ext cx="9144000" cy="48466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Обучающие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d078"/>
                      </a:solidFill>
                    </a:lnL>
                    <a:lnR>
                      <a:noFill/>
                    </a:lnR>
                    <a:lnT w="5760">
                      <a:solidFill>
                        <a:srgbClr val="5bd078"/>
                      </a:solidFill>
                    </a:lnT>
                    <a:lnB w="5760">
                      <a:solidFill>
                        <a:srgbClr val="5bd078"/>
                      </a:solidFill>
                    </a:lnB>
                    <a:solidFill>
                      <a:srgbClr val="5bd0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d078"/>
                      </a:solidFill>
                    </a:lnT>
                    <a:lnB w="5760">
                      <a:solidFill>
                        <a:srgbClr val="5bd078"/>
                      </a:solidFill>
                    </a:lnB>
                    <a:solidFill>
                      <a:srgbClr val="5bd0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едаг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bd078"/>
                      </a:solidFill>
                    </a:lnR>
                    <a:lnT w="5760">
                      <a:solidFill>
                        <a:srgbClr val="5bd078"/>
                      </a:solidFill>
                    </a:lnT>
                    <a:lnB w="5760">
                      <a:solidFill>
                        <a:srgbClr val="5bd078"/>
                      </a:solidFill>
                    </a:lnB>
                    <a:solidFill>
                      <a:srgbClr val="5bd078"/>
                    </a:solidFill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ие успев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Формирование устойчивого интереса к предмету, положительной мотивации к его изуч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довлетворенность результатами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владение способами самостоятельного освоения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омфортное нахождение в коллекти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d078"/>
                      </a:solidFill>
                    </a:lnL>
                    <a:lnR>
                      <a:noFill/>
                    </a:lnR>
                    <a:lnT w="5760">
                      <a:solidFill>
                        <a:srgbClr val="5bd078"/>
                      </a:solidFill>
                    </a:lnT>
                    <a:lnB w="5760">
                      <a:solidFill>
                        <a:srgbClr val="5bd078"/>
                      </a:solidFill>
                    </a:lnB>
                    <a:solidFill>
                      <a:srgbClr val="eaf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ие успев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тсутствие конфликтов с педагогом и разногласий с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бсуждение с детьми их дальнейшего образовательного маршру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d078"/>
                      </a:solidFill>
                    </a:lnT>
                    <a:lnB w="5760">
                      <a:solidFill>
                        <a:srgbClr val="5bd078"/>
                      </a:solidFill>
                    </a:lnB>
                    <a:solidFill>
                      <a:srgbClr val="eaf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ие успев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ие мотивации к предмету и к образовательному процессу в це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воение и внедрение активизирующих приемов и методов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спользование приемов индивидуальной развивающей и корректирующей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оздание единого банка КИМ для отслеживания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bd078"/>
                      </a:solidFill>
                    </a:lnR>
                    <a:lnT w="5760">
                      <a:solidFill>
                        <a:srgbClr val="5bd078"/>
                      </a:solidFill>
                    </a:lnT>
                    <a:lnB w="5760">
                      <a:solidFill>
                        <a:srgbClr val="5bd078"/>
                      </a:solidFill>
                    </a:lnB>
                    <a:solidFill>
                      <a:srgbClr val="eaf7ec"/>
                    </a:solidFill>
                  </a:tcPr>
                </a:tc>
              </a:tr>
            </a:tbl>
          </a:graphicData>
        </a:graphic>
      </p:graphicFrame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ndara"/>
              </a:rPr>
              <a:t>Ожидаемые результа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9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684000" y="1844640"/>
            <a:ext cx="8073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Поточное обучение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– это научно-обоснованная система педагогических, психологических, социальных мер по оказанию обучающимся личностно-ориентированной помощи в выявлении и развитии познавательных интересов, склонностей,  способностей  в выборе будущего профиля обучен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Что такое поточное обуч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8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Успешность любой деятельности, в том числе и учебной (поточное обучение),  складывается из трех основных компонентов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Candara"/>
              </a:rPr>
              <a:t>               </a:t>
            </a:r>
            <a:r>
              <a:rPr b="1" lang="ru-RU" sz="4800" spc="-1" strike="noStrike">
                <a:solidFill>
                  <a:srgbClr val="c00000"/>
                </a:solidFill>
                <a:latin typeface="Candara"/>
              </a:rPr>
              <a:t>Я МОГУ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1b6fd"/>
                </a:solidFill>
                <a:latin typeface="Candara"/>
              </a:rPr>
              <a:t>                         </a:t>
            </a:r>
            <a:r>
              <a:rPr b="1" lang="ru-RU" sz="5400" spc="-1" strike="noStrike">
                <a:solidFill>
                  <a:srgbClr val="c00000"/>
                </a:solidFill>
                <a:latin typeface="Candara"/>
              </a:rPr>
              <a:t>Я ХОЧ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У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1b6fd"/>
                </a:solidFill>
                <a:latin typeface="Candara"/>
              </a:rPr>
              <a:t>                             </a:t>
            </a:r>
            <a:r>
              <a:rPr b="1" lang="ru-RU" sz="4800" spc="-1" strike="noStrike">
                <a:solidFill>
                  <a:srgbClr val="c00000"/>
                </a:solidFill>
                <a:latin typeface="Candara"/>
              </a:rPr>
              <a:t>              </a:t>
            </a:r>
            <a:r>
              <a:rPr b="1" lang="ru-RU" sz="4800" spc="-1" strike="noStrike">
                <a:solidFill>
                  <a:srgbClr val="c00000"/>
                </a:solidFill>
                <a:latin typeface="Candara"/>
              </a:rPr>
              <a:t>Я УМЕЮ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Я хочу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о мотивация ребенка к выполнению деятельности, его желания, его интерес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Я умею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о сформированность основных учебных умений и навык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Я мог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о уровень интеллектуального развития ребенка, его познавательной сферы (памяти, внимания, мышления, восприятия, воображения, речи), способности к различным образовательным о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астям (физико-математической, гуманитарной, естественнонаучной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1471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Основные составляющие успех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9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Цель: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оказание квалифицированной помощи каждому ребенку в потоке, соответствующем его желаниям, возможностям, способностям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Поточное обучение. Основная цель деятельности психолого-педагогической служб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9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1042560" y="2349000"/>
            <a:ext cx="7705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Дифференцированный, индивидуальный подход  к обучающимся в зависимости от уровня сформированности их интересов, способностей, возможностей</a:t>
            </a: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Систематичность и преемственность работы со всеми субъектами образовательного процесса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Оптимальное сочетание индивидуальных и групповых форм работы со всеми субъектами образовательного процесса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Поточное обучение. </a:t>
            </a:r>
            <a:br>
              <a:rPr sz="3200"/>
            </a:b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Основные принципы работы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9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186920" y="1483920"/>
            <a:ext cx="732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Математические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пространственное восприятие и воображение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практическое математическое мышление, объем практических знаний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способность к систематизации материал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уровень логического мышления и воображ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перативная памя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Лингвистические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словарный запас, знание математической терминолог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понимать содержание прочитанного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грамотность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информированность, эрудиц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Основные критерии деления на потоки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ndara"/>
              </a:rPr>
              <a:t>Работа в потока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1619280" y="2565360"/>
            <a:ext cx="5689440" cy="86364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азовый уровень +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овыш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1619280" y="3645000"/>
            <a:ext cx="5689440" cy="8650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Баз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1619280" y="4797360"/>
            <a:ext cx="5689440" cy="86364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азовый уровень +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ликвидация пробелов в зн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1619280" y="1484280"/>
            <a:ext cx="5689440" cy="8650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овыш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7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700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+ Индивидуализация процесса обучен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+ Активное развитие самопознания, аналитического мышления ребёнк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+ Формирование позитивной  «Я-концепции» через создание ситуации успех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+Развитие коммуникативной компетентности ребён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- Родительские и детские стереотипы:  хочу в ту группу, в которой мой друг; там легче учиться. Мой ребенок должен учиться в «сильном» потоке; не хочу , чтобы мой ребенок обучался в общеобразовательном поток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оточное обучение: плюсы и минусы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1:01:15Z</dcterms:created>
  <dc:creator>Психолог</dc:creator>
  <dc:description/>
  <dc:language>en-US</dc:language>
  <cp:lastModifiedBy>Generalova</cp:lastModifiedBy>
  <dcterms:modified xsi:type="dcterms:W3CDTF">2017-05-11T12:20:18Z</dcterms:modified>
  <cp:revision>44</cp:revision>
  <dc:subject/>
  <dc:title>ИЗУЧЕНИЕ ГОТОВНОСТИ УЧАЩИХСЯ 7 КЛАССОВ К ПРОФИЛЬНОМУ ОБУЧЕНИЮ</dc:title>
</cp:coreProperties>
</file>