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103-731E-4B26-8055-5CB05BBC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60D-E75D-41A4-852B-C41B56E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413-5A76-4DA4-A76A-0B771BB1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FEC-1F5D-418E-844E-08342691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64E-FA4C-4F3D-86E4-C9944759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3E03-E928-41C7-BC95-8B572DD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735-CFBF-4410-9120-AE5933F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E7D-0792-4CE7-8C97-72AC205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0F5E-0F81-491F-B18D-EC5CA8A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27F-51B0-48EC-8135-382D997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E87-AE66-45E1-B83F-ED8FA81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929-E172-4620-B80D-344A40FE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18F-C8B9-4E3B-8F7C-98CF939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FF7D-75FA-4ED4-B64A-E3A1A43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90C4-61C2-4283-B066-B5C9C77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8EE0-5D88-4EC0-8357-35C73EF2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789-2896-4B24-92D5-9F8AAF4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CF43-1246-46FF-9929-9FF2DA9B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C21D-D50B-4ADA-B8D2-C123CD1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9BD1-5E88-435B-9DA7-0D81C33D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7B7A-9882-4EA3-A955-9E5DB6E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0A71-20FE-4325-9A74-E68E8AB0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7CF-18DC-4083-A17A-CAF562FB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DE7A-2BF4-43A6-9729-2B4BD2E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4EFA-5E15-4E09-905F-DCD1551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535E-DA01-4FB3-AB6B-7305E38E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A9B8-6B35-474F-8D86-9A91F3D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9009-7A31-4AFD-B269-1BEF948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2A3C-DA38-4BE3-A72C-81B8A3A2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B78D-90AA-4184-BDAF-D8E07655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020F-998F-4065-A174-532D2AF7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35B4-2B20-4E6C-832E-D1C221C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F4D8-ED3B-47E8-A1A6-817078C0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7FA-F341-408E-BE5D-929AF51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82E2-8F57-4CA9-91F8-9E366D2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AA8C-208E-44C4-8A5D-D397EEC5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AD4A-8606-414C-A367-579AC294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1BC0-CCE4-4EEB-B8CE-2B41101E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BFDA-3B28-41CF-95D7-39FA721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A30A-0A87-46AF-A8C6-49EB4FF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F52B-67B3-45C3-BE58-33D6989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E4BB-963A-4755-862C-1C48879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E6AC-59E6-48F9-8EC7-367E9A33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4DAF-2213-4ED4-8D16-A937882F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2E0-C4FC-43C3-AF33-09F93CA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A3D2B-7D89-45FC-BC35-7A48ED8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FBB8-7579-4838-8F40-9F28277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7C2A-B64E-472A-8BCA-AF87EAC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4BB7-2321-43FC-8BB3-A6DD42AA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2F74-E379-447C-95F2-3AD9490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9366-10B4-4ED7-AEFC-D331DF53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4092C-A3FF-4CA0-B824-50ABCAA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A11E-528D-45B3-9083-9170AC5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BA98-8067-45C5-9E19-519F97B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A991-7148-40AE-9EBB-E32E434B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5C6-4F4A-4D41-B60B-A837468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D2F2-5657-4BF9-A8E1-3541CD49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D238-597A-4D58-8801-7E43A04E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1A98-772A-4EFF-B098-C0314AA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2559-C88A-40C5-B76E-4E83E1D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872E3-6BC7-415A-95F4-44770DB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0D74-333B-4ED3-8DCE-B41AF4A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C104A-3409-4FD1-8443-0DFE9387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2DAF-CDE3-4782-86D9-03B640D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4227-720E-46F5-930B-395BC26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C1DC-40F5-418D-8482-38281A8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D00-1B80-45A4-A514-2D99E2D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6A5C-FD12-4F17-A3E2-2CDAB7E0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EAB5A-27BE-4393-8C34-8AC99A17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3301-6FF1-43FC-BD02-1907CAE2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C58D-CAC9-41D9-9596-965C20DC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77FE-A312-4E96-8D4F-6165B58F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136B-A69D-42DB-95E8-85CD209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793C-DF13-4875-A9F2-78F5B83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470D3-9765-494A-A571-1994FC48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1D2B-FBF8-4629-91B6-F9EB2886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118B-3087-4EA1-8790-3B308AF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5C1-ACD7-4544-9012-AF72BE82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5495-131E-42C5-801F-2527955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25D2-8A2F-45F0-9267-B9D2681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241D4-DF11-4D40-A53A-852D2E1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2DE5-3E0D-4C8D-855C-4E2071C1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4EB5-DCDA-409C-A122-63558322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A3A-1DBD-44A2-9A73-E21F3B6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CAA-4F1C-4AB3-BF93-E43025A693A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DA2-7BF9-4B8C-B809-725D9AA27C1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FCB-BEC5-4346-BC9E-18B9C822B78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654-71DD-4D74-AD43-483F3F2ABB2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98DD-DC32-405B-B2CC-94C038243C6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4FE-F544-4BD7-8EE8-BDC756227AF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A06-6F2E-45BA-8FDC-419420B24D8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matematika_carica_nauk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Предметно-поточное обучение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в начальной школ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(ППО)      </a:t>
            </a:r>
            <a:r>
              <a:rPr b="1" lang="ru-RU" sz="3400" spc="-1" strike="noStrike">
                <a:solidFill>
                  <a:srgbClr val="073e87"/>
                </a:solidFill>
                <a:latin typeface="Arial"/>
              </a:rPr>
              <a:t>     </a:t>
            </a:r>
            <a:r>
              <a:rPr b="1" lang="ru-RU" sz="3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1484280"/>
          <a:ext cx="9144000" cy="4846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Обуч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d078"/>
                      </a:solidFill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bd078"/>
                      </a:solidFill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5bd078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Формирование устойчивого интереса к предмету, положительной мотивации к его изу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довлетворенность результатами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владение способами самостоятельного осво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мфортное нахождение в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d078"/>
                      </a:solidFill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тсутствие конфликтов с педагогом и разногласий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бсуждение с детьми их дальнейшего образовательного маршру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ие мотивации к предмету и к образовательному процессу в це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воение и внедрение активизирующих приемов и методов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спользование приемов индивидуальной развивающей и корректирующе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оздание единого банка КИМ для отслеживания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bd078"/>
                      </a:solidFill>
                    </a:lnR>
                    <a:lnT w="5760">
                      <a:solidFill>
                        <a:srgbClr val="5bd078"/>
                      </a:solidFill>
                    </a:lnT>
                    <a:lnB w="5760">
                      <a:solidFill>
                        <a:srgbClr val="5bd078"/>
                      </a:solidFill>
                    </a:lnB>
                    <a:solidFill>
                      <a:srgbClr val="eaf7ec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684000" y="1844640"/>
            <a:ext cx="8073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Поточно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– это научно-обоснованная система педагогических, психологических, социальных мер по оказанию обучающимся личностно-ориентированной помощи в выявлении и развитии познавательных интересов, склонностей,  способностей  в выборе будущего профиля обуч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Что такое поточное обуч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спешность любой деятельности, в том числе и учебной (поточное обучение),  складывается из трех основных компонентов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Я МОГУ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b6fd"/>
                </a:solidFill>
                <a:latin typeface="Candara"/>
              </a:rPr>
              <a:t>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Candara"/>
              </a:rPr>
              <a:t>Я ХОЧ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b6fd"/>
                </a:solidFill>
                <a:latin typeface="Candara"/>
              </a:rPr>
              <a:t>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Я УМЕЮ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хочу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мотивация ребенка к выполнению деятельности, его желания, его интерес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уме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сформированность основных учебных умений и навы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 мог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уровень интеллектуального развития ребенка, его познавательной сферы (памяти, внимания, мышления, восприятия, воображения, речи), способности к различным образовательным 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астям (физико-математической, гуманитарной, естественнонаучной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Основные составляющие успех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Цель: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оказание квалифицированной помощи каждому ребенку в потоке, соответствующем его желаниям, возможностям, способностям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оточное обучение. Основная цель деятельности психолого-педагогической служб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042560" y="2349000"/>
            <a:ext cx="7705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Дифференцированный, индивидуальный подход  к обучающимся в зависимости от уровня сформированности их интересов, способностей, возможностей</a:t>
            </a: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Систематичность и преемственность работы со всеми субъектами образовательного процесс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Оптимальное сочетание индивидуальных и групповых форм работы со всеми субъектами образовательного процесс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оточное обучение. </a:t>
            </a:r>
            <a:br>
              <a:rPr sz="3200"/>
            </a:b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Основные принципы работы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86920" y="1483920"/>
            <a:ext cx="732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атематически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пространственное восприятие и воображени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практическое математическое мышление, объем практических знани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способность к систематизации материал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ровень логического мышления и воображ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еративная памя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Лингвистически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словарный запас, знание математической терминолог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понимать содержание прочитанного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грамотность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нформированность, эрудиц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Основные критерии деления на потоки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Работа в поток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1619280" y="2565360"/>
            <a:ext cx="5689440" cy="8636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азовый уровень +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выш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1619280" y="3645000"/>
            <a:ext cx="5689440" cy="865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1619280" y="4797360"/>
            <a:ext cx="5689440" cy="8636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азовый уровень +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ликвидация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1619280" y="1484280"/>
            <a:ext cx="5689440" cy="865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овыш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Картинки по запросу фоны для презентаций школа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Индивидуализация процесса обуч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Активное развитие самопознания, аналитического мышления ребёнк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 Формирование позитивной  «Я-концепции» через создание ситуации успех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+Развитие коммуникативной компетентности ребён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 Родительские и детские стереотипы:  хочу в ту группу, в которой мой друг; там легче учиться. Мой ребенок должен учиться в «сильном» потоке; не хочу , чтобы мой ребенок обучался в общеобразовательном поток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оточное обучение: плюсы и минусы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01:15Z</dcterms:created>
  <dc:creator>Психолог</dc:creator>
  <dc:description/>
  <dc:language>en-US</dc:language>
  <cp:lastModifiedBy>Generalova</cp:lastModifiedBy>
  <dcterms:modified xsi:type="dcterms:W3CDTF">2017-05-11T12:20:18Z</dcterms:modified>
  <cp:revision>44</cp:revision>
  <dc:subject/>
  <dc:title>ИЗУЧЕНИЕ ГОТОВНОСТИ УЧАЩИХСЯ 7 КЛАССОВ К ПРОФИЛЬНОМУ ОБУЧЕНИЮ</dc:title>
</cp:coreProperties>
</file>