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7E1-9CA9-4541-BB95-ED651209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294-F75E-4BAC-BFAC-8E90C0D7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084-8477-4A50-BB0B-959C7C4C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597-E5B7-4D17-9235-7191794F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0F0F-8C47-4AC8-AA92-C959294B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4189-7EF7-4F22-99CC-A2178051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5379-93AE-4B31-B54F-225B7ABC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63F4-4891-45CB-B58D-FBF168F2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2A12-4D45-4148-B71A-F7F63D21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DAA4-5DC0-4C59-888A-0DDF676C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698D-7405-4862-B7D4-72D47C81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84D-A6B2-4D31-8FB0-37FC4FB1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4B94-FABC-4571-BC1A-7CAEF2CE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9CFB-C982-4CBE-AC66-ABB78E38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52CA-A6B6-4C69-8FCA-953FA6C4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2770-CE81-479E-B080-5C6901CF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3325-CF4A-4320-AEB1-4002B8FA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177-DBF6-404F-B7F4-1296C1DD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C9B-914C-45C4-8AE2-0404B8FA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F23-23E5-47EA-B50B-759ACF9A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AC1-50F3-46C1-9939-9C42223C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D8E-2337-4CD1-AA3E-14898017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D3B-76B8-46E9-B298-E6AE9B4C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180-9577-4CAA-ABB7-4C184181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D21B-02F8-43B3-BCB1-FC7E37F5DF4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3F23-A964-46CB-A629-75CEDF93359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Влияние насилия на     личностное развитие ребенка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атели 8-9 к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3" descr=""/>
          <p:cNvPicPr/>
          <p:nvPr/>
        </p:nvPicPr>
        <p:blipFill>
          <a:blip r:embed="rId2"/>
          <a:stretch/>
        </p:blipFill>
        <p:spPr>
          <a:xfrm>
            <a:off x="406440" y="1549440"/>
            <a:ext cx="83311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Диаграмма 4" descr=""/>
          <p:cNvPicPr/>
          <p:nvPr/>
        </p:nvPicPr>
        <p:blipFill>
          <a:blip r:embed="rId1"/>
          <a:stretch/>
        </p:blipFill>
        <p:spPr>
          <a:xfrm>
            <a:off x="-355680" y="-507960"/>
            <a:ext cx="9779040" cy="7416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3666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3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Диаграмма 5" descr=""/>
          <p:cNvPicPr/>
          <p:nvPr/>
        </p:nvPicPr>
        <p:blipFill>
          <a:blip r:embed="rId2"/>
          <a:stretch/>
        </p:blipFill>
        <p:spPr>
          <a:xfrm>
            <a:off x="-50760" y="1549440"/>
            <a:ext cx="9245520" cy="53593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0" y="536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0" name="Диаграмма 2" descr=""/>
          <p:cNvPicPr/>
          <p:nvPr/>
        </p:nvPicPr>
        <p:blipFill>
          <a:blip r:embed="rId2"/>
          <a:stretch/>
        </p:blipFill>
        <p:spPr>
          <a:xfrm>
            <a:off x="-203040" y="1882800"/>
            <a:ext cx="93978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5" descr="i?id=6509f91a6054646bb92bda2779998e44&amp;n=33&amp;h=215&amp;w=287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5" descr="img2"/>
          <p:cNvPicPr/>
          <p:nvPr/>
        </p:nvPicPr>
        <p:blipFill>
          <a:blip r:embed="rId1"/>
          <a:srcRect l="0" t="0" r="0" b="525"/>
          <a:stretch/>
        </p:blipFill>
        <p:spPr>
          <a:xfrm>
            <a:off x="-228600" y="0"/>
            <a:ext cx="998208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5" descr="i?id=f16470c39e7548e3a35256ad82326dec-l&amp;n=13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:\slide_1.jpg"/>
          <p:cNvPicPr/>
          <p:nvPr/>
        </p:nvPicPr>
        <p:blipFill>
          <a:blip r:embed="rId1"/>
          <a:stretch/>
        </p:blipFill>
        <p:spPr>
          <a:xfrm>
            <a:off x="-2644920" y="0"/>
            <a:ext cx="13792320" cy="98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E:\img9 (1)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E:\i (1)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E:\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5280" y="0"/>
            <a:ext cx="9018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5" descr="i?id=f3faea5408feb2c7596099c1658f793f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8" name="Объект 3" descr=""/>
          <p:cNvPicPr/>
          <p:nvPr/>
        </p:nvPicPr>
        <p:blipFill>
          <a:blip r:embed="rId2"/>
          <a:stretch/>
        </p:blipFill>
        <p:spPr>
          <a:xfrm>
            <a:off x="406440" y="1549440"/>
            <a:ext cx="83311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гдан</cp:lastModifiedBy>
  <dcterms:modified xsi:type="dcterms:W3CDTF">2017-05-22T08:48:4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