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906-071F-4C38-9CAA-10B83DEC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E70-6FB2-43CB-81DC-EC0ABF8B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68A-C124-4F15-AEF1-F554AB92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1EDD-F8DF-4CE8-8116-961D8FBA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14E6-395C-424A-8F2E-4F134277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467E-0F92-4BD3-9A9D-89EC20E3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98C8-B7FF-4CA4-B851-7F923652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CE30-C8D7-459A-AEAC-72721234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8026-087A-4693-920E-A323E837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B69D-7B45-4872-A752-DB1215B1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861D-5122-4691-8A23-D2C6294C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1B7-4185-4FB6-8368-B4D454F4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4C2E-38C4-426C-BE57-0A80CA10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DF26-6573-4794-B698-8DB72469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94AC-1C9C-41CD-A7D1-098401C4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57F9-1130-4A36-9CF0-C75D99E5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C412-7B69-4C09-B7BE-8FD00D74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FED-3621-4785-960D-47C0A667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840-DE55-40AC-8A3E-9E5387BD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21E-EA6F-4EDC-8433-A5615414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08E-0AC7-4D14-A7DA-AC62E061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5242-B2E7-48CA-8B11-7929C9A6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AA1-E2CC-418E-8ABF-79D996A1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D81-6343-4DAF-9C45-DB726398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A5A7-5011-44AF-B4DC-15DAEB9D3FD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8DE0-B966-4EB9-95A0-4826C737637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Влияние насилия на     личностное развитие ребенка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итатели 8-9 к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Объект 3" descr=""/>
          <p:cNvPicPr/>
          <p:nvPr/>
        </p:nvPicPr>
        <p:blipFill>
          <a:blip r:embed="rId2"/>
          <a:stretch/>
        </p:blipFill>
        <p:spPr>
          <a:xfrm>
            <a:off x="406440" y="1549440"/>
            <a:ext cx="83311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Диаграмма 4" descr=""/>
          <p:cNvPicPr/>
          <p:nvPr/>
        </p:nvPicPr>
        <p:blipFill>
          <a:blip r:embed="rId1"/>
          <a:stretch/>
        </p:blipFill>
        <p:spPr>
          <a:xfrm>
            <a:off x="-355680" y="-507960"/>
            <a:ext cx="9779040" cy="74167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3666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3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Диаграмма 5" descr=""/>
          <p:cNvPicPr/>
          <p:nvPr/>
        </p:nvPicPr>
        <p:blipFill>
          <a:blip r:embed="rId2"/>
          <a:stretch/>
        </p:blipFill>
        <p:spPr>
          <a:xfrm>
            <a:off x="-50760" y="1549440"/>
            <a:ext cx="9245520" cy="53593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0" y="536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0" name="Диаграмма 2" descr=""/>
          <p:cNvPicPr/>
          <p:nvPr/>
        </p:nvPicPr>
        <p:blipFill>
          <a:blip r:embed="rId2"/>
          <a:stretch/>
        </p:blipFill>
        <p:spPr>
          <a:xfrm>
            <a:off x="-203040" y="1882800"/>
            <a:ext cx="93978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5" descr="i?id=6509f91a6054646bb92bda2779998e44&amp;n=33&amp;h=215&amp;w=287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5" descr="img2"/>
          <p:cNvPicPr/>
          <p:nvPr/>
        </p:nvPicPr>
        <p:blipFill>
          <a:blip r:embed="rId1"/>
          <a:srcRect l="0" t="0" r="0" b="525"/>
          <a:stretch/>
        </p:blipFill>
        <p:spPr>
          <a:xfrm>
            <a:off x="-228600" y="0"/>
            <a:ext cx="998208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5" descr="i?id=f16470c39e7548e3a35256ad82326dec-l&amp;n=13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:\slide_1.jpg"/>
          <p:cNvPicPr/>
          <p:nvPr/>
        </p:nvPicPr>
        <p:blipFill>
          <a:blip r:embed="rId1"/>
          <a:stretch/>
        </p:blipFill>
        <p:spPr>
          <a:xfrm>
            <a:off x="-2644920" y="0"/>
            <a:ext cx="13792320" cy="98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E:\img9 (1)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E:\i (1)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E:\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5280" y="0"/>
            <a:ext cx="9018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5" descr="i?id=f3faea5408feb2c7596099c1658f793f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8" name="Объект 3" descr=""/>
          <p:cNvPicPr/>
          <p:nvPr/>
        </p:nvPicPr>
        <p:blipFill>
          <a:blip r:embed="rId2"/>
          <a:stretch/>
        </p:blipFill>
        <p:spPr>
          <a:xfrm>
            <a:off x="406440" y="1549440"/>
            <a:ext cx="83311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гдан</cp:lastModifiedBy>
  <dcterms:modified xsi:type="dcterms:W3CDTF">2017-05-22T08:48:4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