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ACF-F850-410F-9C7F-6F70EBC4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7BF-9B6A-479E-AEDE-3714A2EA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B21-97AA-49D7-B951-F96F44D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B5D-FB31-4521-BCEC-25331846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E2A1-03F4-442A-BD79-0E16B26D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BEE-F387-47E6-B071-B93D16EA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B290-E8D4-4312-8541-3EE4F914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DAB6-EF91-4100-8392-9C4DE01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E29F-08AD-4FFD-B21B-DB85878F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548D-E769-4B88-91B2-E3A7574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08F5-D0C7-451D-95E6-34B4794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35D-A1BB-402C-81FF-CA91201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2AD0-1CBF-4225-8317-4BC2FBB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BBC-7A99-41D0-836B-2C38334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9BBD-5FD8-4EF9-AFFC-BA5BCF5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9DB4-5833-4534-BBCB-20D3F696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28B-1C85-474A-91B7-7B24E8F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ED2-AC5A-42CB-935A-3615D8D6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DFB-F711-4272-909C-27D041C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296-E44C-473C-8EC6-5E9F3E0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E8F-5B09-4BEC-B747-B9111BA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3E1-5428-44F2-B5B2-A7929BD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FEC-6EFB-4E84-BFA0-A99693C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DFF-2D4E-4204-B2CF-BAEDE57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27A-DB0E-460F-A863-B99294289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4C3-D8D8-4359-983D-3BA963259F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i="1" lang="ru-RU" sz="6000" spc="-1" strike="noStrike">
                <a:solidFill>
                  <a:srgbClr val="ffff00"/>
                </a:solidFill>
                <a:latin typeface="Arial"/>
              </a:rPr>
              <a:t>мекалка, терпение, эгоизм, аккуратность, лень, трудолюбие, оптим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ff"/>
                </a:solidFill>
                <a:latin typeface="Arial"/>
              </a:rPr>
              <a:t>Алгоритм написания окончания </a:t>
            </a:r>
            <a:br>
              <a:rPr sz="3200"/>
            </a:br>
            <a:r>
              <a:rPr b="0" i="1" lang="ru-RU" sz="3200" spc="-1" strike="noStrike">
                <a:solidFill>
                  <a:srgbClr val="ff66ff"/>
                </a:solidFill>
                <a:latin typeface="Arial"/>
              </a:rPr>
              <a:t>имени прилагательного: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1. Нахожу прилагательное.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2. Нахожу существительное,                                       с которым связано прилагательное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Определяю род существительного, значит, в этом же роде употреблено             и прилагательно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4. Задаю вопрос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определяю окончание прилагательного и пишу его правильн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112536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69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кончания прилагательных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в ед. числе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. р. (как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ы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и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ж. р. (как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ср. р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е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яя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й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ый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Наступил весен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день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Светит ярк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солнце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Слышна весёл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ий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е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ая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3053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7777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1) весенние     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2) весенняя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3) весеннее    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 4) весенний</a:t>
            </a:r>
            <a:br>
              <a:rPr sz="54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236000" y="4869000"/>
            <a:ext cx="148572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весенний  ……. 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  весенняя   …….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весеннее утро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  весенние   ……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шистые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пахучи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ароматны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ховиты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хмяны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молой запахли душистые поч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08464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i="1" lang="ru-RU" sz="6000" spc="-1" strike="noStrike">
                <a:solidFill>
                  <a:srgbClr val="ffff00"/>
                </a:solidFill>
                <a:latin typeface="Arial"/>
              </a:rPr>
              <a:t>мекалка, терпение,  аккуратность,  трудолюбие, оптим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мышиный</a:t>
            </a:r>
            <a:br>
              <a:rPr sz="6000"/>
            </a:b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свинцовый</a:t>
            </a:r>
            <a:br>
              <a:rPr sz="6000"/>
            </a:b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пепельный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16436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лимонный, золотой, песочный, канареечный, янтарный, соломенный, 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шафрановый или шафранны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80360" y="508464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Критерии для оцен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сё верно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дна ошибка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ве ошибки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ри ошибки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08720" y="479736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.Ф.Юон «Мартовское солнце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&amp;Kcy;&amp;acy;&amp;rcy;&amp;tcy;&amp;icy;&amp;ncy;&amp;acy; &amp;YUcy;&amp;ocy;&amp;ncy;&amp;acy; &amp;Mcy;&amp;acy;&amp;rcy;&amp;tcy;&amp;ocy;&amp;vcy;&amp;scy;&amp;kcy;&amp;ocy;&amp;iecy; &amp;scy;&amp;ocy;&amp;lcy;&amp;ncy;&amp;tscy;&amp;iecy;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И.И.Левитан «Весна. Большая вода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80564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Г.А.Травников «Майский лес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http://www.travnikov.ru/al-lesm/les-m05.jpg"/>
          <p:cNvPicPr/>
          <p:nvPr/>
        </p:nvPicPr>
        <p:blipFill>
          <a:blip r:embed="rId1"/>
          <a:stretch/>
        </p:blipFill>
        <p:spPr>
          <a:xfrm>
            <a:off x="1476360" y="1341360"/>
            <a:ext cx="65232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кончания прилагательных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. р. (как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ы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и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ж. р. (как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ср. р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е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236000" y="51577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Цели урока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Повторить алгоритм написания окончания имени прилагательного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 Научиться правильно писать окончания прилагательных                        с использованием алгоритм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Оценить свою работу на уроке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80360" y="189000"/>
            <a:ext cx="148572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739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1. Написать мини-сочинение                о весне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(5-6 предложений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пользуя прилагательные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. Определить род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мен прилагательн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24720" y="501336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Спасибо за урок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4941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29440" cy="5091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воробе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19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воро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19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ро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лове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яя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й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ый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476280"/>
            <a:ext cx="821844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Тема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: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Изменение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мён прилагательных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о родам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4941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Цели урока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Повторить алгоритм написания окончания имени прилагательного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 Научиться правильно писать окончания прилагательных                        с использованием алгоритм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Оценить свою работу на уроке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9:56:54Z</dcterms:created>
  <dc:creator>Admin</dc:creator>
  <dc:description/>
  <dc:language>en-US</dc:language>
  <cp:lastModifiedBy>Admin</cp:lastModifiedBy>
  <dcterms:modified xsi:type="dcterms:W3CDTF">2017-05-22T17:13:47Z</dcterms:modified>
  <cp:revision>34</cp:revision>
  <dc:subject/>
  <dc:title>Окончания  имён прилагательных мужского, женского  и среднего рода  в единственном числе</dc:title>
</cp:coreProperties>
</file>