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266-D836-41B8-AB5E-5C94E53E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97A-E458-4655-BEAF-EF0EA84B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3F3-7D0F-42E5-8FEC-5BD1C7FF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C30-4C45-4D26-BB5F-74675770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12D-282D-4CED-BC8A-75BA7816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A97-C4F6-4E00-BDD7-A9A20C0A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DA4-581A-4FFB-9AE5-ABAE424A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592-4876-41FF-99A5-A535B92A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510-0EBD-40CB-B8C1-B2AA6537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729-5FC0-4CB6-AF56-FC7109E0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658-DE25-4BA8-B0F5-977EBA09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9DF8-9647-454B-BA9C-AED8643C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CE5F-86F1-467C-8C13-79E1432C2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B1B4-E2AA-4CC2-9951-18DF77C4E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298600" y="1714680"/>
            <a:ext cx="4545000" cy="3429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имвол России-берез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60080" y="4648320"/>
            <a:ext cx="67820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полнил: Гуренкова В.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БДОУ «Детский сад №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мбинированного ви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рода Владимир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339F-B795-4B52-A7F7-AEF154E1E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1523880" y="-5868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ереза - символ праздника Святой Тро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Users\asus\Desktop\Хоровод-вокруг-березки.jpg"/>
          <p:cNvPicPr/>
          <p:nvPr/>
        </p:nvPicPr>
        <p:blipFill>
          <a:blip r:embed="rId2"/>
          <a:stretch/>
        </p:blipFill>
        <p:spPr>
          <a:xfrm>
            <a:off x="1042920" y="1413000"/>
            <a:ext cx="7058160" cy="529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43A8-0D67-4059-B542-FD32F78749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"/>
          <p:cNvPicPr/>
          <p:nvPr/>
        </p:nvPicPr>
        <p:blipFill>
          <a:blip r:embed="rId2"/>
          <a:stretch/>
        </p:blipFill>
        <p:spPr>
          <a:xfrm>
            <a:off x="-27000" y="-39600"/>
            <a:ext cx="9134640" cy="68976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2514600" y="403848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ет дерева сердцу ми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 сколько задумчивых пе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ется в народе о не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н делит с ней радость и слез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 так уж она хорош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кажется- в шуме бер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Есть русская наша ду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.Рождестве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DC89-A0A4-488D-952A-570AA7DB55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98600" y="1714680"/>
            <a:ext cx="4545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990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E863-50BF-46F6-A0EE-C4BEE9E6A6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298600" y="1714680"/>
            <a:ext cx="4545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2195640" y="15228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гадки о берез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1676520" y="1447920"/>
            <a:ext cx="5041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Алёнка: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ок зелёный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стан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лый сарафан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рез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отясь о погод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рафане белом ходи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один из тёплых дн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 серёжки дарит 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рез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CEE1-C0F3-471E-9A91-E07323B1A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298600" y="1714680"/>
            <a:ext cx="45450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2320920" y="228600"/>
            <a:ext cx="597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словицы и погово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457200" y="1981080"/>
            <a:ext cx="8381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ерёза ума даёт (имеются ввиду берёзовые розги).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ерёзового сока на грош, а лесу на рубль изведёшь.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ела берёза, да деготь черен.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ела берёста – да дёготь чёрен.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ерёзой обогреешься, а не оденешься.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дубняк, так и берёзняк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A4F8-8138-4271-B2BE-5AD75E6AD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IMG_2725"/>
          <p:cNvPicPr/>
          <p:nvPr/>
        </p:nvPicPr>
        <p:blipFill>
          <a:blip r:embed="rId2"/>
          <a:stretch/>
        </p:blipFill>
        <p:spPr>
          <a:xfrm>
            <a:off x="609480" y="14479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IMG_2747"/>
          <p:cNvPicPr/>
          <p:nvPr/>
        </p:nvPicPr>
        <p:blipFill>
          <a:blip r:embed="rId3"/>
          <a:stretch/>
        </p:blipFill>
        <p:spPr>
          <a:xfrm>
            <a:off x="5257800" y="13716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MG_2736"/>
          <p:cNvPicPr/>
          <p:nvPr/>
        </p:nvPicPr>
        <p:blipFill>
          <a:blip r:embed="rId4"/>
          <a:stretch/>
        </p:blipFill>
        <p:spPr>
          <a:xfrm>
            <a:off x="2971800" y="403848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1676520" y="304920"/>
            <a:ext cx="637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исуем пеной, гратта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6627-B3B4-4632-89AD-DEE4A8FD9D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IMG_2746"/>
          <p:cNvPicPr/>
          <p:nvPr/>
        </p:nvPicPr>
        <p:blipFill>
          <a:blip r:embed="rId2"/>
          <a:stretch/>
        </p:blipFill>
        <p:spPr>
          <a:xfrm>
            <a:off x="1066680" y="14479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IMG_2743"/>
          <p:cNvPicPr/>
          <p:nvPr/>
        </p:nvPicPr>
        <p:blipFill>
          <a:blip r:embed="rId3"/>
          <a:stretch/>
        </p:blipFill>
        <p:spPr>
          <a:xfrm>
            <a:off x="5257800" y="13716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IMG_2742"/>
          <p:cNvPicPr/>
          <p:nvPr/>
        </p:nvPicPr>
        <p:blipFill>
          <a:blip r:embed="rId4"/>
          <a:stretch/>
        </p:blipFill>
        <p:spPr>
          <a:xfrm>
            <a:off x="3200400" y="403848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2362320" y="228600"/>
            <a:ext cx="497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гры с берез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F603-9907-4604-AFC7-2504CC67C1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IMG_2757"/>
          <p:cNvPicPr/>
          <p:nvPr/>
        </p:nvPicPr>
        <p:blipFill>
          <a:blip r:embed="rId2"/>
          <a:stretch/>
        </p:blipFill>
        <p:spPr>
          <a:xfrm>
            <a:off x="493560" y="1986120"/>
            <a:ext cx="4078440" cy="3058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IMG_2755"/>
          <p:cNvPicPr/>
          <p:nvPr/>
        </p:nvPicPr>
        <p:blipFill>
          <a:blip r:embed="rId3"/>
          <a:stretch/>
        </p:blipFill>
        <p:spPr>
          <a:xfrm>
            <a:off x="4724280" y="1986120"/>
            <a:ext cx="4078440" cy="3058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1066680" y="22860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исование восковыми мел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C8B9-090D-4D81-B340-A5D58A252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2840" y="-87480"/>
            <a:ext cx="9144000" cy="6897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IMG_2772"/>
          <p:cNvPicPr/>
          <p:nvPr/>
        </p:nvPicPr>
        <p:blipFill>
          <a:blip r:embed="rId2"/>
          <a:stretch/>
        </p:blipFill>
        <p:spPr>
          <a:xfrm>
            <a:off x="2286000" y="4124160"/>
            <a:ext cx="4597560" cy="2686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IMG_2729"/>
          <p:cNvPicPr/>
          <p:nvPr/>
        </p:nvPicPr>
        <p:blipFill>
          <a:blip r:embed="rId3"/>
          <a:stretch/>
        </p:blipFill>
        <p:spPr>
          <a:xfrm>
            <a:off x="2286000" y="1295280"/>
            <a:ext cx="4597560" cy="2724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2590920" y="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пплик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D940-0458-4F88-B536-11AE12905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298600" y="1714680"/>
            <a:ext cx="4545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990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" descr=""/>
          <p:cNvPicPr/>
          <p:nvPr/>
        </p:nvPicPr>
        <p:blipFill>
          <a:blip r:embed="rId3"/>
          <a:stretch/>
        </p:blipFill>
        <p:spPr>
          <a:xfrm>
            <a:off x="457200" y="14479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" descr=""/>
          <p:cNvPicPr/>
          <p:nvPr/>
        </p:nvPicPr>
        <p:blipFill>
          <a:blip r:embed="rId4"/>
          <a:stretch/>
        </p:blipFill>
        <p:spPr>
          <a:xfrm>
            <a:off x="5486400" y="14479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"/>
          <p:cNvPicPr/>
          <p:nvPr/>
        </p:nvPicPr>
        <p:blipFill>
          <a:blip r:embed="rId5"/>
          <a:stretch/>
        </p:blipFill>
        <p:spPr>
          <a:xfrm>
            <a:off x="2944800" y="419112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2298600" y="15228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мешанная тех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</dc:creator>
  <dc:description/>
  <dc:language>en-US</dc:language>
  <cp:lastModifiedBy>Рома</cp:lastModifiedBy>
  <dcterms:modified xsi:type="dcterms:W3CDTF">2017-05-22T15:58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