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866-7A4F-465E-94D3-617D1312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40B-B197-48E4-A59D-E32484B9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D1C-5E5B-4405-BA1A-F06CF97A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E0E-4EEB-4C30-893E-1DA81BCE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BEB-4996-417E-8BA5-7EB7D39F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1F7-6DBA-48AF-9003-28C665D8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0DF-D847-4108-8F93-5CE0FB38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70E-0204-4F31-8139-3BCAACD4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AED-1285-4884-AFB1-D1C27D69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C40-B984-4387-BF9E-B9CB0693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142-FB1E-42F9-8836-7F870B6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93B-5E38-411F-AC5A-6E5D904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A561-5C9E-4EC1-846D-096A8C8BF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DDDD-20F1-4B8E-AC14-C889A11A8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мвол России-бере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60080" y="4648320"/>
            <a:ext cx="6782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полнил: Гуренкова В.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БДОУ «Детский сад №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мбинированного ви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рода Владими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6A72-53D8-4DEF-8CBD-8D408C198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1523880" y="-586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реза - символ праздника Святой Тро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Users\asus\Desktop\Хоровод-вокруг-березки.jpg"/>
          <p:cNvPicPr/>
          <p:nvPr/>
        </p:nvPicPr>
        <p:blipFill>
          <a:blip r:embed="rId2"/>
          <a:stretch/>
        </p:blipFill>
        <p:spPr>
          <a:xfrm>
            <a:off x="1042920" y="1413000"/>
            <a:ext cx="7058160" cy="52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7659-68E9-464E-B428-43BCD8E3E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2"/>
          <a:stretch/>
        </p:blipFill>
        <p:spPr>
          <a:xfrm>
            <a:off x="-27000" y="-39600"/>
            <a:ext cx="9134640" cy="68976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514600" y="40384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т дерева сердцу ми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 сколько задумчивых п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ется в народе о н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н делит с ней радость и слез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 так уж она хорош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кажется- в шуме бе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Есть русская наша ду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.Рождеств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72F3-704B-4507-8D16-B0B564EBC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D100-AE59-4BE0-9C68-AFAA6F0AD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195640" y="15228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гадки о бере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676520" y="1447920"/>
            <a:ext cx="504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Алёнка: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к зелёный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стан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лый сарафа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ре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отясь о погод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рафане белом ходи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один из тёплых д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 серёжки дарит 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ре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F92A-3DC8-4608-B55F-800C5418D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2320920" y="228600"/>
            <a:ext cx="597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словицы и п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457200" y="1981080"/>
            <a:ext cx="838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рёза ума даёт (имеются ввиду берёзовые розги)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рёзового сока на грош, а лесу на рубль изведёшь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ла берёза, да деготь черен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ла берёста – да дёготь чёрен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рёзой обогреешься, а не оденешься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дубняк, так и берёзня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7B65-93AB-4C12-A359-F1356C3B1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MG_2725"/>
          <p:cNvPicPr/>
          <p:nvPr/>
        </p:nvPicPr>
        <p:blipFill>
          <a:blip r:embed="rId2"/>
          <a:stretch/>
        </p:blipFill>
        <p:spPr>
          <a:xfrm>
            <a:off x="60948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IMG_2747"/>
          <p:cNvPicPr/>
          <p:nvPr/>
        </p:nvPicPr>
        <p:blipFill>
          <a:blip r:embed="rId3"/>
          <a:stretch/>
        </p:blipFill>
        <p:spPr>
          <a:xfrm>
            <a:off x="5257800" y="13716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MG_2736"/>
          <p:cNvPicPr/>
          <p:nvPr/>
        </p:nvPicPr>
        <p:blipFill>
          <a:blip r:embed="rId4"/>
          <a:stretch/>
        </p:blipFill>
        <p:spPr>
          <a:xfrm>
            <a:off x="2971800" y="40384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676520" y="304920"/>
            <a:ext cx="637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исуем пеной, гратта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C006-C4B5-42A9-AEAA-FDE133E37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IMG_2746"/>
          <p:cNvPicPr/>
          <p:nvPr/>
        </p:nvPicPr>
        <p:blipFill>
          <a:blip r:embed="rId2"/>
          <a:stretch/>
        </p:blipFill>
        <p:spPr>
          <a:xfrm>
            <a:off x="106668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IMG_2743"/>
          <p:cNvPicPr/>
          <p:nvPr/>
        </p:nvPicPr>
        <p:blipFill>
          <a:blip r:embed="rId3"/>
          <a:stretch/>
        </p:blipFill>
        <p:spPr>
          <a:xfrm>
            <a:off x="5257800" y="13716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IMG_2742"/>
          <p:cNvPicPr/>
          <p:nvPr/>
        </p:nvPicPr>
        <p:blipFill>
          <a:blip r:embed="rId4"/>
          <a:stretch/>
        </p:blipFill>
        <p:spPr>
          <a:xfrm>
            <a:off x="3200400" y="40384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2362320" y="228600"/>
            <a:ext cx="49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гры с берез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1BC8-0C39-440B-90E1-144F3E9E9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IMG_2757"/>
          <p:cNvPicPr/>
          <p:nvPr/>
        </p:nvPicPr>
        <p:blipFill>
          <a:blip r:embed="rId2"/>
          <a:stretch/>
        </p:blipFill>
        <p:spPr>
          <a:xfrm>
            <a:off x="493560" y="1986120"/>
            <a:ext cx="4078440" cy="305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MG_2755"/>
          <p:cNvPicPr/>
          <p:nvPr/>
        </p:nvPicPr>
        <p:blipFill>
          <a:blip r:embed="rId3"/>
          <a:stretch/>
        </p:blipFill>
        <p:spPr>
          <a:xfrm>
            <a:off x="4724280" y="1986120"/>
            <a:ext cx="4078440" cy="3058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1066680" y="2286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исование восковыми мел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F0CD-24D1-4889-8801-27BA653D8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40" y="-87480"/>
            <a:ext cx="9144000" cy="6897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G_2772"/>
          <p:cNvPicPr/>
          <p:nvPr/>
        </p:nvPicPr>
        <p:blipFill>
          <a:blip r:embed="rId2"/>
          <a:stretch/>
        </p:blipFill>
        <p:spPr>
          <a:xfrm>
            <a:off x="2286000" y="4124160"/>
            <a:ext cx="459756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MG_2729"/>
          <p:cNvPicPr/>
          <p:nvPr/>
        </p:nvPicPr>
        <p:blipFill>
          <a:blip r:embed="rId3"/>
          <a:stretch/>
        </p:blipFill>
        <p:spPr>
          <a:xfrm>
            <a:off x="2286000" y="1295280"/>
            <a:ext cx="4597560" cy="2724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2590920" y="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ппли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A50-8F11-40B6-B84C-10C46A8E8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"/>
          <p:cNvPicPr/>
          <p:nvPr/>
        </p:nvPicPr>
        <p:blipFill>
          <a:blip r:embed="rId4"/>
          <a:stretch/>
        </p:blipFill>
        <p:spPr>
          <a:xfrm>
            <a:off x="548640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"/>
          <p:cNvPicPr/>
          <p:nvPr/>
        </p:nvPicPr>
        <p:blipFill>
          <a:blip r:embed="rId5"/>
          <a:stretch/>
        </p:blipFill>
        <p:spPr>
          <a:xfrm>
            <a:off x="2944800" y="419112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2298600" y="15228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мешанная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</dc:creator>
  <dc:description/>
  <dc:language>en-US</dc:language>
  <cp:lastModifiedBy>Рома</cp:lastModifiedBy>
  <dcterms:modified xsi:type="dcterms:W3CDTF">2017-05-22T15:58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