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2A56-54B2-48C5-B8B5-0D2492BD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6015-5FE3-4EC7-AF62-1C8E86B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F745-F5CC-49B3-B48B-4C811A08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EE32-6C88-48F6-933C-D8147D3A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C1FD-3C9D-42E0-B30B-CC69FC13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3CC8-C377-4680-98B1-5B3683F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928-7A69-4650-965E-2E36622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89A-5ACA-4086-98A8-DAEBB1B5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F60-2268-48B6-B03B-CA611310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37B1-3B4A-4714-8774-72C42AF9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271-F691-4A76-86FC-1948E7B1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DE36-5C23-4A90-B6EE-F729693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486E-E7D5-45EA-92F1-C231907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007-111E-45CF-8654-F17D0BB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1C8-4AED-4252-9339-6C38473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4472-79D2-47B5-979F-E4448407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CF83-0852-405E-87B6-6FF63717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B995-D125-46AD-AD39-86F33D0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7D51-173A-42BB-8537-193ED45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1D52-7678-4AF0-B71D-2D0675F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6015-FED9-4AF3-95CB-E9DB56E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EE79-3A58-4C13-910E-8912508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186D-7F78-42A9-956E-E788BB7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D00A-76CC-47AC-8068-1A748CB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F8FC-9E4E-45A2-8BFB-D3FBCD75D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D204-0CBE-4BC7-A4C6-D3417431C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Тест на тему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Глагол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Укажите ряд, в котором все глаголы ПОВЕЛИТЕЛЬНОГО накло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рисую, пошёл бы, 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 давайте играть, принеси, за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спою, смотреть, выучил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посмотри, буду шить, блес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Укажите глагол II спр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смотр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ве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 стел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шага…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 Из  предложений выпишите глагол НЕСОВЕРШЕН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а утром чай п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, с мамой посидела, встала, к бабушке п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Укажите способ образования глагола КАМЕНЕТЬ. Ответ запишите слов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. Укажите, в каком времени употреблены глаголы в предложении. Ответ запишите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Гвидон зовёт их в гости, их он кормит и п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 Выпишите НЕВОЗВРАТНЫЙ гла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показывается из-за облаков. В низинах поднимается туман и быстро рассеивается. Ласточки с весёлым криком высоко летают в н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     Разберите по составу глагол ПРОНОСИЛ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  Объясните, используя тип речи – рассуждение, почему однокоренные глаголы СОБЕРУ и СОБИРАТЬ пишутся по-разном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Глагол в предложении чаще всего б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подлежа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сказуе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допол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обстоятель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 каком случае НЕ пишется ОТ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не\на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не\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не\вы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не\го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Найдите ИНФИНИ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сме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сме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см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сме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В каком случае нужно поставить букву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 зави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 та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 кле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 раска…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В каком случае НЕ НУЖЕН мягкий зн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начинат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купаеш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 обжеч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смеёт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В каком случае нужно поставить букву 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         бл…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         расст…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         выж…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         подп…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Найдите глагол, стоящий в форме БУДУЩЕ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разор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чит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засмотре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В каком случае нужно поставить букву 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волн…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 танц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 совет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загляд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8:50:35Z</dcterms:created>
  <dc:creator>User</dc:creator>
  <dc:description/>
  <dc:language>en-US</dc:language>
  <cp:lastModifiedBy>User</cp:lastModifiedBy>
  <dcterms:modified xsi:type="dcterms:W3CDTF">2016-03-15T18:53:36Z</dcterms:modified>
  <cp:revision>1</cp:revision>
  <dc:subject/>
  <dc:title>Тест на тему  «Глагол»</dc:title>
</cp:coreProperties>
</file>