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B6C1-CC2C-44DF-82C0-CC8B1A48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2326-66AD-4C35-9A98-5E8C32C2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56A5-7564-40E8-AC9A-5275363F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7E5E-76D9-4EAA-B02B-13EBBB19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1DB7-455F-402A-BFFC-FFC72AB9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D557-D7C7-4AD2-8259-C71DA6F7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C9E5-E4B9-42E9-9FC8-5DEE7A45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F3EF-B38A-4CAC-A503-E0A0544B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1775-2F9C-440C-9FD9-9CBF7D05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B757-25FE-4446-B750-E6FCA20E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4F3E-26FA-42BE-8A3D-B89303F4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0FD6-FE8A-41C1-9215-07202DAE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108C-858F-4C20-8E5C-30E38FE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150A-062D-44C8-AA8B-E3F1AE7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64EE-FCFD-4780-9533-A4F9AF9C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BF0E-5E73-46D3-BC8E-24CCA170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71A9-C1A5-4E25-A0AC-B5C33798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C4CF-B639-4A80-886E-59812835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3218-9E2E-4071-B254-A33B1CCD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01E0-74EE-44C4-AEB6-DFB4D4C7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8239-6C63-430E-ADAE-75BA17BF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C23B5-AD5C-45BD-B94A-4B832FC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03DC4-F1C3-48D1-9D25-594E4FDF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07D3-BFF3-4CD3-B76C-11893105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2E41-6E78-4A93-9DE6-76C0BC71F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0F32-3EFA-42EA-A733-C8EA7F2BE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Тест на тему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«Глагол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Укажите ряд, в котором все глаголы ПОВЕЛИТЕЛЬНОГО накло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    рисую, пошёл бы, к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    давайте играть, принеси, запи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    спою, смотреть, выучил 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     посмотри, буду шить, блест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Укажите глагол II спря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 смотр…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 ве…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  стел…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шага…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 Из  предложений выпишите глагол НЕСОВЕРШЕННОГО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та утром чай п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ла, с мамой посидела, встала, к бабушке п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 Укажите способ образования глагола КАМЕНЕТЬ. Ответ запишите слов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. Укажите, в каком времени употреблены глаголы в предложении. Ответ запишите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ь Гвидон зовёт их в гости, их он кормит и п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 Выпишите НЕВОЗВРАТНЫЙ глаг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це показывается из-за облаков. В низинах поднимается туман и быстро рассеивается. Ласточки с весёлым криком высоко летают в н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.     Разберите по составу глагол ПРОНОСИЛС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.  Объясните, используя тип речи – рассуждение, почему однокоренные глаголы СОБЕРУ и СОБИРАТЬ пишутся по-разному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Глагол в предложении чаще всего б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            подлежа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            сказуем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            дополн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            обстоятель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 каком случае НЕ пишется ОТД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 не\на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 не\здор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  не\вы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не\год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Найдите ИНФИНИ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            сме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            сме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            см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            смея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В каком случае нужно поставить букву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  завис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  та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   кле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 раска…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В каком случае НЕ НУЖЕН мягкий зн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начинат…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купаеш…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 обжеч…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смеёт…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 В каком случае нужно поставить букву 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          бл…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          расст…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           выж…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         подп…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Найдите глагол, стоящий в форме БУДУЩЕГО врем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            разор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            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            чит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            засмотре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 В каком случае нужно поставить букву 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  волн…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   танц…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  совет…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   загляд…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8:50:35Z</dcterms:created>
  <dc:creator>User</dc:creator>
  <dc:description/>
  <dc:language>en-US</dc:language>
  <cp:lastModifiedBy>User</cp:lastModifiedBy>
  <dcterms:modified xsi:type="dcterms:W3CDTF">2016-03-15T18:53:36Z</dcterms:modified>
  <cp:revision>1</cp:revision>
  <dc:subject/>
  <dc:title>Тест на тему  «Глагол»</dc:title>
</cp:coreProperties>
</file>