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7BD-4516-45A6-A4EB-0C32A2DF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B7D-59C4-41C5-85D8-61540B0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814F8-B994-4027-B179-997C5A2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74275-8465-4C2D-AAE6-574A0A1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0226B-8403-448E-BAA7-ED17CB1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96AC2-5FD6-4063-BE2D-5D36A2B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25248-C700-4B5C-8B7D-3823F2B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D1ACD-2605-4E63-B2DC-A1055CD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4C603-A34F-43F1-9A6D-14FEEA3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4E02-18C1-4AB3-9412-3EE91D63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D97B2-DED5-4C6E-A484-9A21641E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332-B1D9-4227-BB3C-0A9A7D04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DBC-0EA1-4702-8902-6035978F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DF8-9308-4B69-9A36-A6F5C388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40D-614C-4179-99AD-90395E71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51A-60B2-46C7-8BB3-35D978AC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B4E9-38BA-4756-B41F-4B717F8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542-2574-478D-B048-90427C0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2DD-A003-4FD3-B94E-DB818CB9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57BE-96E9-4A20-BF64-A7F0567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175-81DF-4ACA-AA34-275DB19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8D5-C6F6-4ACF-B685-EFA9D51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FBC4-23F6-4914-814D-D66FDCF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D2F-479B-4544-A4BF-94DE102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123-DED8-43F7-81F3-649C2FD4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840D-4455-41CF-AD49-232A9C91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F78A-F3C6-44F6-BC16-C4DF837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7F31-80C5-4945-B40D-DA1059B9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1ABD-B4EE-47EB-8DB7-8FEC61D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1888-F3B5-4C6B-ADFA-CAB3E967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801E-6726-428D-91AE-3A1B1D9C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C86-A837-4B0B-9F37-8CDE6F9E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23D9-BE43-4E9B-944D-4BB84BA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ECDB-1834-49E9-B900-114834A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E813-671E-44E1-87BC-3E58A29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D870-861C-44B1-9506-3270C46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745B-4444-4EB9-82A1-63AB2CA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2BA3-FD7D-4529-837A-71540B9A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08D1-D6A8-4936-B710-7787502E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2BAB-1995-43B3-BB3F-1C38EF9B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6D14-0D7F-4C2D-8423-3274973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D539-051C-4448-B2E2-825A3D36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799-8101-48CC-9D0F-9E539EA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2BE4-6623-4461-BF59-982D17A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FEBD-DC33-45A4-805F-1525DCE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AF7A-95CC-4FB5-B723-4BD8F4A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FD55-BAB3-42CD-BE3F-54352CD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6750-E632-457A-8C2D-DC303B1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D110-FEB4-4C8A-AFAC-5D31D3E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EF4C-6390-4E38-ACAE-30D3F752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A545-EB6A-4941-A7A8-5AE878AB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B05C-228C-4FE6-81B7-1D329F1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25942-CD3E-4CAA-B309-737006E0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1F7-0DA7-411B-AD0C-D9C6760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EAA6-FE42-41E0-BDA4-81E032C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F7B3-9D28-4CCA-AE58-78AE9181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D647-A297-45CA-98F0-6CA25E6F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F68C-30B2-4331-BD7C-ADB2FE50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1850-C492-4243-BDA6-453231A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A0C2-769B-421F-9BBC-39276FA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24BF-9007-47D3-A1C8-14CC5DC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89BA-E8AF-466A-964B-A6FF396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0D2D-C952-4727-BB8F-DBBB0C0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DCE1-FF86-4959-AC83-3F380174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905-BDC0-434A-AD3D-C6256E4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43C8-1E8C-4CD2-B906-9976BFED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6F3D-7E1C-423B-9B33-636B7A96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31DE3-6D7E-4789-B187-5500FE80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0B61-767F-4E5A-ACDE-1BD3A42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5B27-C54D-4877-86AC-33B52A34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B238-2808-49D6-AA6E-A1FD2F30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4F02-786A-49AA-9F99-609A258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F5C7-FA9E-4E21-BB06-81728CC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3D84-9995-4961-BA33-88FF266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DD8E-1509-44E7-9CA7-E5CB783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13E-BF12-4224-B392-FB35DF3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B9A3-97CD-4A3B-A0CF-6038E29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4E7F-27E3-4832-B3D2-27365AB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F376-3A31-4116-975C-D0B0E0F2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59ED-9BAE-439D-9494-55897534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CCB5-377B-44C0-B1C0-51D8E011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8FFE-47CC-4A1D-A1DB-69F8BC8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47DE-9BB4-456E-95A8-3A8D336E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B706-7100-46E9-9109-43E93F2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6180-CB67-48B6-8DE7-61190CFF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DB20-79B3-44FE-AA6C-663778C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A82-8E7E-47E6-8704-1CEAF29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4C1D-48C1-49AE-A2B0-23879B5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6105-7A34-4DF7-A76C-CD353E8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ABC7-8366-4B9D-AA5E-88E2F13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D2D6-B92D-42A8-A404-3B9875E8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0E6C-0B3E-4ED8-8FFE-A03774FA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F51D-E2C9-4AA4-B88D-D769D223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E104-2704-4076-AAF5-1B4CD10A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EB1C-5FAD-47CA-9CD5-F12D4AA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2491-3826-4D6D-8FAE-557EEA71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78B92-29DD-4108-A152-CD86896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CAC-C841-435E-A1C5-B5A58F9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8550D-657B-4781-94C6-443A64DC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4795-2979-4DA5-96B6-4A91AD9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192B5-39BA-491C-AEAC-F3542B7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030E-C985-4911-8483-9A71E90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3560-5E2B-4E02-9451-868FBB05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068A-A8E5-4BE7-A51B-486E4ED1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4BB4-6317-448F-B0B6-A5E9D747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0E37-BE7D-4855-B9AB-A1383EC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7707-82A8-47F0-A699-B1F0DE83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65FAC-3F6A-4FC4-89D4-CBF8E392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5B88-9B8C-4700-BE74-6B2C7F1DA4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95D4-B66A-49FF-B92D-11EFD5B2B1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E51-1387-4635-9C74-D5DEBE18EF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C924-9BA1-46EE-8560-C2C6B36F12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62CB-1815-4A5D-BFBB-44804CB25F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7BA-F973-450E-B3B1-45BA9D753A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87C8-018A-4DCE-9AE1-1405B3B96B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681F-8DCB-4F29-92D4-E076043CA4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01C-F3B2-4EC6-8BD3-2C6E4BDD30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196640" y="1125360"/>
            <a:ext cx="70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"/>
                <a:ea typeface="Aharoni"/>
              </a:rPr>
              <a:t>What Time Is It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Рисунок 2" descr="e4f90b63.jpg"/>
          <p:cNvPicPr/>
          <p:nvPr/>
        </p:nvPicPr>
        <p:blipFill>
          <a:blip r:embed="rId1"/>
          <a:stretch/>
        </p:blipFill>
        <p:spPr>
          <a:xfrm>
            <a:off x="1619280" y="3573360"/>
            <a:ext cx="2925720" cy="2924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1014513336.jpg"/>
          <p:cNvPicPr/>
          <p:nvPr/>
        </p:nvPicPr>
        <p:blipFill>
          <a:blip r:embed="rId2"/>
          <a:stretch/>
        </p:blipFill>
        <p:spPr>
          <a:xfrm>
            <a:off x="4500720" y="357336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1733400" y="2276640"/>
            <a:ext cx="60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What’s the time?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clock2.jpg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clock3.jpg"/>
          <p:cNvPicPr/>
          <p:nvPr/>
        </p:nvPicPr>
        <p:blipFill>
          <a:blip r:embed="rId2"/>
          <a:stretch/>
        </p:blipFill>
        <p:spPr>
          <a:xfrm>
            <a:off x="4788000" y="1484280"/>
            <a:ext cx="4054320" cy="40546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308880" y="0"/>
            <a:ext cx="381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15</a:t>
            </a:r>
            <a:r>
              <a:rPr b="1" lang="en-US" sz="6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minut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4875480" y="5732640"/>
            <a:ext cx="37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0 minut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280080" y="476280"/>
            <a:ext cx="877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six o’clock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half past nine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a quarter to eight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ten past two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Физкультминутка на уроке английского языка.mp4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638px-Royalobs[1].jpg"/>
          <p:cNvPicPr/>
          <p:nvPr/>
        </p:nvPicPr>
        <p:blipFill>
          <a:blip r:embed="rId1"/>
          <a:stretch/>
        </p:blipFill>
        <p:spPr>
          <a:xfrm>
            <a:off x="324000" y="1197000"/>
            <a:ext cx="6659280" cy="62643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-9720" y="0"/>
            <a:ext cx="85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HE GREENWICH OBSERVATOR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1" name="Рисунок 3" descr="eb57037b87[1].jpg"/>
          <p:cNvPicPr/>
          <p:nvPr/>
        </p:nvPicPr>
        <p:blipFill>
          <a:blip r:embed="rId2"/>
          <a:stretch/>
        </p:blipFill>
        <p:spPr>
          <a:xfrm>
            <a:off x="0" y="692280"/>
            <a:ext cx="2525760" cy="378936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000055[1].jpg"/>
          <p:cNvPicPr/>
          <p:nvPr/>
        </p:nvPicPr>
        <p:blipFill>
          <a:blip r:embed="rId3"/>
          <a:stretch/>
        </p:blipFill>
        <p:spPr>
          <a:xfrm>
            <a:off x="0" y="4172040"/>
            <a:ext cx="3635280" cy="26859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800px-primemeridian[1].jpg"/>
          <p:cNvPicPr/>
          <p:nvPr/>
        </p:nvPicPr>
        <p:blipFill>
          <a:blip r:embed="rId4"/>
          <a:stretch/>
        </p:blipFill>
        <p:spPr>
          <a:xfrm>
            <a:off x="5148360" y="981000"/>
            <a:ext cx="3995640" cy="32846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6" descr="18511f836b864df93ab2310a141ee518.jpg"/>
          <p:cNvPicPr/>
          <p:nvPr/>
        </p:nvPicPr>
        <p:blipFill>
          <a:blip r:embed="rId5"/>
          <a:stretch/>
        </p:blipFill>
        <p:spPr>
          <a:xfrm>
            <a:off x="5119560" y="4186080"/>
            <a:ext cx="40244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98000" y="549360"/>
            <a:ext cx="27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Moscow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2:00 a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8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20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3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:15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15:15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5994360" y="549360"/>
            <a:ext cx="282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New York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078000" y="549360"/>
            <a:ext cx="2718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London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23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17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9:30 a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15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05 - Lesson 1. Ex. 4.2) p. 38. The dialogue.mp3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48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1332000" y="76500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The time you enjoy wasting is not wasted time.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Рисунок 2" descr="Elektronika7-2100-6.jpg"/>
          <p:cNvPicPr/>
          <p:nvPr/>
        </p:nvPicPr>
        <p:blipFill>
          <a:blip r:embed="rId1"/>
          <a:stretch/>
        </p:blipFill>
        <p:spPr>
          <a:xfrm>
            <a:off x="1692360" y="3860640"/>
            <a:ext cx="60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12:17:15Z</dcterms:created>
  <dc:creator>Наташа</dc:creator>
  <dc:description/>
  <dc:language>en-US</dc:language>
  <cp:lastModifiedBy>галушко</cp:lastModifiedBy>
  <dcterms:modified xsi:type="dcterms:W3CDTF">2016-12-01T18:13:05Z</dcterms:modified>
  <cp:revision>35</cp:revision>
  <dc:subject/>
  <dc:title>Слайд 1</dc:title>
</cp:coreProperties>
</file>