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16A-92E3-45E6-8520-810EF4ED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61E-3DCF-4003-8E85-2F30364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B6A2F-66A3-4A09-8E3C-5B04EA86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6B94B-BF83-4A6F-B418-8C7F0B90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B7E14-1537-41D7-9DC2-1EC59082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0176D-5B6F-4EE9-B709-81D5E004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6C618-883C-4499-A44B-C503397B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7B0DA-CCA7-41A8-89F2-57369383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353AF-1BB4-4E5F-8227-7FE21D43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60C86-CD7F-4B2D-91EB-EAC55E07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8506C-A98B-4310-B4C1-D6709B94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9D4-BA08-4BA7-B953-9EB5640D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0F6-C003-4C90-B5E7-558B50B0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8E10-85B0-4060-A18D-D3174B42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B7B5-D70B-4157-B807-AC535615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1C9D-3A93-44B1-9CC7-4D97A410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F692-899E-49E5-B522-29DE702A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833E-2A70-4E54-A8D7-3B551D78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ABE8-C465-497C-975F-E3936049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D45D-E1F9-4985-9BB3-8F305AED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1F8-12DB-4DE2-A7D1-517ED638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91D-3B27-45B0-B4D4-F74CC506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EA3B-6DAC-49AE-8B4C-ECCDE9B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3CBD-9301-44BC-8583-D1C89B09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9AA4-F231-469E-B3B7-C276ECAB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DEE7-15C7-4FCF-A7AB-02CDBFF1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A838E-57B0-4CDD-9C07-1B1EE2A0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AAB8A-6449-4E18-AD79-C6D0580E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F303-4E32-4268-968D-481FBA78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E230-4E3F-47A4-AA2C-5FF50A9E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A4AB-76F9-4657-A653-3781D1BE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E35-6311-432F-9578-F06B3CB6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BACF8-85FA-4EB6-8218-59492CD2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15E3-A917-49F8-8104-318687AC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3327-F883-42B1-89A1-93A4C417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342E-7863-40A2-B79E-B690BCCB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7ACA-0718-4CDB-9B69-EF10F4CF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CF77-2DA2-42F3-9613-CCC7D99D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A10A-14D4-4493-9AFF-975E6991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BD943-B6AA-4408-876F-3279AF9B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5730E-78F6-49AA-B1AE-234FB568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F8128-F9B0-4251-A804-84DBA830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E15-EDB8-4912-8A18-778BE19B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8544-EC63-4B44-907B-74986D51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AEAB-4546-4E30-AC05-A38A088D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7C2E-6C9E-46EE-ABC6-BD7E9443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2AD4-A3FD-4F17-86D3-31B3232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50FE-E415-462D-8BA7-2DB847CB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7235-DDFF-4416-BD53-2F3213B0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05AFF-D8ED-4B0E-B089-86A47F66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F7C5-D176-4C84-B11B-02A4C656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F102-D198-4FD4-B650-542D0FFA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7D06E-CC9C-494A-889F-DAB48CF3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293-C71B-476A-B254-AC363D1E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A6CA-7159-4B82-AE48-F73F0E9F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E4477-DB84-41F3-859B-379D1534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71F5B-1284-4F6B-9F11-96D8672B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75C62-3784-460F-9D48-CDE1C526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712E2-ACBA-47C8-ADE3-D1D99D30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1EED7-7573-4CAA-BFA0-5BA0B491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87BB-671B-4B73-B37F-E963D304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CCB72-E22E-45E0-AD68-84F56DD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FF31C-2535-4BDC-809B-B32CFE7F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5F8AC-2EA3-4170-99D9-62207547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C5D-E075-4922-A427-20E5A8A1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26BC7-3DB6-4D6E-AEC1-4E700A03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62D46-242C-41CE-B261-64691E8C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BBC23-F7AD-471D-B343-3A387421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4B969-B2CD-42B5-9EBC-AECC582A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C8673-C944-4925-9B3A-2BA082AE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7BCE7-FFB3-4BFD-9E37-8C522A76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F2AD3-50D8-439E-86DB-229265E3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0616B-5889-4369-A16C-D13F275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3FE85-6F4D-4A9C-9530-84079D71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C8D1C-6DCA-434E-9452-6006BFB0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230-C20C-495C-9B62-C99E6A8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E2047-1CD7-49CC-A188-3D13F69B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72973-EEA6-46FD-B4A3-A9448FF2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175AC-DCA3-4EEC-97B4-6AAB1822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9C6A0-1AC0-4911-9547-035DC595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0BC4-5031-4E52-9550-5852FC08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B094B-522A-44DE-A480-0F67EAC5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31DA4-91E0-4FB0-ADE2-6571EDCC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4382-F2A5-466F-B6A5-8F867B66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CBE69-F71E-464D-AD3E-BDFFA78D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68F91-5362-4C9D-9A8B-E6653A43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CC0-AFB4-460E-9D15-A8E9E012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000F5-15F8-4ACE-B75A-EE021533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9D740-074F-4BD9-989B-2966B86C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36215-053C-4D86-93E8-DD33686B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BAD89-FB2E-4E15-9501-8177565B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151D7-C5F1-4618-A443-A85EDE62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1D5D2-B9EB-4B33-B6A1-19090B60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B0D1E-584D-4C34-B602-5692E1DD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74BBE-EFA1-4869-96AF-BCC24BFF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A72BF-0BE2-4F73-88F4-8A10A7BA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E7DFC-4DA0-4BEB-A0BC-2999E59C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552-7F1E-486F-9493-F4FAF4F5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2BA16-5238-458E-862A-1F64CB65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26E0D-87B0-42CE-A09E-39B88149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C8A77-8CDC-4058-BFA4-1338F00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238A4-73E8-40AA-BAFB-5C6C0564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C39E9-26AB-48B4-9383-E4B9DC42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CCE28-47E5-4DF5-A85A-03808750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22AD7-44D9-4994-8D6C-D5FD0693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1B63B-2402-4D89-BE40-D12806EB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AD977-9A6A-4EBE-8D4C-E70096E7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B022A-8361-47D0-BF35-7D22ED06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63F4-D427-49AE-A9FD-303824917AB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1FFF-1048-4549-A420-40C686C10B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B21B-A52A-4790-A816-772548E6718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DA0A-815D-4548-8E72-F51B9C388E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5B47-9AC3-463F-A2B8-25B9DA1690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7853-50FD-498F-8183-26AA6E2E3B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DA47-07B3-4840-A5B9-E0436F8CA5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C923-798E-4B5F-9A8A-33A475103F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97DC-AE48-43BF-8EC4-07D46A3E24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196640" y="1125360"/>
            <a:ext cx="705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"/>
                <a:ea typeface="Aharoni"/>
              </a:rPr>
              <a:t>What Time Is It?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0" name="Рисунок 2" descr="e4f90b63.jpg"/>
          <p:cNvPicPr/>
          <p:nvPr/>
        </p:nvPicPr>
        <p:blipFill>
          <a:blip r:embed="rId1"/>
          <a:stretch/>
        </p:blipFill>
        <p:spPr>
          <a:xfrm>
            <a:off x="1619280" y="3573360"/>
            <a:ext cx="2925720" cy="29242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1014513336.jpg"/>
          <p:cNvPicPr/>
          <p:nvPr/>
        </p:nvPicPr>
        <p:blipFill>
          <a:blip r:embed="rId2"/>
          <a:stretch/>
        </p:blipFill>
        <p:spPr>
          <a:xfrm>
            <a:off x="4500720" y="3573360"/>
            <a:ext cx="2950920" cy="29512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6"/>
          <p:cNvSpPr/>
          <p:nvPr/>
        </p:nvSpPr>
        <p:spPr>
          <a:xfrm>
            <a:off x="1733400" y="2276640"/>
            <a:ext cx="60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What’s the time?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" descr="clock2.jpg"/>
          <p:cNvPicPr/>
          <p:nvPr/>
        </p:nvPicPr>
        <p:blipFill>
          <a:blip r:embed="rId1"/>
          <a:stretch/>
        </p:blipFill>
        <p:spPr>
          <a:xfrm>
            <a:off x="250920" y="1484280"/>
            <a:ext cx="4105080" cy="41054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clock3.jpg"/>
          <p:cNvPicPr/>
          <p:nvPr/>
        </p:nvPicPr>
        <p:blipFill>
          <a:blip r:embed="rId2"/>
          <a:stretch/>
        </p:blipFill>
        <p:spPr>
          <a:xfrm>
            <a:off x="4788000" y="1484280"/>
            <a:ext cx="4054320" cy="40546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3"/>
          <p:cNvSpPr/>
          <p:nvPr/>
        </p:nvSpPr>
        <p:spPr>
          <a:xfrm>
            <a:off x="308880" y="0"/>
            <a:ext cx="381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  <a:ea typeface="Aharoni"/>
              </a:rPr>
              <a:t>15</a:t>
            </a:r>
            <a:r>
              <a:rPr b="1" lang="en-US" sz="66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  <a:ea typeface="Aharoni"/>
              </a:rPr>
              <a:t>minutes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4875480" y="5732640"/>
            <a:ext cx="37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30 minutes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280080" y="476280"/>
            <a:ext cx="877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t’s six o’clock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t’s half past nine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t’s a quarter to eight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t’s ten past two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Физкультминутка на уроке английского языка.mp4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1" descr="638px-Royalobs[1].jpg"/>
          <p:cNvPicPr/>
          <p:nvPr/>
        </p:nvPicPr>
        <p:blipFill>
          <a:blip r:embed="rId1"/>
          <a:stretch/>
        </p:blipFill>
        <p:spPr>
          <a:xfrm>
            <a:off x="324000" y="1197000"/>
            <a:ext cx="6659280" cy="62643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-9720" y="0"/>
            <a:ext cx="85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THE GREENWICH OBSERVATORY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1" name="Рисунок 3" descr="eb57037b87[1].jpg"/>
          <p:cNvPicPr/>
          <p:nvPr/>
        </p:nvPicPr>
        <p:blipFill>
          <a:blip r:embed="rId2"/>
          <a:stretch/>
        </p:blipFill>
        <p:spPr>
          <a:xfrm>
            <a:off x="0" y="692280"/>
            <a:ext cx="2525760" cy="378936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" descr="000055[1].jpg"/>
          <p:cNvPicPr/>
          <p:nvPr/>
        </p:nvPicPr>
        <p:blipFill>
          <a:blip r:embed="rId3"/>
          <a:stretch/>
        </p:blipFill>
        <p:spPr>
          <a:xfrm>
            <a:off x="0" y="4172040"/>
            <a:ext cx="3635280" cy="26859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5" descr="800px-primemeridian[1].jpg"/>
          <p:cNvPicPr/>
          <p:nvPr/>
        </p:nvPicPr>
        <p:blipFill>
          <a:blip r:embed="rId4"/>
          <a:stretch/>
        </p:blipFill>
        <p:spPr>
          <a:xfrm>
            <a:off x="5148360" y="981000"/>
            <a:ext cx="3995640" cy="32846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6" descr="18511f836b864df93ab2310a141ee518.jpg"/>
          <p:cNvPicPr/>
          <p:nvPr/>
        </p:nvPicPr>
        <p:blipFill>
          <a:blip r:embed="rId5"/>
          <a:stretch/>
        </p:blipFill>
        <p:spPr>
          <a:xfrm>
            <a:off x="5119560" y="4186080"/>
            <a:ext cx="402444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198000" y="549360"/>
            <a:ext cx="271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Moscow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2:00 a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8:00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(20:00)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2:30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:15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(15:15)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TextBox 2"/>
          <p:cNvSpPr/>
          <p:nvPr/>
        </p:nvSpPr>
        <p:spPr>
          <a:xfrm>
            <a:off x="5994360" y="549360"/>
            <a:ext cx="282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New York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2:00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3078000" y="549360"/>
            <a:ext cx="2718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London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1:00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(23:00)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(17:00)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9:30 a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2:15 pm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8" name="05 - Lesson 1. Ex. 4.2) p. 38. The dialogue.mp3" descr=""/>
          <p:cNvPicPr/>
          <p:nvPr/>
        </p:nvPicPr>
        <p:blipFill>
          <a:blip r:embed="rId1"/>
          <a:stretch/>
        </p:blipFill>
        <p:spPr>
          <a:xfrm>
            <a:off x="6948360" y="1557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6485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1332000" y="765000"/>
            <a:ext cx="705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The time you enjoy wasting is not wasted time.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0" name="Рисунок 2" descr="Elektronika7-2100-6.jpg"/>
          <p:cNvPicPr/>
          <p:nvPr/>
        </p:nvPicPr>
        <p:blipFill>
          <a:blip r:embed="rId1"/>
          <a:stretch/>
        </p:blipFill>
        <p:spPr>
          <a:xfrm>
            <a:off x="1692360" y="3860640"/>
            <a:ext cx="604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12:17:15Z</dcterms:created>
  <dc:creator>Наташа</dc:creator>
  <dc:description/>
  <dc:language>en-US</dc:language>
  <cp:lastModifiedBy>галушко</cp:lastModifiedBy>
  <dcterms:modified xsi:type="dcterms:W3CDTF">2016-12-01T18:13:05Z</dcterms:modified>
  <cp:revision>35</cp:revision>
  <dc:subject/>
  <dc:title>Слайд 1</dc:title>
</cp:coreProperties>
</file>