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AE7-383C-4228-A2F6-9B48C10D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308-F3D3-4656-A4AE-AA817C09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D2F-182A-477D-B4C0-8A3932A5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641-DBD6-4F5E-8C2F-F944334C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33EB-3CDE-4658-A7BF-DCCCA138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6678-6030-45B1-A474-CE8DF39A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494F-5499-4379-8979-29248356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A069-D8A9-4512-882F-66D398D0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EA5F-0AD1-476D-BA05-B132393E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D6E6-6194-4AA4-A5A1-1C2128DA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188F-7776-4332-9929-07D58057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9DF-0146-4407-B7BC-DCE4C71E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A650-A943-4DB1-B2BB-4E0E83C7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0835-45B6-4481-B1C0-E5447939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03FF-C743-4D18-8CD2-07361F49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73B1-5D8E-419C-B088-33C903D2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6D18-B3C3-442E-879B-DAE7E379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E854-3856-4E3C-86E7-A35479A1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99F00-BD3D-48F4-B79D-9C217E44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6948E-AF3C-4547-BD5F-4F3C4EFA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248D6-9634-4F11-9634-24F4986C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DBDBE-AE1B-4314-B780-EA339590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632-B73B-400E-AE7B-2C878EE0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A714-11A6-4F80-BA80-36B3193A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9DE4B-C4A7-4D17-A998-5FF47A06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B428C-C9CC-484D-90E4-C2F834E5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15DEB-6A42-4D31-8AC4-A7D7D2EC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ADE82-6D54-4FD2-900B-AEE1088D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A21CD-271E-4EA6-A57B-530B771B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FAF5-24E4-4265-9335-8CE4CD26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E2BF5-B668-469F-8CAD-46EF8B32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9D8DB-4196-49E6-A68D-188CEFE2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85026-92F4-47AB-ABA9-BF81892A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C41-1804-4D29-94C9-9FD04281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4338C-7851-4AD1-8D07-ADAF0688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59C49-5E03-4419-9284-26585C59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9F508-AEE3-43AC-B2F5-EAAE29B5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0426B-5B6C-44DB-80C3-5980C838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42E8A-F2D0-452D-A363-F8D03CAE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F7056-3A38-4FA0-9B83-6F485AEA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8B845-E441-4C97-BB94-DCDFCA68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033A6-3C31-4C0F-8D08-736A9B5D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29CD8-F033-4B58-9438-409B87DD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BE67-0E5C-4702-82FA-BDA5F100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1C7-4075-4683-89B3-95C7BFAD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1C17-930D-45CF-A02D-AB636475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21E-10A4-4D77-8233-58E28F03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1F72-88B1-41C1-9849-AD2452AF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484D-89AD-44D8-9FE5-4F1E2E3AB893}" type="slidenum">
              <a:rPr b="0" lang="ru-RU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41DE-1C48-4494-A1B2-D2EDE1C04F71}" type="slidenum">
              <a:rPr b="0" lang="ru-RU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B053-2D24-41C3-B6B0-6CDD19496B9F}" type="slidenum">
              <a:rPr b="0" lang="ru-RU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6C2B-974A-462F-BF39-4EEDB5B3C6C2}" type="slidenum">
              <a:rPr b="0" lang="ru-RU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d/Herakles_Amazons_Louvre_F218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alentinserov.ru/cms.ashx?req=Image&amp;imageid=f0842056-5346-45ed-9528-7fc0de1432d0&amp;key=mai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Narrow"/>
              </a:rPr>
              <a:t>АНТИЧНАЯ РАСПИСНАЯ КЕРАМИКА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95280" y="26496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6156360" y="5445000"/>
            <a:ext cx="28098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Image131"/>
          <p:cNvPicPr/>
          <p:nvPr/>
        </p:nvPicPr>
        <p:blipFill>
          <a:blip r:embed="rId1"/>
          <a:stretch/>
        </p:blipFill>
        <p:spPr>
          <a:xfrm>
            <a:off x="108000" y="58680"/>
            <a:ext cx="88916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Image132"/>
          <p:cNvPicPr/>
          <p:nvPr/>
        </p:nvPicPr>
        <p:blipFill>
          <a:blip r:embed="rId1"/>
          <a:stretch/>
        </p:blipFill>
        <p:spPr>
          <a:xfrm>
            <a:off x="1692360" y="49320"/>
            <a:ext cx="5157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http://valentinserov.ru/cms.ashx?req=Image&amp;imageid=6f4cf49e-afb2-4e2a-bb44-2216c68d4a31&amp;key=main"/>
          <p:cNvPicPr/>
          <p:nvPr/>
        </p:nvPicPr>
        <p:blipFill>
          <a:blip r:embed="rId1"/>
          <a:stretch/>
        </p:blipFill>
        <p:spPr>
          <a:xfrm>
            <a:off x="179280" y="189000"/>
            <a:ext cx="5400720" cy="4824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6012000" y="2705040"/>
            <a:ext cx="29178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Файл:Herakles Amazons Louvre F21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15920"/>
            <a:ext cx="712800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shadowbox_content" descr="cms"/>
          <p:cNvPicPr/>
          <p:nvPr/>
        </p:nvPicPr>
        <p:blipFill>
          <a:blip r:embed="rId1"/>
          <a:stretch/>
        </p:blipFill>
        <p:spPr>
          <a:xfrm>
            <a:off x="176364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shadowbox_content" descr="cms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File:Athena Herakles Staatliche Antikensammlungen 2301 B full.jpg"/>
          <p:cNvPicPr/>
          <p:nvPr/>
        </p:nvPicPr>
        <p:blipFill>
          <a:blip r:embed="rId1"/>
          <a:stretch/>
        </p:blipFill>
        <p:spPr>
          <a:xfrm>
            <a:off x="-12600" y="0"/>
            <a:ext cx="4503600" cy="6512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4656240" y="1052640"/>
            <a:ext cx="44481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Файл:Athena Herakles Staatliche Antikensammlungen 2301 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300px-Athena_Herakles_Staatliche_Antikensammlungen_2648"/>
          <p:cNvPicPr/>
          <p:nvPr/>
        </p:nvPicPr>
        <p:blipFill>
          <a:blip r:embed="rId1"/>
          <a:stretch/>
        </p:blipFill>
        <p:spPr>
          <a:xfrm>
            <a:off x="755640" y="-49320"/>
            <a:ext cx="709308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 (200x172, 8Kb)"/>
          <p:cNvPicPr/>
          <p:nvPr/>
        </p:nvPicPr>
        <p:blipFill>
          <a:blip r:embed="rId1"/>
          <a:stretch/>
        </p:blipFill>
        <p:spPr>
          <a:xfrm>
            <a:off x="1187280" y="306360"/>
            <a:ext cx="66996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539640" y="193752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рмин «керамика» происходит от греческого слова «керамос», что означает гли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ерамическими называют изделия, изготовленные из глины с различными добавками и обожженные до камнеподобного состоя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180px-Pyxis_Peleus_Thetis_Louvre_L55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684360" y="175536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термической обработки керамика приобретает огнеупорность, химическую стойкость и ряд других свойств, определяющих широкое использование ее в самых различных отраслях народного  хозяйств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Среди всех известных материалов по совокупности физикохимических, механических и художественно-эстетических свойств керамика не имеет себе равны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395280" y="137196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олисах Древней Греции керамика становится одним из главных видов художественного ремесла. Своего расцвета она достигает в VI — V вв. до н. 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делия греческих мастеров вывозились далеко за пределы Греции и оказывали всюду большое влияние на местную продукцию. Ведущее место среди греческой керамики занимало производство различных сосудов.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менитые греческие вазы не были предметом роскоши; многочисленная армия гончаров выполняла их из простой глины, для росписи использовался только ла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539640" y="1193040"/>
            <a:ext cx="813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при всей ограниченности применяемых материалов (греки не знали ни прозрачных глазурей, ни цветных эмалей), росписные вазы превращались в подлинные произведения искусства. В чернофигурных композициях роспись давалась черным лаком по незакрашенному фону , в краснофигурных—темный лак, напротив, покрывал фон, оставляя изображение незакрашенным (его красноватый цвет — это естественный цвет глиняного черепка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 "/>
          <p:cNvPicPr/>
          <p:nvPr/>
        </p:nvPicPr>
        <p:blipFill>
          <a:blip r:embed="rId1"/>
          <a:stretch/>
        </p:blipFill>
        <p:spPr>
          <a:xfrm>
            <a:off x="2050920" y="0"/>
            <a:ext cx="583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Работа на гончарном круг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img1"/>
          <p:cNvPicPr/>
          <p:nvPr/>
        </p:nvPicPr>
        <p:blipFill>
          <a:blip r:embed="rId1"/>
          <a:stretch/>
        </p:blipFill>
        <p:spPr>
          <a:xfrm>
            <a:off x="684360" y="20520"/>
            <a:ext cx="71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Image129"/>
          <p:cNvPicPr/>
          <p:nvPr/>
        </p:nvPicPr>
        <p:blipFill>
          <a:blip r:embed="rId1"/>
          <a:srcRect l="0" t="0" r="2466" b="0"/>
          <a:stretch/>
        </p:blipFill>
        <p:spPr>
          <a:xfrm>
            <a:off x="179280" y="115920"/>
            <a:ext cx="4792680" cy="482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rcRect l="4528" t="1678" r="3586" b="0"/>
          <a:stretch/>
        </p:blipFill>
        <p:spPr>
          <a:xfrm>
            <a:off x="5092560" y="2209680"/>
            <a:ext cx="39243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7:18:13Z</dcterms:created>
  <dc:creator>ADM</dc:creator>
  <dc:description/>
  <dc:language>en-US</dc:language>
  <cp:lastModifiedBy>Илья</cp:lastModifiedBy>
  <dcterms:modified xsi:type="dcterms:W3CDTF">2015-11-05T22:28:25Z</dcterms:modified>
  <cp:revision>6</cp:revision>
  <dc:subject/>
  <dc:title>Античная расписная керамика</dc:title>
</cp:coreProperties>
</file>