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D76-3041-4E2A-8522-E9C62E88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E2F-B15F-4FF0-A258-8B331B97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119-958C-43A8-89B0-8556E07D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47E-3D36-465A-963C-4F523400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0498-5F41-4407-BE01-D4940BA0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40ED-C488-468B-A002-B6B060C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2919-BD09-4CB6-B489-DF23CFD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F2E-ED52-402E-B6BE-B0FC6431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83FF-84C5-40B2-8A2E-3A1DBAD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DD1B-CAAF-41FD-A5DE-28120E1F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0709-51AA-4E76-BC58-26EE0AD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90B-74B3-4B71-B1D9-96B3458A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CF3-D078-45B3-B697-96F8A58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A7CD-0ADB-4DBF-B43F-315CE860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814-94EF-4E4D-A13F-F5BF02B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5FA9-BB4B-4213-8166-51C726A3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A18B-64EB-4338-A9D0-665AD296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48DA-7C7E-44FA-8F16-A3BC129C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9DE7-12D4-4EF0-BC53-AB6372BE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DDF7-1E36-49DF-9219-623B58DC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A69C-189D-4E93-BCBF-760FDFC3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A7B9-0685-41D3-9C38-73F2DA49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471-1A74-4B87-8557-9F70CFF5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E122-5078-4D9B-A373-FF617D4F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0317-4691-4B48-8C4B-F4B2684D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99BF-5464-4EEB-A9F7-3CF5B7F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ABA9-AC74-4EB4-950B-A01BC22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E442-B517-41C3-AF58-BF93DA1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AC60-DEDF-418C-8495-B466648F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321A-E10F-44AA-9EEF-20262ABD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7848-7791-451D-87DF-015AD074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4E3C-0CF4-4AEF-863D-1BD38FD9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DC68-2CF5-415C-B636-6CC48E8C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9FB-37CC-47AA-A138-6D946175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F3EE-87BA-480D-8A9B-3BFBA0BD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7805A-4515-4A51-9C90-FB6D3E0B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490A-4699-47BF-A515-D66618C7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E4E6-BC73-4672-B8B1-2CD7099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97F7-7DB7-45B6-928D-9C0444C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C7D7-F754-4F37-AFF9-FC9648A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3ABD-5AB8-431C-ABAA-33ACD9D2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FFCC-15E5-4BC1-9733-4A3BA192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CB6E-C6D1-4F18-9E2E-39D6031B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E28-42E2-4AB9-9C7C-62646F3B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B58-3B44-468A-B4DA-09170566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DCA-AAE9-46FB-9211-531E6E1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3BB-389E-4FCD-8225-E13AFD9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EE6-1F93-4011-9E4B-1A6549E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D9EB-7E7E-45DA-A89F-56629E7495E4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6D8-0390-4A1B-8FE8-67B04E09EC21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397A-C450-4EA1-B08C-E9A42F7E4591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FC56-1A96-4607-8B01-966DE8D1743A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d/Herakles_Amazons_Louvre_F21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alentinserov.ru/cms.ashx?req=Image&amp;imageid=f0842056-5346-45ed-9528-7fc0de1432d0&amp;key=mai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Narrow"/>
              </a:rPr>
              <a:t>АНТИЧНАЯ РАСПИСНАЯ КЕРАМИКА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5280" y="26496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6156360" y="5445000"/>
            <a:ext cx="28098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Image131"/>
          <p:cNvPicPr/>
          <p:nvPr/>
        </p:nvPicPr>
        <p:blipFill>
          <a:blip r:embed="rId1"/>
          <a:stretch/>
        </p:blipFill>
        <p:spPr>
          <a:xfrm>
            <a:off x="108000" y="58680"/>
            <a:ext cx="88916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Image132"/>
          <p:cNvPicPr/>
          <p:nvPr/>
        </p:nvPicPr>
        <p:blipFill>
          <a:blip r:embed="rId1"/>
          <a:stretch/>
        </p:blipFill>
        <p:spPr>
          <a:xfrm>
            <a:off x="1692360" y="49320"/>
            <a:ext cx="515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http://valentinserov.ru/cms.ashx?req=Image&amp;imageid=6f4cf49e-afb2-4e2a-bb44-2216c68d4a31&amp;key=main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4824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6012000" y="2705040"/>
            <a:ext cx="29178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Файл:Herakles Amazons Louvre F21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5920"/>
            <a:ext cx="71280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shadowbox_content" descr="cms"/>
          <p:cNvPicPr/>
          <p:nvPr/>
        </p:nvPicPr>
        <p:blipFill>
          <a:blip r:embed="rId1"/>
          <a:stretch/>
        </p:blipFill>
        <p:spPr>
          <a:xfrm>
            <a:off x="176364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hadowbox_content" descr="cms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File:Athena Herakles Staatliche Antikensammlungen 2301 B full.jpg"/>
          <p:cNvPicPr/>
          <p:nvPr/>
        </p:nvPicPr>
        <p:blipFill>
          <a:blip r:embed="rId1"/>
          <a:stretch/>
        </p:blipFill>
        <p:spPr>
          <a:xfrm>
            <a:off x="-12600" y="0"/>
            <a:ext cx="4503600" cy="6512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4656240" y="1052640"/>
            <a:ext cx="4448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Файл:Athena Herakles Staatliche Antikensammlungen 2301 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300px-Athena_Herakles_Staatliche_Antikensammlungen_2648"/>
          <p:cNvPicPr/>
          <p:nvPr/>
        </p:nvPicPr>
        <p:blipFill>
          <a:blip r:embed="rId1"/>
          <a:stretch/>
        </p:blipFill>
        <p:spPr>
          <a:xfrm>
            <a:off x="755640" y="-49320"/>
            <a:ext cx="7093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 (200x172, 8Kb)"/>
          <p:cNvPicPr/>
          <p:nvPr/>
        </p:nvPicPr>
        <p:blipFill>
          <a:blip r:embed="rId1"/>
          <a:stretch/>
        </p:blipFill>
        <p:spPr>
          <a:xfrm>
            <a:off x="1187280" y="306360"/>
            <a:ext cx="66996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539640" y="193752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«керамика» происходит от греческого слова «керамос», что означает гл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ерамическими называют изделия, изготовленные из глины с различными добавками и обожженные до камнеподобного состоя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80px-Pyxis_Peleus_Thetis_Louvre_L55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1755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термической обработки керамика приобретает огнеупорность, химическую стойкость и ряд других свойств, определяющих широкое использование ее в самых различных отраслях народного  хозяйств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Среди всех известных материалов по совокупности физикохимических, механических и художественно-эстетических свойств керамика не имеет себе равны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395280" y="13719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лисах Древней Греции керамика становится одним из главных видов художественного ремесла. Своего расцвета она достигает в VI — V вв. до н. 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лия греческих мастеров вывозились далеко за пределы Греции и оказывали всюду большое влияние на местную продукцию. Ведущее место среди греческой керамики занимало производство различных сосудов.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менитые греческие вазы не были предметом роскоши; многочисленная армия гончаров выполняла их из простой глины, для росписи использовался только л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539640" y="11930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при всей ограниченности применяемых материалов (греки не знали ни прозрачных глазурей, ни цветных эмалей), росписные вазы превращались в подлинные произведения искусства. В чернофигурных композициях роспись давалась черным лаком по незакрашенному фону , в краснофигурных—темный лак, напротив, покрывал фон, оставляя изображение незакрашенным (его красноватый цвет — это естественный цвет глиняного черепка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 "/>
          <p:cNvPicPr/>
          <p:nvPr/>
        </p:nvPicPr>
        <p:blipFill>
          <a:blip r:embed="rId1"/>
          <a:stretch/>
        </p:blipFill>
        <p:spPr>
          <a:xfrm>
            <a:off x="205092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Работа на гончарном круг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img1"/>
          <p:cNvPicPr/>
          <p:nvPr/>
        </p:nvPicPr>
        <p:blipFill>
          <a:blip r:embed="rId1"/>
          <a:stretch/>
        </p:blipFill>
        <p:spPr>
          <a:xfrm>
            <a:off x="684360" y="20520"/>
            <a:ext cx="71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Image129"/>
          <p:cNvPicPr/>
          <p:nvPr/>
        </p:nvPicPr>
        <p:blipFill>
          <a:blip r:embed="rId1"/>
          <a:srcRect l="0" t="0" r="2466" b="0"/>
          <a:stretch/>
        </p:blipFill>
        <p:spPr>
          <a:xfrm>
            <a:off x="179280" y="115920"/>
            <a:ext cx="4792680" cy="482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rcRect l="4528" t="1678" r="3586" b="0"/>
          <a:stretch/>
        </p:blipFill>
        <p:spPr>
          <a:xfrm>
            <a:off x="5092560" y="2209680"/>
            <a:ext cx="39243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7:18:13Z</dcterms:created>
  <dc:creator>ADM</dc:creator>
  <dc:description/>
  <dc:language>en-US</dc:language>
  <cp:lastModifiedBy>Илья</cp:lastModifiedBy>
  <dcterms:modified xsi:type="dcterms:W3CDTF">2015-11-05T22:28:25Z</dcterms:modified>
  <cp:revision>6</cp:revision>
  <dc:subject/>
  <dc:title>Античная расписная керамика</dc:title>
</cp:coreProperties>
</file>