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9DD2-81DF-4055-96D1-7D6AD70AFE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58A1-5E99-47B7-B138-2AD7760608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8D7B-E14F-4979-8685-84597AA7E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20E3-5869-44BD-BC3F-90E4D3F7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AFB3-851D-452A-A994-75A25116B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D551-B9D8-45E3-B7CD-B1F314C79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A6F0-629B-4C47-B98A-1740C962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214F-E5EA-4260-BBB8-5D55AC6B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0C55-514A-459C-86EA-9C7E2967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C715-17CA-46D7-8EAF-1BD9A8C6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E576-1194-4C5C-BB0F-8C424DE3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2718-1B50-416A-9DE5-A1A7E8DA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1940-E03A-434D-BCD2-1871476D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CC4E-88FC-4AB9-8844-8FE2A11F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A490-ED8C-472F-91CE-990C73D49A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42920" y="3929040"/>
            <a:ext cx="3025800" cy="2376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3357360" y="4005000"/>
            <a:ext cx="542916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логопед  ГБОУ №537 Московского райо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влова Н. Г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3040" y="56160"/>
            <a:ext cx="8115120" cy="418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br>
              <a:rPr sz="2300"/>
            </a:br>
            <a:br>
              <a:rPr sz="2300"/>
            </a:br>
            <a:r>
              <a:rPr b="1" lang="ru-RU" sz="3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Наравления работы учителя-логопеда 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рамках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ГРАММЫ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АДАПТАЦИЯ ПЕРВОКЛАССНИКОВ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 ШКОЛЬНОМУ ОБУЧЕНИЮ.»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гра«Палочка уменьшалочка» ( с массажной палочкой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J:\DCIM\Camera\2014-10-23 15.35.32.jpg"/>
          <p:cNvPicPr/>
          <p:nvPr/>
        </p:nvPicPr>
        <p:blipFill>
          <a:blip r:embed="rId1"/>
          <a:stretch/>
        </p:blipFill>
        <p:spPr>
          <a:xfrm>
            <a:off x="1584360" y="1600200"/>
            <a:ext cx="597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звитие связной речи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Метод наглядного моделир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Усвоение и анализ сенсорного материа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Перевод его на знаково-символический язы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Работа с модель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skhema_2"/>
          <p:cNvPicPr/>
          <p:nvPr/>
        </p:nvPicPr>
        <p:blipFill>
          <a:blip r:embed="rId1"/>
          <a:stretch/>
        </p:blipFill>
        <p:spPr>
          <a:xfrm>
            <a:off x="428760" y="3357720"/>
            <a:ext cx="3000240" cy="3357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rId8"/>
          <p:cNvPicPr/>
          <p:nvPr/>
        </p:nvPicPr>
        <p:blipFill>
          <a:blip r:embed="rId2"/>
          <a:stretch/>
        </p:blipFill>
        <p:spPr>
          <a:xfrm>
            <a:off x="4214880" y="3357720"/>
            <a:ext cx="3876480" cy="26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.Технология педагогических мастерски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ль: развитие умения применять навыки моделирования предложений, самостоятельно вступать в диалог, сотрудничать, работая в малых группах 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готовительный этап обучения работе в мастерских был направлен на развитие умений: подбирать к словам картинный ассоциативный материал; изображать значение слова рисунком, конструировать из бумаги, рассказывать о не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следующем этапе работа была нацелена на формирование у школьников вербальных ассоциаций, развитие умения оформлять речевое высказывание, конструировать предложение, связывать их в тексты, выделять ключевые понят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\\Lenovob450\на-на-таша\100_3778.JPG"/>
          <p:cNvPicPr/>
          <p:nvPr/>
        </p:nvPicPr>
        <p:blipFill>
          <a:blip r:embed="rId1"/>
          <a:stretch/>
        </p:blipFill>
        <p:spPr>
          <a:xfrm>
            <a:off x="555480" y="1143000"/>
            <a:ext cx="803304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\\Lenovob450\на-на-таша\100_3783.JPG"/>
          <p:cNvPicPr/>
          <p:nvPr/>
        </p:nvPicPr>
        <p:blipFill>
          <a:blip r:embed="rId2"/>
          <a:stretch/>
        </p:blipFill>
        <p:spPr>
          <a:xfrm>
            <a:off x="5286240" y="1428840"/>
            <a:ext cx="3714840" cy="4602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\\Lenovob450\на-на-таша\100_3785.JPG"/>
          <p:cNvPicPr/>
          <p:nvPr/>
        </p:nvPicPr>
        <p:blipFill>
          <a:blip r:embed="rId3"/>
          <a:stretch/>
        </p:blipFill>
        <p:spPr>
          <a:xfrm>
            <a:off x="428760" y="1643040"/>
            <a:ext cx="45720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\\Lenovob450\на-на-таша\100_3787.JPG"/>
          <p:cNvPicPr/>
          <p:nvPr/>
        </p:nvPicPr>
        <p:blipFill>
          <a:blip r:embed="rId2"/>
          <a:stretch/>
        </p:blipFill>
        <p:spPr>
          <a:xfrm>
            <a:off x="487440" y="1127160"/>
            <a:ext cx="816912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\\Lenovob450\на-на-таша\100_3789.JPG"/>
          <p:cNvPicPr/>
          <p:nvPr/>
        </p:nvPicPr>
        <p:blipFill>
          <a:blip r:embed="rId2"/>
          <a:stretch/>
        </p:blipFill>
        <p:spPr>
          <a:xfrm>
            <a:off x="285840" y="1428840"/>
            <a:ext cx="816912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Задачи логопедической работы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484280"/>
            <a:ext cx="82296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ствовать адаптации обучающихся к школьному обучению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вать и корректировать психические функции обучающихся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нижать эмоциональную напряженность обучающихся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ировать учебные мотивы обучающихс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определять уровень готовности обучающихся к школьному обучению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анализировать трудности в обучении обучающих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Развивать все стороны речи , владение языком во всех ситуациях и сферах обще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Актуальность логопедической работы в рамках реализации программы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дной из причин школьной дезадаптации часто  становится недостаточная речевая готовность к  обучению в школе. Нарушения в развитии речи первоклассника могут повлиять на успешность освоения им общеобразовательных программ, общении со сверстниками и педагогом и следовательно отрицательно сказаться на психологическом состоянии, вызвать снижение учебной мотивации, отклонения в поведении, и, как следствие, осложнить весь процесс приспособления ребенка к школьной жиз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одержание логопедической части программы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витие мелкой моторики, координации движений пространственн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витие лексико-грамматического строя речи. Работа над функциями словоизменения  и словообраз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витие связной реч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азвитие мелкой и общей моторики, координации движений пространственной организац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39640" y="206028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Используемые методики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Пальчиковая гимнастика ( в т.ч. с использованием мячика су-джок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Логопедическая ритмика с музыкальным сопровождением и без него в т. ч. Методика  «Расскажи стихи руками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Благодаря логоритмическим упражнениям укрепляется костно-мышечный аппарат, развиваются дыхание, моторные, сенсорные функции, воспитывается чувство равновесия, правильная осанка, походка, грация движе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оделирование сказочных истори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4"/>
          <p:cNvPicPr/>
          <p:nvPr/>
        </p:nvPicPr>
        <p:blipFill>
          <a:blip r:embed="rId2"/>
          <a:stretch/>
        </p:blipFill>
        <p:spPr>
          <a:xfrm>
            <a:off x="1214280" y="357120"/>
            <a:ext cx="585792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Методы кинезиологии, упражнения методики «Гимнастика мозга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357720" y="857160"/>
          <a:ext cx="5643360" cy="5678640"/>
        </p:xfrm>
        <a:graphic>
          <a:graphicData uri="http://schemas.openxmlformats.org/drawingml/2006/table">
            <a:tbl>
              <a:tblPr/>
              <a:tblGrid>
                <a:gridCol w="1857240"/>
                <a:gridCol w="3786120"/>
              </a:tblGrid>
              <a:tr h="5678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болоту тут и там ходит важная мад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 лягушку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 квакуш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лотила  хохотуш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зевай «лупатая»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ля тут но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ая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аем «перекрестные шаги» (правым локтем касаемся левого колена, левым локтем  - правого колена; каждое слово соответствует одному движению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ьцами правой руки захватываем мочку левого уха и быстро растираем её «массаж ушной раковины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ьцами левой  руки захватываем мочку правого  уха и  растираем е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и кладем на щеки, покачиваем головой, делаем пальцами круговые движения -  растирание щёк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озим указательными пальцами обеих рук(руки вытянуты вперед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тмично постукиваем пальцами по нос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Picture 2" descr="C:\Наташа\картинки\028-tcaplay-320-320.jpg"/>
          <p:cNvPicPr/>
          <p:nvPr/>
        </p:nvPicPr>
        <p:blipFill>
          <a:blip r:embed="rId1"/>
          <a:stretch/>
        </p:blipFill>
        <p:spPr>
          <a:xfrm>
            <a:off x="142920" y="1285920"/>
            <a:ext cx="30481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азвитие лексико-грамматического строя речи. Работа над развитием навыков словоизменения и словообразования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13840" y="2499840"/>
            <a:ext cx="847260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1.Игра «Найди лишний предмет»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«Назови лишнее слово»(среди разных частей речи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2. Игра «Пара к паре».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3. Игра в мяч «Взял один, отдай много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4. «Палочка уменьшалочка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тие суффиксального словообразования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«Придумай сказку » 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зование приставочных глаголов по демонстрируемому действию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5. Составление детьми загадок-описаний по плану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И.т.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pic"/>
          <p:cNvPicPr/>
          <p:nvPr/>
        </p:nvPicPr>
        <p:blipFill>
          <a:blip r:embed="rId1"/>
          <a:stretch/>
        </p:blipFill>
        <p:spPr>
          <a:xfrm>
            <a:off x="6929280" y="1500120"/>
            <a:ext cx="207180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4T18:34:36Z</dcterms:created>
  <dc:creator>Юля</dc:creator>
  <dc:description/>
  <dc:language>en-US</dc:language>
  <cp:lastModifiedBy>НАТАША</cp:lastModifiedBy>
  <dcterms:modified xsi:type="dcterms:W3CDTF">2015-11-25T05:04:43Z</dcterms:modified>
  <cp:revision>191</cp:revision>
  <dc:subject/>
  <dc:title>Слайд 1</dc:title>
</cp:coreProperties>
</file>