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1A5F-37BA-4C4B-AA19-7B3851F221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E02D-37EB-4622-B65F-21E6BDCD0D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C27B-4629-4FD7-9228-44467369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29A-A517-4FCB-B8E3-52528619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B60-022D-49BF-9DCC-9E6D0FD9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E41-7A3F-4E1D-B537-FA3C31E1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ED4-4A3C-49D5-9D33-CC379001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189-DD07-4E2F-BD19-E6205DA9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3B49-874C-4B61-BE30-D517EF9C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645-5821-4250-B5DF-539C8625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652-CF67-4E73-8DBD-04B284A5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1F8-B230-4D88-8099-21F7FC8A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87B-908D-47F7-B427-81CE4BC4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112-6C54-41A9-897A-703EC725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0B7E-B983-45DA-A51B-63EE1E76D2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42920" y="3929040"/>
            <a:ext cx="3025800" cy="2376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357360" y="4005000"/>
            <a:ext cx="5429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  ГБОУ №537 Московского рай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ва Н. Г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56160"/>
            <a:ext cx="8115120" cy="418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Наравления работы учителя-логопеда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амках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ГРАММЫ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ДАПТАЦИЯ ПЕРВОКЛАССНИКОВ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ШКОЛЬНОМУ ОБУЧЕНИЮ.»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а«Палочка уменьшалочка» ( с массажной палочко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J:\DCIM\Camera\2014-10-23 15.35.32.jpg"/>
          <p:cNvPicPr/>
          <p:nvPr/>
        </p:nvPicPr>
        <p:blipFill>
          <a:blip r:embed="rId1"/>
          <a:stretch/>
        </p:blipFill>
        <p:spPr>
          <a:xfrm>
            <a:off x="1584360" y="1600200"/>
            <a:ext cx="597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звитие связной речи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Метод наглядного модел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Усвоение и анализ сенсорного матери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Перевод его на знаково-символический язы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Работа с модел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skhema_2"/>
          <p:cNvPicPr/>
          <p:nvPr/>
        </p:nvPicPr>
        <p:blipFill>
          <a:blip r:embed="rId1"/>
          <a:stretch/>
        </p:blipFill>
        <p:spPr>
          <a:xfrm>
            <a:off x="428760" y="3357720"/>
            <a:ext cx="3000240" cy="3357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rId8"/>
          <p:cNvPicPr/>
          <p:nvPr/>
        </p:nvPicPr>
        <p:blipFill>
          <a:blip r:embed="rId2"/>
          <a:stretch/>
        </p:blipFill>
        <p:spPr>
          <a:xfrm>
            <a:off x="4214880" y="3357720"/>
            <a:ext cx="387648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Технология педагогических мастерск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: развитие умения применять навыки моделирования предложений, самостоятельно вступать в диалог, сотрудничать, работая в малых группах 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тельный этап обучения работе в мастерских был направлен на развитие умений: подбирать к словам картинный ассоциативный материал; изображать значение слова рисунком, конструировать из бумаги, рассказывать о не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ледующем этапе работа была нацелена на формирование у школьников вербальных ассоциаций, развитие умения оформлять речевое высказывание, конструировать предложение, связывать их в тексты, выделять ключевые понят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\\Lenovob450\на-на-таша\100_3778.JPG"/>
          <p:cNvPicPr/>
          <p:nvPr/>
        </p:nvPicPr>
        <p:blipFill>
          <a:blip r:embed="rId1"/>
          <a:stretch/>
        </p:blipFill>
        <p:spPr>
          <a:xfrm>
            <a:off x="555480" y="1143000"/>
            <a:ext cx="803304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\\Lenovob450\на-на-таша\100_3783.JPG"/>
          <p:cNvPicPr/>
          <p:nvPr/>
        </p:nvPicPr>
        <p:blipFill>
          <a:blip r:embed="rId2"/>
          <a:stretch/>
        </p:blipFill>
        <p:spPr>
          <a:xfrm>
            <a:off x="5286240" y="1428840"/>
            <a:ext cx="3714840" cy="4602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\\Lenovob450\на-на-таша\100_3785.JPG"/>
          <p:cNvPicPr/>
          <p:nvPr/>
        </p:nvPicPr>
        <p:blipFill>
          <a:blip r:embed="rId3"/>
          <a:stretch/>
        </p:blipFill>
        <p:spPr>
          <a:xfrm>
            <a:off x="428760" y="1643040"/>
            <a:ext cx="45720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\\Lenovob450\на-на-таша\100_3787.JPG"/>
          <p:cNvPicPr/>
          <p:nvPr/>
        </p:nvPicPr>
        <p:blipFill>
          <a:blip r:embed="rId2"/>
          <a:stretch/>
        </p:blipFill>
        <p:spPr>
          <a:xfrm>
            <a:off x="487440" y="1127160"/>
            <a:ext cx="816912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\\Lenovob450\на-на-таша\100_3789.JPG"/>
          <p:cNvPicPr/>
          <p:nvPr/>
        </p:nvPicPr>
        <p:blipFill>
          <a:blip r:embed="rId2"/>
          <a:stretch/>
        </p:blipFill>
        <p:spPr>
          <a:xfrm>
            <a:off x="285840" y="1428840"/>
            <a:ext cx="816912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дачи логопедической работы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8428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ствовать адаптации обучающихся к школьному обучени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ть и корректировать психические функции обучающихс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ижать эмоциональную напряженность обучающихс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ть учебные мотивы обучающих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пределять уровень готовности обучающихся к школьному обучению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нализировать трудности в обучении обучающих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Развивать все стороны речи , владение языком во всех ситуациях и сферах общ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ктуальность логопедической работы в рамках реализации программ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ой из причин школьной дезадаптации часто  становится недостаточная речевая готовность к  обучению в школе. Нарушения в развитии речи первоклассника могут повлиять на успешность освоения им общеобразовательных программ, общении со сверстниками и педагогом и следовательно отрицательно сказаться на психологическом состоянии, вызвать снижение учебной мотивации, отклонения в поведении, и, как следствие, осложнить весь процесс приспособления ребенка к школьной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одержание логопедической части программы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мелкой моторики, координации движений пространственн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лексико-грамматического строя речи. Работа над функциями словоизменения  и слово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связной реч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звитие мелкой и общей моторики, координации движений пространственной организац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9640" y="206028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спользуемые методики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альчиковая гимнастика ( в т.ч. с использованием мячика су-джок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Логопедическая ритмика с музыкальным сопровождением и без него в т. ч. Методика  «Расскажи стихи руками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Благодаря логоритмическим упражнениям укрепляется костно-мышечный аппарат, развиваются дыхание, моторные, сенсорные функции, воспитывается чувство равновесия, правильная осанка, походка, грация движ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оделирование сказочных истор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4"/>
          <p:cNvPicPr/>
          <p:nvPr/>
        </p:nvPicPr>
        <p:blipFill>
          <a:blip r:embed="rId2"/>
          <a:stretch/>
        </p:blipFill>
        <p:spPr>
          <a:xfrm>
            <a:off x="1214280" y="357120"/>
            <a:ext cx="585792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Методы кинезиологии, упражнения методики «Гимнастика мозга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357720" y="857160"/>
          <a:ext cx="5643360" cy="5678640"/>
        </p:xfrm>
        <a:graphic>
          <a:graphicData uri="http://schemas.openxmlformats.org/drawingml/2006/table">
            <a:tbl>
              <a:tblPr/>
              <a:tblGrid>
                <a:gridCol w="1857240"/>
                <a:gridCol w="3786120"/>
              </a:tblGrid>
              <a:tr h="567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болоту тут и там ходит важная мад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 лягушку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 квакуш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лотила  хохотуш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евай «лупатая»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ля тут но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ая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ем «перекрестные шаги» (правым локтем касаемся левого колена, левым локтем  - правого колена; каждое слово соответствует одному движению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цами правой руки захватываем мочку левого уха и быстро растираем её «массаж ушной раковины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цами левой  руки захватываем мочку правого  уха и  растираем е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и кладем на щеки, покачиваем головой, делаем пальцами круговые движения -  растирание щёк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зим указательными пальцами обеих рук(руки вытянуты впере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мично постукиваем пальцами по нос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2" descr="C:\Наташа\картинки\028-tcaplay-320-320.jpg"/>
          <p:cNvPicPr/>
          <p:nvPr/>
        </p:nvPicPr>
        <p:blipFill>
          <a:blip r:embed="rId1"/>
          <a:stretch/>
        </p:blipFill>
        <p:spPr>
          <a:xfrm>
            <a:off x="142920" y="1285920"/>
            <a:ext cx="3048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звитие лексико-грамматического строя речи. Работа над развитием навыков словоизменения и словообразования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3840" y="2499840"/>
            <a:ext cx="8472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1.Игра «Найди лишний предмет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«Назови лишнее слово»(среди разных частей реч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. Игра «Пара к паре».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3. Игра в мяч «Взял один, отдай много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4. «Палочка уменьшалочка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суффиксального словообразован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«Придумай сказку »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е приставочных глаголов по демонстрируемому действи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5. Составление детьми загадок-описаний по план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И.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pic"/>
          <p:cNvPicPr/>
          <p:nvPr/>
        </p:nvPicPr>
        <p:blipFill>
          <a:blip r:embed="rId1"/>
          <a:stretch/>
        </p:blipFill>
        <p:spPr>
          <a:xfrm>
            <a:off x="6929280" y="1500120"/>
            <a:ext cx="20718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4T18:34:36Z</dcterms:created>
  <dc:creator>Юля</dc:creator>
  <dc:description/>
  <dc:language>en-US</dc:language>
  <cp:lastModifiedBy>НАТАША</cp:lastModifiedBy>
  <dcterms:modified xsi:type="dcterms:W3CDTF">2015-11-25T05:04:43Z</dcterms:modified>
  <cp:revision>191</cp:revision>
  <dc:subject/>
  <dc:title>Слайд 1</dc:title>
</cp:coreProperties>
</file>