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B3A-FE39-4A01-91C8-151BCADA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BE8-B9E7-4AFD-A958-E9F37FBF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A21-E1B1-4CCA-B5E8-BF5683C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FAD-E89A-46C5-8648-F9F142F8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1E2-5515-425B-87B8-E76092F4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4DBE-B2A5-4A76-A9A6-FF82863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289B-21D7-4255-BA0B-9D1420B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3B52-87C5-4A42-8B5E-AE4FF781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5D4-AEB8-492A-9CA9-EBABB3D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AE1-8DE4-4257-BEB9-2593166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B5CC-6A1D-4A03-A1BE-9A47D69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521-DA65-4CAE-A345-FBDB896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50EC-A1E5-443F-92E1-C395742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525-8032-42F6-8750-0905DED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53B-9B20-45B0-9A85-767485F6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3D1-3B50-4030-AEED-C7A5754B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F241-37F1-4EC5-AB8E-EFC44BFE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F0AA-315D-4C65-8004-F6C655FD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DD2B-8ACA-45C2-8BDB-625CD1D0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2E01-6EB7-4F19-AF19-7A89520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F3A7-8050-4455-B81B-5A04489E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E027-D4AF-42D0-B188-CD6CFAEE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B9A-DB65-4DAD-9277-1223B68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2C8F-04FE-447E-B224-20B6C25D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71EF-4283-4131-ACE4-F7E1653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E18E-B66D-4C64-9D09-A9E2FB4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4E6C-5A11-43EE-905F-2793FB4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2AEF-4896-4954-BF5E-3277A6AA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2BB6-1C48-4A49-998E-6DAEEB5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829B-E2C9-4646-AABF-23600B36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CF26-D033-4664-895D-B428630B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3437-D192-4665-A61B-DD27613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FB98-F642-430F-96F6-E5D8A7FC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54E-F2FA-45B9-9A70-32DA61D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5DAE-D14B-4BB5-B081-46EE8037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ABAE-0E3C-4771-9051-82818F5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CC7B-688F-4F93-B587-13B42422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2954-44DE-49CC-BC8B-231B392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BC4F-3356-4126-8970-9C3BA10A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0FDE-8D70-48C2-AB1C-26B08F8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77AF-DE23-4B90-9DD9-B4B3553B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A15B-D935-428A-8F6F-8C99CC4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D3D8-F9C6-4F29-8F11-80FF931F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EFCA-FD80-47C8-987B-0883119F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E4F-9B2F-4178-89F2-28E116C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3F0B-64AD-4F64-AA82-7EE7C9E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10F7-9784-4CC1-8124-A006D188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F1CEF-40D2-4418-9F7F-1761D8DB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5D12-DB05-4B92-8149-0E93837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06F2-78E8-4360-A15C-F28A532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DE36-4F4A-4CE5-AC63-653E33A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FDB1-42EE-4FD5-A3CC-1B19E27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B670-688D-4DFF-950B-DAF1C93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02D6-48D1-413C-B07E-B34E47C3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FEB5-DCF0-42E5-85CC-6213E318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3B1-F21B-4106-930B-C289DE5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ED55-1C97-4C1B-A3C1-FAE52AFD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EC1B-3EAC-41B0-BF60-0351A89A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66AE5-7BAF-47DC-820D-FB184DC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E2B9-B6BA-4D8B-9585-D7CE668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ADAF5-8D85-4530-A759-451B0C1A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08DB-A9F3-40EC-8EEB-33C9CB3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5B532-84E0-4E47-9583-C9C24FC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D112-7EB7-4DAD-96A1-3E35CA6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D76C5-4BE8-4E09-B5EA-D34C0783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764B-8970-4CBB-ABC2-EABA4FC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6AF-AE6F-46DB-BD77-C087C26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55CF2-6F35-404E-A591-A78B651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71C5-D711-4BD7-80F5-6ACF133D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AC75-DAB8-42C2-A52B-2F1C592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BAEA-D7ED-44C7-A48B-8A8320A2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E3D4-0AA1-4F41-B45A-E2ADAFE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F04C9-E86A-4CF4-9337-1A89118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00A6-8404-4188-B038-62684412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41D4-AE75-472A-BE37-18B4E21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1766-90AD-45BA-8E7A-0329F811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7B895-3DB4-4CFC-A8C2-AF13A7B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A1A-FFC4-42D6-BF0D-EED0943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DA0D5-6F80-43BA-8A1C-D70F2B8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3B57-83E7-495B-871D-FD32832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9700-EF9C-4952-A49F-E2E189AB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15A76-1392-41AD-8AE3-C0E9AE51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9644-1BAE-4076-AE8D-FF734E8F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EF4-80B1-4A2B-9A45-1A6D3EF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B02-64BE-47B3-BCA2-A03475D8156C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89D-E046-410F-A8F4-36523D63AC73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1A9-22C5-4993-AB8F-AF5AF1D7853C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029-11A3-4070-B69B-95A11F927F8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B64-506B-447F-B489-DED8D952B74A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1C0-C877-4E37-969E-45458FB2B7F9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CC6-772B-4809-AB21-E88D98F20D4E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Формирование коммуникативных способностей в старшем дошкольном возрасте посредством сюжетно-ролевой игр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343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Выполнила: слушатель  ЧОУ ДПО «Региональная академия делового образования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Мащук Наталья Николаев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Результаты диагностики сформированности  коммуникативных навыков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ожительная динамика развития навыков общения дете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5" name="Object 1"/>
          <p:cNvGraphicFramePr/>
          <p:nvPr/>
        </p:nvGraphicFramePr>
        <p:xfrm>
          <a:off x="2214720" y="2714760"/>
          <a:ext cx="664344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714760"/>
                    <a:ext cx="664344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Сформированность коммуникативных способност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ходе систематической, целенаправленной и планомерной работы произошли качественные и количественные изменения показателей уровня сформированности коммуникативных способностей у детей старшего дошкольного возраста посредством использования сюжетно-ролевой иг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88c5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Актуальность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условиях     современного существования ДОУ воспитатели часто сталкиваются с нарушениями в сфере общения между детьми – они ссорятся, конфликтуют друг с другом, не слышат собеседника. Это свидетельствует о нарушении коммуникативных качеств. Поэтому     </a:t>
            </a:r>
            <a:r>
              <a:rPr b="1" i="1" lang="ru-RU" sz="2600" spc="-1" strike="noStrike">
                <a:solidFill>
                  <a:srgbClr val="ff0000"/>
                </a:solidFill>
                <a:latin typeface="Corbel"/>
              </a:rPr>
              <a:t>важно -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развивать коммуникативные способности, которые в дальнейшем  обеспеча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качественную деятельность ребенка  в сфере общения, научат быть успешным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Цель исслед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оретически обосновать и экспериментально проверить влияние сюжетно – ролевой игры на формирование коммуникативных способностей у детей старшего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22ea4"/>
                </a:solidFill>
                <a:latin typeface="Corbel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ить психолого – педагогическую литературу 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ить уровень сформированности коммуникативных способностей у детей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ить динамику уровня сформированности коммуникативных способностей 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44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Коммуникативные способ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920"/>
            <a:ext cx="749952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муникативные способности – это умения и навыки общения человека с людьми, от которых зависит его успешност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1"/>
          <a:stretch/>
        </p:blipFill>
        <p:spPr>
          <a:xfrm>
            <a:off x="2857680" y="2928960"/>
            <a:ext cx="4754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Сюжетно-ролевая игр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07136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южетно-ролевая игра — ведущая деятельность дошкольного возраста, в которой дети берут на себя «взрослые» роли и в игровых условиях воспроизводят деятельность взрослых и отношения между ни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Методика проведения сюжетно-ролевой игр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1420920" y="993600"/>
            <a:ext cx="75214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 этап – организационный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предметно-развивающую среду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инвентар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ть комфортные условия для положительной мотивации детей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варительная работа с  деть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500280" y="3857760"/>
            <a:ext cx="3345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 этап – практические действ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умения вступать в диало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умения слушать и слыш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ть умение уважительного отношения к мнению и интересам других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785960" y="400068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643720" y="4071960"/>
            <a:ext cx="2400120" cy="18003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5"/>
          <p:cNvSpPr/>
          <p:nvPr/>
        </p:nvSpPr>
        <p:spPr>
          <a:xfrm>
            <a:off x="1428840" y="60008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Торговый цен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5500800" y="60008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Интервь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3 этап – заключительный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з игры, подведение итогов дея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метить активных дете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буждать детей к обмену  мнениями о впечатлениях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мулировать  детей к игровой деятельности посредством сюжетно-ролевых иг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1:04:54Z</dcterms:created>
  <dc:creator>XP GAME 2008</dc:creator>
  <dc:description/>
  <dc:language>en-US</dc:language>
  <cp:lastModifiedBy>XP GAME 2008</cp:lastModifiedBy>
  <dcterms:modified xsi:type="dcterms:W3CDTF">2015-03-30T05:40:52Z</dcterms:modified>
  <cp:revision>37</cp:revision>
  <dc:subject/>
  <dc:title>Формирование коммуникативных способностей в старшем дошкольном возрасте посредством сюжетно-ролевой игры.</dc:title>
</cp:coreProperties>
</file>