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2D8-667B-46F7-BA12-BE41E7A3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A82-FFC5-46D7-8C70-38C2A9D7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C7B-9A8C-47D5-B974-C3073A1F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EA0-3A06-45F6-8EAA-53315C58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CD5F-EE28-40E0-ADDD-1BBD4130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80CB-8F24-4928-A296-AAD13D77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DC87-2FD1-4FF3-85AC-5E580354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DB9C-FBE2-4F61-97F0-EA90E42A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2DFE-7CBB-4E04-BAFC-1680A9E9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B7A5-1065-4B48-BBF5-FC53E0F0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8A23-16F4-49EC-92F9-BB175160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460-A431-4BE1-A14C-B419FABE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D907-1253-4B33-AE77-2DC16C2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C50E-175B-427C-B42F-C383E055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D84F-B5E1-4C57-8920-96F0FBC7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74C9-A93B-4D64-ADB2-B2DC7523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332E-F215-40F5-A82B-F97876F1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B187-F014-4007-A235-A84C75F2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5BEB-1B5B-4B03-B59C-CC92A532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E2F8-8E19-4F78-8108-0677202C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C30F7-6000-4445-A61A-A5F4735D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E503-0FD3-4B5C-915B-B2A650C7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857-9389-4710-A44A-01C84322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09CC-DFAB-4323-9E53-F844F463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92121-64E1-49CF-82FA-8E5096BD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874E-8A8E-420E-920F-2B56C87E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96218-9C1B-4492-8BB5-9E2BED14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00131-476A-47AE-9748-4079DB8A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02DE-D53E-4A68-BA2B-1561D2B5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7F3D-D2CC-408B-8D26-0F346514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6141-F9C8-4585-9663-E904D92B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65AF-00C0-4D9D-A846-314F61B2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24548-5136-4894-9B1F-842EE514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196-2CBA-456D-9F36-112CA44C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0BFF1-A774-4B0C-B744-C355D209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7AF4-7C2B-4EF9-8447-C93DC5E7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465B-7B4D-4050-B73F-BF91B228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EC97-7F47-4481-928E-A067C093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3807-57EC-4240-8386-8D7BB083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C14F-0FB9-4A71-9605-5C9D088C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A038-CF9F-402F-8A9B-74D31266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4A264-F1E8-4111-A0C0-0827B76C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A51A-25E2-4D18-893D-0CDF6E61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F6661-D3DA-43A6-85FA-5B47166D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08F-DFCA-48E9-A729-1D4DFB8D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7C14E-56BA-420E-867A-83251FAB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7049B-C4CB-4667-8527-B98C1366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2E79E-F7FF-4207-AC10-65EAA2FB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7A55A-4588-4745-912F-17772F6B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1A845-406D-43D9-BE7F-7F819171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2F7F5-8EAA-4E81-BE1E-D4CD018A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50DBB-9700-4CF4-BB4F-15F33FB2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247A5-701D-4016-8048-BD5D8BE7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8E525-0094-4E3A-9EA5-DBBF2523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734EF-C349-4709-9B5F-C5A8FA5E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900-7234-40CC-B88F-B4EE9190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6C884-AF47-40DA-A164-9B779323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040F3-065E-4C11-A913-BA04C54B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6B2DC-EE5C-44EA-A5E0-671FAB17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E930-B6D4-40BD-867A-7F5A26FD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CBF6-9BD0-4640-BF50-2F234253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2ECB6-B402-4946-8288-69AC0B42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52D06-B9D2-430D-B790-B8780064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D22E3-DD55-4CE7-B432-AF4BECCB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4DFB4-E563-4B26-9350-259A31B2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6FD8A-DD8B-48E6-B5A7-074F916D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DED-BAF3-473B-897C-32783F12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68005-9ED2-49E3-9EAB-F5E328AA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1486D-5B65-4FDC-B45B-471BE252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8C189-24AF-4C1B-B7EC-1FE4F8DF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61CC4-65AB-4D67-86AB-DF713BFC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74CD4-34E6-4CD0-A8CF-D0868503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A3548-918A-4B46-95C6-EE554835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4C4BE-6D26-4313-82AF-0F9E45FE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A5488-90AC-420A-9FA7-1C907632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DAB98-5159-4E1D-854D-1EB1C35B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84FEB-FB12-4F27-8C6B-A4695F31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BBD-169E-4B57-A548-D244E812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3FC22-383A-4221-8B42-098A851B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25FBD-FAFA-45BC-98E1-1CAAE0D2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398FA-6091-457D-B1FE-14B5DA17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DCB77-64DE-45F0-94DA-42E4B470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91F90-6518-47A2-AEB9-AF233B10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393-D26F-4EA0-A887-9AA9873F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148D-D397-43E6-A95B-6B11DDA2DD0E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E14A-EE46-4DB7-9B92-260978ED43AA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F605-F810-41FA-B605-3E42ACB95476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C57D-A2EB-4F4D-B1BE-E6D7C66927A4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B7C4-EE93-4133-BA72-A4B6F7C3C617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6FB0-D190-4BF9-9CCC-1F94719AEA32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7CE6-4D82-41AD-902A-9E56995A14A5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22ea4"/>
                </a:solidFill>
                <a:latin typeface="Corbel"/>
              </a:rPr>
              <a:t>Формирование коммуникативных способностей в старшем дошкольном возрасте посредством сюжетно-ролевой игры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3436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0f62"/>
                </a:solidFill>
                <a:latin typeface="Corbel"/>
              </a:rPr>
              <a:t>Выполнила: слушатель  ЧОУ ДПО «Региональная академия делового образования»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0f62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770f62"/>
                </a:solidFill>
                <a:latin typeface="Corbel"/>
              </a:rPr>
              <a:t>Мащук Наталья Николаевн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74995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Результаты диагностики сформированности  коммуникативных навыков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ложительная динамика развития навыков общения детей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5" name="Object 1"/>
          <p:cNvGraphicFramePr/>
          <p:nvPr/>
        </p:nvGraphicFramePr>
        <p:xfrm>
          <a:off x="2214720" y="2714760"/>
          <a:ext cx="664344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714760"/>
                    <a:ext cx="664344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22ea4"/>
                </a:solidFill>
                <a:latin typeface="Corbel"/>
              </a:rPr>
              <a:t>Сформированность коммуникативных способносте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ходе систематической, целенаправленной и планомерной работы произошли качественные и количественные изменения показателей уровня сформированности коммуникативных способностей у детей старшего дошкольного возраста посредством использования сюжетно-ролевой игр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ctr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488c5"/>
                </a:solidFill>
                <a:latin typeface="Corbe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22ea4"/>
                </a:solidFill>
                <a:latin typeface="Corbel"/>
              </a:rPr>
              <a:t>Актуальность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 условиях     современного существования ДОУ воспитатели часто сталкиваются с нарушениями в сфере общения между детьми – они ссорятся, конфликтуют друг с другом, не слышат собеседника. Это свидетельствует о нарушении коммуникативных качеств. Поэтому     </a:t>
            </a:r>
            <a:r>
              <a:rPr b="1" i="1" lang="ru-RU" sz="2600" spc="-1" strike="noStrike">
                <a:solidFill>
                  <a:srgbClr val="ff0000"/>
                </a:solidFill>
                <a:latin typeface="Corbel"/>
              </a:rPr>
              <a:t>важно -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развивать коммуникативные способности, которые в дальнейшем  обеспеча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качественную деятельность ребенка  в сфере общения, научат быть успешным!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22ea4"/>
                </a:solidFill>
                <a:latin typeface="Corbel"/>
              </a:rPr>
              <a:t>Цель исследова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еоретически обосновать и экспериментально проверить влияние сюжетно – ролевой игры на формирование коммуникативных способностей у детей старшего дошкольного возраст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22ea4"/>
                </a:solidFill>
                <a:latin typeface="Corbel"/>
              </a:rPr>
              <a:t>Задачи исследо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учить психолого – педагогическую литературу 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явить уровень сформированности коммуникативных способностей у детей 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явить динамику уровня сформированности коммуникативных способностей 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44480" y="285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22ea4"/>
                </a:solidFill>
                <a:latin typeface="Corbel"/>
              </a:rPr>
              <a:t>Коммуникативные способност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920"/>
            <a:ext cx="749952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ммуникативные способности – это умения и навыки общения человека с людьми, от которых зависит его успешность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8" descr=""/>
          <p:cNvPicPr/>
          <p:nvPr/>
        </p:nvPicPr>
        <p:blipFill>
          <a:blip r:embed="rId1"/>
          <a:stretch/>
        </p:blipFill>
        <p:spPr>
          <a:xfrm>
            <a:off x="2857680" y="2928960"/>
            <a:ext cx="4754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22ea4"/>
                </a:solidFill>
                <a:latin typeface="Corbel"/>
              </a:rPr>
              <a:t>Сюжетно-ролевая игр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071360"/>
            <a:ext cx="74995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Сюжетно-ролевая игра — ведущая деятельность дошкольного возраста, в которой дети берут на себя «взрослые» роли и в игровых условиях воспроизводят деятельность взрослых и отношения между ни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6" descr=""/>
          <p:cNvPicPr/>
          <p:nvPr/>
        </p:nvPicPr>
        <p:blipFill>
          <a:blip r:embed="rId1"/>
          <a:stretch/>
        </p:blipFill>
        <p:spPr>
          <a:xfrm>
            <a:off x="2857680" y="32148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22ea4"/>
                </a:solidFill>
                <a:latin typeface="Corbel"/>
              </a:rPr>
              <a:t>Методика проведения сюжетно-ролевой игры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1"/>
          <a:stretch/>
        </p:blipFill>
        <p:spPr>
          <a:xfrm>
            <a:off x="1420920" y="993600"/>
            <a:ext cx="752148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 этап – организационный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держание работ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920"/>
            <a:ext cx="74995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готовить предметно-развивающую среду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готовить инвентар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здать комфортные условия для положительной мотивации детей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дварительная работа с  деть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500280" y="3857760"/>
            <a:ext cx="33451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2 этап – практические действи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содержание работ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умения вступать в диало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умения слушать и слыша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ть умение уважительного отношения к мнению и интересам других дет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1785960" y="400068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5643720" y="4071960"/>
            <a:ext cx="2400120" cy="1800360"/>
          </a:xfrm>
          <a:prstGeom prst="rect">
            <a:avLst/>
          </a:prstGeom>
          <a:ln w="0">
            <a:noFill/>
          </a:ln>
        </p:spPr>
      </p:pic>
      <p:sp>
        <p:nvSpPr>
          <p:cNvPr id="339" name="TextBox 5"/>
          <p:cNvSpPr/>
          <p:nvPr/>
        </p:nvSpPr>
        <p:spPr>
          <a:xfrm>
            <a:off x="1428840" y="600084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«Торговый цен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5500800" y="600084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«Интервь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3 этап – заключительный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держание работ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нализ игры, подведение итогов деятельност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метить активных детей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буждать детей к обмену  мнениями о впечатлениях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имулировать  детей к игровой деятельности посредством сюжетно-ролевых иг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11:04:54Z</dcterms:created>
  <dc:creator>XP GAME 2008</dc:creator>
  <dc:description/>
  <dc:language>en-US</dc:language>
  <cp:lastModifiedBy>XP GAME 2008</cp:lastModifiedBy>
  <dcterms:modified xsi:type="dcterms:W3CDTF">2015-03-30T05:40:52Z</dcterms:modified>
  <cp:revision>37</cp:revision>
  <dc:subject/>
  <dc:title>Формирование коммуникативных способностей в старшем дошкольном возрасте посредством сюжетно-ролевой игры.</dc:title>
</cp:coreProperties>
</file>