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8167-3573-4850-9071-190B93BF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87A7-D245-4D84-8726-32D7B96C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E5D0-C140-4C25-A920-D9910B01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2A77-829E-483A-AF82-9A129C73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D4AC-AB12-4CC6-884B-F5D2C17E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0CB5-F1D9-48F0-B708-AE7B09AC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4019-A055-49D2-A7F8-159D3043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919-FE94-43BF-A651-500650A0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F47C-09D2-478E-967F-0CCF1AC4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881-2990-4461-889C-1123D0F5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8E9C-CAF1-4BE1-8233-6AFA9266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B8C0-6A04-43B9-AA50-63EE78FD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81E8-4B37-4A06-B6B0-BB99F97E36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s://avatanplus.com/files/resources/mid/575ae5db1a38f1553b11dfe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е утро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http://11y.ru/files/00003168.gif"/>
          <p:cNvPicPr/>
          <p:nvPr/>
        </p:nvPicPr>
        <p:blipFill>
          <a:blip r:embed="rId2"/>
          <a:stretch/>
        </p:blipFill>
        <p:spPr>
          <a:xfrm>
            <a:off x="2500200" y="2286000"/>
            <a:ext cx="38102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s://avatanplus.com/files/resources/mid/575ae5db1a38f1553b11dfe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6429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 фамилию его узнать, нужно шифр разгадат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е ж П  р и з  ш  в  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1 2 3  4 5 6  7  8  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швин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s://ds04.infourok.ru/uploads/ex/04f0/00002bff-3aa7431f/hello_html_51cda98e.jpg"/>
          <p:cNvPicPr/>
          <p:nvPr/>
        </p:nvPicPr>
        <p:blipFill>
          <a:blip r:embed="rId2"/>
          <a:stretch/>
        </p:blipFill>
        <p:spPr>
          <a:xfrm>
            <a:off x="1500120" y="3643200"/>
            <a:ext cx="23288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s://avatanplus.com/files/resources/mid/575ae5db1a38f1553b11dfe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785880" y="5243040"/>
            <a:ext cx="77580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вин Михаил Михайлови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73-1954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pbs.twimg.com/media/B8_DHtMIIAAx2bm.jpg"/>
          <p:cNvPicPr/>
          <p:nvPr/>
        </p:nvPicPr>
        <p:blipFill>
          <a:blip r:embed="rId2"/>
          <a:stretch/>
        </p:blipFill>
        <p:spPr>
          <a:xfrm>
            <a:off x="2500200" y="642960"/>
            <a:ext cx="41752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143000" y="5946480"/>
            <a:ext cx="740088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ловская губер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foto-progulki.ru/wp-content/uploads/2013/02/prishvia_6-290x290.jpg"/>
          <p:cNvPicPr/>
          <p:nvPr/>
        </p:nvPicPr>
        <p:blipFill>
          <a:blip r:embed="rId1"/>
          <a:stretch/>
        </p:blipFill>
        <p:spPr>
          <a:xfrm>
            <a:off x="571680" y="1000080"/>
            <a:ext cx="3904920" cy="3905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raionka.org/images/stories/starajarussa/16/04mm_prish.jpg"/>
          <p:cNvPicPr/>
          <p:nvPr/>
        </p:nvPicPr>
        <p:blipFill>
          <a:blip r:embed="rId2"/>
          <a:stretch/>
        </p:blipFill>
        <p:spPr>
          <a:xfrm>
            <a:off x="5000760" y="1928880"/>
            <a:ext cx="3906720" cy="2643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s://avatanplus.com/files/resources/mid/575ae5db1a38f1553b11dfe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99680" y="6000480"/>
            <a:ext cx="80866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любил родину: леса и поля, реки озёра, зверей и птиц.  Любил всё жив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s://fs00.infourok.ru/images/doc/259/264112/2/640/img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https://avatanplus.com/files/resources/mid/575ae5db1a38f1553b11dfe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571400" y="928440"/>
            <a:ext cx="65437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чего начинается Родина для Пришвина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 вы понимаете слова: «Охранять природу - значит охранять Родину»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каждой былинки на земле есть место, откуда она берёт жизненную силу. Так и человек имеет свои корни, свою малую Родину. Поэтому при слове Родина перед мысленным взором  возникает  самое дорогое и родно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чего начинается Родина для вас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ились ли мы с поставленными задачами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 что вы сегодня можете себя похвалить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3T13:47:36Z</dcterms:created>
  <dc:creator>Александра</dc:creator>
  <dc:description/>
  <dc:language>en-US</dc:language>
  <cp:lastModifiedBy>Александра</cp:lastModifiedBy>
  <dcterms:modified xsi:type="dcterms:W3CDTF">2017-05-23T14:21:05Z</dcterms:modified>
  <cp:revision>4</cp:revision>
  <dc:subject/>
  <dc:title>Слайд 1</dc:title>
</cp:coreProperties>
</file>