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BF5-07CA-4FF0-83CA-0C05EECB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752-A55F-4E03-AE1A-4D62E728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FBC-1295-46F7-A091-FAFA7700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332-A24A-4191-80B5-999AEE0C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D99-F854-48BC-8BDF-12AF950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04E-C839-4E1F-BFBA-2A52A928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8F3-1164-4CA1-BED6-F34D2C5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72F-ADEB-40C9-ADEA-27E97C8C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DFD-0AD2-4244-A529-C9BF5C51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AD3-C6B8-45CF-8613-067F0C6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4E1-8D9A-4A3D-BE66-6778574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091-19CF-4757-8785-7D697AB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02F9-BCCB-413E-AA65-1D9171DC3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s://avatanplus.com/files/resources/mid/575ae5db1a38f1553b11dfe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е утро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://11y.ru/files/00003168.gif"/>
          <p:cNvPicPr/>
          <p:nvPr/>
        </p:nvPicPr>
        <p:blipFill>
          <a:blip r:embed="rId2"/>
          <a:stretch/>
        </p:blipFill>
        <p:spPr>
          <a:xfrm>
            <a:off x="2500200" y="2286000"/>
            <a:ext cx="38102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s://avatanplus.com/files/resources/mid/575ae5db1a38f1553b11dfe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429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 фамилию его узнать, нужно шифр разгад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е ж П  р и з  ш  в  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 2 3  4 5 6  7  8  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швин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ds04.infourok.ru/uploads/ex/04f0/00002bff-3aa7431f/hello_html_51cda98e.jpg"/>
          <p:cNvPicPr/>
          <p:nvPr/>
        </p:nvPicPr>
        <p:blipFill>
          <a:blip r:embed="rId2"/>
          <a:stretch/>
        </p:blipFill>
        <p:spPr>
          <a:xfrm>
            <a:off x="1500120" y="3643200"/>
            <a:ext cx="2328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s://avatanplus.com/files/resources/mid/575ae5db1a38f1553b11dfe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785880" y="5243040"/>
            <a:ext cx="7758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вин Михаил Михайло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73-195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pbs.twimg.com/media/B8_DHtMIIAAx2bm.jpg"/>
          <p:cNvPicPr/>
          <p:nvPr/>
        </p:nvPicPr>
        <p:blipFill>
          <a:blip r:embed="rId2"/>
          <a:stretch/>
        </p:blipFill>
        <p:spPr>
          <a:xfrm>
            <a:off x="2500200" y="642960"/>
            <a:ext cx="4175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5946480"/>
            <a:ext cx="740088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ловская губер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foto-progulki.ru/wp-content/uploads/2013/02/prishvia_6-290x290.jpg"/>
          <p:cNvPicPr/>
          <p:nvPr/>
        </p:nvPicPr>
        <p:blipFill>
          <a:blip r:embed="rId1"/>
          <a:stretch/>
        </p:blipFill>
        <p:spPr>
          <a:xfrm>
            <a:off x="571680" y="1000080"/>
            <a:ext cx="3904920" cy="390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raionka.org/images/stories/starajarussa/16/04mm_prish.jpg"/>
          <p:cNvPicPr/>
          <p:nvPr/>
        </p:nvPicPr>
        <p:blipFill>
          <a:blip r:embed="rId2"/>
          <a:stretch/>
        </p:blipFill>
        <p:spPr>
          <a:xfrm>
            <a:off x="5000760" y="1928880"/>
            <a:ext cx="3906720" cy="26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avatanplus.com/files/resources/mid/575ae5db1a38f1553b11dfe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99680" y="6000480"/>
            <a:ext cx="80866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любил родину: леса и поля, реки озёра, зверей и птиц.  Любил всё жив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s://fs00.infourok.ru/images/doc/259/264112/2/640/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s://avatanplus.com/files/resources/mid/575ae5db1a38f1553b11dfe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571400" y="928440"/>
            <a:ext cx="6543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чего начинается Родина для Пришвин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 вы понимаете слова: «Охранять природу - значит охранять Родину»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каждой былинки на земле есть место, откуда она берёт жизненную силу. Так и человек имеет свои корни, свою малую Родину. Поэтому при слове Родина перед мысленным взором  возникает  самое дорогое и родн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чего начинается Родина для вас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ились ли мы с поставленными задачами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что вы сегодня можете себя похвалит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13:47:36Z</dcterms:created>
  <dc:creator>Александра</dc:creator>
  <dc:description/>
  <dc:language>en-US</dc:language>
  <cp:lastModifiedBy>Александра</cp:lastModifiedBy>
  <dcterms:modified xsi:type="dcterms:W3CDTF">2017-05-23T14:21:05Z</dcterms:modified>
  <cp:revision>4</cp:revision>
  <dc:subject/>
  <dc:title>Слайд 1</dc:title>
</cp:coreProperties>
</file>