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77B-14F8-461D-9F89-0FDF9D54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FFF-45C4-4051-B215-AB308B9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64B-6D6E-40F4-B7B6-D2302B50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85E-D755-4EE9-99E5-8C3A1302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36F-9B04-4395-9F28-6C7B7CEF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7D8-8D8E-4F8B-B357-12D71DDD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0D0-AF31-4068-BD2E-4DC0859F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AA2-3EA2-47E8-9EAC-ED9FC58B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657-D247-4D5F-9F1D-CD491FAB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F29-7A43-4DB9-86CC-ADD7CC77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4B9-7E8B-4FF5-8AB4-C9DA6013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2F3-9048-4395-8C76-45801740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87A-AA60-4B1B-A96C-5DF4F2297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206360" y="1225440"/>
            <a:ext cx="6804000" cy="2676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611280" y="4437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дготовила: старший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ДОУ «ЦРР – детский сад №12» Троицких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оронеж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971640" y="144468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с песком также является эффективным способом снижения адаптационного стресса у детей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ая за играми детей, мы видим, как положительно влияет песок на их эмоциональное самочувствие, являясь прекрасным средством для развития и самореализации ребенк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роведение данных игр имеются ящики с песком и набор игрового материал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песком дают больший воспитательный и образовательный эффект, нежели стандартные форм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826920" y="1484280"/>
            <a:ext cx="7490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-первых, существенно усиливается желание ребенка узнавать что-то новое, экспериментировать и работать самостоятельно. Во-вторых, в песочнице мощно развивается тактильная чувствительность как основа «ручного интеллекта». В-третьих, в играх с песком более гармонично и интенсивно развиваются все познавательные функции, а также речь и моторика. В-четвертых, совершенствуется предметно-игровая деятельность, что в дальнейшем способствует развитию сюжетно-ролевой игры и коммуникативных навыков ребенка. В-пятых, песок, как и вода, является прекрасным психопрофилактическим средством. Способен снимать отрицательную энергию, стабилизировать эмоциональное состояние, что особенно актуально в работе с детьми, с тяжелой степенью адапт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826920" y="1628640"/>
            <a:ext cx="74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используем игры с крупой – пшеном, гречкой, рисом. Например: «играем с воронкой», «сортируем», «просеиваем через сито», «ищем клад», а также из крупы можно сделать аппликацию, или просто погрузить руки в нее. При этом обязательно работают обе руки, а не одна ведущая, то есть работают сразу два полушария мозг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мы используем тестопластику. Лепка из солёного теста стимулирует речевую активность детей, вызывает речевое подражание, а в дальнейшем способствует возникновению диалога с персонажами, с взрослым и между детьми, а диалог со сверстниками, пусть на самом «примитивном» уровне» — великое подспорье в адаптации маленького человека к новой сред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826920" y="1700280"/>
            <a:ext cx="74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элемент арт-терапии используем «Пальцевую живопись». Именно нетрадиционное рисование создает атмосферу непринужденности и эмоционально – положительное отношение к деятельности. Не меньше удовольствия детям раннего возраста приносит конструирование, лепка из пластилин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дети с удовольствием играют с мыльными пузырями, пускают их, пытаются дотронуться до них, чтобы лопнуть и испытывают только положительные эмоци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шему вниманию предлагаем видеоролик практической деятельности педагога – психолога с детьми раннего возраста в период адапт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1258920" y="220464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. о разнообразие детских игр способствует заинтересованности жизнью в детском саду, поэтому данные методики применяют воспитатели и специалисты  нашего детского сада в сво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826920" y="134136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ннее детств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период интенсивного физического и психического развития. По темпам развития ранний возраст не имеет себе подобных в последующие периоды жизни ребенка. При этом быстрый темп развития осуществляется на весьма неблагополучном фоне – недостаточной морфологической и функциональной зрелости органов и систем, что повышает ранимость организма, в т.ч. и эмоциональную. Дети раннего возраста в большей степени, чем старшие подвержены заболеваниям. Малышам присуща внушаемость, впечатлительность. Им легко передается настроение взрослых и детей. Стоить заплакать одному, как по цепной начинают плакать другие малыш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т же период чаще всего выпадает первое посещение детского сада, т.е. впервые происходит отрыв от матери и первый опыт социализации, который сопровождается адаптацией к новым услови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116000" y="185904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ыкнуть к детскому саду не так-то просто. Страдают и дети и родители. Поступление малыша в детский сад часто вызывает стресс. Полностью меняется окружающая среда ребенка, его окружает большое количество незнакомых взрослых и детей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ериод привыкания к детскому саду прошел быстрее и спокойнее, используются различные адаптационные методики и при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187280" y="184464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жде всего, создана естественная стимулирующая среда, в которой ребенок чувствует себя комфортно и безопасно, проявлял творческую активность, развивался, приобретал социальные навык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эмоционального мира ребенка немыслимо без существования в нем игрушек. Именно они служат для него той средой, которая позволяет выражать свои чувства, исследовать окружающий мир, учат общаться и познавать себя. Поэтому акцент в выборе игр для детей раннего возраста мы делаем на сенсорные и моторны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1476360" y="162864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тимальное комплексное воздействие на все органы чувств и нервную систему человека, очарование “живой сказки”, создающее радостное настроение и ощущение полной безопасности – все это позволяет говорить об уникальности сенсорной комнаты для детей раннего возраста с проблемами в адаптации. Ее использование значительно сокращает этап установления эмоционального контакта с ребенком и повышает эффективность любых мероприятий, направленных на улучшение психического и физического здоровь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971640" y="155736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ннем возрасте непосредственное эмоциональное общение со взрослыми очень важно. Оно является ведущей линией его нервно — психического развития. Сенсорная комната позволяет обогатить ребенка положительными эмоциями, поэтому общение с детьми происходит в доброжелательной обстановке, поощряя каждое выполнение действий ребенком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истине волшебное воздействие интерактивной среды создает невидимый мостик между ребенком и взрослыми. В сенсорной комнате проводится направленная деятельность, в которой используется оборудование: напольное покрытие, маты, тактильные кирпичики разной жесткости, пуфики — кресла с гранулами, тактильная дорожка, уголок с воздушно — пузырьковой колонной, массажные мячики, сухой бассейн, диски с музыкальными произведени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826920" y="1413000"/>
            <a:ext cx="7490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опасных предметов дают ребенку ощущение безопасности при передвижении, а значит, развивают самостоятельность, навыки общения и самообслуживания, способствуют развитию двигательных и психических навыков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ами деятельности являются упражнения, направленные на развитие моторной ловкости, стимулирования сенсорной чувствительности и двигательной активности детей, а также релаксацию, снятие эмоционального и мышечного напряжения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в сенсорной комнате помогают существенно сократить адаптационный период к новым, для детей условиям жизни в детском саду, служат профилактическим средством отклонений в эмоционально-волевой сфере. Волшебный мир сенсорной комнаты никого не оставляет равнод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826920" y="141300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роцессе игры они приобретают новые знания и навыки, познают окружающий мир, учатся общаться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тр игровой поддержки ребенка позволяет расширить жизненное пространство детей, изменять при необходимости среду и приобретать опыт общения с людьми. Это помогает решению проблемных ситуаций, которые, так или иначе, возникают в детско-взрослом сообществе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детей раннего возраста посещение Центра игровой поддержки ребенка позволяет приобрести и развивает определенные социальные, бытовые навыки и подготавливают к посещению детского сад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огда в группе детского сада нет возможностей для формирования различных типов взаимоотношений между взрослыми и детьми, развития процессов индивидуализации. Отдельное пространство ЦИПРа со специально организованными зонами может помочь ребенку реализоваться в соответствии с его интересами и наклон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900000" y="1700280"/>
            <a:ext cx="74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ная форма дошкольного образования осуществляет переход к современным образовательно-воспитательным технологиям и расширяет возможности дошкольного учреждения в работе с детьми и их родителям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честве средства снижения эмоционального напряжения мы используем игры с водой, т.к. она является уникальным средством для развития ребёнка, позитивно влияющим на его эмоциональное самочувствие, поглощает негативную энергетику человека и стабилизирует его состояние, дает приятные ощущения, развивает различные рецепторы и предоставляет практически неограниченные возможности познавать мир и себя в 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06:05:32Z</dcterms:created>
  <dc:creator>Методист</dc:creator>
  <dc:description/>
  <dc:language>en-US</dc:language>
  <cp:lastModifiedBy>Методист</cp:lastModifiedBy>
  <dcterms:modified xsi:type="dcterms:W3CDTF">2017-05-23T06:24:14Z</dcterms:modified>
  <cp:revision>3</cp:revision>
  <dc:subject/>
  <dc:title>Слайд 1</dc:title>
</cp:coreProperties>
</file>