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C5E5-8DB2-4E0D-B47C-68C860B2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946C-8174-4FED-B036-3C2F9D7B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EC5-778B-4E56-9A00-8CA1C984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47D9-CDF1-474D-8D11-774FEB2E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0284-CA31-4FD0-868A-DCEC768B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25C-09D1-4D04-8EDC-23502732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916A-C454-4C09-B988-8916247B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50D4-F265-4238-9D7A-86BE35F1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3361-04F1-4B9D-911B-6A25EA2D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0D20-4A96-4080-B24C-C2DB08A9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A1D-71E4-4A10-A1AD-3FA35AB2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E940-03F9-4C55-8500-80B832DC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B4CC-7BC0-4509-8218-34B5C1AC739D}" type="slidenum">
              <a:rPr b="0" lang="ru-RU" sz="14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" Target="slide3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02560" cy="302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ипертекст</a:t>
            </a:r>
            <a:br>
              <a:rPr sz="4800"/>
            </a:br>
            <a:br>
              <a:rPr sz="40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ерженко Н.В.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БОУ гимназия № 293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Второй закон Ньютона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55640" y="1699920"/>
            <a:ext cx="3313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Сила равна произведению 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массы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на ускорение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9" name="Picture 5" descr="Ньютон"/>
          <p:cNvPicPr/>
          <p:nvPr/>
        </p:nvPicPr>
        <p:blipFill>
          <a:blip r:embed="rId2"/>
          <a:stretch/>
        </p:blipFill>
        <p:spPr>
          <a:xfrm>
            <a:off x="539640" y="1773360"/>
            <a:ext cx="15163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Второй закон Ньютона</a:t>
            </a:r>
            <a:endParaRPr b="0" lang="en-US" sz="4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Масса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– мера инертности тела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2" name="Picture 5" descr="newton_44"/>
          <p:cNvPicPr/>
          <p:nvPr/>
        </p:nvPicPr>
        <p:blipFill>
          <a:blip r:embed="rId1"/>
          <a:stretch/>
        </p:blipFill>
        <p:spPr>
          <a:xfrm>
            <a:off x="5867280" y="1700280"/>
            <a:ext cx="2187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Второй закон Ньютона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Инертность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- свойство различных материальных объектов приобретать разные ускорения при одинаковых внешних воздействиях со стороны других тел.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Зачетная работа по созданию гиперссылок</a:t>
            </a:r>
            <a:endParaRPr b="0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ученика 7 «Х» класса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Иванова Ивана Ивановича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Главная страница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Биография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Фотоальбом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Биография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89800" y="5821200"/>
            <a:ext cx="251928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Главная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Фотоальбом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00000" y="692280"/>
          <a:ext cx="7417080" cy="4479840"/>
        </p:xfrm>
        <a:graphic>
          <a:graphicData uri="http://schemas.openxmlformats.org/drawingml/2006/table">
            <a:tbl>
              <a:tblPr/>
              <a:tblGrid>
                <a:gridCol w="1852560"/>
                <a:gridCol w="5564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ФИО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8000"/>
                          </a:solidFill>
                          <a:uFillTx/>
                          <a:latin typeface="Times New Roman"/>
                          <a:ea typeface="Times New Roman"/>
                        </a:rPr>
                        <a:t>Крокодилов Геннадий Аллигаторович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3 января1313 года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Место рождения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Африка, болото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Высшее, Академия крокодиловедения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20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Партийная принадлежность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Партия зеленых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Места работы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Зоопарк, кунсткамера, бассейн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20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емейное положение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Женат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Наличие детей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0 маленьких крокодильчиков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Основные черты характера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Добряк, сентиментален, мудр и весел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Хобби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Дружит с чебурашками</a:t>
                      </a:r>
                      <a:endParaRPr b="0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WordArt 137"/>
          <p:cNvSpPr txBox="1"/>
          <p:nvPr/>
        </p:nvSpPr>
        <p:spPr>
          <a:xfrm>
            <a:off x="684360" y="5300640"/>
            <a:ext cx="76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Долой Шапокляков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аешь Чебурашек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Фотоальбом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41920" y="5676480"/>
            <a:ext cx="260208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Главная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Биография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395280" y="1052640"/>
            <a:ext cx="2357280" cy="2313000"/>
            <a:chOff x="395280" y="1052640"/>
            <a:chExt cx="2357280" cy="2313000"/>
          </a:xfrm>
        </p:grpSpPr>
        <p:pic>
          <p:nvPicPr>
            <p:cNvPr id="107" name="Picture 4" descr="http://www.dali-plus.infopiter.ru/prodic/244-64-2.JPG"/>
            <p:cNvPicPr/>
            <p:nvPr/>
          </p:nvPicPr>
          <p:blipFill>
            <a:blip r:embed="rId1"/>
            <a:stretch/>
          </p:blipFill>
          <p:spPr>
            <a:xfrm>
              <a:off x="395280" y="1052640"/>
              <a:ext cx="235728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5"/>
            <p:cNvSpPr/>
            <p:nvPr/>
          </p:nvSpPr>
          <p:spPr>
            <a:xfrm>
              <a:off x="900000" y="299736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детство</a:t>
              </a:r>
              <a:endParaRPr b="0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9" name="Group 20"/>
          <p:cNvGrpSpPr/>
          <p:nvPr/>
        </p:nvGrpSpPr>
        <p:grpSpPr>
          <a:xfrm>
            <a:off x="5940360" y="1197000"/>
            <a:ext cx="2873520" cy="2239920"/>
            <a:chOff x="5940360" y="1197000"/>
            <a:chExt cx="2873520" cy="2239920"/>
          </a:xfrm>
        </p:grpSpPr>
        <p:pic>
          <p:nvPicPr>
            <p:cNvPr id="110" name="Picture 6" descr="http://www.interiorshop.ru/img/333_150.jpg"/>
            <p:cNvPicPr/>
            <p:nvPr/>
          </p:nvPicPr>
          <p:blipFill>
            <a:blip r:embed="rId2"/>
            <a:stretch/>
          </p:blipFill>
          <p:spPr>
            <a:xfrm>
              <a:off x="5940360" y="1197000"/>
              <a:ext cx="287352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6"/>
            <p:cNvSpPr/>
            <p:nvPr/>
          </p:nvSpPr>
          <p:spPr>
            <a:xfrm>
              <a:off x="6588000" y="306864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отрочество</a:t>
              </a:r>
              <a:endParaRPr b="0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2" name="Group 21"/>
          <p:cNvGrpSpPr/>
          <p:nvPr/>
        </p:nvGrpSpPr>
        <p:grpSpPr>
          <a:xfrm>
            <a:off x="468360" y="3500280"/>
            <a:ext cx="2378160" cy="2529000"/>
            <a:chOff x="468360" y="3500280"/>
            <a:chExt cx="2378160" cy="2529000"/>
          </a:xfrm>
        </p:grpSpPr>
        <p:pic>
          <p:nvPicPr>
            <p:cNvPr id="113" name="Picture 9" descr="http://www.dali-plus.infopiter.ru/prodic/17-22-3.JPG"/>
            <p:cNvPicPr/>
            <p:nvPr/>
          </p:nvPicPr>
          <p:blipFill>
            <a:blip r:embed="rId3"/>
            <a:stretch/>
          </p:blipFill>
          <p:spPr>
            <a:xfrm>
              <a:off x="468360" y="3500280"/>
              <a:ext cx="2378160" cy="190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7"/>
            <p:cNvSpPr/>
            <p:nvPr/>
          </p:nvSpPr>
          <p:spPr>
            <a:xfrm>
              <a:off x="900000" y="566100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хобби</a:t>
              </a:r>
              <a:endParaRPr b="0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5" name="Group 22"/>
          <p:cNvGrpSpPr/>
          <p:nvPr/>
        </p:nvGrpSpPr>
        <p:grpSpPr>
          <a:xfrm>
            <a:off x="3564000" y="3429000"/>
            <a:ext cx="2581200" cy="2600280"/>
            <a:chOff x="3564000" y="3429000"/>
            <a:chExt cx="2581200" cy="2600280"/>
          </a:xfrm>
        </p:grpSpPr>
        <p:pic>
          <p:nvPicPr>
            <p:cNvPr id="116" name="Picture 14" descr="http://www.dali-plus.infopiter.ru/prodic/30-33-2.jpg"/>
            <p:cNvPicPr/>
            <p:nvPr/>
          </p:nvPicPr>
          <p:blipFill>
            <a:blip r:embed="rId4"/>
            <a:stretch/>
          </p:blipFill>
          <p:spPr>
            <a:xfrm>
              <a:off x="3564000" y="3429000"/>
              <a:ext cx="258120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8"/>
            <p:cNvSpPr/>
            <p:nvPr/>
          </p:nvSpPr>
          <p:spPr>
            <a:xfrm>
              <a:off x="4356000" y="566100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зрелость</a:t>
              </a:r>
              <a:endParaRPr b="0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Что такое гипертекст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3300"/>
                </a:solidFill>
                <a:uFillTx/>
                <a:latin typeface="Arial"/>
                <a:hlinkClick r:id="rId2" action="ppaction://hlinksldjump"/>
              </a:rPr>
              <a:t>Создание гипертекстовых связей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3300"/>
                </a:solidFill>
                <a:uFillTx/>
                <a:latin typeface="Arial"/>
                <a:hlinkClick r:id="rId3" action="ppaction://hlinksldjump"/>
              </a:rPr>
              <a:t>Пример организации гипертекстовых связей в документе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3300"/>
                </a:solidFill>
                <a:uFillTx/>
                <a:latin typeface="Arial"/>
                <a:hlinkClick r:id="rId4" action="ppaction://hlinksldjump"/>
              </a:rPr>
              <a:t>Управляющие кнопки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Гипертекст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Гипертекст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англ.) hypertext – больше, чем текст, сверхтекст.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Это способ организации текстового материала, обеспечивающий быстрый поиск необходимой информации.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бъекты обладают смысловыми связями, которые обеспечиваются при помощи ссылок.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Такие связи называются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гиперсвязями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(гиперссылками).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Гиперссылка позволяет быстро перейти к просмотру того раздела, на который она указывает.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Примеры</a:t>
            </a:r>
            <a:r>
              <a:rPr b="0" lang="ru-RU" sz="2400" spc="-1" strike="noStrike" u="sng">
                <a:solidFill>
                  <a:srgbClr val="663300"/>
                </a:solidFill>
                <a:uFillTx/>
                <a:latin typeface="Arial"/>
                <a:hlinkClick r:id="rId2" action="ppaction://hlinksldjump"/>
              </a:rPr>
              <a:t>: справочники, словари, учебники.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AutoShape 4">
            <a:hlinkClick r:id="rId3" action="ppaction://hlinksldjump"/>
          </p:cNvPr>
          <p:cNvSpPr/>
          <p:nvPr/>
        </p:nvSpPr>
        <p:spPr>
          <a:xfrm>
            <a:off x="7667640" y="6524640"/>
            <a:ext cx="1476360" cy="333360"/>
          </a:xfrm>
          <a:custGeom>
            <a:avLst/>
            <a:gdLst>
              <a:gd name="textAreaLeft" fmla="*/ 21600 w 1476360"/>
              <a:gd name="textAreaRight" fmla="*/ 1454760 w 14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581" h="21600">
                <a:moveTo>
                  <a:pt x="0" y="0"/>
                </a:moveTo>
                <a:lnTo>
                  <a:pt x="95581" y="0"/>
                </a:lnTo>
                <a:lnTo>
                  <a:pt x="95581" y="21600"/>
                </a:lnTo>
                <a:lnTo>
                  <a:pt x="0" y="21600"/>
                </a:lnTo>
                <a:close/>
              </a:path>
              <a:path fill="lightenLess" w="95581" h="21600">
                <a:moveTo>
                  <a:pt x="0" y="0"/>
                </a:moveTo>
                <a:lnTo>
                  <a:pt x="95581" y="0"/>
                </a:lnTo>
                <a:lnTo>
                  <a:pt x="94181" y="1400"/>
                </a:lnTo>
                <a:lnTo>
                  <a:pt x="1400" y="1400"/>
                </a:lnTo>
                <a:close/>
              </a:path>
              <a:path fill="darken" w="95581" h="21600">
                <a:moveTo>
                  <a:pt x="95581" y="0"/>
                </a:moveTo>
                <a:lnTo>
                  <a:pt x="95581" y="21600"/>
                </a:lnTo>
                <a:lnTo>
                  <a:pt x="94181" y="20200"/>
                </a:lnTo>
                <a:lnTo>
                  <a:pt x="94181" y="1400"/>
                </a:lnTo>
                <a:close/>
              </a:path>
              <a:path fill="darkenLess" w="95581" h="21600">
                <a:moveTo>
                  <a:pt x="95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81" y="20200"/>
                </a:lnTo>
                <a:close/>
              </a:path>
              <a:path fill="lighten" w="95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4" action="ppaction://hlinksldjump"/>
              </a:rPr>
              <a:t>содержание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" name="AutoShape 5">
            <a:hlinkClick r:id="rId5" action="ppaction://hlinksldjump"/>
          </p:cNvPr>
          <p:cNvSpPr/>
          <p:nvPr/>
        </p:nvSpPr>
        <p:spPr>
          <a:xfrm>
            <a:off x="6084720" y="6524640"/>
            <a:ext cx="1476720" cy="333360"/>
          </a:xfrm>
          <a:custGeom>
            <a:avLst/>
            <a:gdLst>
              <a:gd name="textAreaLeft" fmla="*/ 21600 w 1476720"/>
              <a:gd name="textAreaRight" fmla="*/ 1455120 w 147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604" h="21600">
                <a:moveTo>
                  <a:pt x="0" y="0"/>
                </a:moveTo>
                <a:lnTo>
                  <a:pt x="95604" y="0"/>
                </a:lnTo>
                <a:lnTo>
                  <a:pt x="95604" y="21600"/>
                </a:lnTo>
                <a:lnTo>
                  <a:pt x="0" y="21600"/>
                </a:lnTo>
                <a:close/>
              </a:path>
              <a:path fill="lightenLess" w="95604" h="21600">
                <a:moveTo>
                  <a:pt x="0" y="0"/>
                </a:moveTo>
                <a:lnTo>
                  <a:pt x="95604" y="0"/>
                </a:lnTo>
                <a:lnTo>
                  <a:pt x="94204" y="1400"/>
                </a:lnTo>
                <a:lnTo>
                  <a:pt x="1400" y="1400"/>
                </a:lnTo>
                <a:close/>
              </a:path>
              <a:path fill="darken" w="95604" h="21600">
                <a:moveTo>
                  <a:pt x="95604" y="0"/>
                </a:moveTo>
                <a:lnTo>
                  <a:pt x="95604" y="21600"/>
                </a:lnTo>
                <a:lnTo>
                  <a:pt x="94204" y="20200"/>
                </a:lnTo>
                <a:lnTo>
                  <a:pt x="94204" y="1400"/>
                </a:lnTo>
                <a:close/>
              </a:path>
              <a:path fill="darkenLess" w="95604" h="21600">
                <a:moveTo>
                  <a:pt x="95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204" y="20200"/>
                </a:lnTo>
                <a:close/>
              </a:path>
              <a:path fill="lighten" w="95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6" action="ppaction://hlinksldjump"/>
              </a:rPr>
              <a:t>далее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Гипертекст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Термин "</a:t>
            </a: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гипертекст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" появился в </a:t>
            </a: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1965 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г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Классическое определение гипертекста дано в </a:t>
            </a: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1987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г., – это "форма письма, которое ветвится или осуществляется по запросу". Иначе говоря, это "нелинейное письмо", которое "больше чем текст" (hypertext)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" name="AutoShape 4">
            <a:hlinkClick r:id="rId1" action="ppaction://hlinksldjump"/>
          </p:cNvPr>
          <p:cNvSpPr/>
          <p:nvPr/>
        </p:nvSpPr>
        <p:spPr>
          <a:xfrm>
            <a:off x="7667640" y="6524640"/>
            <a:ext cx="1476360" cy="333360"/>
          </a:xfrm>
          <a:custGeom>
            <a:avLst/>
            <a:gdLst>
              <a:gd name="textAreaLeft" fmla="*/ 21600 w 1476360"/>
              <a:gd name="textAreaRight" fmla="*/ 1454760 w 14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581" h="21600">
                <a:moveTo>
                  <a:pt x="0" y="0"/>
                </a:moveTo>
                <a:lnTo>
                  <a:pt x="95581" y="0"/>
                </a:lnTo>
                <a:lnTo>
                  <a:pt x="95581" y="21600"/>
                </a:lnTo>
                <a:lnTo>
                  <a:pt x="0" y="21600"/>
                </a:lnTo>
                <a:close/>
              </a:path>
              <a:path fill="lightenLess" w="95581" h="21600">
                <a:moveTo>
                  <a:pt x="0" y="0"/>
                </a:moveTo>
                <a:lnTo>
                  <a:pt x="95581" y="0"/>
                </a:lnTo>
                <a:lnTo>
                  <a:pt x="94181" y="1400"/>
                </a:lnTo>
                <a:lnTo>
                  <a:pt x="1400" y="1400"/>
                </a:lnTo>
                <a:close/>
              </a:path>
              <a:path fill="darken" w="95581" h="21600">
                <a:moveTo>
                  <a:pt x="95581" y="0"/>
                </a:moveTo>
                <a:lnTo>
                  <a:pt x="95581" y="21600"/>
                </a:lnTo>
                <a:lnTo>
                  <a:pt x="94181" y="20200"/>
                </a:lnTo>
                <a:lnTo>
                  <a:pt x="94181" y="1400"/>
                </a:lnTo>
                <a:close/>
              </a:path>
              <a:path fill="darkenLess" w="95581" h="21600">
                <a:moveTo>
                  <a:pt x="95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81" y="20200"/>
                </a:lnTo>
                <a:close/>
              </a:path>
              <a:path fill="lighten" w="95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" name="AutoShape 5">
            <a:hlinkClick r:id="rId3" action="ppaction://hlinksldjump"/>
          </p:cNvPr>
          <p:cNvSpPr/>
          <p:nvPr/>
        </p:nvSpPr>
        <p:spPr>
          <a:xfrm>
            <a:off x="6084720" y="6524640"/>
            <a:ext cx="1476720" cy="333360"/>
          </a:xfrm>
          <a:custGeom>
            <a:avLst/>
            <a:gdLst>
              <a:gd name="textAreaLeft" fmla="*/ 21600 w 1476720"/>
              <a:gd name="textAreaRight" fmla="*/ 1455120 w 147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604" h="21600">
                <a:moveTo>
                  <a:pt x="0" y="0"/>
                </a:moveTo>
                <a:lnTo>
                  <a:pt x="95604" y="0"/>
                </a:lnTo>
                <a:lnTo>
                  <a:pt x="95604" y="21600"/>
                </a:lnTo>
                <a:lnTo>
                  <a:pt x="0" y="21600"/>
                </a:lnTo>
                <a:close/>
              </a:path>
              <a:path fill="lightenLess" w="95604" h="21600">
                <a:moveTo>
                  <a:pt x="0" y="0"/>
                </a:moveTo>
                <a:lnTo>
                  <a:pt x="95604" y="0"/>
                </a:lnTo>
                <a:lnTo>
                  <a:pt x="94204" y="1400"/>
                </a:lnTo>
                <a:lnTo>
                  <a:pt x="1400" y="1400"/>
                </a:lnTo>
                <a:close/>
              </a:path>
              <a:path fill="darken" w="95604" h="21600">
                <a:moveTo>
                  <a:pt x="95604" y="0"/>
                </a:moveTo>
                <a:lnTo>
                  <a:pt x="95604" y="21600"/>
                </a:lnTo>
                <a:lnTo>
                  <a:pt x="94204" y="20200"/>
                </a:lnTo>
                <a:lnTo>
                  <a:pt x="94204" y="1400"/>
                </a:lnTo>
                <a:close/>
              </a:path>
              <a:path fill="darkenLess" w="95604" h="21600">
                <a:moveTo>
                  <a:pt x="95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204" y="20200"/>
                </a:lnTo>
                <a:close/>
              </a:path>
              <a:path fill="lighten" w="95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4" action="ppaction://hlinksldjump"/>
              </a:rPr>
              <a:t>далее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Гипертекст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Гипертекст позволяет создать структуру документа путём выделения в нем слов-ссылок – гиперссылок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14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При активизации гиперссылки происходит переход на фрагмент текста, заданный в ссылке)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" name="AutoShape 4">
            <a:hlinkClick r:id="rId1" action="ppaction://hlinksldjump"/>
          </p:cNvPr>
          <p:cNvSpPr/>
          <p:nvPr/>
        </p:nvSpPr>
        <p:spPr>
          <a:xfrm>
            <a:off x="7667640" y="6524640"/>
            <a:ext cx="1476360" cy="333360"/>
          </a:xfrm>
          <a:custGeom>
            <a:avLst/>
            <a:gdLst>
              <a:gd name="textAreaLeft" fmla="*/ 21600 w 1476360"/>
              <a:gd name="textAreaRight" fmla="*/ 1454760 w 14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581" h="21600">
                <a:moveTo>
                  <a:pt x="0" y="0"/>
                </a:moveTo>
                <a:lnTo>
                  <a:pt x="95581" y="0"/>
                </a:lnTo>
                <a:lnTo>
                  <a:pt x="95581" y="21600"/>
                </a:lnTo>
                <a:lnTo>
                  <a:pt x="0" y="21600"/>
                </a:lnTo>
                <a:close/>
              </a:path>
              <a:path fill="lightenLess" w="95581" h="21600">
                <a:moveTo>
                  <a:pt x="0" y="0"/>
                </a:moveTo>
                <a:lnTo>
                  <a:pt x="95581" y="0"/>
                </a:lnTo>
                <a:lnTo>
                  <a:pt x="94181" y="1400"/>
                </a:lnTo>
                <a:lnTo>
                  <a:pt x="1400" y="1400"/>
                </a:lnTo>
                <a:close/>
              </a:path>
              <a:path fill="darken" w="95581" h="21600">
                <a:moveTo>
                  <a:pt x="95581" y="0"/>
                </a:moveTo>
                <a:lnTo>
                  <a:pt x="95581" y="21600"/>
                </a:lnTo>
                <a:lnTo>
                  <a:pt x="94181" y="20200"/>
                </a:lnTo>
                <a:lnTo>
                  <a:pt x="94181" y="1400"/>
                </a:lnTo>
                <a:close/>
              </a:path>
              <a:path fill="darkenLess" w="95581" h="21600">
                <a:moveTo>
                  <a:pt x="95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81" y="20200"/>
                </a:lnTo>
                <a:close/>
              </a:path>
              <a:path fill="lighten" w="95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" name="AutoShape 5">
            <a:hlinkClick r:id="rId3" action="ppaction://hlinksldjump"/>
          </p:cNvPr>
          <p:cNvSpPr/>
          <p:nvPr/>
        </p:nvSpPr>
        <p:spPr>
          <a:xfrm>
            <a:off x="6084720" y="6524640"/>
            <a:ext cx="1476720" cy="333360"/>
          </a:xfrm>
          <a:custGeom>
            <a:avLst/>
            <a:gdLst>
              <a:gd name="textAreaLeft" fmla="*/ 21600 w 1476720"/>
              <a:gd name="textAreaRight" fmla="*/ 1455120 w 147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604" h="21600">
                <a:moveTo>
                  <a:pt x="0" y="0"/>
                </a:moveTo>
                <a:lnTo>
                  <a:pt x="95604" y="0"/>
                </a:lnTo>
                <a:lnTo>
                  <a:pt x="95604" y="21600"/>
                </a:lnTo>
                <a:lnTo>
                  <a:pt x="0" y="21600"/>
                </a:lnTo>
                <a:close/>
              </a:path>
              <a:path fill="lightenLess" w="95604" h="21600">
                <a:moveTo>
                  <a:pt x="0" y="0"/>
                </a:moveTo>
                <a:lnTo>
                  <a:pt x="95604" y="0"/>
                </a:lnTo>
                <a:lnTo>
                  <a:pt x="94204" y="1400"/>
                </a:lnTo>
                <a:lnTo>
                  <a:pt x="1400" y="1400"/>
                </a:lnTo>
                <a:close/>
              </a:path>
              <a:path fill="darken" w="95604" h="21600">
                <a:moveTo>
                  <a:pt x="95604" y="0"/>
                </a:moveTo>
                <a:lnTo>
                  <a:pt x="95604" y="21600"/>
                </a:lnTo>
                <a:lnTo>
                  <a:pt x="94204" y="20200"/>
                </a:lnTo>
                <a:lnTo>
                  <a:pt x="94204" y="1400"/>
                </a:lnTo>
                <a:close/>
              </a:path>
              <a:path fill="darkenLess" w="95604" h="21600">
                <a:moveTo>
                  <a:pt x="95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204" y="20200"/>
                </a:lnTo>
                <a:close/>
              </a:path>
              <a:path fill="lighten" w="95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4" action="ppaction://hlinksldjump"/>
              </a:rPr>
              <a:t>далее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Гиперссылка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AutoShape 4">
            <a:hlinkClick r:id="rId1" action="ppaction://hlinksldjump"/>
          </p:cNvPr>
          <p:cNvSpPr/>
          <p:nvPr/>
        </p:nvSpPr>
        <p:spPr>
          <a:xfrm>
            <a:off x="7667640" y="6524640"/>
            <a:ext cx="1476360" cy="333360"/>
          </a:xfrm>
          <a:custGeom>
            <a:avLst/>
            <a:gdLst>
              <a:gd name="textAreaLeft" fmla="*/ 21600 w 1476360"/>
              <a:gd name="textAreaRight" fmla="*/ 1454760 w 14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581" h="21600">
                <a:moveTo>
                  <a:pt x="0" y="0"/>
                </a:moveTo>
                <a:lnTo>
                  <a:pt x="95581" y="0"/>
                </a:lnTo>
                <a:lnTo>
                  <a:pt x="95581" y="21600"/>
                </a:lnTo>
                <a:lnTo>
                  <a:pt x="0" y="21600"/>
                </a:lnTo>
                <a:close/>
              </a:path>
              <a:path fill="lightenLess" w="95581" h="21600">
                <a:moveTo>
                  <a:pt x="0" y="0"/>
                </a:moveTo>
                <a:lnTo>
                  <a:pt x="95581" y="0"/>
                </a:lnTo>
                <a:lnTo>
                  <a:pt x="94181" y="1400"/>
                </a:lnTo>
                <a:lnTo>
                  <a:pt x="1400" y="1400"/>
                </a:lnTo>
                <a:close/>
              </a:path>
              <a:path fill="darken" w="95581" h="21600">
                <a:moveTo>
                  <a:pt x="95581" y="0"/>
                </a:moveTo>
                <a:lnTo>
                  <a:pt x="95581" y="21600"/>
                </a:lnTo>
                <a:lnTo>
                  <a:pt x="94181" y="20200"/>
                </a:lnTo>
                <a:lnTo>
                  <a:pt x="94181" y="1400"/>
                </a:lnTo>
                <a:close/>
              </a:path>
              <a:path fill="darkenLess" w="95581" h="21600">
                <a:moveTo>
                  <a:pt x="95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81" y="20200"/>
                </a:lnTo>
                <a:close/>
              </a:path>
              <a:path fill="lighten" w="95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" name="AutoShape 5">
            <a:hlinkClick r:id="rId3" action="ppaction://hlinksldjump"/>
          </p:cNvPr>
          <p:cNvSpPr/>
          <p:nvPr/>
        </p:nvSpPr>
        <p:spPr>
          <a:xfrm>
            <a:off x="6084720" y="6524640"/>
            <a:ext cx="1476720" cy="333360"/>
          </a:xfrm>
          <a:custGeom>
            <a:avLst/>
            <a:gdLst>
              <a:gd name="textAreaLeft" fmla="*/ 21600 w 1476720"/>
              <a:gd name="textAreaRight" fmla="*/ 1455120 w 147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604" h="21600">
                <a:moveTo>
                  <a:pt x="0" y="0"/>
                </a:moveTo>
                <a:lnTo>
                  <a:pt x="95604" y="0"/>
                </a:lnTo>
                <a:lnTo>
                  <a:pt x="95604" y="21600"/>
                </a:lnTo>
                <a:lnTo>
                  <a:pt x="0" y="21600"/>
                </a:lnTo>
                <a:close/>
              </a:path>
              <a:path fill="lightenLess" w="95604" h="21600">
                <a:moveTo>
                  <a:pt x="0" y="0"/>
                </a:moveTo>
                <a:lnTo>
                  <a:pt x="95604" y="0"/>
                </a:lnTo>
                <a:lnTo>
                  <a:pt x="94204" y="1400"/>
                </a:lnTo>
                <a:lnTo>
                  <a:pt x="1400" y="1400"/>
                </a:lnTo>
                <a:close/>
              </a:path>
              <a:path fill="darken" w="95604" h="21600">
                <a:moveTo>
                  <a:pt x="95604" y="0"/>
                </a:moveTo>
                <a:lnTo>
                  <a:pt x="95604" y="21600"/>
                </a:lnTo>
                <a:lnTo>
                  <a:pt x="94204" y="20200"/>
                </a:lnTo>
                <a:lnTo>
                  <a:pt x="94204" y="1400"/>
                </a:lnTo>
                <a:close/>
              </a:path>
              <a:path fill="darkenLess" w="95604" h="21600">
                <a:moveTo>
                  <a:pt x="95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204" y="20200"/>
                </a:lnTo>
                <a:close/>
              </a:path>
              <a:path fill="lighten" w="95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4" action="ppaction://hlinksldjump"/>
              </a:rPr>
              <a:t>далее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 flipH="1">
            <a:off x="1908000" y="1125360"/>
            <a:ext cx="1440000" cy="8319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5724360" y="1125360"/>
            <a:ext cx="1440000" cy="8319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611280" y="213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указатель ссылки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5724360" y="213372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адресная часть ссылки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1692360" y="2494080"/>
            <a:ext cx="0" cy="5745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7308720" y="2492280"/>
            <a:ext cx="0" cy="5749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684360" y="328464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ъект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(фрагмент текста или изображение)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6084720" y="314172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Название элемента в документе, на который указывает ссылка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Создание гипертекстовых связей</a:t>
            </a:r>
            <a:endParaRPr b="0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248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Выделить объект, который будет являться указателем гиперссылки;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Вызвать контекстное меню;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Выбрать пункт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Гиперссылка</a:t>
            </a: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В диалоговом окне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Добавление гиперссылки</a:t>
            </a: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 выбрать адрес, на который будет указывать ссылка.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" name="AutoShape 4">
            <a:hlinkClick r:id="rId1" action="ppaction://hlinksldjump"/>
          </p:cNvPr>
          <p:cNvSpPr/>
          <p:nvPr/>
        </p:nvSpPr>
        <p:spPr>
          <a:xfrm>
            <a:off x="7667640" y="6524640"/>
            <a:ext cx="1476360" cy="333360"/>
          </a:xfrm>
          <a:custGeom>
            <a:avLst/>
            <a:gdLst>
              <a:gd name="textAreaLeft" fmla="*/ 21600 w 1476360"/>
              <a:gd name="textAreaRight" fmla="*/ 1454760 w 14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581" h="21600">
                <a:moveTo>
                  <a:pt x="0" y="0"/>
                </a:moveTo>
                <a:lnTo>
                  <a:pt x="95581" y="0"/>
                </a:lnTo>
                <a:lnTo>
                  <a:pt x="95581" y="21600"/>
                </a:lnTo>
                <a:lnTo>
                  <a:pt x="0" y="21600"/>
                </a:lnTo>
                <a:close/>
              </a:path>
              <a:path fill="lightenLess" w="95581" h="21600">
                <a:moveTo>
                  <a:pt x="0" y="0"/>
                </a:moveTo>
                <a:lnTo>
                  <a:pt x="95581" y="0"/>
                </a:lnTo>
                <a:lnTo>
                  <a:pt x="94181" y="1400"/>
                </a:lnTo>
                <a:lnTo>
                  <a:pt x="1400" y="1400"/>
                </a:lnTo>
                <a:close/>
              </a:path>
              <a:path fill="darken" w="95581" h="21600">
                <a:moveTo>
                  <a:pt x="95581" y="0"/>
                </a:moveTo>
                <a:lnTo>
                  <a:pt x="95581" y="21600"/>
                </a:lnTo>
                <a:lnTo>
                  <a:pt x="94181" y="20200"/>
                </a:lnTo>
                <a:lnTo>
                  <a:pt x="94181" y="1400"/>
                </a:lnTo>
                <a:close/>
              </a:path>
              <a:path fill="darkenLess" w="95581" h="21600">
                <a:moveTo>
                  <a:pt x="95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81" y="20200"/>
                </a:lnTo>
                <a:close/>
              </a:path>
              <a:path fill="lighten" w="95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0" name="Picture 5" descr="гиперссылка"/>
          <p:cNvPicPr/>
          <p:nvPr/>
        </p:nvPicPr>
        <p:blipFill>
          <a:blip r:embed="rId3"/>
          <a:stretch/>
        </p:blipFill>
        <p:spPr>
          <a:xfrm>
            <a:off x="2522520" y="1330200"/>
            <a:ext cx="6588000" cy="40928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">
            <a:hlinkClick r:id="rId4" action="ppaction://hlinksldjump"/>
          </p:cNvPr>
          <p:cNvSpPr/>
          <p:nvPr/>
        </p:nvSpPr>
        <p:spPr>
          <a:xfrm>
            <a:off x="6084720" y="6524640"/>
            <a:ext cx="1476720" cy="333360"/>
          </a:xfrm>
          <a:custGeom>
            <a:avLst/>
            <a:gdLst>
              <a:gd name="textAreaLeft" fmla="*/ 21600 w 1476720"/>
              <a:gd name="textAreaRight" fmla="*/ 1455120 w 147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604" h="21600">
                <a:moveTo>
                  <a:pt x="0" y="0"/>
                </a:moveTo>
                <a:lnTo>
                  <a:pt x="95604" y="0"/>
                </a:lnTo>
                <a:lnTo>
                  <a:pt x="95604" y="21600"/>
                </a:lnTo>
                <a:lnTo>
                  <a:pt x="0" y="21600"/>
                </a:lnTo>
                <a:close/>
              </a:path>
              <a:path fill="lightenLess" w="95604" h="21600">
                <a:moveTo>
                  <a:pt x="0" y="0"/>
                </a:moveTo>
                <a:lnTo>
                  <a:pt x="95604" y="0"/>
                </a:lnTo>
                <a:lnTo>
                  <a:pt x="94204" y="1400"/>
                </a:lnTo>
                <a:lnTo>
                  <a:pt x="1400" y="1400"/>
                </a:lnTo>
                <a:close/>
              </a:path>
              <a:path fill="darken" w="95604" h="21600">
                <a:moveTo>
                  <a:pt x="95604" y="0"/>
                </a:moveTo>
                <a:lnTo>
                  <a:pt x="95604" y="21600"/>
                </a:lnTo>
                <a:lnTo>
                  <a:pt x="94204" y="20200"/>
                </a:lnTo>
                <a:lnTo>
                  <a:pt x="94204" y="1400"/>
                </a:lnTo>
                <a:close/>
              </a:path>
              <a:path fill="darkenLess" w="95604" h="21600">
                <a:moveTo>
                  <a:pt x="95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204" y="20200"/>
                </a:lnTo>
                <a:close/>
              </a:path>
              <a:path fill="lighten" w="95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5" action="ppaction://hlinksldjump"/>
              </a:rPr>
              <a:t>далее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Создание гипертекстовых связей</a:t>
            </a:r>
            <a:endParaRPr b="0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270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В меню 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Вставка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выбрать пункт 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Гиперссылка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В окне 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Добавление гиперссылки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выбрать адрес, на который будет указывать ссылка.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6094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 marL="6094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 marL="6094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 marL="6094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7667640" y="6524640"/>
            <a:ext cx="1476360" cy="333360"/>
          </a:xfrm>
          <a:custGeom>
            <a:avLst/>
            <a:gdLst>
              <a:gd name="textAreaLeft" fmla="*/ 21600 w 1476360"/>
              <a:gd name="textAreaRight" fmla="*/ 1454760 w 14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581" h="21600">
                <a:moveTo>
                  <a:pt x="0" y="0"/>
                </a:moveTo>
                <a:lnTo>
                  <a:pt x="95581" y="0"/>
                </a:lnTo>
                <a:lnTo>
                  <a:pt x="95581" y="21600"/>
                </a:lnTo>
                <a:lnTo>
                  <a:pt x="0" y="21600"/>
                </a:lnTo>
                <a:close/>
              </a:path>
              <a:path fill="lightenLess" w="95581" h="21600">
                <a:moveTo>
                  <a:pt x="0" y="0"/>
                </a:moveTo>
                <a:lnTo>
                  <a:pt x="95581" y="0"/>
                </a:lnTo>
                <a:lnTo>
                  <a:pt x="94181" y="1400"/>
                </a:lnTo>
                <a:lnTo>
                  <a:pt x="1400" y="1400"/>
                </a:lnTo>
                <a:close/>
              </a:path>
              <a:path fill="darken" w="95581" h="21600">
                <a:moveTo>
                  <a:pt x="95581" y="0"/>
                </a:moveTo>
                <a:lnTo>
                  <a:pt x="95581" y="21600"/>
                </a:lnTo>
                <a:lnTo>
                  <a:pt x="94181" y="20200"/>
                </a:lnTo>
                <a:lnTo>
                  <a:pt x="94181" y="1400"/>
                </a:lnTo>
                <a:close/>
              </a:path>
              <a:path fill="darkenLess" w="95581" h="21600">
                <a:moveTo>
                  <a:pt x="95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81" y="20200"/>
                </a:lnTo>
                <a:close/>
              </a:path>
              <a:path fill="lighten" w="95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5" name="Group 11"/>
          <p:cNvGrpSpPr/>
          <p:nvPr/>
        </p:nvGrpSpPr>
        <p:grpSpPr>
          <a:xfrm>
            <a:off x="2809800" y="1557360"/>
            <a:ext cx="6300720" cy="2747880"/>
            <a:chOff x="2809800" y="1557360"/>
            <a:chExt cx="6300720" cy="2747880"/>
          </a:xfrm>
        </p:grpSpPr>
        <p:pic>
          <p:nvPicPr>
            <p:cNvPr id="76" name="Picture 6" descr="гиперссылка1"/>
            <p:cNvPicPr/>
            <p:nvPr/>
          </p:nvPicPr>
          <p:blipFill>
            <a:blip r:embed="rId3"/>
            <a:stretch/>
          </p:blipFill>
          <p:spPr>
            <a:xfrm>
              <a:off x="2809800" y="1557360"/>
              <a:ext cx="63007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Oval 7"/>
            <p:cNvSpPr/>
            <p:nvPr/>
          </p:nvSpPr>
          <p:spPr>
            <a:xfrm>
              <a:off x="4716360" y="1773360"/>
              <a:ext cx="792360" cy="360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8" name="Oval 8"/>
            <p:cNvSpPr/>
            <p:nvPr/>
          </p:nvSpPr>
          <p:spPr>
            <a:xfrm>
              <a:off x="5070600" y="3268800"/>
              <a:ext cx="1152360" cy="360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79" name="AutoShape 10">
            <a:hlinkClick r:id="rId4" action="ppaction://hlinksldjump"/>
          </p:cNvPr>
          <p:cNvSpPr/>
          <p:nvPr/>
        </p:nvSpPr>
        <p:spPr>
          <a:xfrm>
            <a:off x="6084720" y="6524640"/>
            <a:ext cx="1476720" cy="333360"/>
          </a:xfrm>
          <a:custGeom>
            <a:avLst/>
            <a:gdLst>
              <a:gd name="textAreaLeft" fmla="*/ 21600 w 1476720"/>
              <a:gd name="textAreaRight" fmla="*/ 1455120 w 1476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604" h="21600">
                <a:moveTo>
                  <a:pt x="0" y="0"/>
                </a:moveTo>
                <a:lnTo>
                  <a:pt x="95604" y="0"/>
                </a:lnTo>
                <a:lnTo>
                  <a:pt x="95604" y="21600"/>
                </a:lnTo>
                <a:lnTo>
                  <a:pt x="0" y="21600"/>
                </a:lnTo>
                <a:close/>
              </a:path>
              <a:path fill="lightenLess" w="95604" h="21600">
                <a:moveTo>
                  <a:pt x="0" y="0"/>
                </a:moveTo>
                <a:lnTo>
                  <a:pt x="95604" y="0"/>
                </a:lnTo>
                <a:lnTo>
                  <a:pt x="94204" y="1400"/>
                </a:lnTo>
                <a:lnTo>
                  <a:pt x="1400" y="1400"/>
                </a:lnTo>
                <a:close/>
              </a:path>
              <a:path fill="darken" w="95604" h="21600">
                <a:moveTo>
                  <a:pt x="95604" y="0"/>
                </a:moveTo>
                <a:lnTo>
                  <a:pt x="95604" y="21600"/>
                </a:lnTo>
                <a:lnTo>
                  <a:pt x="94204" y="20200"/>
                </a:lnTo>
                <a:lnTo>
                  <a:pt x="94204" y="1400"/>
                </a:lnTo>
                <a:close/>
              </a:path>
              <a:path fill="darkenLess" w="95604" h="21600">
                <a:moveTo>
                  <a:pt x="95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204" y="20200"/>
                </a:lnTo>
                <a:close/>
              </a:path>
              <a:path fill="lighten" w="95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5" action="ppaction://hlinksldjump"/>
              </a:rPr>
              <a:t>далее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Управляющие кнопки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При создании гиперссылок часто используются управляющие кнопки (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Автофигуры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/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Управляющие кнопки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" name="AutoShape 4">
            <a:hlinkClick r:id="rId1" action="ppaction://hlinksldjump"/>
          </p:cNvPr>
          <p:cNvSpPr/>
          <p:nvPr/>
        </p:nvSpPr>
        <p:spPr>
          <a:xfrm>
            <a:off x="7667640" y="6524640"/>
            <a:ext cx="1476360" cy="333360"/>
          </a:xfrm>
          <a:custGeom>
            <a:avLst/>
            <a:gdLst>
              <a:gd name="textAreaLeft" fmla="*/ 21600 w 1476360"/>
              <a:gd name="textAreaRight" fmla="*/ 1454760 w 14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5581" h="21600">
                <a:moveTo>
                  <a:pt x="0" y="0"/>
                </a:moveTo>
                <a:lnTo>
                  <a:pt x="95581" y="0"/>
                </a:lnTo>
                <a:lnTo>
                  <a:pt x="95581" y="21600"/>
                </a:lnTo>
                <a:lnTo>
                  <a:pt x="0" y="21600"/>
                </a:lnTo>
                <a:close/>
              </a:path>
              <a:path fill="lightenLess" w="95581" h="21600">
                <a:moveTo>
                  <a:pt x="0" y="0"/>
                </a:moveTo>
                <a:lnTo>
                  <a:pt x="95581" y="0"/>
                </a:lnTo>
                <a:lnTo>
                  <a:pt x="94181" y="1400"/>
                </a:lnTo>
                <a:lnTo>
                  <a:pt x="1400" y="1400"/>
                </a:lnTo>
                <a:close/>
              </a:path>
              <a:path fill="darken" w="95581" h="21600">
                <a:moveTo>
                  <a:pt x="95581" y="0"/>
                </a:moveTo>
                <a:lnTo>
                  <a:pt x="95581" y="21600"/>
                </a:lnTo>
                <a:lnTo>
                  <a:pt x="94181" y="20200"/>
                </a:lnTo>
                <a:lnTo>
                  <a:pt x="94181" y="1400"/>
                </a:lnTo>
                <a:close/>
              </a:path>
              <a:path fill="darkenLess" w="95581" h="21600">
                <a:moveTo>
                  <a:pt x="95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81" y="20200"/>
                </a:lnTo>
                <a:close/>
              </a:path>
              <a:path fill="lighten" w="95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  <a:hlinkClick r:id="rId2" action="ppaction://hlinksldjump"/>
              </a:rPr>
              <a:t>пример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826920" y="2732040"/>
            <a:ext cx="7561440" cy="374508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0"/>
          <p:cNvGrpSpPr/>
          <p:nvPr/>
        </p:nvGrpSpPr>
        <p:grpSpPr>
          <a:xfrm>
            <a:off x="1908000" y="4941720"/>
            <a:ext cx="2087640" cy="935280"/>
            <a:chOff x="1908000" y="4941720"/>
            <a:chExt cx="2087640" cy="935280"/>
          </a:xfrm>
        </p:grpSpPr>
        <p:sp>
          <p:nvSpPr>
            <p:cNvPr id="85" name="Oval 8"/>
            <p:cNvSpPr/>
            <p:nvPr/>
          </p:nvSpPr>
          <p:spPr>
            <a:xfrm>
              <a:off x="2340000" y="4941720"/>
              <a:ext cx="1655640" cy="360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6" name="Oval 9"/>
            <p:cNvSpPr/>
            <p:nvPr/>
          </p:nvSpPr>
          <p:spPr>
            <a:xfrm>
              <a:off x="1908000" y="5516640"/>
              <a:ext cx="1151280" cy="360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4:49:31Z</dcterms:created>
  <dc:creator>natali</dc:creator>
  <dc:description/>
  <dc:language>en-US</dc:language>
  <cp:lastModifiedBy>Инесса</cp:lastModifiedBy>
  <dcterms:modified xsi:type="dcterms:W3CDTF">2017-05-23T17:59:54Z</dcterms:modified>
  <cp:revision>22</cp:revision>
  <dc:subject/>
  <dc:title>Текстовая информация и компьютер  </dc:title>
</cp:coreProperties>
</file>