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ED8-C969-4A39-9038-E08E6EF8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80B-4D1A-4D23-B92B-4A46F513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C2F-2F78-44E3-B017-6ADFD9DA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4ED-CD00-464A-955A-D12218B5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A8D-C63E-4B4D-AE9D-44E3C2B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E9F-7274-49E4-B7EC-12B862A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CEF-E036-4848-80F8-01AA0FFC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484-B2FA-42A0-A5A4-07B8CDEC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19D-4408-43DB-B059-E926435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609-67FF-403E-A724-7777497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ED2-5498-40D5-AE3D-B615F4C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0B1-7FC5-4DEA-83EC-293EB24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811E-EB76-45C6-BF2C-B6B7A27BA11B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02560" cy="30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ипертекст</a:t>
            </a:r>
            <a:br>
              <a:rPr sz="4800"/>
            </a:br>
            <a:br>
              <a:rPr sz="40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женко Н.В.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БОУ гимназия № 293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55640" y="1699920"/>
            <a:ext cx="331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ила равна произведению 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массы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на ускорение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5" descr="Ньютон"/>
          <p:cNvPicPr/>
          <p:nvPr/>
        </p:nvPicPr>
        <p:blipFill>
          <a:blip r:embed="rId2"/>
          <a:stretch/>
        </p:blipFill>
        <p:spPr>
          <a:xfrm>
            <a:off x="539640" y="1773360"/>
            <a:ext cx="1516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Масса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– мера инертности тела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5" descr="newton_44"/>
          <p:cNvPicPr/>
          <p:nvPr/>
        </p:nvPicPr>
        <p:blipFill>
          <a:blip r:embed="rId1"/>
          <a:stretch/>
        </p:blipFill>
        <p:spPr>
          <a:xfrm>
            <a:off x="5867280" y="1700280"/>
            <a:ext cx="2187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Инертность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- свойство различных материальных объектов приобретать разные ускорения при одинаковых внешних воздействиях со стороны других тел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Зачетная работа по созданию гиперссылок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ученика 7 «Х» класса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Иванова Ивана Ивановича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иографи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тоальбом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89800" y="5821200"/>
            <a:ext cx="25192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лавная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отоальбом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692280"/>
          <a:ext cx="7417080" cy="4479840"/>
        </p:xfrm>
        <a:graphic>
          <a:graphicData uri="http://schemas.openxmlformats.org/drawingml/2006/table">
            <a:tbl>
              <a:tblPr/>
              <a:tblGrid>
                <a:gridCol w="1852560"/>
                <a:gridCol w="556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кодилов Геннадий Аллигаторович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3 января1313 года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фрика, болото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шее, Академия крокодилове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ртийная принадлежность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ртия зеленых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а работы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оопарк, кунсткамера, бассейн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Женат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аличие детей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 маленьких крокодильчиков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сновные черты характера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обряк, сентиментален, мудр и весел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Хобби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ружит с чебурашками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WordArt 137"/>
          <p:cNvSpPr txBox="1"/>
          <p:nvPr/>
        </p:nvSpPr>
        <p:spPr>
          <a:xfrm>
            <a:off x="684360" y="530064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лой Шапокляков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аешь Чебураше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Фотоальбом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41920" y="5676480"/>
            <a:ext cx="2602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лавна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иографи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395280" y="1052640"/>
            <a:ext cx="2357280" cy="2313000"/>
            <a:chOff x="395280" y="1052640"/>
            <a:chExt cx="2357280" cy="2313000"/>
          </a:xfrm>
        </p:grpSpPr>
        <p:pic>
          <p:nvPicPr>
            <p:cNvPr id="107" name="Picture 4" descr="http://www.dali-plus.infopiter.ru/prodic/244-64-2.JPG"/>
            <p:cNvPicPr/>
            <p:nvPr/>
          </p:nvPicPr>
          <p:blipFill>
            <a:blip r:embed="rId1"/>
            <a:stretch/>
          </p:blipFill>
          <p:spPr>
            <a:xfrm>
              <a:off x="395280" y="1052640"/>
              <a:ext cx="23572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900000" y="2997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детство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5940360" y="1197000"/>
            <a:ext cx="2873520" cy="2239920"/>
            <a:chOff x="5940360" y="1197000"/>
            <a:chExt cx="2873520" cy="2239920"/>
          </a:xfrm>
        </p:grpSpPr>
        <p:pic>
          <p:nvPicPr>
            <p:cNvPr id="110" name="Picture 6" descr="http://www.interiorshop.ru/img/333_150.jpg"/>
            <p:cNvPicPr/>
            <p:nvPr/>
          </p:nvPicPr>
          <p:blipFill>
            <a:blip r:embed="rId2"/>
            <a:stretch/>
          </p:blipFill>
          <p:spPr>
            <a:xfrm>
              <a:off x="5940360" y="1197000"/>
              <a:ext cx="28735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/>
            <p:cNvSpPr/>
            <p:nvPr/>
          </p:nvSpPr>
          <p:spPr>
            <a:xfrm>
              <a:off x="6588000" y="306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трочество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2" name="Group 21"/>
          <p:cNvGrpSpPr/>
          <p:nvPr/>
        </p:nvGrpSpPr>
        <p:grpSpPr>
          <a:xfrm>
            <a:off x="468360" y="3500280"/>
            <a:ext cx="2378160" cy="2529000"/>
            <a:chOff x="468360" y="3500280"/>
            <a:chExt cx="2378160" cy="2529000"/>
          </a:xfrm>
        </p:grpSpPr>
        <p:pic>
          <p:nvPicPr>
            <p:cNvPr id="113" name="Picture 9" descr="http://www.dali-plus.infopiter.ru/prodic/17-22-3.JPG"/>
            <p:cNvPicPr/>
            <p:nvPr/>
          </p:nvPicPr>
          <p:blipFill>
            <a:blip r:embed="rId3"/>
            <a:stretch/>
          </p:blipFill>
          <p:spPr>
            <a:xfrm>
              <a:off x="468360" y="3500280"/>
              <a:ext cx="23781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7"/>
            <p:cNvSpPr/>
            <p:nvPr/>
          </p:nvSpPr>
          <p:spPr>
            <a:xfrm>
              <a:off x="900000" y="5661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обби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5" name="Group 22"/>
          <p:cNvGrpSpPr/>
          <p:nvPr/>
        </p:nvGrpSpPr>
        <p:grpSpPr>
          <a:xfrm>
            <a:off x="3564000" y="3429000"/>
            <a:ext cx="2581200" cy="2600280"/>
            <a:chOff x="3564000" y="3429000"/>
            <a:chExt cx="2581200" cy="2600280"/>
          </a:xfrm>
        </p:grpSpPr>
        <p:pic>
          <p:nvPicPr>
            <p:cNvPr id="116" name="Picture 14" descr="http://www.dali-plus.infopiter.ru/prodic/30-33-2.jpg"/>
            <p:cNvPicPr/>
            <p:nvPr/>
          </p:nvPicPr>
          <p:blipFill>
            <a:blip r:embed="rId4"/>
            <a:stretch/>
          </p:blipFill>
          <p:spPr>
            <a:xfrm>
              <a:off x="3564000" y="3429000"/>
              <a:ext cx="258120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4356000" y="5661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релость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Что такое гипертекс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здание гипертекстовых связей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3" action="ppaction://hlinksldjump"/>
              </a:rPr>
              <a:t>Пример организации гипертекстовых связей в документе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Управляющие кнопки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ипертекст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нгл.) hypertext – больше, чем текст, сверхтекст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то способ организации текстового материала, обеспечивающий быстрый поиск необходимой информации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бъекты обладают смысловыми связями, которые обеспечиваются при помощи ссылок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акие связи называются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иперсвязями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(гиперссылками)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иперссылка позволяет быстро перейти к просмотру того раздела, на который она указывает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Примеры</a:t>
            </a:r>
            <a:r>
              <a:rPr b="0" lang="ru-RU" sz="24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: справочники, словари, учебники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AutoShape 4">
            <a:hlinkClick r:id="rId3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AutoShape 5">
            <a:hlinkClick r:id="rId5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рмин "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гипертекст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" появился в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1965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г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Классическое определение гипертекста дано в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1987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г., – это "форма письма, которое ветвится или осуществляется по запросу". Иначе говоря, это "нелинейное письмо", которое "больше чем текст" (hypertext)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Гипертекст позволяет создать структуру документа путём выделения в нем слов-ссылок – гиперссылок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и активизации гиперссылки происходит переход на фрагмент текста, заданный в ссылке)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ссыл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908000" y="1125360"/>
            <a:ext cx="1440000" cy="83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5724360" y="1125360"/>
            <a:ext cx="1440000" cy="83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1128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казатель ссылки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724360" y="2133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дресная часть ссылки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494080"/>
            <a:ext cx="0" cy="5745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7308720" y="2492280"/>
            <a:ext cx="0" cy="57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4360" y="32846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ъект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(фрагмент текста или изображение)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084720" y="3141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звание элемента в документе, на который указывает ссылка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здание гипертекстовых связей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48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делить объект, который будет являться указателем гиперссылки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звать контекстное меню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брать пункт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Гиперссылка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 диалоговом окне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Добавление гиперссылки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выбрать адрес, на который будет указывать ссылка.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" name="Picture 5" descr="гиперссылка"/>
          <p:cNvPicPr/>
          <p:nvPr/>
        </p:nvPicPr>
        <p:blipFill>
          <a:blip r:embed="rId3"/>
          <a:stretch/>
        </p:blipFill>
        <p:spPr>
          <a:xfrm>
            <a:off x="2522520" y="1330200"/>
            <a:ext cx="6588000" cy="4092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>
            <a:hlinkClick r:id="rId4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здание гипертекстовых связей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7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меню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Вставка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выбрать пункт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иперссылка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окне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обавление гиперссылки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выбрать адрес, на который будет указывать ссылка.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2809800" y="1557360"/>
            <a:ext cx="6300720" cy="2747880"/>
            <a:chOff x="2809800" y="1557360"/>
            <a:chExt cx="6300720" cy="2747880"/>
          </a:xfrm>
        </p:grpSpPr>
        <p:pic>
          <p:nvPicPr>
            <p:cNvPr id="76" name="Picture 6" descr="гиперссылка1"/>
            <p:cNvPicPr/>
            <p:nvPr/>
          </p:nvPicPr>
          <p:blipFill>
            <a:blip r:embed="rId3"/>
            <a:stretch/>
          </p:blipFill>
          <p:spPr>
            <a:xfrm>
              <a:off x="2809800" y="1557360"/>
              <a:ext cx="63007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val 7"/>
            <p:cNvSpPr/>
            <p:nvPr/>
          </p:nvSpPr>
          <p:spPr>
            <a:xfrm>
              <a:off x="4716360" y="1773360"/>
              <a:ext cx="79236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" name="Oval 8"/>
            <p:cNvSpPr/>
            <p:nvPr/>
          </p:nvSpPr>
          <p:spPr>
            <a:xfrm>
              <a:off x="5070600" y="3268800"/>
              <a:ext cx="115236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" name="AutoShape 10">
            <a:hlinkClick r:id="rId4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правляющие кнопки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и создании гиперссылок часто используются управляющие кнопки (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втофигуры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Управляющие кнопк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826920" y="2732040"/>
            <a:ext cx="7561440" cy="3745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1908000" y="4941720"/>
            <a:ext cx="2087640" cy="935280"/>
            <a:chOff x="1908000" y="4941720"/>
            <a:chExt cx="2087640" cy="935280"/>
          </a:xfrm>
        </p:grpSpPr>
        <p:sp>
          <p:nvSpPr>
            <p:cNvPr id="85" name="Oval 8"/>
            <p:cNvSpPr/>
            <p:nvPr/>
          </p:nvSpPr>
          <p:spPr>
            <a:xfrm>
              <a:off x="2340000" y="4941720"/>
              <a:ext cx="165564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1908000" y="5516640"/>
              <a:ext cx="115128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4:49:31Z</dcterms:created>
  <dc:creator>natali</dc:creator>
  <dc:description/>
  <dc:language>en-US</dc:language>
  <cp:lastModifiedBy>Инесса</cp:lastModifiedBy>
  <dcterms:modified xsi:type="dcterms:W3CDTF">2017-05-23T17:59:54Z</dcterms:modified>
  <cp:revision>22</cp:revision>
  <dc:subject/>
  <dc:title>Текстовая информация и компьютер  </dc:title>
</cp:coreProperties>
</file>