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940-A09F-402A-9344-A76CC7A3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0A8-0C63-47EA-B853-292C79B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465-F51A-4FA8-BA11-90F2AB1B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827-E9A6-4D2D-9C4D-57841161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3D9-BD4C-4930-88DC-4A4132E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88C-A119-4159-91D5-139BDE3E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0B2-816C-412B-A58F-AC365B42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670-C522-4B2A-BF6A-5A86064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251-7728-47B1-812A-EF5F0532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911-2024-4A5C-8B15-F835E56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D03-A4A8-4E94-9E59-DA0E7BB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34E-ACB4-4565-B855-5974E249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3420-03FE-475E-B269-D16A27993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RDR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971640" y="1341360"/>
            <a:ext cx="712764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выпол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ражен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56000" y="5373720"/>
            <a:ext cx="42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втор : Макарова С.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читель начальных клас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БОУ СОШ п.Юж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44" name="Picture 6" descr="Рисунок1"/>
          <p:cNvPicPr/>
          <p:nvPr/>
        </p:nvPicPr>
        <p:blipFill>
          <a:blip r:embed="rId2"/>
          <a:stretch/>
        </p:blipFill>
        <p:spPr>
          <a:xfrm>
            <a:off x="6659640" y="4005360"/>
            <a:ext cx="18716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ядка для гл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Рисунок1"/>
          <p:cNvPicPr/>
          <p:nvPr/>
        </p:nvPicPr>
        <p:blipFill>
          <a:blip r:embed="rId1"/>
          <a:stretch/>
        </p:blipFill>
        <p:spPr>
          <a:xfrm>
            <a:off x="3995640" y="3141720"/>
            <a:ext cx="1081080" cy="104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Рисунок1"/>
          <p:cNvPicPr/>
          <p:nvPr/>
        </p:nvPicPr>
        <p:blipFill>
          <a:blip r:embed="rId2"/>
          <a:stretch/>
        </p:blipFill>
        <p:spPr>
          <a:xfrm>
            <a:off x="7524720" y="126828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Рисунок1"/>
          <p:cNvPicPr/>
          <p:nvPr/>
        </p:nvPicPr>
        <p:blipFill>
          <a:blip r:embed="rId3"/>
          <a:stretch/>
        </p:blipFill>
        <p:spPr>
          <a:xfrm>
            <a:off x="395280" y="530064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Рисунок1"/>
          <p:cNvPicPr/>
          <p:nvPr/>
        </p:nvPicPr>
        <p:blipFill>
          <a:blip r:embed="rId4"/>
          <a:stretch/>
        </p:blipFill>
        <p:spPr>
          <a:xfrm>
            <a:off x="7451640" y="544500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1"/>
          <p:cNvPicPr/>
          <p:nvPr/>
        </p:nvPicPr>
        <p:blipFill>
          <a:blip r:embed="rId5"/>
          <a:stretch/>
        </p:blipFill>
        <p:spPr>
          <a:xfrm>
            <a:off x="3995640" y="544500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Рисунок1"/>
          <p:cNvPicPr/>
          <p:nvPr/>
        </p:nvPicPr>
        <p:blipFill>
          <a:blip r:embed="rId6"/>
          <a:stretch/>
        </p:blipFill>
        <p:spPr>
          <a:xfrm>
            <a:off x="468360" y="2924280"/>
            <a:ext cx="1081080" cy="1044360"/>
          </a:xfrm>
          <a:prstGeom prst="rect">
            <a:avLst/>
          </a:prstGeom>
          <a:ln w="0">
            <a:noFill/>
          </a:ln>
        </p:spPr>
      </p:pic>
      <p:pic>
        <p:nvPicPr>
          <p:cNvPr id="132" name="detskie_pesni_-_dvazhd_dva_chetre.mp3" descr=""/>
          <p:cNvPicPr/>
          <p:nvPr/>
        </p:nvPicPr>
        <p:blipFill>
          <a:blip r:embed="rId7"/>
          <a:stretch/>
        </p:blipFill>
        <p:spPr>
          <a:xfrm>
            <a:off x="53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95489E-006 C 0.08194 4.95489E-006 0.14965 -0.07819 0.14965 -0.17303 C 0.14965 -0.28407 0.07465 -0.32432 0.02951 -0.34143 L -0.03004 -0.35878 C -0.075 -0.3759 -0.14966 -0.41916 -0.14966 -0.5443 C -0.14966 -0.6255 -0.08229 -0.71617 3.05556E-006 -0.71617 C 0.08194 -0.71617 0.14965 -0.6255 0.14965 -0.5443 C 0.14965 -0.41916 0.07465 -0.3759 0.02951 -0.35878 L -0.03004 -0.34143 C -0.075 -0.32432 -0.14966 -0.28407 -0.14966 -0.17303 C -0.14966 -0.07819 -0.08229 4.95489E-006 3.05556E-006 4.95489E-006 Z">
                                      <p:cBhvr>
                                        <p:cTn id="30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452E-006 C -3.05556E-006 0.11219 0.08611 0.20472 0.1915 0.20472 C 0.31615 0.20472 0.36094 0.10224 0.37969 0.04071 L 0.39966 -0.04095 C 0.41893 -0.10248 0.46632 -0.20449 0.60712 -0.20449 C 0.69705 -0.20449 0.79931 -0.11242 0.79931 2.452E-006 C 0.79931 0.11219 0.69705 0.20472 0.60712 0.20472 C 0.46632 0.20472 0.41893 0.10224 0.39966 0.04071 L 0.37969 -0.04095 C 0.36094 -0.10248 0.31615 -0.20449 0.1915 -0.20449 C 0.08611 -0.20449 -3.05556E-006 -0.11242 -3.05556E-006 2.452E-006 Z">
                                      <p:cBhvr>
                                        <p:cTn id="31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01874E-006 L 0.825 0.02105 E">
                                      <p:cBhvr>
                                        <p:cTn id="31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5 0.02105 L -0.0118 0.00786 E">
                                      <p:cBhvr>
                                        <p:cTn id="32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4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538E-006 C -2.5E-006 -0.04673 0.0915 -0.08258 0.2033 -0.08258 C 0.31858 -0.08258 0.41059 -0.04673 0.41059 2.25538E-006 C 0.41059 0.04672 0.50209 0.08258 0.61754 0.08258 C 0.72917 0.08258 0.82118 0.04672 0.82118 2.25538E-006 E">
                                      <p:cBhvr>
                                        <p:cTn id="3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00000" y="335772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35" name="WordArt 7"/>
          <p:cNvSpPr txBox="1"/>
          <p:nvPr/>
        </p:nvSpPr>
        <p:spPr>
          <a:xfrm>
            <a:off x="5580000" y="765000"/>
            <a:ext cx="1067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8360" y="3284640"/>
            <a:ext cx="42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655800" y="3284640"/>
            <a:ext cx="43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105264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со скобками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считай снач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buClr>
                <a:srgbClr val="ffffff"/>
              </a:buClr>
              <a:buFont typeface="Arial Black"/>
              <a:buAutoNum type="arabi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действия в скоб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2) потом по порядку слева направо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и   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) затем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    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093080" y="2565360"/>
            <a:ext cx="1584360" cy="21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276720" y="4221000"/>
            <a:ext cx="647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4788000" y="4365720"/>
            <a:ext cx="574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3780000" y="3716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4859280" y="3573360"/>
            <a:ext cx="1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619280" y="5661000"/>
            <a:ext cx="619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c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d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 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6"/>
          <p:cNvSpPr/>
          <p:nvPr/>
        </p:nvSpPr>
        <p:spPr>
          <a:xfrm>
            <a:off x="485928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1964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6227640" y="508464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2195640" y="515772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95280" y="292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3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9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5508720" y="33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4643280" y="76500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940360" y="184464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140360" y="3716280"/>
            <a:ext cx="43164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5003640" y="3716280"/>
            <a:ext cx="50328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356000" y="4076640"/>
            <a:ext cx="935280" cy="504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 flipH="1">
            <a:off x="4067280" y="4581360"/>
            <a:ext cx="288720" cy="21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771640" y="3789360"/>
            <a:ext cx="1008360" cy="100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348000" y="4869000"/>
            <a:ext cx="93492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826920" y="3789360"/>
            <a:ext cx="1729080" cy="216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 flipH="1">
            <a:off x="4716360" y="3716280"/>
            <a:ext cx="1944720" cy="1944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372360" y="98100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4067280" y="5516640"/>
            <a:ext cx="504720" cy="216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H="1">
            <a:off x="2987640" y="6093000"/>
            <a:ext cx="1152720" cy="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4211640" y="5734080"/>
            <a:ext cx="934920" cy="57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7740720" y="2924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6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5219640" y="1197000"/>
            <a:ext cx="10670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635280" y="2852640"/>
            <a:ext cx="42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412600" y="2852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908000" y="580536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6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C -0.04931 0.12408 -0.09861 0.24885 -0.11823 0.29908 E">
                                      <p:cBhvr>
                                        <p:cTn id="388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C -0.06892 0.09838 -0.13784 0.19676 -0.16528 0.23611 E">
                                      <p:cBhvr>
                                        <p:cTn id="392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4.07407E-006 C -0.00347 0.03611 -0.00694 0.07245 -0.00833 0.08681 E">
                                      <p:cBhvr>
                                        <p:cTn id="39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111 C -0.0302 -0.0507 -0.06041 -0.11297 -0.10329 -0.13658 C -0.14635 -0.16065 -0.18715 -0.18982 -0.25798 -0.13172 C -0.32864 -0.07338 -0.42812 0.07083 -0.5276 0.21528 E">
                                      <p:cBhvr>
                                        <p:cTn id="400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1979640" y="620640"/>
            <a:ext cx="5256360" cy="2376720"/>
          </a:xfrm>
          <a:custGeom>
            <a:avLst/>
            <a:gdLst>
              <a:gd name="textAreaLeft" fmla="*/ 1314000 w 5256360"/>
              <a:gd name="textAreaRight" fmla="*/ 3942360 w 5256360"/>
              <a:gd name="textAreaTop" fmla="*/ 0 h 2376720"/>
              <a:gd name="textAreaBottom" fmla="*/ 2079720 h 237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9900"/>
          </a:solidFill>
          <a:ln w="25560">
            <a:solidFill>
              <a:srgbClr val="e2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ffc5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e2ffc5"/>
                </a:solidFill>
                <a:latin typeface="Arial"/>
              </a:rPr>
              <a:t>2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ffc5"/>
                </a:solidFill>
                <a:latin typeface="Arial"/>
              </a:rPr>
              <a:t>С. 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24000" y="3716280"/>
            <a:ext cx="4248000" cy="2376720"/>
          </a:xfrm>
          <a:prstGeom prst="cloudCallout">
            <a:avLst>
              <a:gd name="adj1" fmla="val 17601"/>
              <a:gd name="adj2" fmla="val -80125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1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равило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643280" y="3645000"/>
            <a:ext cx="4249800" cy="2448000"/>
          </a:xfrm>
          <a:prstGeom prst="cloudCallout">
            <a:avLst>
              <a:gd name="adj1" fmla="val -17129"/>
              <a:gd name="adj2" fmla="val -75550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2 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равило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2771640" y="3789360"/>
            <a:ext cx="4105440" cy="2089080"/>
          </a:xfrm>
          <a:prstGeom prst="cloudCallout">
            <a:avLst>
              <a:gd name="adj1" fmla="val -4060"/>
              <a:gd name="adj2" fmla="val -91944"/>
            </a:avLst>
          </a:prstGeom>
          <a:solidFill>
            <a:srgbClr val="e2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равило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ORDR011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1116000" y="242100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227640" y="234936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635280" y="2924280"/>
            <a:ext cx="18003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067280" y="4076640"/>
            <a:ext cx="93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4356000" y="1268280"/>
            <a:ext cx="7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4211640" y="436572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BORDR0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1258920" y="1197000"/>
            <a:ext cx="6192720" cy="446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 стр.96-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 № 131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BORDR011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Изображение 264"/>
          <p:cNvPicPr/>
          <p:nvPr/>
        </p:nvPicPr>
        <p:blipFill>
          <a:blip r:embed="rId2"/>
          <a:stretch/>
        </p:blipFill>
        <p:spPr>
          <a:xfrm>
            <a:off x="3132000" y="2997360"/>
            <a:ext cx="3168720" cy="2754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4"/>
          <p:cNvSpPr txBox="1"/>
          <p:nvPr/>
        </p:nvSpPr>
        <p:spPr>
          <a:xfrm>
            <a:off x="1403280" y="1197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ORDR011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331128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692360" y="1125360"/>
            <a:ext cx="561636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333360"/>
            <a:ext cx="71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 от царицы на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Царица наук"/>
          <p:cNvPicPr/>
          <p:nvPr/>
        </p:nvPicPr>
        <p:blipFill>
          <a:blip r:embed="rId1"/>
          <a:stretch/>
        </p:blipFill>
        <p:spPr>
          <a:xfrm>
            <a:off x="250920" y="1413000"/>
            <a:ext cx="3786120" cy="51274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grpSp>
        <p:nvGrpSpPr>
          <p:cNvPr id="50" name="Group 21"/>
          <p:cNvGrpSpPr/>
          <p:nvPr/>
        </p:nvGrpSpPr>
        <p:grpSpPr>
          <a:xfrm>
            <a:off x="5003640" y="3500280"/>
            <a:ext cx="3241800" cy="2881440"/>
            <a:chOff x="5003640" y="3500280"/>
            <a:chExt cx="3241800" cy="2881440"/>
          </a:xfrm>
        </p:grpSpPr>
        <p:sp>
          <p:nvSpPr>
            <p:cNvPr id="51" name="AutoShape 9"/>
            <p:cNvSpPr/>
            <p:nvPr/>
          </p:nvSpPr>
          <p:spPr>
            <a:xfrm>
              <a:off x="5003640" y="5229000"/>
              <a:ext cx="172872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1"/>
            <p:cNvSpPr/>
            <p:nvPr/>
          </p:nvSpPr>
          <p:spPr>
            <a:xfrm>
              <a:off x="6443640" y="5229000"/>
              <a:ext cx="180180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5580000" y="4365360"/>
              <a:ext cx="129708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8"/>
            <p:cNvSpPr/>
            <p:nvPr/>
          </p:nvSpPr>
          <p:spPr>
            <a:xfrm>
              <a:off x="6588000" y="4365360"/>
              <a:ext cx="1297080" cy="11527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6156360" y="3500280"/>
              <a:ext cx="1296720" cy="1152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WordArt 13"/>
          <p:cNvSpPr txBox="1"/>
          <p:nvPr/>
        </p:nvSpPr>
        <p:spPr>
          <a:xfrm>
            <a:off x="4427640" y="2133720"/>
            <a:ext cx="64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8604360" y="2205000"/>
            <a:ext cx="1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7451640" y="234936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Oval 18"/>
          <p:cNvSpPr/>
          <p:nvPr/>
        </p:nvSpPr>
        <p:spPr>
          <a:xfrm>
            <a:off x="5651640" y="227664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354000" y="1916280"/>
            <a:ext cx="75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(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>
            <a:off x="3492360" y="1268280"/>
            <a:ext cx="5472360" cy="1368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400"/>
                </a:solidFill>
                <a:latin typeface="Arial Black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0017 0.26574 E"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2129 C 0.01233 0.175 0.02622 0.3287 0.03177 0.39004 E">
                                      <p:cBhvr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8 0.04791 C 0.04601 0.24444 0.08333 0.4412 0.09844 0.5199 E"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2431 0.20741 -0.04861 0.41505 -0.05834 0.49768 E">
                                      <p:cBhvr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C -0.06597 0.15972 -0.13159 0.31968 -0.15746 0.38334 E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971640" y="333360"/>
            <a:ext cx="71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быстрее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62720" y="2924280"/>
            <a:ext cx="901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∙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: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∙ 0 ∙ 54 : 6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  <a:ea typeface="Arial"/>
              </a:rPr>
              <a:t> 12 : 4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76360" y="16286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2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: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∙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: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8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·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 =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24000" y="4005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2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+ 2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+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16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-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  <a:ea typeface="Arial"/>
              </a:rPr>
              <a:t>53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 Black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BORDR011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1258920" y="1557360"/>
            <a:ext cx="684216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ядок выпол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выражени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6" descr="Рисунок1"/>
          <p:cNvPicPr/>
          <p:nvPr/>
        </p:nvPicPr>
        <p:blipFill>
          <a:blip r:embed="rId2"/>
          <a:stretch/>
        </p:blipFill>
        <p:spPr>
          <a:xfrm>
            <a:off x="3780000" y="4292640"/>
            <a:ext cx="1944360" cy="1746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050920" y="333360"/>
            <a:ext cx="547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90792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без скобок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, содержащих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только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действия        и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 или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только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   , считай по порядку слева на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50920" y="551664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+ c – 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003640" y="5516640"/>
            <a:ext cx="414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i="1" lang="en-US" sz="5000" spc="-1" strike="noStrike">
                <a:solidFill>
                  <a:srgbClr val="ffffff"/>
                </a:solidFill>
                <a:latin typeface="Arial Black"/>
              </a:rPr>
              <a:t> b ∙ c · 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3348000" y="4437000"/>
            <a:ext cx="2160720" cy="216000"/>
          </a:xfrm>
          <a:custGeom>
            <a:avLst/>
            <a:gdLst>
              <a:gd name="textAreaLeft" fmla="*/ 270000 w 2160720"/>
              <a:gd name="textAreaRight" fmla="*/ 1890720 w 2160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5508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82692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212400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3"/>
          <p:cNvSpPr/>
          <p:nvPr/>
        </p:nvSpPr>
        <p:spPr>
          <a:xfrm>
            <a:off x="3419640" y="501336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7740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6732720" y="494172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3635280" y="2349360"/>
            <a:ext cx="71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17"/>
          <p:cNvSpPr txBox="1"/>
          <p:nvPr/>
        </p:nvSpPr>
        <p:spPr>
          <a:xfrm>
            <a:off x="5292720" y="249228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2771640" y="3213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3635280" y="3068640"/>
            <a:ext cx="1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9640" y="3284640"/>
            <a:ext cx="73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= 25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84360" y="479736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4 = 4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5508720" y="907920"/>
            <a:ext cx="10666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8101080" y="3141720"/>
            <a:ext cx="792000" cy="1008000"/>
          </a:xfrm>
          <a:prstGeom prst="irregularSeal1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41964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61928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4716360" y="2708280"/>
            <a:ext cx="720720" cy="647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33200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о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119700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В выражениях без скобок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считай по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порядку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лева направо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сначала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действия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ли   , а потом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и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564000" y="6308640"/>
            <a:ext cx="1871640" cy="21600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5651640" y="3284640"/>
            <a:ext cx="7189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8028000" y="350028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Oval 9"/>
          <p:cNvSpPr/>
          <p:nvPr/>
        </p:nvSpPr>
        <p:spPr>
          <a:xfrm>
            <a:off x="468360" y="3500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340000" y="3357720"/>
            <a:ext cx="144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050920" y="5300640"/>
            <a:ext cx="514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a – b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c 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i="1" lang="en-US" sz="5000" spc="-1" strike="noStrike">
                <a:solidFill>
                  <a:srgbClr val="ffffff"/>
                </a:solidFill>
                <a:latin typeface="Arial Black"/>
              </a:rPr>
              <a:t> d 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0" i="1" lang="ru-RU" sz="5000" spc="-1" strike="noStrike">
                <a:solidFill>
                  <a:srgbClr val="ffffff"/>
                </a:solidFill>
                <a:latin typeface="Arial Black"/>
              </a:rPr>
              <a:t> 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385128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615636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262728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4932360" y="472428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41680" cy="1930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84360" y="2924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24 + 40 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: 8 – 3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∙</a:t>
            </a: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 9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7451640" y="692280"/>
            <a:ext cx="79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49236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01200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176364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788000" y="5661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987640" y="3787920"/>
            <a:ext cx="432000" cy="288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640" y="3860640"/>
            <a:ext cx="503280" cy="2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276720" y="4221000"/>
            <a:ext cx="934920" cy="69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>
            <a:off x="3131640" y="4941720"/>
            <a:ext cx="576360" cy="43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403280" y="3860640"/>
            <a:ext cx="1295640" cy="13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124000" y="5445000"/>
            <a:ext cx="935280" cy="693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3132000" y="6021360"/>
            <a:ext cx="158436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H="1">
            <a:off x="5508720" y="4941720"/>
            <a:ext cx="57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0"/>
          <p:cNvSpPr/>
          <p:nvPr/>
        </p:nvSpPr>
        <p:spPr>
          <a:xfrm>
            <a:off x="4788000" y="2349360"/>
            <a:ext cx="720720" cy="648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796000" y="3716280"/>
            <a:ext cx="28872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 flipH="1">
            <a:off x="6516360" y="3716280"/>
            <a:ext cx="36036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5796000" y="4149720"/>
            <a:ext cx="934920" cy="693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7740720" y="292428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788000" y="5661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C 0.13437 -0.16366 0.26909 -0.32708 0.32309 -0.39213 E">
                                      <p:cBhvr>
                                        <p:cTn id="24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6:24:05Z</dcterms:created>
  <dc:creator>User</dc:creator>
  <dc:description/>
  <dc:language>en-US</dc:language>
  <cp:lastModifiedBy>User</cp:lastModifiedBy>
  <dcterms:modified xsi:type="dcterms:W3CDTF">2015-01-12T16:36:29Z</dcterms:modified>
  <cp:revision>63</cp:revision>
  <dc:subject/>
  <dc:title>Слайд 1</dc:title>
</cp:coreProperties>
</file>