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776-DD2F-4292-B5F6-421FFB15E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9AE-B342-48D8-9FEC-2C6115E9F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9A7-D065-4BA8-BD08-F206A0388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33C-E5DC-446D-9C2D-05EFFAF1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5E7-4A3D-4911-B374-C0548C3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4F4-4B87-40BC-B599-8F632476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58A-CD7A-4B71-A965-E3D3725E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886-3846-42C6-B56A-62A34C3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D67-9AC3-4D35-A9FF-AFD7B21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ECF-1419-416C-B730-9213107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BC5-2587-481D-9840-74E6164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27E-4267-44A7-BE59-274293B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0FC-97A0-4A2E-A279-DFC7FDF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987-FEDE-4324-83B8-94CDF2C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BC0-D14C-43DE-8A9F-3BE37C81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9C55-C1AE-49B3-83E7-FFBCE519C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yandex.ru/maps/org/1103902674/?source=wizbiz_new_text_single" TargetMode="External"/><Relationship Id="rId3" Type="http://schemas.openxmlformats.org/officeDocument/2006/relationships/hyperlink" Target="https://yandex.ru/maps/org/1103902674/?source=wizbiz_new_text_single" TargetMode="External"/><Relationship Id="rId4" Type="http://schemas.openxmlformats.org/officeDocument/2006/relationships/hyperlink" Target="https://yandex.ru/maps/org/1103902674/?source=wizbiz_new_text_single" TargetMode="External"/><Relationship Id="rId5" Type="http://schemas.openxmlformats.org/officeDocument/2006/relationships/hyperlink" Target="https://yandex.ru/maps/org/1103902674/?source=wizbiz_new_text_single" TargetMode="External"/><Relationship Id="rId6" Type="http://schemas.openxmlformats.org/officeDocument/2006/relationships/hyperlink" Target="https://yandex.ru/maps/org/1103902674/?source=wizbiz_new_text_singl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Gungsuh"/>
                <a:ea typeface="Gungsuh"/>
              </a:rPr>
              <a:t>«Развитие культуры речи учащихся  в рамках взаимодействия  учителя –логопеда и социального педагога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920" y="392904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357360" y="4005000"/>
            <a:ext cx="5429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влова 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ГБУ ДО ЦППМСП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осковского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район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397-B18F-47DA-8C25-A20F8ED88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27120" y="981000"/>
          <a:ext cx="8337600" cy="5773680"/>
        </p:xfrm>
        <a:graphic>
          <a:graphicData uri="http://schemas.openxmlformats.org/drawingml/2006/table">
            <a:tbl>
              <a:tblPr/>
              <a:tblGrid>
                <a:gridCol w="520560"/>
                <a:gridCol w="2984760"/>
                <a:gridCol w="4832280"/>
              </a:tblGrid>
              <a:tr h="5184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ова –паразиты  как 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а – параз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, вот, типа, так, просто, прямо, как 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од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обще, в общем-то, в принципе, допустим, значит, короче, например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 сказать, стало быть, понимаешь, собственно говоря, слушай, конечно, наверное, вероятно, каж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имения, местоименные наре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, это самое, как его, 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 из одной части речи в друг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н, че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0" name="Заголовок 3"/>
          <p:cNvSpPr/>
          <p:nvPr/>
        </p:nvSpPr>
        <p:spPr>
          <a:xfrm>
            <a:off x="755640" y="260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alibri"/>
              </a:rPr>
              <a:t>Классификация слов-паразит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rus.1september.ru/2004/15/1.gif"/>
          <p:cNvPicPr/>
          <p:nvPr/>
        </p:nvPicPr>
        <p:blipFill>
          <a:blip r:embed="rId1"/>
          <a:stretch/>
        </p:blipFill>
        <p:spPr>
          <a:xfrm>
            <a:off x="5643720" y="5357880"/>
            <a:ext cx="33130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 борьбы с употреблением слов‐паразито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нения родителей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57160" y="1928880"/>
          <a:ext cx="7786800" cy="2263680"/>
        </p:xfrm>
        <a:graphic>
          <a:graphicData uri="http://schemas.openxmlformats.org/drawingml/2006/table">
            <a:tbl>
              <a:tblPr/>
              <a:tblGrid>
                <a:gridCol w="403200"/>
                <a:gridCol w="6061320"/>
                <a:gridCol w="132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Количество  м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азания, заме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тение кн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 собственно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  стар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и педагогов по развитию культуры речи дет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оциальный педагог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социального педагога направлена на изменения тех обстоятельств жизни,  которые характеризуются способностями, привычками, характером взаимоотнош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, культура общения, составляю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спеха человека. Но очень важен пример взрослого, так как ребёнок повторяет ман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дения род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ово может оказывать огромное воздействие на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дин из методов, применяемый социальным педагогом при работе с детьми, котор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ляют в своей речи бранные слов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это заучивание наизусть отрывки из классических произведений, например поэ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ушкин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вгений Онег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При повторном употреблении учащимися нецензурной реч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ние усложняется увеличением объёма изучаем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78588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 прочтения выученного отрывка, с ребятами проводится индивидуальная бесед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 как средство передачи мысли и чув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 прочтения выученного отрывка, с ребятами проводится индивидуальная бесед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 как средство передачи мысли и чув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актика показала, что способ очень действ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комендуем  использовать этот способ в воспитании своего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 метод, который использует социаль-ный педагог в работе с детьми состоящих на ВШК, привлечение   к   внеурочной деятельност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 театрального кружка «Рампа» 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 готовят сценки, работают над ролью, обучаются техникам реч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 социального педагога и логопеда на данном этапе,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 ребятам правильно проговаривать      слова, развивать речь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ый кружок «Рампа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Загрузки\SDC13814.JPG"/>
          <p:cNvPicPr/>
          <p:nvPr/>
        </p:nvPicPr>
        <p:blipFill>
          <a:blip r:embed="rId1"/>
          <a:stretch/>
        </p:blipFill>
        <p:spPr>
          <a:xfrm>
            <a:off x="1554120" y="1428840"/>
            <a:ext cx="62326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040"/>
            <a:ext cx="840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35676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итель логоп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речи состоит ни только в её чистоте, то есть в отсутствии слов- паразитов, словесных штампов, но  в ее нормированности, то есть в подчинении определенным нормам произношениия, ударения, построения слов, словосочетаний, предложений; в ясности, эмоциональности и доступности, в яркости, образности, выразительности. Большое значение имеют темп речи, интона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речью, не допускайте ошибок, так как дети учатся у нас всему. Старайтесь сдерживать свои эмоции в любом разгов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деть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и веселые, интересные книги сверх школьной программы. Обсуждайте прочитанное, задавайте вопросы по текс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для развития речи ребёнка следующие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642600"/>
            <a:ext cx="832932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эпитет  к любому  слову например «кот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елый, рыжий, пушистый, весёлый, игривый, умн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бор к слову, обозначающему предмет, слов, обозначающих действие (ветер дуе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т, листья срывает, освежает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предмета по эпитетам. Что эт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одный, прозрачный, хрупкий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ывает свежим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леб, капуста, газета, ветер, трава, овощ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сотрудничеству в воспитании и развитии культуры реч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Формировать и развивать у учащихся культуру речи, как часть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оспитывать в детях стремление овладеть правильной грамотной речью, как главной составляющей успеха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кажи наоборот»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антонимами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х легкий, а камень — ...; река широкая, а руч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..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син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лочка уменьшалочка»  (стул-стульчик) или «Я- фея ласки» (кошка-кошечка и т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йте ребёнку вопросы находясь в разных местах: где летит самолет, откуда вышла бабушка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Составь предло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слово составьте с ним предложения. Напишите ребенку несколько слов или дайте несколько предметов (картинок) для составления предложения, например: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озеро, карандаш, медведь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«Мальчик взял карандаш и нарисовал медведя около озе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чи сказку» прочитайте ребёнку начало произведения, а он придумает продолжени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ражнение «Палочка-уменьшалоч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J:\DCIM\Camera\2014-10-23 15.35.32.jpg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ослови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НАТАША\Фотогр\IMG_5037.JPG"/>
          <p:cNvPicPr/>
          <p:nvPr/>
        </p:nvPicPr>
        <p:blipFill>
          <a:blip r:embed="rId1"/>
          <a:stretch/>
        </p:blipFill>
        <p:spPr>
          <a:xfrm>
            <a:off x="785880" y="1071720"/>
            <a:ext cx="7572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00040" y="811440"/>
            <a:ext cx="8215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емые родит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луйста, научите детей правильно произносить эти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ЛЬЗ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оф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оф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гётся, жгё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жётся, ж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варт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З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Зв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Ихний, ево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Их, его,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Пош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С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Красив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Кр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 паль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 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Ску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С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Коне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Транва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Трамв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Хочем, хоч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 Хотим, хот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Ед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Поезж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Ложим, лож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Кладём, кл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Разуть боти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Снять ботин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8. Одеваю паль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8. Надеваю 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9. К ей, к 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9. К ней, к 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. Не начал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. Не 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л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1. Тор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1. 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2. Пять кил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2. Пять килограм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3. Край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3. Послед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удрое и доброе слово доставляет радость, глупое и злое, необдуманное и бестактное – приносит бед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86000" y="43988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 И.Б. Русский язык и культура речи: учебное пособие  М., 2013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 И.Б. Риторика: учитесь говорить правильно М.,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Монина “Сила слова” М.,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“Читаем, учимся, играем” №6/2006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27 Февраля 2014 - Blog - Cats-cry"/>
          <p:cNvPicPr/>
          <p:nvPr/>
        </p:nvPicPr>
        <p:blipFill>
          <a:blip r:embed="rId1"/>
          <a:stretch/>
        </p:blipFill>
        <p:spPr>
          <a:xfrm>
            <a:off x="1487520" y="2241720"/>
            <a:ext cx="59688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ормы рабо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57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на тему «Культура речи наших дет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тегрированные уроки учителя-логопеда и социального педагога на тему «"Культура речи - часть общей культуры челове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нятия по развитие культуры речи в рамках программы «Адаптация первоклассников к школьному обучению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дительское собрание на тему «Культура речи наших дете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состояла из следующих вопро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деляете ли вы внимание воспитанию культуре речи вашего ребёнка. Если да, то каким образ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мечали ли вы, что ваш ребёнок употребляет бранные слова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амечали ли вы, что ваш ребёнок употребляет «слова-паразиты» ?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это самое, как его, там, как бы , типа, короче, бли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аким образом вы реагируете на употребление ребенком таких с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потребляете ли вы сами слова-парази-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ализ анкетировани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.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кетировании участвовали 24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71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71720" y="1785960"/>
          <a:ext cx="7858080" cy="4498920"/>
        </p:xfrm>
        <a:graphic>
          <a:graphicData uri="http://schemas.openxmlformats.org/drawingml/2006/table">
            <a:tbl>
              <a:tblPr/>
              <a:tblGrid>
                <a:gridCol w="596880"/>
                <a:gridCol w="4714560"/>
                <a:gridCol w="852840"/>
                <a:gridCol w="849240"/>
                <a:gridCol w="8445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трудняю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еляете ли вы внимание воспитанию культуре речи вашего ребё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чали ли вы, что ваш ребёнок употребляет бранные слова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чали ли вы, что ваш ребёнок употребляет «слова-паразиты» ?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, это самое, как его, там, как бы , типа, короче, бл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отребляете ли вы сами слова-парази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родителей (как видно из анкетирования) наибольшей проблемой культуры речи как взрослого населения так и учащихся является употребление слов параз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748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ынч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глупеем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тал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 умее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у слов связ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748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бы был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л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аж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га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вед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л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щ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поп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748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Ю. Важда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 на тему «Причины возникновения слов-паразитов»</a:t>
            </a:r>
            <a:br>
              <a:rPr sz="36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844640"/>
            <a:ext cx="82468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словарный запас (не всегда удаётся  быстро найти нужное сл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нятие психологического напряжения (эмоциональная разряд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дражание лидеру, демонстрация принадлежности говорящего к «свои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олнение паузы между словами или выраж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8:34:36Z</dcterms:created>
  <dc:creator>Юля</dc:creator>
  <dc:description/>
  <dc:language>en-US</dc:language>
  <cp:lastModifiedBy>Юля</cp:lastModifiedBy>
  <dcterms:modified xsi:type="dcterms:W3CDTF">2017-05-23T20:10:04Z</dcterms:modified>
  <cp:revision>123</cp:revision>
  <dc:subject/>
  <dc:title>Слайд 1</dc:title>
</cp:coreProperties>
</file>