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6C9-8B81-4F47-8F9B-8E13D483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54E-3776-4EDA-9297-6A7324CC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4F7-F864-4114-B4D1-838B668C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A28-07AA-4028-9E67-3EBCEE9A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2374-0548-48E8-A4C3-4E41781C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AD78-77AE-4BD6-AAA7-49ADB9AA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9FB2-E8D7-4491-B74E-32E4EDA6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1AAE-51D6-49DF-87D5-2F0DA492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520A-904B-42B4-A440-A5DC709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0B83-BAAD-4C85-AB33-8B3DE642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E07E-3E91-4E27-8503-7B136523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169-929E-46CC-9302-D81CA827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279E-5EA6-4ADE-B3AF-2EFC099E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A74A-ECFE-4556-8A74-F6DCBCC8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B283-D1BA-47CA-A55A-C1F8A9D2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11EC-BAF4-49B2-958E-07E2A528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8BAF-69C2-49F4-A674-31FB60BA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AC8-44CA-4E39-A242-5D8EFE64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703-6B1B-4C67-8E2C-773FB61E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26B-7635-4A53-BFD1-E28CB01C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713-D70B-4B05-BEC0-453CC0CE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211-A91D-4C7F-AD63-24B02ED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777-E15B-428F-888B-FEA8591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C8D-BD80-42CE-9481-C47259C6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F798-F4D4-4F62-B09C-8DE2521F0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A87A-63CE-448A-8BD7-DB1AC911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95280" y="1752480"/>
            <a:ext cx="6658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ешение логарифмиче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равнений и неравенств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Учебник стр. 243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ример 5 и 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62120" y="228600"/>
                <a:ext cx="2438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38080" y="1143000"/>
                <a:ext cx="31244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752480"/>
                <a:ext cx="3809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838080" y="762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логарифмируем по основанию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2438280"/>
                <a:ext cx="19810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62120" y="3048120"/>
                <a:ext cx="2743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38080" y="3733920"/>
                <a:ext cx="2667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9480" y="4495680"/>
                <a:ext cx="31244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9480" y="5105520"/>
                <a:ext cx="35053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879080" y="18280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05520" y="2286000"/>
                <a:ext cx="10666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29923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29400" y="2286000"/>
                <a:ext cx="1752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52880" y="2895480"/>
                <a:ext cx="1371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705720" y="2819520"/>
                <a:ext cx="1066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4650120" y="2423160"/>
            <a:ext cx="5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00" y="271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00" y="3410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00" y="388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72400" y="27421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029200" y="3657600"/>
                <a:ext cx="9907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400800" y="3429000"/>
                <a:ext cx="16002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19720" y="4572000"/>
                <a:ext cx="16002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72200" y="4572000"/>
                <a:ext cx="1219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696080" y="4800600"/>
                <a:ext cx="106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4345560" y="373284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06960" y="2264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07320" y="3025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06960" y="37663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24160" y="54093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553080" y="5715000"/>
                <a:ext cx="16765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952880" y="5867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304920"/>
                <a:ext cx="4572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759240" y="121824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йдем к основанию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85800" y="1828800"/>
                <a:ext cx="43434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0,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638680" y="198108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0,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62120" y="2895480"/>
                <a:ext cx="4800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716080" y="297072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38080" y="3505320"/>
                <a:ext cx="457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4114800"/>
                <a:ext cx="4038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38080" y="4800600"/>
                <a:ext cx="23623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2120" y="5562720"/>
                <a:ext cx="320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562720" y="4648320"/>
                <a:ext cx="25905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714280" y="563760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 5;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Домашнее задание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 39; № 512-515; № 519(в,г) № 520(в,г)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Спасибо за внима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66"/>
                </a:solidFill>
                <a:latin typeface="Arial Black"/>
              </a:rPr>
              <a:t>Основные теоремы о логарифмах.</a:t>
            </a:r>
            <a:endParaRPr b="0" lang="en-US" sz="1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Рисунок 66" descr="http://festival.1september.ru/articles/576163/img1.gif"/>
          <p:cNvPicPr/>
          <p:nvPr/>
        </p:nvPicPr>
        <p:blipFill>
          <a:blip r:embed="rId1"/>
          <a:stretch/>
        </p:blipFill>
        <p:spPr>
          <a:xfrm>
            <a:off x="228600" y="914400"/>
            <a:ext cx="3809880" cy="942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7" descr="http://festival.1september.ru/articles/576163/img2.gif"/>
          <p:cNvPicPr/>
          <p:nvPr/>
        </p:nvPicPr>
        <p:blipFill>
          <a:blip r:embed="rId2"/>
          <a:stretch/>
        </p:blipFill>
        <p:spPr>
          <a:xfrm>
            <a:off x="228600" y="1905120"/>
            <a:ext cx="3886200" cy="1108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8" descr="http://festival.1september.ru/articles/576163/img3.gif"/>
          <p:cNvPicPr/>
          <p:nvPr/>
        </p:nvPicPr>
        <p:blipFill>
          <a:blip r:embed="rId3"/>
          <a:stretch/>
        </p:blipFill>
        <p:spPr>
          <a:xfrm>
            <a:off x="304920" y="3124080"/>
            <a:ext cx="3429000" cy="879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9" descr="http://festival.1september.ru/articles/576163/img4.gif"/>
          <p:cNvPicPr/>
          <p:nvPr/>
        </p:nvPicPr>
        <p:blipFill>
          <a:blip r:embed="rId4"/>
          <a:stretch/>
        </p:blipFill>
        <p:spPr>
          <a:xfrm>
            <a:off x="380880" y="4038480"/>
            <a:ext cx="2743200" cy="979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0" descr="http://festival.1september.ru/articles/576163/img5.gif"/>
          <p:cNvPicPr/>
          <p:nvPr/>
        </p:nvPicPr>
        <p:blipFill>
          <a:blip r:embed="rId5"/>
          <a:stretch/>
        </p:blipFill>
        <p:spPr>
          <a:xfrm>
            <a:off x="380880" y="5257800"/>
            <a:ext cx="2971800" cy="1452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1" descr="http://festival.1september.ru/articles/576163/img6.gif"/>
          <p:cNvPicPr/>
          <p:nvPr/>
        </p:nvPicPr>
        <p:blipFill>
          <a:blip r:embed="rId6"/>
          <a:stretch/>
        </p:blipFill>
        <p:spPr>
          <a:xfrm>
            <a:off x="4724280" y="1066680"/>
            <a:ext cx="3276720" cy="12668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2" descr="http://festival.1september.ru/articles/576163/img7.gif"/>
          <p:cNvPicPr/>
          <p:nvPr/>
        </p:nvPicPr>
        <p:blipFill>
          <a:blip r:embed="rId7"/>
          <a:stretch/>
        </p:blipFill>
        <p:spPr>
          <a:xfrm>
            <a:off x="4876920" y="2438280"/>
            <a:ext cx="3581280" cy="1319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3" descr="http://festival.1september.ru/articles/576163/img8.gif"/>
          <p:cNvPicPr/>
          <p:nvPr/>
        </p:nvPicPr>
        <p:blipFill>
          <a:blip r:embed="rId8"/>
          <a:stretch/>
        </p:blipFill>
        <p:spPr>
          <a:xfrm>
            <a:off x="4876920" y="3886200"/>
            <a:ext cx="3657600" cy="1365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4" descr="http://festival.1september.ru/articles/576163/img9.gif"/>
          <p:cNvPicPr/>
          <p:nvPr/>
        </p:nvPicPr>
        <p:blipFill>
          <a:blip r:embed="rId9"/>
          <a:stretch/>
        </p:blipFill>
        <p:spPr>
          <a:xfrm>
            <a:off x="4800600" y="5562720"/>
            <a:ext cx="25909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остейшее логарифмическое уравнени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219320" y="2971800"/>
                <a:ext cx="29718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343400" y="30474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(гд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a&gt;0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553080" y="2971800"/>
                <a:ext cx="1524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8002800" y="29710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52480" y="1143000"/>
                <a:ext cx="52578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2286000"/>
                <a:ext cx="449568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371600" y="3962520"/>
                <a:ext cx="60958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5334120"/>
            <a:ext cx="1013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бязательно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роверка или ОД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43000" y="1905120"/>
                <a:ext cx="25146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09480" y="8380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14400" y="3276720"/>
                <a:ext cx="3124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3352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914400"/>
            <a:ext cx="670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чебник: страница 24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057400"/>
            <a:ext cx="72388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 2   (два способа решения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ешить уравнение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3520" y="1828800"/>
                <a:ext cx="4876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0948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2971800"/>
                <a:ext cx="4876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57800" y="2666880"/>
                <a:ext cx="36576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7200" y="4038480"/>
                <a:ext cx="26668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429000" y="3886200"/>
                <a:ext cx="18288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[</m:t>
                              </m:r>
                              <m:m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,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638680" y="4343400"/>
                <a:ext cx="19814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09588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62120" y="609480"/>
                <a:ext cx="4572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5800" y="609480"/>
                <a:ext cx="3200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762120" y="1219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8896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З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00200" y="1828800"/>
                <a:ext cx="1219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268880" y="2437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14600" y="24382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362320" y="3048120"/>
                <a:ext cx="2971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31720" y="251352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и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600" y="312300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лучи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715000" y="3048120"/>
                <a:ext cx="3429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76520" y="3962520"/>
                <a:ext cx="14475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267080" y="3886200"/>
                <a:ext cx="22100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705720" y="3581280"/>
                <a:ext cx="220968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77800" y="40374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2960" y="402336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7600" y="344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5560" y="40377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76520" y="4876920"/>
                <a:ext cx="1143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505320" y="4800600"/>
                <a:ext cx="1828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638680" y="4800600"/>
                <a:ext cx="1143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105520" y="5334120"/>
                <a:ext cx="914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09480" y="47311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03320" y="4921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8520" y="4891680"/>
            <a:ext cx="3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16800" y="569952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5-18T01:40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