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B33E-346C-4D17-8F1B-814E97956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6626-9551-482E-9758-457FF69BB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3F2C-4D4E-43A1-957B-1216049CF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4E42-24A5-46EE-8472-82DAFCDE7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07761-1B27-4FCC-A14A-73A68AB41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AD71C-3F60-43EA-A8CC-B002B55FE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8CCB4-FBF2-4D46-8F9C-B7C144D99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AA426-AC98-4494-8456-F348030A0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D7C82-E7A5-44FB-8184-E8744FC65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60C1D-A29A-44F2-9C8D-ED9A6FF76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60F32-E0D9-4147-BFE5-04C4395B8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40CB-19E9-4240-AA21-689CA4E93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27B95-2A49-4648-AD87-93F69AF42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7B9A9-8C21-42D4-B81C-CFAA43A8B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50CA5-ACB2-44A2-8B29-F22B80F1D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6BB8B-E4BF-4953-8C5E-B0462DC35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D0088-FCB8-4159-9D5B-6A32FC231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279F-5888-459A-A445-67133615F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7450-C117-40C5-B671-670CB65AE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82BC-61FC-4EDA-970C-45976716A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BC6D-0629-4B1D-92D1-A3F31A198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72C7-8272-4E8E-8178-271655630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D2E1-18CC-4CA3-9C0E-47708853C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EF86-4BB4-4A1D-952F-285B2D642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E14E5-174D-441C-922E-0F9623F8E6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8A88E-9D0B-4CC5-9D3D-67E03A798A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1295280" y="1752480"/>
            <a:ext cx="6658200" cy="32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Решение логарифмически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уравнений и неравенств.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Учебник стр. 243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62120" y="2666880"/>
            <a:ext cx="76960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Пример 5 и 7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762120" y="228600"/>
                <a:ext cx="243828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838080" y="1143000"/>
                <a:ext cx="312444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685800" y="1752480"/>
                <a:ext cx="3809880" cy="5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1" name=""/>
          <p:cNvSpPr/>
          <p:nvPr/>
        </p:nvSpPr>
        <p:spPr>
          <a:xfrm>
            <a:off x="838080" y="762120"/>
            <a:ext cx="50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ологарифмируем по основанию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762120" y="2438280"/>
                <a:ext cx="1981080" cy="6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4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762120" y="3048120"/>
                <a:ext cx="2743200" cy="65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6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838080" y="3733920"/>
                <a:ext cx="266724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8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609480" y="4495680"/>
                <a:ext cx="3124440" cy="7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0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609480" y="5105520"/>
                <a:ext cx="3505320" cy="116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2" name=""/>
          <p:cNvSpPr/>
          <p:nvPr/>
        </p:nvSpPr>
        <p:spPr>
          <a:xfrm>
            <a:off x="4879080" y="1828080"/>
            <a:ext cx="134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оверк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5105520" y="2286000"/>
                <a:ext cx="106668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0" y="2992320"/>
                <a:ext cx="11448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6629400" y="2286000"/>
                <a:ext cx="175248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4952880" y="2895480"/>
                <a:ext cx="1371600" cy="52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6705720" y="2819520"/>
                <a:ext cx="1066680" cy="50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8" name=""/>
          <p:cNvSpPr/>
          <p:nvPr/>
        </p:nvSpPr>
        <p:spPr>
          <a:xfrm>
            <a:off x="4650120" y="2423160"/>
            <a:ext cx="58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800" y="27169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3211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800" y="341064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800" y="38854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772400" y="2742120"/>
            <a:ext cx="1066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ер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5029200" y="3657600"/>
                <a:ext cx="990720" cy="82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6400800" y="3429000"/>
                <a:ext cx="1600200" cy="105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</m:e>
                      <m: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4419720" y="4572000"/>
                <a:ext cx="1600200" cy="101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8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6172200" y="4572000"/>
                <a:ext cx="1219320" cy="91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8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7696080" y="4800600"/>
                <a:ext cx="106704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4345560" y="3732840"/>
            <a:ext cx="62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206960" y="22647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207320" y="3025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206960" y="376632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724160" y="5409360"/>
            <a:ext cx="108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ер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6553080" y="5715000"/>
                <a:ext cx="167652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5" name=""/>
          <p:cNvSpPr/>
          <p:nvPr/>
        </p:nvSpPr>
        <p:spPr>
          <a:xfrm>
            <a:off x="4952880" y="58672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тве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4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9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9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762120" y="304920"/>
                <a:ext cx="4572000" cy="65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0,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75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8" name=""/>
          <p:cNvSpPr/>
          <p:nvPr/>
        </p:nvSpPr>
        <p:spPr>
          <a:xfrm>
            <a:off x="759240" y="1218240"/>
            <a:ext cx="323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ерейдем к основанию 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685800" y="1828800"/>
                <a:ext cx="4343400" cy="90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0,2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75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0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5638680" y="1981080"/>
                <a:ext cx="198144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0,2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2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762120" y="2895480"/>
                <a:ext cx="4800600" cy="5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75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4" name=""/>
          <p:cNvSpPr/>
          <p:nvPr/>
        </p:nvSpPr>
        <p:spPr>
          <a:xfrm>
            <a:off x="5716080" y="2970720"/>
            <a:ext cx="68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л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838080" y="3505320"/>
                <a:ext cx="4572000" cy="5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75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5</m:t>
                    </m:r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7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762120" y="4114800"/>
                <a:ext cx="403848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75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9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838080" y="4800600"/>
                <a:ext cx="236232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75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x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1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762120" y="5562720"/>
                <a:ext cx="320040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75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3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5562720" y="4648320"/>
                <a:ext cx="2590560" cy="64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5" name=""/>
          <p:cNvSpPr/>
          <p:nvPr/>
        </p:nvSpPr>
        <p:spPr>
          <a:xfrm>
            <a:off x="5714280" y="5637600"/>
            <a:ext cx="196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твет:  5; 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6666"/>
                </a:solidFill>
                <a:latin typeface="Arial Black"/>
              </a:rPr>
              <a:t>Домашнее задание</a:t>
            </a: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480" y="2666520"/>
            <a:ext cx="7925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П 39; № 512-515; № 519(в,г) № 520(в,г).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Спасибо за внимание.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608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6666"/>
                </a:solidFill>
                <a:latin typeface="Arial Black"/>
              </a:rPr>
              <a:t>Основные теоремы о логарифмах.</a:t>
            </a:r>
            <a:endParaRPr b="0" lang="en-US" sz="17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89" name="Рисунок 66" descr="http://festival.1september.ru/articles/576163/img1.gif"/>
          <p:cNvPicPr/>
          <p:nvPr/>
        </p:nvPicPr>
        <p:blipFill>
          <a:blip r:embed="rId1"/>
          <a:stretch/>
        </p:blipFill>
        <p:spPr>
          <a:xfrm>
            <a:off x="228600" y="914400"/>
            <a:ext cx="3809880" cy="94284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67" descr="http://festival.1september.ru/articles/576163/img2.gif"/>
          <p:cNvPicPr/>
          <p:nvPr/>
        </p:nvPicPr>
        <p:blipFill>
          <a:blip r:embed="rId2"/>
          <a:stretch/>
        </p:blipFill>
        <p:spPr>
          <a:xfrm>
            <a:off x="228600" y="1905120"/>
            <a:ext cx="3886200" cy="110808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68" descr="http://festival.1september.ru/articles/576163/img3.gif"/>
          <p:cNvPicPr/>
          <p:nvPr/>
        </p:nvPicPr>
        <p:blipFill>
          <a:blip r:embed="rId3"/>
          <a:stretch/>
        </p:blipFill>
        <p:spPr>
          <a:xfrm>
            <a:off x="304920" y="3124080"/>
            <a:ext cx="3429000" cy="87948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69" descr="http://festival.1september.ru/articles/576163/img4.gif"/>
          <p:cNvPicPr/>
          <p:nvPr/>
        </p:nvPicPr>
        <p:blipFill>
          <a:blip r:embed="rId4"/>
          <a:stretch/>
        </p:blipFill>
        <p:spPr>
          <a:xfrm>
            <a:off x="380880" y="4038480"/>
            <a:ext cx="2743200" cy="97956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70" descr="http://festival.1september.ru/articles/576163/img5.gif"/>
          <p:cNvPicPr/>
          <p:nvPr/>
        </p:nvPicPr>
        <p:blipFill>
          <a:blip r:embed="rId5"/>
          <a:stretch/>
        </p:blipFill>
        <p:spPr>
          <a:xfrm>
            <a:off x="380880" y="5257800"/>
            <a:ext cx="2971800" cy="145260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71" descr="http://festival.1september.ru/articles/576163/img6.gif"/>
          <p:cNvPicPr/>
          <p:nvPr/>
        </p:nvPicPr>
        <p:blipFill>
          <a:blip r:embed="rId6"/>
          <a:stretch/>
        </p:blipFill>
        <p:spPr>
          <a:xfrm>
            <a:off x="4724280" y="1066680"/>
            <a:ext cx="3276720" cy="126684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72" descr="http://festival.1september.ru/articles/576163/img7.gif"/>
          <p:cNvPicPr/>
          <p:nvPr/>
        </p:nvPicPr>
        <p:blipFill>
          <a:blip r:embed="rId7"/>
          <a:stretch/>
        </p:blipFill>
        <p:spPr>
          <a:xfrm>
            <a:off x="4876920" y="2438280"/>
            <a:ext cx="3581280" cy="131940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73" descr="http://festival.1september.ru/articles/576163/img8.gif"/>
          <p:cNvPicPr/>
          <p:nvPr/>
        </p:nvPicPr>
        <p:blipFill>
          <a:blip r:embed="rId8"/>
          <a:stretch/>
        </p:blipFill>
        <p:spPr>
          <a:xfrm>
            <a:off x="4876920" y="3886200"/>
            <a:ext cx="3657600" cy="136512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74" descr="http://festival.1september.ru/articles/576163/img9.gif"/>
          <p:cNvPicPr/>
          <p:nvPr/>
        </p:nvPicPr>
        <p:blipFill>
          <a:blip r:embed="rId9"/>
          <a:stretch/>
        </p:blipFill>
        <p:spPr>
          <a:xfrm>
            <a:off x="4800600" y="5562720"/>
            <a:ext cx="2590920" cy="47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6666"/>
                </a:solidFill>
                <a:latin typeface="Arial Black"/>
              </a:rPr>
              <a:t>Простейшее логарифмическое уравнение</a:t>
            </a: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219320" y="2971800"/>
                <a:ext cx="2971800" cy="104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2" name=""/>
          <p:cNvSpPr/>
          <p:nvPr/>
        </p:nvSpPr>
        <p:spPr>
          <a:xfrm>
            <a:off x="4343400" y="3047400"/>
            <a:ext cx="281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(где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a&gt;0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6553080" y="2971800"/>
                <a:ext cx="152424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≠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4" name=""/>
          <p:cNvSpPr/>
          <p:nvPr/>
        </p:nvSpPr>
        <p:spPr>
          <a:xfrm>
            <a:off x="8002800" y="2971080"/>
            <a:ext cx="34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1752480" y="1143000"/>
                <a:ext cx="525780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2057400" y="2286000"/>
                <a:ext cx="4495680" cy="113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9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1371600" y="3962520"/>
                <a:ext cx="6095880" cy="105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0" y="5334120"/>
            <a:ext cx="1013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Обязательно!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Проверка или ОДЗ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1143000" y="1905120"/>
                <a:ext cx="251460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3" name=""/>
          <p:cNvSpPr/>
          <p:nvPr/>
        </p:nvSpPr>
        <p:spPr>
          <a:xfrm>
            <a:off x="609480" y="838080"/>
            <a:ext cx="6400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Решите уравнение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04920" y="19810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914400" y="3276720"/>
                <a:ext cx="312408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304920" y="33526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066680" y="914400"/>
            <a:ext cx="6705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Учебник: страница 242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120" y="2057400"/>
            <a:ext cx="7238880" cy="26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Пример 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Пример 2   (два способа решения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Решить уравнение: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533520" y="1828800"/>
                <a:ext cx="487656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3" name=""/>
          <p:cNvSpPr/>
          <p:nvPr/>
        </p:nvSpPr>
        <p:spPr>
          <a:xfrm>
            <a:off x="609480" y="24382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457200" y="2971800"/>
                <a:ext cx="487692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6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5257800" y="2666880"/>
                <a:ext cx="3657600" cy="120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  <m:r>
                                <m:t xml:space="preserve">x</m:t>
                              </m:r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  <m:r>
                                <m:t xml:space="preserve">=</m:t>
                              </m:r>
                              <m:r>
                                <m:t xml:space="preserve">2</m:t>
                              </m:r>
                              <m:r>
                                <m:t xml:space="preserve">x</m:t>
                              </m:r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  <m:r>
                                <m:t xml:space="preserve">x</m:t>
                              </m:r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  <m:r>
                                <m:t xml:space="preserve">&gt;</m:t>
                              </m:r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8" name=""/>
          <p:cNvSpPr/>
          <p:nvPr/>
        </p:nvSpPr>
        <p:spPr>
          <a:xfrm>
            <a:off x="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457200" y="4038480"/>
                <a:ext cx="2666880" cy="12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−</m:t>
                              </m:r>
                              <m:r>
                                <m:t xml:space="preserve">5</m:t>
                              </m:r>
                              <m:r>
                                <m:t xml:space="preserve">x</m:t>
                              </m:r>
                              <m:r>
                                <m:t xml:space="preserve">+</m:t>
                              </m:r>
                              <m:r>
                                <m:t xml:space="preserve">4</m:t>
                              </m:r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x</m:t>
                              </m:r>
                              <m:r>
                                <m:t xml:space="preserve">&gt;</m:t>
                              </m:r>
                              <m:f>
                                <m:num>
                                  <m:r>
                                    <m:t xml:space="preserve">3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0" name=""/>
          <p:cNvSpPr/>
          <p:nvPr/>
        </p:nvSpPr>
        <p:spPr>
          <a:xfrm>
            <a:off x="0" y="31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3429000" y="3886200"/>
                <a:ext cx="1828800" cy="16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[</m:t>
                              </m:r>
                              <m:m>
                                <m:mr>
                                  <m:e>
                                    <m:r>
                                      <m:t xml:space="preserve">x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4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t xml:space="preserve">x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mr>
                              </m:m>
                            </m:e>
                          </m:mr>
                          <m:mr>
                            <m:e>
                              <m:r>
                                <m:t xml:space="preserve">x</m:t>
                              </m:r>
                              <m:r>
                                <m:t xml:space="preserve">&gt;</m:t>
                              </m:r>
                              <m:r>
                                <m:t xml:space="preserve">1,5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5638680" y="4343400"/>
                <a:ext cx="198144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6095880" y="55627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твет: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685440" y="1142640"/>
            <a:ext cx="3886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Решение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762120" y="609480"/>
                <a:ext cx="45720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685800" y="609480"/>
                <a:ext cx="3200400" cy="5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x</m:t>
                    </m:r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9" name=""/>
          <p:cNvSpPr/>
          <p:nvPr/>
        </p:nvSpPr>
        <p:spPr>
          <a:xfrm>
            <a:off x="762120" y="12193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9480" y="1889640"/>
            <a:ext cx="142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ДЗ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1600200" y="1828800"/>
                <a:ext cx="121932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2" name=""/>
          <p:cNvSpPr/>
          <p:nvPr/>
        </p:nvSpPr>
        <p:spPr>
          <a:xfrm>
            <a:off x="4268880" y="24375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2514600" y="2438280"/>
                <a:ext cx="18288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362320" y="3048120"/>
                <a:ext cx="297180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5" name=""/>
          <p:cNvSpPr/>
          <p:nvPr/>
        </p:nvSpPr>
        <p:spPr>
          <a:xfrm>
            <a:off x="531720" y="251352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бозначим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0600" y="3123000"/>
            <a:ext cx="175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лучим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5715000" y="3048120"/>
                <a:ext cx="342900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1676520" y="3962520"/>
                <a:ext cx="144756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4267080" y="3886200"/>
                <a:ext cx="221004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6705720" y="3581280"/>
                <a:ext cx="2209680" cy="114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1" name=""/>
          <p:cNvSpPr/>
          <p:nvPr/>
        </p:nvSpPr>
        <p:spPr>
          <a:xfrm>
            <a:off x="577800" y="403740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Если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162960" y="4023360"/>
            <a:ext cx="11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тогд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197600" y="3442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325560" y="403776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1676520" y="4876920"/>
                <a:ext cx="114300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3505320" y="4800600"/>
                <a:ext cx="182880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5638680" y="4800600"/>
                <a:ext cx="114300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5105520" y="5334120"/>
                <a:ext cx="91440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;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9" name=""/>
          <p:cNvSpPr/>
          <p:nvPr/>
        </p:nvSpPr>
        <p:spPr>
          <a:xfrm>
            <a:off x="609480" y="473112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Ес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803320" y="49219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 то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58520" y="4891680"/>
            <a:ext cx="37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;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016800" y="5699520"/>
            <a:ext cx="209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тве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ustomer</cp:lastModifiedBy>
  <dcterms:modified xsi:type="dcterms:W3CDTF">2011-05-18T01:40:0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