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45B-2748-4ADD-9189-60A1860F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2099-4436-4D9D-9FE6-83A14B8F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7496-F70D-4BA9-919D-CB3639CF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52B-FBA8-488C-B077-6223C546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BD67-5993-40E7-987A-940F8EC3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083-8FF1-42DB-BEC8-4BF60272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210-8771-4F1D-8C98-EE4ED46E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B564-013C-4769-A569-EEAF0165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1CE-30EA-4C26-8E0A-8D462104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49C4-BB76-4237-A4D9-0BFAC91B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961-15C4-419E-8D12-05451E11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6CE-F827-4E71-8F01-F1C64D3D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E4AC-8F39-4BFC-87DE-6ADE8B50959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7C34-0629-4FFA-A423-95437396B3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35EC-307D-4AFC-90F5-4BFD06D247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1352520" y="1236600"/>
            <a:ext cx="696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ff"/>
                </a:solidFill>
                <a:latin typeface="Palatino Linotype"/>
              </a:rPr>
              <a:t>В гостях у Василис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1BD6-FA71-4041-8278-E76F5FB05B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http://fix-price.ru/upload/images/jpg/c0bc003f9c7bcf9.png"/>
          <p:cNvPicPr/>
          <p:nvPr/>
        </p:nvPicPr>
        <p:blipFill>
          <a:blip r:embed="rId1"/>
          <a:stretch/>
        </p:blipFill>
        <p:spPr>
          <a:xfrm>
            <a:off x="617400" y="1380960"/>
            <a:ext cx="5477040" cy="5477040"/>
          </a:xfrm>
          <a:prstGeom prst="rect">
            <a:avLst/>
          </a:prstGeom>
          <a:ln w="0">
            <a:noFill/>
          </a:ln>
        </p:spPr>
      </p:pic>
      <p:sp>
        <p:nvSpPr>
          <p:cNvPr id="79" name="Облако 5"/>
          <p:cNvSpPr/>
          <p:nvPr/>
        </p:nvSpPr>
        <p:spPr>
          <a:xfrm>
            <a:off x="5229360" y="1184400"/>
            <a:ext cx="3914640" cy="315576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поужинать всем друж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а стол поставить нуж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окую иль мелк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ед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3EB1-8CCF-4876-872E-28AE4468D0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www.planetaskazok.ru/images/stories/dr_skz/lenivii_varenik/img_15.jpg"/>
          <p:cNvPicPr/>
          <p:nvPr/>
        </p:nvPicPr>
        <p:blipFill>
          <a:blip r:embed="rId1"/>
          <a:stretch/>
        </p:blipFill>
        <p:spPr>
          <a:xfrm>
            <a:off x="625320" y="1365120"/>
            <a:ext cx="4071960" cy="5492880"/>
          </a:xfrm>
          <a:prstGeom prst="rect">
            <a:avLst/>
          </a:prstGeom>
          <a:ln w="0">
            <a:noFill/>
          </a:ln>
        </p:spPr>
      </p:pic>
      <p:sp>
        <p:nvSpPr>
          <p:cNvPr id="82" name="Облако 5"/>
          <p:cNvSpPr/>
          <p:nvPr/>
        </p:nvSpPr>
        <p:spPr>
          <a:xfrm>
            <a:off x="4456080" y="1171440"/>
            <a:ext cx="4687920" cy="316872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одить бы по дв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соринки собер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сама ходить не мож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, когда ей кто поможет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9B0C-D268-417B-8112-51AEE7631C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vidrodjena.org.ua/images/JoomlaGrabber/statti/20140326/507bb3966e93d2bd03f8c2e7cb3b3a07.jpg"/>
          <p:cNvPicPr/>
          <p:nvPr/>
        </p:nvPicPr>
        <p:blipFill>
          <a:blip r:embed="rId1"/>
          <a:stretch/>
        </p:blipFill>
        <p:spPr>
          <a:xfrm>
            <a:off x="566640" y="1969920"/>
            <a:ext cx="5587920" cy="4888080"/>
          </a:xfrm>
          <a:prstGeom prst="rect">
            <a:avLst/>
          </a:prstGeom>
          <a:ln w="0">
            <a:noFill/>
          </a:ln>
        </p:spPr>
      </p:pic>
      <p:sp>
        <p:nvSpPr>
          <p:cNvPr id="85" name="Облако 5"/>
          <p:cNvSpPr/>
          <p:nvPr/>
        </p:nvSpPr>
        <p:spPr>
          <a:xfrm>
            <a:off x="5627520" y="1236600"/>
            <a:ext cx="3516480" cy="245916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ое нов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ба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еч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ани - Тан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vasilisaart-prize.umi.ru/images/cms/data/460701275952800050.jpg"/>
          <p:cNvPicPr/>
          <p:nvPr/>
        </p:nvPicPr>
        <p:blipFill>
          <a:blip r:embed="rId1"/>
          <a:stretch/>
        </p:blipFill>
        <p:spPr>
          <a:xfrm>
            <a:off x="1468440" y="1036800"/>
            <a:ext cx="5821200" cy="5821200"/>
          </a:xfrm>
          <a:prstGeom prst="rect">
            <a:avLst/>
          </a:prstGeom>
          <a:ln w="0">
            <a:noFill/>
          </a:ln>
        </p:spPr>
      </p:pic>
      <p:sp>
        <p:nvSpPr>
          <p:cNvPr id="87" name="Облако 2"/>
          <p:cNvSpPr/>
          <p:nvPr/>
        </p:nvSpPr>
        <p:spPr>
          <a:xfrm>
            <a:off x="5138640" y="1171440"/>
            <a:ext cx="4005360" cy="246060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ребята  все загадки угад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авайте теперь поигра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shop.million-otkrytok.ru/pub_images/catalog/460709144050807455.jpg"/>
          <p:cNvPicPr/>
          <p:nvPr/>
        </p:nvPicPr>
        <p:blipFill>
          <a:blip r:embed="rId1"/>
          <a:stretch/>
        </p:blipFill>
        <p:spPr>
          <a:xfrm>
            <a:off x="0" y="1268280"/>
            <a:ext cx="5435640" cy="5435640"/>
          </a:xfrm>
          <a:prstGeom prst="rect">
            <a:avLst/>
          </a:prstGeom>
          <a:ln w="0">
            <a:noFill/>
          </a:ln>
        </p:spPr>
      </p:pic>
      <p:sp>
        <p:nvSpPr>
          <p:cNvPr id="89" name="Облако 5"/>
          <p:cNvSpPr/>
          <p:nvPr/>
        </p:nvSpPr>
        <p:spPr>
          <a:xfrm>
            <a:off x="4378320" y="617400"/>
            <a:ext cx="4765680" cy="543564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т большой стеклянный чайник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чень важный, как началь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т фарфоровые чаш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чень хрупкие, бедняж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т фарфоровые    блюд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лько стукни - разобьютс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т серебряные лож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т пластмассовый поднос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 посуду нам прин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8322-B315-44D6-94CA-10663985CF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http://vasilisaart-prize.umi.ru/images/cms/data/460701275952800050.jpg"/>
          <p:cNvPicPr/>
          <p:nvPr/>
        </p:nvPicPr>
        <p:blipFill>
          <a:blip r:embed="rId1"/>
          <a:stretch/>
        </p:blipFill>
        <p:spPr>
          <a:xfrm>
            <a:off x="1468440" y="1036800"/>
            <a:ext cx="5821200" cy="5821200"/>
          </a:xfrm>
          <a:prstGeom prst="rect">
            <a:avLst/>
          </a:prstGeom>
          <a:ln w="0">
            <a:noFill/>
          </a:ln>
        </p:spPr>
      </p:pic>
      <p:sp>
        <p:nvSpPr>
          <p:cNvPr id="92" name="Облако 5"/>
          <p:cNvSpPr/>
          <p:nvPr/>
        </p:nvSpPr>
        <p:spPr>
          <a:xfrm>
            <a:off x="5589720" y="1171440"/>
            <a:ext cx="3554280" cy="231948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а вы заметили у меня много всякой посуды в доме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62A7-8507-40F1-8055-1EF3691FAD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img0.liveinternet.ru/images/attach/c/10/109/460/109460834_4882572_1328441332_26fb0e5123f5_resize.jpg"/>
          <p:cNvPicPr/>
          <p:nvPr/>
        </p:nvPicPr>
        <p:blipFill>
          <a:blip r:embed="rId2"/>
          <a:stretch/>
        </p:blipFill>
        <p:spPr>
          <a:xfrm>
            <a:off x="339840" y="957240"/>
            <a:ext cx="2068560" cy="1438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Картинки по запросу русская роспись посуды"/>
          <p:cNvPicPr/>
          <p:nvPr/>
        </p:nvPicPr>
        <p:blipFill>
          <a:blip r:embed="rId3"/>
          <a:stretch/>
        </p:blipFill>
        <p:spPr>
          <a:xfrm>
            <a:off x="181080" y="2652840"/>
            <a:ext cx="1647720" cy="1539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4.bp.blogspot.com/-Qh78HdygvBM/UCKA0FEe2aI/AAAAAAAAuvo/oOnYqZ-yPMM/s1600/201015-2357e-35568441--u28d95.jpg"/>
          <p:cNvPicPr/>
          <p:nvPr/>
        </p:nvPicPr>
        <p:blipFill>
          <a:blip r:embed="rId4"/>
          <a:stretch/>
        </p:blipFill>
        <p:spPr>
          <a:xfrm>
            <a:off x="2319480" y="2639880"/>
            <a:ext cx="2303280" cy="149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Картинки по запросу русская роспись посуды"/>
          <p:cNvPicPr/>
          <p:nvPr/>
        </p:nvPicPr>
        <p:blipFill>
          <a:blip r:embed="rId5"/>
          <a:stretch/>
        </p:blipFill>
        <p:spPr>
          <a:xfrm>
            <a:off x="7174080" y="2716200"/>
            <a:ext cx="1969920" cy="1442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https://encrypted-tbn1.gstatic.com/images?q=tbn:ANd9GcRX_n0oHOE3myRyrgQXe643bZ43TvdqjZWgWIj6PPdxsuIi5PM-"/>
          <p:cNvPicPr/>
          <p:nvPr/>
        </p:nvPicPr>
        <p:blipFill>
          <a:blip r:embed="rId6"/>
          <a:stretch/>
        </p:blipFill>
        <p:spPr>
          <a:xfrm>
            <a:off x="2732040" y="934920"/>
            <a:ext cx="1479600" cy="1479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https://encrypted-tbn2.gstatic.com/images?q=tbn:ANd9GcRkTJB0ejZ2pNowxzspGpXVKpvf-DqJa1Yq1pwKgKcw_IAjkPQw"/>
          <p:cNvPicPr/>
          <p:nvPr/>
        </p:nvPicPr>
        <p:blipFill>
          <a:blip r:embed="rId7"/>
          <a:stretch/>
        </p:blipFill>
        <p:spPr>
          <a:xfrm>
            <a:off x="7535880" y="917640"/>
            <a:ext cx="1182600" cy="1490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http://www.remontpozitif.ru/_ph/41/2/19667903.jpg"/>
          <p:cNvPicPr/>
          <p:nvPr/>
        </p:nvPicPr>
        <p:blipFill>
          <a:blip r:embed="rId8"/>
          <a:stretch/>
        </p:blipFill>
        <p:spPr>
          <a:xfrm>
            <a:off x="4586400" y="932040"/>
            <a:ext cx="2212920" cy="14493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0" descr="http://arcticaoy.ru/fb.ru/misc/i/gallery/28767/637623.jpg"/>
          <p:cNvPicPr/>
          <p:nvPr/>
        </p:nvPicPr>
        <p:blipFill>
          <a:blip r:embed="rId9"/>
          <a:stretch/>
        </p:blipFill>
        <p:spPr>
          <a:xfrm>
            <a:off x="4881600" y="2674800"/>
            <a:ext cx="2060640" cy="1503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http://www.filimonovo-museum.ru/assets/galleries/52/139.jpg"/>
          <p:cNvPicPr/>
          <p:nvPr/>
        </p:nvPicPr>
        <p:blipFill>
          <a:blip r:embed="rId10"/>
          <a:stretch/>
        </p:blipFill>
        <p:spPr>
          <a:xfrm>
            <a:off x="7404120" y="4546440"/>
            <a:ext cx="1292040" cy="1532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4" descr="https://s-media-cache-ak0.pinimg.com/600x315/7f/fd/99/7ffd9916a6884dc42f64a000a22dddff.jpg"/>
          <p:cNvPicPr/>
          <p:nvPr/>
        </p:nvPicPr>
        <p:blipFill>
          <a:blip r:embed="rId11"/>
          <a:stretch/>
        </p:blipFill>
        <p:spPr>
          <a:xfrm>
            <a:off x="0" y="4572000"/>
            <a:ext cx="2629080" cy="153504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2" descr="http://www.mrdom.ru/item_img/arteast/2014/34/b_31ebc39c982ac2088da4e0c3203373a9.jpg"/>
          <p:cNvPicPr/>
          <p:nvPr/>
        </p:nvPicPr>
        <p:blipFill>
          <a:blip r:embed="rId12"/>
          <a:stretch/>
        </p:blipFill>
        <p:spPr>
          <a:xfrm>
            <a:off x="5526000" y="4527720"/>
            <a:ext cx="1479600" cy="1538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3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6" descr="http://graphic.org.ru/lessons/video/flowers1.jpg"/>
          <p:cNvPicPr/>
          <p:nvPr/>
        </p:nvPicPr>
        <p:blipFill>
          <a:blip r:embed="rId13"/>
          <a:stretch/>
        </p:blipFill>
        <p:spPr>
          <a:xfrm>
            <a:off x="2962440" y="4572000"/>
            <a:ext cx="220176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127B-4ED3-4DE9-A27D-1985768549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http://vasilisaart-prize.umi.ru/images/cms/data/460701275952800050.jpg"/>
          <p:cNvPicPr/>
          <p:nvPr/>
        </p:nvPicPr>
        <p:blipFill>
          <a:blip r:embed="rId1"/>
          <a:stretch/>
        </p:blipFill>
        <p:spPr>
          <a:xfrm>
            <a:off x="1468440" y="1036800"/>
            <a:ext cx="5821200" cy="5821200"/>
          </a:xfrm>
          <a:prstGeom prst="rect">
            <a:avLst/>
          </a:prstGeom>
          <a:ln w="0">
            <a:noFill/>
          </a:ln>
        </p:spPr>
      </p:pic>
      <p:sp>
        <p:nvSpPr>
          <p:cNvPr id="114" name="Облако 5"/>
          <p:cNvSpPr/>
          <p:nvPr/>
        </p:nvSpPr>
        <p:spPr>
          <a:xfrm>
            <a:off x="5138640" y="1171440"/>
            <a:ext cx="3516480" cy="246060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ы ребята знаете  какой росписью расписан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уда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FB88-E87E-4D41-9665-E27054D1E7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http://vasilisaart-prize.umi.ru/images/cms/data/460701275952800050.jpg"/>
          <p:cNvPicPr/>
          <p:nvPr/>
        </p:nvPicPr>
        <p:blipFill>
          <a:blip r:embed="rId1"/>
          <a:stretch/>
        </p:blipFill>
        <p:spPr>
          <a:xfrm>
            <a:off x="1468440" y="1036800"/>
            <a:ext cx="5821200" cy="5821200"/>
          </a:xfrm>
          <a:prstGeom prst="rect">
            <a:avLst/>
          </a:prstGeom>
          <a:ln w="0">
            <a:noFill/>
          </a:ln>
        </p:spPr>
      </p:pic>
      <p:sp>
        <p:nvSpPr>
          <p:cNvPr id="117" name="Облако 5"/>
          <p:cNvSpPr/>
          <p:nvPr/>
        </p:nvSpPr>
        <p:spPr>
          <a:xfrm>
            <a:off x="5138640" y="1171440"/>
            <a:ext cx="3516480" cy="246060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у что тогда готовы разгадать еще загад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3081600" y="90360"/>
            <a:ext cx="298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у что тогда готовы разгадать еще зага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C603-DBC5-454C-B304-8DF54732AF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http://www.artly.ru/wp-content/uploads/2011/08/001.jpg"/>
          <p:cNvPicPr/>
          <p:nvPr/>
        </p:nvPicPr>
        <p:blipFill>
          <a:blip r:embed="rId1"/>
          <a:stretch/>
        </p:blipFill>
        <p:spPr>
          <a:xfrm>
            <a:off x="606600" y="1136520"/>
            <a:ext cx="4605120" cy="5721480"/>
          </a:xfrm>
          <a:prstGeom prst="rect">
            <a:avLst/>
          </a:prstGeom>
          <a:ln w="0">
            <a:noFill/>
          </a:ln>
        </p:spPr>
      </p:pic>
      <p:sp>
        <p:nvSpPr>
          <p:cNvPr id="122" name="Облако 6"/>
          <p:cNvSpPr/>
          <p:nvPr/>
        </p:nvSpPr>
        <p:spPr>
          <a:xfrm>
            <a:off x="5176800" y="1365120"/>
            <a:ext cx="3800520" cy="312912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суда не про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очно золот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яркими завиточ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годками и листоч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она?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1"/>
          <p:cNvSpPr/>
          <p:nvPr/>
        </p:nvSpPr>
        <p:spPr>
          <a:xfrm>
            <a:off x="65563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B479-ADFD-4697-ABE1-EF7BD19DB8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s://encrypted-tbn3.gstatic.com/images?q=tbn:ANd9GcRwcftwUuv73NHGDw0MqaAvp8Am0WoxWhVLVOh_S3DuK3Y87gquxA"/>
          <p:cNvPicPr/>
          <p:nvPr/>
        </p:nvPicPr>
        <p:blipFill>
          <a:blip r:embed="rId1"/>
          <a:stretch/>
        </p:blipFill>
        <p:spPr>
          <a:xfrm>
            <a:off x="1378080" y="1268280"/>
            <a:ext cx="65005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73B8-EC77-4505-A248-CA46E5B229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s://encrypted-tbn3.gstatic.com/images?q=tbn:ANd9GcSjIXHVNhp1il9yHImkAxdzeqMTOzgYC1pqDrmk5TnwsTbDdUuyRA"/>
          <p:cNvPicPr/>
          <p:nvPr/>
        </p:nvPicPr>
        <p:blipFill>
          <a:blip r:embed="rId1"/>
          <a:stretch/>
        </p:blipFill>
        <p:spPr>
          <a:xfrm>
            <a:off x="579600" y="2692440"/>
            <a:ext cx="6941880" cy="4165560"/>
          </a:xfrm>
          <a:prstGeom prst="rect">
            <a:avLst/>
          </a:prstGeom>
          <a:ln w="0">
            <a:noFill/>
          </a:ln>
        </p:spPr>
      </p:pic>
      <p:sp>
        <p:nvSpPr>
          <p:cNvPr id="125" name="Облако 5"/>
          <p:cNvSpPr/>
          <p:nvPr/>
        </p:nvSpPr>
        <p:spPr>
          <a:xfrm>
            <a:off x="4854600" y="849240"/>
            <a:ext cx="4289400" cy="318132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нежно белая п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 ка: ты отку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но с Севера приш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цветами расцв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ыми, син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ными красивым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686760" y="-365760"/>
            <a:ext cx="1770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нежно белая п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кажи ка: ты отк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но с Севера приш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цветами расцв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лубыми, син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жными красивыми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45C8-959C-4474-A463-84C97D1731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://www.perunica.ru/uploads/posts/2009-11/1257285446_16.gif"/>
          <p:cNvPicPr/>
          <p:nvPr/>
        </p:nvPicPr>
        <p:blipFill>
          <a:blip r:embed="rId1"/>
          <a:stretch/>
        </p:blipFill>
        <p:spPr>
          <a:xfrm>
            <a:off x="115920" y="1131840"/>
            <a:ext cx="5332320" cy="5726160"/>
          </a:xfrm>
          <a:prstGeom prst="rect">
            <a:avLst/>
          </a:prstGeom>
          <a:ln w="0">
            <a:noFill/>
          </a:ln>
        </p:spPr>
      </p:pic>
      <p:sp>
        <p:nvSpPr>
          <p:cNvPr id="129" name="Облако 5"/>
          <p:cNvSpPr/>
          <p:nvPr/>
        </p:nvSpPr>
        <p:spPr>
          <a:xfrm>
            <a:off x="5010120" y="166680"/>
            <a:ext cx="4133880" cy="669132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ускаются буке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о красками гор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о – птицы там порхаю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то в сказку нас зов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зглянешь на дощеч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увидишь чудес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удесные  уз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о вывела ру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й конь беж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земля под ним дрожи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 яркие летаю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увшинки расцветаю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EC9A-3AEA-4446-ABEF-3559C16689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://arcticaoy.ru/fb.ru/misc/i/gallery/29646/791656.jpg"/>
          <p:cNvPicPr/>
          <p:nvPr/>
        </p:nvPicPr>
        <p:blipFill>
          <a:blip r:embed="rId1"/>
          <a:stretch/>
        </p:blipFill>
        <p:spPr>
          <a:xfrm>
            <a:off x="231840" y="1390680"/>
            <a:ext cx="6143400" cy="5467320"/>
          </a:xfrm>
          <a:prstGeom prst="rect">
            <a:avLst/>
          </a:prstGeom>
          <a:ln w="0">
            <a:noFill/>
          </a:ln>
        </p:spPr>
      </p:pic>
      <p:sp>
        <p:nvSpPr>
          <p:cNvPr id="132" name="Облако 5"/>
          <p:cNvSpPr/>
          <p:nvPr/>
        </p:nvSpPr>
        <p:spPr>
          <a:xfrm>
            <a:off x="5396040" y="617400"/>
            <a:ext cx="3682800" cy="472788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арынь алые щеки и гу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ные платья и теплые шу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ь весь базар обойде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барынь не найд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ки наши повсюду славя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ите скорее и вам понравя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62F5-A420-4E78-8CAC-230E972AD5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static.mega-grad.ru/works/mn/w57997.jpg"/>
          <p:cNvPicPr/>
          <p:nvPr/>
        </p:nvPicPr>
        <p:blipFill>
          <a:blip r:embed="rId1"/>
          <a:stretch/>
        </p:blipFill>
        <p:spPr>
          <a:xfrm>
            <a:off x="554040" y="1352520"/>
            <a:ext cx="6219720" cy="5505480"/>
          </a:xfrm>
          <a:prstGeom prst="rect">
            <a:avLst/>
          </a:prstGeom>
          <a:ln w="0">
            <a:noFill/>
          </a:ln>
        </p:spPr>
      </p:pic>
      <p:sp>
        <p:nvSpPr>
          <p:cNvPr id="135" name="Облако 5"/>
          <p:cNvSpPr/>
          <p:nvPr/>
        </p:nvSpPr>
        <p:spPr>
          <a:xfrm>
            <a:off x="5653080" y="128520"/>
            <a:ext cx="3478320" cy="459756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, свистулечка ка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ка полосат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ычная, смеш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уть-чуть пузат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дожди минуточ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откуда, уточ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ка свистит мо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2518-07FE-4DE5-8A34-0AB7484F73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http://vasilisaart-prize.umi.ru/images/cms/data/460701275952800050.jpg"/>
          <p:cNvPicPr/>
          <p:nvPr/>
        </p:nvPicPr>
        <p:blipFill>
          <a:blip r:embed="rId1"/>
          <a:stretch/>
        </p:blipFill>
        <p:spPr>
          <a:xfrm>
            <a:off x="1468440" y="1036800"/>
            <a:ext cx="5821200" cy="5821200"/>
          </a:xfrm>
          <a:prstGeom prst="rect">
            <a:avLst/>
          </a:prstGeom>
          <a:ln w="0">
            <a:noFill/>
          </a:ln>
        </p:spPr>
      </p:pic>
      <p:sp>
        <p:nvSpPr>
          <p:cNvPr id="138" name="Облако 5"/>
          <p:cNvSpPr/>
          <p:nvPr/>
        </p:nvSpPr>
        <p:spPr>
          <a:xfrm>
            <a:off x="5138640" y="965160"/>
            <a:ext cx="4005360" cy="297504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 какие молодцы все ответ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наете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у меня для вас есть сюрприз иг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71EF-F298-4FD0-B059-FBC5CB7FA6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http://www.ru.all.biz/img/ru/catalog/1404187.jpeg"/>
          <p:cNvPicPr/>
          <p:nvPr/>
        </p:nvPicPr>
        <p:blipFill>
          <a:blip r:embed="rId1"/>
          <a:stretch/>
        </p:blipFill>
        <p:spPr>
          <a:xfrm>
            <a:off x="662040" y="1465200"/>
            <a:ext cx="782460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http://vasilisaart-prize.umi.ru/images/cms/data/460701275952800050.jpg"/>
          <p:cNvPicPr/>
          <p:nvPr/>
        </p:nvPicPr>
        <p:blipFill>
          <a:blip r:embed="rId1"/>
          <a:stretch/>
        </p:blipFill>
        <p:spPr>
          <a:xfrm>
            <a:off x="979560" y="1036800"/>
            <a:ext cx="5821200" cy="5821200"/>
          </a:xfrm>
          <a:prstGeom prst="rect">
            <a:avLst/>
          </a:prstGeom>
          <a:ln w="0">
            <a:noFill/>
          </a:ln>
        </p:spPr>
      </p:pic>
      <p:sp>
        <p:nvSpPr>
          <p:cNvPr id="143" name="Облако 5"/>
          <p:cNvSpPr/>
          <p:nvPr/>
        </p:nvSpPr>
        <p:spPr>
          <a:xfrm>
            <a:off x="4854600" y="360360"/>
            <a:ext cx="4289400" cy="449424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Вам гости дорогие что пришли ко мне повеселили меня и загадки все разгадали. А у меня для вас еще сюрприз откройте волшебный сунду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CE48-B2D5-4EFC-8616-BFD0E8E421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https://encrypted-tbn3.gstatic.com/images?q=tbn:ANd9GcRwcftwUuv73NHGDw0MqaAvp8Am0WoxWhVLVOh_S3DuK3Y87gquxA"/>
          <p:cNvPicPr/>
          <p:nvPr/>
        </p:nvPicPr>
        <p:blipFill>
          <a:blip r:embed="rId1"/>
          <a:stretch/>
        </p:blipFill>
        <p:spPr>
          <a:xfrm>
            <a:off x="25560" y="1268280"/>
            <a:ext cx="6500520" cy="5589720"/>
          </a:xfrm>
          <a:prstGeom prst="rect">
            <a:avLst/>
          </a:prstGeom>
          <a:ln w="0">
            <a:noFill/>
          </a:ln>
        </p:spPr>
      </p:pic>
      <p:sp>
        <p:nvSpPr>
          <p:cNvPr id="146" name="Облако 5"/>
          <p:cNvSpPr/>
          <p:nvPr/>
        </p:nvSpPr>
        <p:spPr>
          <a:xfrm rot="1637400">
            <a:off x="5497560" y="815760"/>
            <a:ext cx="3744720" cy="303372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видания!!! Гости дорогие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http://vasilisaart-prize.umi.ru/images/cms/data/460701275952800050.jpg"/>
          <p:cNvPicPr/>
          <p:nvPr/>
        </p:nvPicPr>
        <p:blipFill>
          <a:blip r:embed="rId2"/>
          <a:stretch/>
        </p:blipFill>
        <p:spPr>
          <a:xfrm>
            <a:off x="6276960" y="3438360"/>
            <a:ext cx="25351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87A4-5EAB-485E-9693-C2E5D115AD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http://vasilisaart-prize.umi.ru/images/cms/data/460701275952800050.jpg"/>
          <p:cNvPicPr/>
          <p:nvPr/>
        </p:nvPicPr>
        <p:blipFill>
          <a:blip r:embed="rId1"/>
          <a:stretch/>
        </p:blipFill>
        <p:spPr>
          <a:xfrm>
            <a:off x="1442880" y="927000"/>
            <a:ext cx="5931000" cy="5931000"/>
          </a:xfrm>
          <a:prstGeom prst="rect">
            <a:avLst/>
          </a:prstGeom>
          <a:ln w="0">
            <a:noFill/>
          </a:ln>
        </p:spPr>
      </p:pic>
      <p:sp>
        <p:nvSpPr>
          <p:cNvPr id="47" name="Облако 6"/>
          <p:cNvSpPr/>
          <p:nvPr/>
        </p:nvSpPr>
        <p:spPr>
          <a:xfrm>
            <a:off x="5138640" y="1171440"/>
            <a:ext cx="3516480" cy="246060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 милые гости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 зовут Васили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https://encrypted-tbn1.gstatic.com/images?q=tbn:ANd9GcQmOS8y-R4SH3W5YEUjP3z6sRdxGPWm_GHpumA_6C71XrHQcCw8yg"/>
          <p:cNvPicPr/>
          <p:nvPr/>
        </p:nvPicPr>
        <p:blipFill>
          <a:blip r:embed="rId1"/>
          <a:srcRect l="0" t="0" r="1095" b="8075"/>
          <a:stretch/>
        </p:blipFill>
        <p:spPr>
          <a:xfrm>
            <a:off x="368280" y="2482920"/>
            <a:ext cx="6723000" cy="4143240"/>
          </a:xfrm>
          <a:prstGeom prst="rect">
            <a:avLst/>
          </a:prstGeom>
          <a:ln w="0">
            <a:noFill/>
          </a:ln>
        </p:spPr>
      </p:pic>
      <p:sp>
        <p:nvSpPr>
          <p:cNvPr id="49" name="Облако 3"/>
          <p:cNvSpPr/>
          <p:nvPr/>
        </p:nvSpPr>
        <p:spPr>
          <a:xfrm>
            <a:off x="5332320" y="952560"/>
            <a:ext cx="3514680" cy="246060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леб Да С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5EE5-C62C-44F8-9D3D-F6850CC314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ttp://vasilisaart-prize.umi.ru/images/cms/data/460701275952800050.jpg"/>
          <p:cNvPicPr/>
          <p:nvPr/>
        </p:nvPicPr>
        <p:blipFill>
          <a:blip r:embed="rId1"/>
          <a:stretch/>
        </p:blipFill>
        <p:spPr>
          <a:xfrm>
            <a:off x="1442880" y="927000"/>
            <a:ext cx="5931000" cy="5931000"/>
          </a:xfrm>
          <a:prstGeom prst="rect">
            <a:avLst/>
          </a:prstGeom>
          <a:ln w="0">
            <a:noFill/>
          </a:ln>
        </p:spPr>
      </p:pic>
      <p:sp>
        <p:nvSpPr>
          <p:cNvPr id="52" name="Облако 6"/>
          <p:cNvSpPr/>
          <p:nvPr/>
        </p:nvSpPr>
        <p:spPr>
          <a:xfrm>
            <a:off x="5138640" y="1312920"/>
            <a:ext cx="4005360" cy="257652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бята вот моя изба заходите в гост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вы любите разгадывать загад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4958-0BCE-4E54-96BA-F159647197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ttps://encrypted-tbn3.gstatic.com/images?q=tbn:ANd9GcRr6wcjVnUpwRP1nO69xsdJ7kDd-P27rpmxil6Sy6baN9IHYztd"/>
          <p:cNvPicPr/>
          <p:nvPr/>
        </p:nvPicPr>
        <p:blipFill>
          <a:blip r:embed="rId1"/>
          <a:stretch/>
        </p:blipFill>
        <p:spPr>
          <a:xfrm>
            <a:off x="560520" y="1236600"/>
            <a:ext cx="4270320" cy="5621400"/>
          </a:xfrm>
          <a:prstGeom prst="rect">
            <a:avLst/>
          </a:prstGeom>
          <a:ln w="0">
            <a:noFill/>
          </a:ln>
        </p:spPr>
      </p:pic>
      <p:sp>
        <p:nvSpPr>
          <p:cNvPr id="55" name="Облако 6"/>
          <p:cNvSpPr/>
          <p:nvPr/>
        </p:nvSpPr>
        <p:spPr>
          <a:xfrm>
            <a:off x="4894200" y="1378080"/>
            <a:ext cx="3927600" cy="296208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толстяч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ченивши боч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пит и кип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пить чай вел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3754440" y="-183240"/>
            <a:ext cx="163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толстя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ченивши бо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ит и кип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 пить чай вел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3754440" y="-183240"/>
            <a:ext cx="163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толстя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ченивши бо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ит и кип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 пить чай вел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754440" y="-183240"/>
            <a:ext cx="163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толстя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ченивши бо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ит и кип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 пить чай вел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754440" y="-183240"/>
            <a:ext cx="163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толстя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ченивши бо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ит и кип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 пить чай вел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754440" y="-183240"/>
            <a:ext cx="163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толстя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ченивши бо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ит и кип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 пить чай вел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754440" y="-183240"/>
            <a:ext cx="163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толстя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ченивши бо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ит и кип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 пить чай вел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754440" y="-183240"/>
            <a:ext cx="163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толстя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ченивши бо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ит и кип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 пить чай вел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754440" y="-183240"/>
            <a:ext cx="163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толстя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ченивши бо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ит и кип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 пить чай вел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3754440" y="-183240"/>
            <a:ext cx="163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толстя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ченивши бо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ит и кип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 пить чай вел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3754440" y="-183240"/>
            <a:ext cx="163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толстя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ченивши бо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ит и кип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 пить чай вел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3754440" y="-183240"/>
            <a:ext cx="163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толстя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ченивши бо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ит и кип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м пить чай вел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kulinaria1914.ru/img/Russkaya_pechka.jpg"/>
          <p:cNvPicPr/>
          <p:nvPr/>
        </p:nvPicPr>
        <p:blipFill>
          <a:blip r:embed="rId1"/>
          <a:stretch/>
        </p:blipFill>
        <p:spPr>
          <a:xfrm>
            <a:off x="297000" y="1120680"/>
            <a:ext cx="6154560" cy="5737320"/>
          </a:xfrm>
          <a:prstGeom prst="rect">
            <a:avLst/>
          </a:prstGeom>
          <a:ln w="0">
            <a:noFill/>
          </a:ln>
        </p:spPr>
      </p:pic>
      <p:sp>
        <p:nvSpPr>
          <p:cNvPr id="68" name="Облако 2"/>
          <p:cNvSpPr/>
          <p:nvPr/>
        </p:nvSpPr>
        <p:spPr>
          <a:xfrm>
            <a:off x="6310440" y="1674720"/>
            <a:ext cx="2833560" cy="213696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изба из кирпич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холодна, то горя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3721680" y="-720"/>
            <a:ext cx="170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изба из кирпич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 холодна, то горяч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6E0D-B04C-4B2B-BA68-615CE0CC4C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st29.stblizko.ru/images/product/092/324/248_big.jpg"/>
          <p:cNvPicPr/>
          <p:nvPr/>
        </p:nvPicPr>
        <p:blipFill>
          <a:blip r:embed="rId1"/>
          <a:srcRect l="0" t="0" r="2502" b="3407"/>
          <a:stretch/>
        </p:blipFill>
        <p:spPr>
          <a:xfrm>
            <a:off x="579600" y="1755720"/>
            <a:ext cx="5203800" cy="5102280"/>
          </a:xfrm>
          <a:prstGeom prst="rect">
            <a:avLst/>
          </a:prstGeom>
          <a:ln w="0">
            <a:noFill/>
          </a:ln>
        </p:spPr>
      </p:pic>
      <p:sp>
        <p:nvSpPr>
          <p:cNvPr id="72" name="Облако 5"/>
          <p:cNvSpPr/>
          <p:nvPr/>
        </p:nvSpPr>
        <p:spPr>
          <a:xfrm>
            <a:off x="5846760" y="1481040"/>
            <a:ext cx="3297240" cy="245916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й ко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чет в ого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9C8A-312D-4122-AE16-592B9F4D3D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s://i.ytimg.com/vi/8LyZtM2VMnM/maxresdefault.jpg"/>
          <p:cNvPicPr/>
          <p:nvPr/>
        </p:nvPicPr>
        <p:blipFill>
          <a:blip r:embed="rId1"/>
          <a:stretch/>
        </p:blipFill>
        <p:spPr>
          <a:xfrm>
            <a:off x="617400" y="1641600"/>
            <a:ext cx="4929480" cy="5216400"/>
          </a:xfrm>
          <a:prstGeom prst="rect">
            <a:avLst/>
          </a:prstGeom>
          <a:ln w="0">
            <a:noFill/>
          </a:ln>
        </p:spPr>
      </p:pic>
      <p:sp>
        <p:nvSpPr>
          <p:cNvPr id="75" name="Облако 5"/>
          <p:cNvSpPr/>
          <p:nvPr/>
        </p:nvSpPr>
        <p:spPr>
          <a:xfrm>
            <a:off x="5460840" y="1249200"/>
            <a:ext cx="3683160" cy="2949840"/>
          </a:xfrm>
          <a:prstGeom prst="pie">
            <a:avLst/>
          </a:prstGeom>
          <a:solidFill>
            <a:srgbClr val="e7e6e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назад, то впере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-бродит парох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ишь – продыряви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3589920" y="-92160"/>
            <a:ext cx="196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 назад, то вперед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дит-бродит парох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тановишь – продыряв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03:36:32Z</dcterms:created>
  <dc:creator>Олег Грибан</dc:creator>
  <dc:description/>
  <dc:language>en-US</dc:language>
  <cp:lastModifiedBy>Admin</cp:lastModifiedBy>
  <dcterms:modified xsi:type="dcterms:W3CDTF">2016-04-01T16:34:56Z</dcterms:modified>
  <cp:revision>10</cp:revision>
  <dc:subject/>
  <dc:title>Презентация PowerPoint</dc:title>
</cp:coreProperties>
</file>