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7A2-4F20-4DFC-B69B-18996D30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006-CB71-4404-BF6B-3D2297E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1A0-7FE4-4822-8929-35C24FD6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A60-2D9D-46E2-9B70-4ECE9FFA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023-3864-4B68-9A58-92EBE0E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AB1-944B-4B84-A668-53423E8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115-0139-4C75-89E8-4B9DC326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D72-10EC-43E2-AD52-C3DA796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29B-609D-471D-A3A2-C3F6E2D6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9F4-3969-4DB7-A071-4C57D39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7E7-460A-45D7-A8D9-607DE5F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7AC-6E31-44C4-9D8D-629BFF9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DF90-4CD2-4D70-AC0A-3695EE9AFC3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A4D4-475A-4BB2-B651-83D2682D8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325-83B5-4359-8221-AA903A490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352520" y="1236600"/>
            <a:ext cx="696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Palatino Linotype"/>
              </a:rPr>
              <a:t>В гостях у Василис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A25C-43A2-471B-AE8E-8226C2239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x-price.ru/upload/images/jpg/c0bc003f9c7bcf9.png"/>
          <p:cNvPicPr/>
          <p:nvPr/>
        </p:nvPicPr>
        <p:blipFill>
          <a:blip r:embed="rId1"/>
          <a:stretch/>
        </p:blipFill>
        <p:spPr>
          <a:xfrm>
            <a:off x="617400" y="1380960"/>
            <a:ext cx="5477040" cy="5477040"/>
          </a:xfrm>
          <a:prstGeom prst="rect">
            <a:avLst/>
          </a:prstGeom>
          <a:ln w="0">
            <a:noFill/>
          </a:ln>
        </p:spPr>
      </p:pic>
      <p:sp>
        <p:nvSpPr>
          <p:cNvPr id="79" name="Облако 5"/>
          <p:cNvSpPr/>
          <p:nvPr/>
        </p:nvSpPr>
        <p:spPr>
          <a:xfrm>
            <a:off x="5229360" y="1184400"/>
            <a:ext cx="3914640" cy="31557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поужинать всем дру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 стол поставить ну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ую иль мел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д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8A4-92D5-4253-8348-01C649FB4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planetaskazok.ru/images/stories/dr_skz/lenivii_varenik/img_15.jpg"/>
          <p:cNvPicPr/>
          <p:nvPr/>
        </p:nvPicPr>
        <p:blipFill>
          <a:blip r:embed="rId1"/>
          <a:stretch/>
        </p:blipFill>
        <p:spPr>
          <a:xfrm>
            <a:off x="625320" y="1365120"/>
            <a:ext cx="4071960" cy="5492880"/>
          </a:xfrm>
          <a:prstGeom prst="rect">
            <a:avLst/>
          </a:prstGeom>
          <a:ln w="0">
            <a:noFill/>
          </a:ln>
        </p:spPr>
      </p:pic>
      <p:sp>
        <p:nvSpPr>
          <p:cNvPr id="82" name="Облако 5"/>
          <p:cNvSpPr/>
          <p:nvPr/>
        </p:nvSpPr>
        <p:spPr>
          <a:xfrm>
            <a:off x="4456080" y="1171440"/>
            <a:ext cx="4687920" cy="31687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ить бы по д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ринки собе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ама ходить не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, когда ей кто поможе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8E2-C044-469F-A6C0-30A843EEA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vidrodjena.org.ua/images/JoomlaGrabber/statti/20140326/507bb3966e93d2bd03f8c2e7cb3b3a07.jpg"/>
          <p:cNvPicPr/>
          <p:nvPr/>
        </p:nvPicPr>
        <p:blipFill>
          <a:blip r:embed="rId1"/>
          <a:stretch/>
        </p:blipFill>
        <p:spPr>
          <a:xfrm>
            <a:off x="566640" y="1969920"/>
            <a:ext cx="5587920" cy="4888080"/>
          </a:xfrm>
          <a:prstGeom prst="rect">
            <a:avLst/>
          </a:prstGeom>
          <a:ln w="0">
            <a:noFill/>
          </a:ln>
        </p:spPr>
      </p:pic>
      <p:sp>
        <p:nvSpPr>
          <p:cNvPr id="85" name="Облако 5"/>
          <p:cNvSpPr/>
          <p:nvPr/>
        </p:nvSpPr>
        <p:spPr>
          <a:xfrm>
            <a:off x="5627520" y="1236600"/>
            <a:ext cx="3516480" cy="24591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ое но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ба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е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ни - Тан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87" name="Облако 2"/>
          <p:cNvSpPr/>
          <p:nvPr/>
        </p:nvSpPr>
        <p:spPr>
          <a:xfrm>
            <a:off x="5138640" y="1171440"/>
            <a:ext cx="400536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ребята  все загадки угад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вайте теперь поигр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hop.million-otkrytok.ru/pub_images/catalog/460709144050807455.jpg"/>
          <p:cNvPicPr/>
          <p:nvPr/>
        </p:nvPicPr>
        <p:blipFill>
          <a:blip r:embed="rId1"/>
          <a:stretch/>
        </p:blipFill>
        <p:spPr>
          <a:xfrm>
            <a:off x="0" y="126828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Облако 5"/>
          <p:cNvSpPr/>
          <p:nvPr/>
        </p:nvSpPr>
        <p:spPr>
          <a:xfrm>
            <a:off x="4378320" y="617400"/>
            <a:ext cx="4765680" cy="54356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большой стеклянный чайн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важный, как нача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фарфоровые ча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хрупкие, бедняж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фарфоровые    блюд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стукни - разобью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серебряные ло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пластмассовый подно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суду нам прин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B093-BEB9-49C5-89C2-2629DB1FE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5"/>
          <p:cNvSpPr/>
          <p:nvPr/>
        </p:nvSpPr>
        <p:spPr>
          <a:xfrm>
            <a:off x="5589720" y="1171440"/>
            <a:ext cx="3554280" cy="23194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а вы заметили у меня много всякой посуды в доме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3816-F111-4E6E-A7A1-FC3379540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g0.liveinternet.ru/images/attach/c/10/109/460/109460834_4882572_1328441332_26fb0e5123f5_resize.jpg"/>
          <p:cNvPicPr/>
          <p:nvPr/>
        </p:nvPicPr>
        <p:blipFill>
          <a:blip r:embed="rId2"/>
          <a:stretch/>
        </p:blipFill>
        <p:spPr>
          <a:xfrm>
            <a:off x="339840" y="957240"/>
            <a:ext cx="206856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Картинки по запросу русская роспись посуды"/>
          <p:cNvPicPr/>
          <p:nvPr/>
        </p:nvPicPr>
        <p:blipFill>
          <a:blip r:embed="rId3"/>
          <a:stretch/>
        </p:blipFill>
        <p:spPr>
          <a:xfrm>
            <a:off x="181080" y="2652840"/>
            <a:ext cx="1647720" cy="1539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4.bp.blogspot.com/-Qh78HdygvBM/UCKA0FEe2aI/AAAAAAAAuvo/oOnYqZ-yPMM/s1600/201015-2357e-35568441--u28d95.jpg"/>
          <p:cNvPicPr/>
          <p:nvPr/>
        </p:nvPicPr>
        <p:blipFill>
          <a:blip r:embed="rId4"/>
          <a:stretch/>
        </p:blipFill>
        <p:spPr>
          <a:xfrm>
            <a:off x="2319480" y="2639880"/>
            <a:ext cx="2303280" cy="149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Картинки по запросу русская роспись посуды"/>
          <p:cNvPicPr/>
          <p:nvPr/>
        </p:nvPicPr>
        <p:blipFill>
          <a:blip r:embed="rId5"/>
          <a:stretch/>
        </p:blipFill>
        <p:spPr>
          <a:xfrm>
            <a:off x="7174080" y="2716200"/>
            <a:ext cx="1969920" cy="144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s://encrypted-tbn1.gstatic.com/images?q=tbn:ANd9GcRX_n0oHOE3myRyrgQXe643bZ43TvdqjZWgWIj6PPdxsuIi5PM-"/>
          <p:cNvPicPr/>
          <p:nvPr/>
        </p:nvPicPr>
        <p:blipFill>
          <a:blip r:embed="rId6"/>
          <a:stretch/>
        </p:blipFill>
        <p:spPr>
          <a:xfrm>
            <a:off x="2732040" y="934920"/>
            <a:ext cx="1479600" cy="147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s://encrypted-tbn2.gstatic.com/images?q=tbn:ANd9GcRkTJB0ejZ2pNowxzspGpXVKpvf-DqJa1Yq1pwKgKcw_IAjkPQw"/>
          <p:cNvPicPr/>
          <p:nvPr/>
        </p:nvPicPr>
        <p:blipFill>
          <a:blip r:embed="rId7"/>
          <a:stretch/>
        </p:blipFill>
        <p:spPr>
          <a:xfrm>
            <a:off x="7535880" y="917640"/>
            <a:ext cx="1182600" cy="149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www.remontpozitif.ru/_ph/41/2/19667903.jpg"/>
          <p:cNvPicPr/>
          <p:nvPr/>
        </p:nvPicPr>
        <p:blipFill>
          <a:blip r:embed="rId8"/>
          <a:stretch/>
        </p:blipFill>
        <p:spPr>
          <a:xfrm>
            <a:off x="4586400" y="932040"/>
            <a:ext cx="2212920" cy="1449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http://arcticaoy.ru/fb.ru/misc/i/gallery/28767/637623.jpg"/>
          <p:cNvPicPr/>
          <p:nvPr/>
        </p:nvPicPr>
        <p:blipFill>
          <a:blip r:embed="rId9"/>
          <a:stretch/>
        </p:blipFill>
        <p:spPr>
          <a:xfrm>
            <a:off x="4881600" y="2674800"/>
            <a:ext cx="2060640" cy="150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http://www.filimonovo-museum.ru/assets/galleries/52/139.jpg"/>
          <p:cNvPicPr/>
          <p:nvPr/>
        </p:nvPicPr>
        <p:blipFill>
          <a:blip r:embed="rId10"/>
          <a:stretch/>
        </p:blipFill>
        <p:spPr>
          <a:xfrm>
            <a:off x="7404120" y="4546440"/>
            <a:ext cx="1292040" cy="1532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https://s-media-cache-ak0.pinimg.com/600x315/7f/fd/99/7ffd9916a6884dc42f64a000a22dddff.jpg"/>
          <p:cNvPicPr/>
          <p:nvPr/>
        </p:nvPicPr>
        <p:blipFill>
          <a:blip r:embed="rId11"/>
          <a:stretch/>
        </p:blipFill>
        <p:spPr>
          <a:xfrm>
            <a:off x="0" y="4572000"/>
            <a:ext cx="2629080" cy="15350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2" descr="http://www.mrdom.ru/item_img/arteast/2014/34/b_31ebc39c982ac2088da4e0c3203373a9.jpg"/>
          <p:cNvPicPr/>
          <p:nvPr/>
        </p:nvPicPr>
        <p:blipFill>
          <a:blip r:embed="rId12"/>
          <a:stretch/>
        </p:blipFill>
        <p:spPr>
          <a:xfrm>
            <a:off x="5526000" y="4527720"/>
            <a:ext cx="1479600" cy="1538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6" descr="http://graphic.org.ru/lessons/video/flowers1.jpg"/>
          <p:cNvPicPr/>
          <p:nvPr/>
        </p:nvPicPr>
        <p:blipFill>
          <a:blip r:embed="rId13"/>
          <a:stretch/>
        </p:blipFill>
        <p:spPr>
          <a:xfrm>
            <a:off x="2962440" y="4572000"/>
            <a:ext cx="22017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E2A4-7A75-4667-9AFE-FDBFBAAD4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14" name="Облако 5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 ребята знаете  какой росписью расписа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а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5F1-9BC9-4F1C-A607-7885AA11C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 что тогда готовы разгадать еще заг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3081600" y="90360"/>
            <a:ext cx="29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 что тогда готовы разгадать еще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4E8-DD97-4432-A0A5-63200BA7C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www.artly.ru/wp-content/uploads/2011/08/001.jpg"/>
          <p:cNvPicPr/>
          <p:nvPr/>
        </p:nvPicPr>
        <p:blipFill>
          <a:blip r:embed="rId1"/>
          <a:stretch/>
        </p:blipFill>
        <p:spPr>
          <a:xfrm>
            <a:off x="606600" y="1136520"/>
            <a:ext cx="4605120" cy="5721480"/>
          </a:xfrm>
          <a:prstGeom prst="rect">
            <a:avLst/>
          </a:prstGeom>
          <a:ln w="0">
            <a:noFill/>
          </a:ln>
        </p:spPr>
      </p:pic>
      <p:sp>
        <p:nvSpPr>
          <p:cNvPr id="122" name="Облако 6"/>
          <p:cNvSpPr/>
          <p:nvPr/>
        </p:nvSpPr>
        <p:spPr>
          <a:xfrm>
            <a:off x="5176800" y="1365120"/>
            <a:ext cx="3800520" cy="31291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уда не про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чно золо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яркими зави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ками и лис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она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1"/>
          <p:cNvSpPr/>
          <p:nvPr/>
        </p:nvSpPr>
        <p:spPr>
          <a:xfrm>
            <a:off x="65563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0EE9-49E3-4EAA-A693-69412DFFA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encrypted-tbn3.gstatic.com/images?q=tbn:ANd9GcRwcftwUuv73NHGDw0MqaAvp8Am0WoxWhVLVOh_S3DuK3Y87gquxA"/>
          <p:cNvPicPr/>
          <p:nvPr/>
        </p:nvPicPr>
        <p:blipFill>
          <a:blip r:embed="rId1"/>
          <a:stretch/>
        </p:blipFill>
        <p:spPr>
          <a:xfrm>
            <a:off x="1378080" y="1268280"/>
            <a:ext cx="65005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919-B8F3-4B34-83BF-EB0ED32DE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s://encrypted-tbn3.gstatic.com/images?q=tbn:ANd9GcSjIXHVNhp1il9yHImkAxdzeqMTOzgYC1pqDrmk5TnwsTbDdUuyRA"/>
          <p:cNvPicPr/>
          <p:nvPr/>
        </p:nvPicPr>
        <p:blipFill>
          <a:blip r:embed="rId1"/>
          <a:stretch/>
        </p:blipFill>
        <p:spPr>
          <a:xfrm>
            <a:off x="579600" y="2692440"/>
            <a:ext cx="6941880" cy="4165560"/>
          </a:xfrm>
          <a:prstGeom prst="rect">
            <a:avLst/>
          </a:prstGeom>
          <a:ln w="0">
            <a:noFill/>
          </a:ln>
        </p:spPr>
      </p:pic>
      <p:sp>
        <p:nvSpPr>
          <p:cNvPr id="125" name="Облако 5"/>
          <p:cNvSpPr/>
          <p:nvPr/>
        </p:nvSpPr>
        <p:spPr>
          <a:xfrm>
            <a:off x="4854600" y="849240"/>
            <a:ext cx="4289400" cy="31813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жно белая п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ка: ты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 с Севера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ветами расцв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ыми, си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ми красивы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686760" y="-365760"/>
            <a:ext cx="177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жно белая п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 ка: ты отк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но с Севера приш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цветами расцв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убыми, си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ными красивым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9DC8-758E-49F0-B6D4-EB885843B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perunica.ru/uploads/posts/2009-11/1257285446_16.gif"/>
          <p:cNvPicPr/>
          <p:nvPr/>
        </p:nvPicPr>
        <p:blipFill>
          <a:blip r:embed="rId1"/>
          <a:stretch/>
        </p:blipFill>
        <p:spPr>
          <a:xfrm>
            <a:off x="115920" y="1131840"/>
            <a:ext cx="5332320" cy="5726160"/>
          </a:xfrm>
          <a:prstGeom prst="rect">
            <a:avLst/>
          </a:prstGeom>
          <a:ln w="0">
            <a:noFill/>
          </a:ln>
        </p:spPr>
      </p:pic>
      <p:sp>
        <p:nvSpPr>
          <p:cNvPr id="129" name="Облако 5"/>
          <p:cNvSpPr/>
          <p:nvPr/>
        </p:nvSpPr>
        <p:spPr>
          <a:xfrm>
            <a:off x="5010120" y="166680"/>
            <a:ext cx="4133880" cy="66913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каются бук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 красками го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– птицы там порх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в сказку нас зов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зглянешь на доще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увидишь чудес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удесные  уз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о вывела ру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нь беж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земля под ним дрож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яркие лет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вшинки расцветаю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226-755B-40EA-AC77-40120FA87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arcticaoy.ru/fb.ru/misc/i/gallery/29646/791656.jpg"/>
          <p:cNvPicPr/>
          <p:nvPr/>
        </p:nvPicPr>
        <p:blipFill>
          <a:blip r:embed="rId1"/>
          <a:stretch/>
        </p:blipFill>
        <p:spPr>
          <a:xfrm>
            <a:off x="231840" y="1390680"/>
            <a:ext cx="6143400" cy="5467320"/>
          </a:xfrm>
          <a:prstGeom prst="rect">
            <a:avLst/>
          </a:prstGeom>
          <a:ln w="0">
            <a:noFill/>
          </a:ln>
        </p:spPr>
      </p:pic>
      <p:sp>
        <p:nvSpPr>
          <p:cNvPr id="132" name="Облако 5"/>
          <p:cNvSpPr/>
          <p:nvPr/>
        </p:nvSpPr>
        <p:spPr>
          <a:xfrm>
            <a:off x="5396040" y="617400"/>
            <a:ext cx="3682800" cy="47278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арынь алые щеки и гу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ные платья и теплые ш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весь базар обойд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барынь не найд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 наши повсюду слав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ите скорее и вам понр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C5A-664B-4795-ABF9-D96485A44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static.mega-grad.ru/works/mn/w57997.jpg"/>
          <p:cNvPicPr/>
          <p:nvPr/>
        </p:nvPicPr>
        <p:blipFill>
          <a:blip r:embed="rId1"/>
          <a:stretch/>
        </p:blipFill>
        <p:spPr>
          <a:xfrm>
            <a:off x="554040" y="1352520"/>
            <a:ext cx="6219720" cy="5505480"/>
          </a:xfrm>
          <a:prstGeom prst="rect">
            <a:avLst/>
          </a:prstGeom>
          <a:ln w="0">
            <a:noFill/>
          </a:ln>
        </p:spPr>
      </p:pic>
      <p:sp>
        <p:nvSpPr>
          <p:cNvPr id="135" name="Облако 5"/>
          <p:cNvSpPr/>
          <p:nvPr/>
        </p:nvSpPr>
        <p:spPr>
          <a:xfrm>
            <a:off x="5653080" y="128520"/>
            <a:ext cx="3478320" cy="45975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свистулечка ка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а полоса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ая, смеш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ть-чуть пуза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ожди минуто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откуда, уточ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ка свистит мо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211-477D-4EDE-A4D7-CA1441C9A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38" name="Облако 5"/>
          <p:cNvSpPr/>
          <p:nvPr/>
        </p:nvSpPr>
        <p:spPr>
          <a:xfrm>
            <a:off x="5138640" y="965160"/>
            <a:ext cx="4005360" cy="29750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акие молодцы все отве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ет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меня для вас есть сюрприз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1B1-8665-4F8C-99D9-D575242E9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ttp://www.ru.all.biz/img/ru/catalog/1404187.jpeg"/>
          <p:cNvPicPr/>
          <p:nvPr/>
        </p:nvPicPr>
        <p:blipFill>
          <a:blip r:embed="rId1"/>
          <a:stretch/>
        </p:blipFill>
        <p:spPr>
          <a:xfrm>
            <a:off x="662040" y="1465200"/>
            <a:ext cx="78246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97956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43" name="Облако 5"/>
          <p:cNvSpPr/>
          <p:nvPr/>
        </p:nvSpPr>
        <p:spPr>
          <a:xfrm>
            <a:off x="4854600" y="360360"/>
            <a:ext cx="4289400" cy="44942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ам гости дорогие что пришли ко мне повеселили меня и загадки все разгадали. А у меня для вас еще сюрприз откройте волшебный сунду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B7F-8217-408D-995C-F56CAAD77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s://encrypted-tbn3.gstatic.com/images?q=tbn:ANd9GcRwcftwUuv73NHGDw0MqaAvp8Am0WoxWhVLVOh_S3DuK3Y87gquxA"/>
          <p:cNvPicPr/>
          <p:nvPr/>
        </p:nvPicPr>
        <p:blipFill>
          <a:blip r:embed="rId1"/>
          <a:stretch/>
        </p:blipFill>
        <p:spPr>
          <a:xfrm>
            <a:off x="25560" y="1268280"/>
            <a:ext cx="6500520" cy="5589720"/>
          </a:xfrm>
          <a:prstGeom prst="rect">
            <a:avLst/>
          </a:prstGeom>
          <a:ln w="0">
            <a:noFill/>
          </a:ln>
        </p:spPr>
      </p:pic>
      <p:sp>
        <p:nvSpPr>
          <p:cNvPr id="146" name="Облако 5"/>
          <p:cNvSpPr/>
          <p:nvPr/>
        </p:nvSpPr>
        <p:spPr>
          <a:xfrm rot="1637400">
            <a:off x="5497560" y="815760"/>
            <a:ext cx="3744720" cy="30337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!!! Гости дорог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vasilisaart-prize.umi.ru/images/cms/data/460701275952800050.jpg"/>
          <p:cNvPicPr/>
          <p:nvPr/>
        </p:nvPicPr>
        <p:blipFill>
          <a:blip r:embed="rId2"/>
          <a:stretch/>
        </p:blipFill>
        <p:spPr>
          <a:xfrm>
            <a:off x="6276960" y="3438360"/>
            <a:ext cx="25351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9C02-618C-4722-8C34-3267E82E0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42880" y="927000"/>
            <a:ext cx="5931000" cy="5931000"/>
          </a:xfrm>
          <a:prstGeom prst="rect">
            <a:avLst/>
          </a:prstGeom>
          <a:ln w="0">
            <a:noFill/>
          </a:ln>
        </p:spPr>
      </p:pic>
      <p:sp>
        <p:nvSpPr>
          <p:cNvPr id="47" name="Облако 6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милые гости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зовут Васил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s://encrypted-tbn1.gstatic.com/images?q=tbn:ANd9GcQmOS8y-R4SH3W5YEUjP3z6sRdxGPWm_GHpumA_6C71XrHQcCw8yg"/>
          <p:cNvPicPr/>
          <p:nvPr/>
        </p:nvPicPr>
        <p:blipFill>
          <a:blip r:embed="rId1"/>
          <a:srcRect l="0" t="0" r="1095" b="8075"/>
          <a:stretch/>
        </p:blipFill>
        <p:spPr>
          <a:xfrm>
            <a:off x="368280" y="2482920"/>
            <a:ext cx="6723000" cy="4143240"/>
          </a:xfrm>
          <a:prstGeom prst="rect">
            <a:avLst/>
          </a:prstGeom>
          <a:ln w="0">
            <a:noFill/>
          </a:ln>
        </p:spPr>
      </p:pic>
      <p:sp>
        <p:nvSpPr>
          <p:cNvPr id="49" name="Облако 3"/>
          <p:cNvSpPr/>
          <p:nvPr/>
        </p:nvSpPr>
        <p:spPr>
          <a:xfrm>
            <a:off x="5332320" y="952560"/>
            <a:ext cx="35146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леб Да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E89-1EFA-4B84-B782-60F3A2CCD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42880" y="927000"/>
            <a:ext cx="5931000" cy="5931000"/>
          </a:xfrm>
          <a:prstGeom prst="rect">
            <a:avLst/>
          </a:prstGeom>
          <a:ln w="0">
            <a:noFill/>
          </a:ln>
        </p:spPr>
      </p:pic>
      <p:sp>
        <p:nvSpPr>
          <p:cNvPr id="52" name="Облако 6"/>
          <p:cNvSpPr/>
          <p:nvPr/>
        </p:nvSpPr>
        <p:spPr>
          <a:xfrm>
            <a:off x="5138640" y="1312920"/>
            <a:ext cx="4005360" cy="25765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ята вот моя изба заходите в г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ы любите разгадывать зага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06D-3D54-4226-9B0F-113939B7D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s://encrypted-tbn3.gstatic.com/images?q=tbn:ANd9GcRr6wcjVnUpwRP1nO69xsdJ7kDd-P27rpmxil6Sy6baN9IHYztd"/>
          <p:cNvPicPr/>
          <p:nvPr/>
        </p:nvPicPr>
        <p:blipFill>
          <a:blip r:embed="rId1"/>
          <a:stretch/>
        </p:blipFill>
        <p:spPr>
          <a:xfrm>
            <a:off x="560520" y="1236600"/>
            <a:ext cx="4270320" cy="5621400"/>
          </a:xfrm>
          <a:prstGeom prst="rect">
            <a:avLst/>
          </a:prstGeom>
          <a:ln w="0">
            <a:noFill/>
          </a:ln>
        </p:spPr>
      </p:pic>
      <p:sp>
        <p:nvSpPr>
          <p:cNvPr id="55" name="Облако 6"/>
          <p:cNvSpPr/>
          <p:nvPr/>
        </p:nvSpPr>
        <p:spPr>
          <a:xfrm>
            <a:off x="4894200" y="1378080"/>
            <a:ext cx="3927600" cy="29620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олстя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ченивши бо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ит и кип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ить чай в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ulinaria1914.ru/img/Russkaya_pechka.jpg"/>
          <p:cNvPicPr/>
          <p:nvPr/>
        </p:nvPicPr>
        <p:blipFill>
          <a:blip r:embed="rId1"/>
          <a:stretch/>
        </p:blipFill>
        <p:spPr>
          <a:xfrm>
            <a:off x="297000" y="1120680"/>
            <a:ext cx="6154560" cy="5737320"/>
          </a:xfrm>
          <a:prstGeom prst="rect">
            <a:avLst/>
          </a:prstGeom>
          <a:ln w="0">
            <a:noFill/>
          </a:ln>
        </p:spPr>
      </p:pic>
      <p:sp>
        <p:nvSpPr>
          <p:cNvPr id="68" name="Облако 2"/>
          <p:cNvSpPr/>
          <p:nvPr/>
        </p:nvSpPr>
        <p:spPr>
          <a:xfrm>
            <a:off x="6310440" y="1674720"/>
            <a:ext cx="2833560" cy="21369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изба из кирпи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холодна, то горя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721680" y="-720"/>
            <a:ext cx="17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изба из кирпич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холодна, то горяч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D429-FF8C-4FDF-9511-6C0977E4C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st29.stblizko.ru/images/product/092/324/248_big.jpg"/>
          <p:cNvPicPr/>
          <p:nvPr/>
        </p:nvPicPr>
        <p:blipFill>
          <a:blip r:embed="rId1"/>
          <a:srcRect l="0" t="0" r="2502" b="3407"/>
          <a:stretch/>
        </p:blipFill>
        <p:spPr>
          <a:xfrm>
            <a:off x="579600" y="1755720"/>
            <a:ext cx="5203800" cy="5102280"/>
          </a:xfrm>
          <a:prstGeom prst="rect">
            <a:avLst/>
          </a:prstGeom>
          <a:ln w="0">
            <a:noFill/>
          </a:ln>
        </p:spPr>
      </p:pic>
      <p:sp>
        <p:nvSpPr>
          <p:cNvPr id="72" name="Облако 5"/>
          <p:cNvSpPr/>
          <p:nvPr/>
        </p:nvSpPr>
        <p:spPr>
          <a:xfrm>
            <a:off x="5846760" y="1481040"/>
            <a:ext cx="3297240" cy="24591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ет в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15D-EA0D-43FB-AB75-DF97C55CB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i.ytimg.com/vi/8LyZtM2VMnM/maxresdefault.jpg"/>
          <p:cNvPicPr/>
          <p:nvPr/>
        </p:nvPicPr>
        <p:blipFill>
          <a:blip r:embed="rId1"/>
          <a:stretch/>
        </p:blipFill>
        <p:spPr>
          <a:xfrm>
            <a:off x="617400" y="1641600"/>
            <a:ext cx="4929480" cy="5216400"/>
          </a:xfrm>
          <a:prstGeom prst="rect">
            <a:avLst/>
          </a:prstGeom>
          <a:ln w="0">
            <a:noFill/>
          </a:ln>
        </p:spPr>
      </p:pic>
      <p:sp>
        <p:nvSpPr>
          <p:cNvPr id="75" name="Облако 5"/>
          <p:cNvSpPr/>
          <p:nvPr/>
        </p:nvSpPr>
        <p:spPr>
          <a:xfrm>
            <a:off x="5460840" y="1249200"/>
            <a:ext cx="3683160" cy="29498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назад, то впер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-бродит паро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шь – продыряви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3589920" y="-92160"/>
            <a:ext cx="196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назад, то впере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ит-бродит пар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новишь – продыряв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3:36:32Z</dcterms:created>
  <dc:creator>Олег Грибан</dc:creator>
  <dc:description/>
  <dc:language>en-US</dc:language>
  <cp:lastModifiedBy>Admin</cp:lastModifiedBy>
  <dcterms:modified xsi:type="dcterms:W3CDTF">2016-04-01T16:34:56Z</dcterms:modified>
  <cp:revision>10</cp:revision>
  <dc:subject/>
  <dc:title>Презентация PowerPoint</dc:title>
</cp:coreProperties>
</file>