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C5A5-F672-4C8D-8536-D4F53AB8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007C-AC3D-4EDD-AA48-4B0E71F6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A784-0964-4B57-A490-240AE184B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9710-8AB6-4594-BC98-DA4432349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3D73-4C40-4B82-A9D1-A168BCB75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6F0A-7BA1-4721-B330-AF58823B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F9A6-3694-452C-B3C2-B4BD2607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6F3C-4002-4789-8647-8AFAC273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8FFF-BE37-449C-B29B-04D4FF97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418C-E568-4368-B76E-D73BE8F5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D5A6-6AB4-4CF0-BB70-099DCF71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C3C0-7E46-48E2-B762-9E14F11C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B7C8-07EA-4F12-8E67-C58A9AA7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130A-BD1C-44A6-9F19-7F86CCF9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B181-14AD-4256-A667-0B30CAD7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A3C9-489E-4355-8018-4EBCBE09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F8CB-CA0C-42C4-91E1-F673ECCE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A5487-86BB-43FA-8F83-D062F02B1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2AA0C-C745-4038-BEA5-2BBCED2D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3936A-0CA2-41B9-ABC3-22BBF9C5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17D70-1206-49ED-89E2-58A92CA9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72111-DC34-4A6A-8F1B-5066D102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F17B-29AD-4EFB-9679-C56D7EF0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028EA-BF89-47E0-8E16-D921D517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B6FA6-978E-4A45-9DBB-8E6160E1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E53A0-4112-476C-A3B2-13EE02D9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A48CE-6BED-4ACD-935B-D2BADEFA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E89A4-5680-42A0-BDBF-DBF48A39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D1208-1668-44AE-85D1-75619611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70574-74D5-4864-8180-F10C44CD6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8302D-719E-472D-90AD-FBAD9D65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D786B-C656-4E75-BAE8-B2FFA47B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56E2B-D279-434B-805B-ECABE429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D22E-D5EA-4743-B717-F4C05DA9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D8A8A-94AA-496F-BBC1-FA893AFC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D5659-DED5-4E06-9333-3CADB6BD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7491D-2A25-46D0-87A8-88C86198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C98EE-A74C-4C6A-B569-1B0D1BDF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61AB8-24DE-45D3-9FFA-6B9E1284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79858-13C0-45E2-8F62-1BE09FF5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9C4E7-DB7F-4EF7-B2C3-8F2681C8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ACCDF-0C74-4894-B22B-8FC1B82C5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4E5E7-594E-4CCC-89B0-08CB95FED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DBDC0-48DA-4D43-A485-E9826691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CF43-0717-408C-9043-CF0AC231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D38EA-9DA2-4BF6-ABD9-B587486F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A125E-2BEE-435F-B17F-7B6E073C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FAC60-3398-4D7C-BA18-654844D5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4E647-2654-4F40-9CB2-15E81D17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D541F-7D06-4DF6-9261-D1519A87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99CD1-A6F1-4B19-A54F-5D086017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FF0B6-DC2A-4ED4-8FDB-A1533E58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DA1C9-F292-4402-97F5-0307BA6E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B2336-B8D8-462D-8CFB-4570064C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58955-5194-4128-B890-DF150362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153D-55C8-44A6-9F9F-5A2DB5E0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7FC8E-AC30-44EB-926E-4D125928A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35733-9C81-47B1-99F4-EFB58A2F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8EBDA-1FA2-4706-8EC7-FE1A495C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E980F-36F4-4B2A-A02D-FA770338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7A701-B1FE-4DD4-B65B-F7D595E3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F46A7-3923-4D6B-BFAA-CEF31DFA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98C4F-889F-425C-AA17-4DC22E6D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8B747-7B93-408E-9E9B-E4CE69AC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E2EBC-C5CB-457F-9E40-C03C476B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F451E-DC7D-4489-A14A-E13ECF82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6914-BBFD-4685-858B-304967A1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8E19B-42AB-4423-903A-CC380B43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692BA-F4C5-41D0-80AF-6A8FCED6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ECCA5-2199-46CB-8063-1495AB74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15567-1F9E-496E-ACB5-832792C14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86D19-CC9F-4B49-83F9-CCABE309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FAAA0-C2D2-42DE-9A5C-BEE8E9D1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8F5BC-43C9-4DED-99FD-2609E162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D83FD-3958-4E00-BCD4-AD8FB59A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8F3B6-B3CE-4A28-9053-8290BF6F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DCFA4-6FEA-474D-94C2-F44D03A4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3F24-2034-40B3-99F6-5075F12B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1B777-0549-4669-8275-55D27E19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BC4F7-E78B-4345-97C8-325A98EE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4DC33-A964-44EF-AA96-5414A9D1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B128F-4853-42EE-80B0-DFAF2B19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901CC-F263-4530-B2C2-02E007D34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6B528-F40B-4948-96A3-9F645CAC9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86C72-121D-494F-9806-B14D8ADB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47D70-1155-4705-926C-3A035843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783C1-DD70-4076-ADC9-7BB84387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8283C-E2D9-47F1-84D1-4FECA096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8730-4E4D-4169-89E1-D0DFDF95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596AC-A88E-48B1-8615-C6A06317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4CB3C-DF47-445C-8D8D-1499C8B4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843DC-1620-4C5B-AB9E-D4AE3A02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86D50-82D7-4B95-B9CC-C001B52F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338F5-7E30-4C2A-8C34-BA6547C9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50DAD-D7FC-4395-8150-52627630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6F800-C0D5-4734-A408-E5D30FDA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E33C-69BB-42A0-B6FA-2E2972FA743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44a4"/>
              </a:gs>
              <a:gs pos="50000">
                <a:srgbClr val="3e81e9"/>
              </a:gs>
              <a:gs pos="100000">
                <a:srgbClr val="0044a4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cb2e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6A9E-BA3B-4C2A-8D1C-1362F07DFFE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4045-1EB6-4E2D-80BE-133A75BF6C2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6781-133C-4662-8B37-D8F7150141D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15E3-BAEA-4F2D-870A-0873D9B271D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EFDF-6CBC-4EDE-83D2-2B7162D72C1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CB61-9918-4C54-899C-3DEF807AA11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6F5F-E3E2-4086-AF05-A45B5F0497F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рямоугольник 3"/>
          <p:cNvSpPr/>
          <p:nvPr/>
        </p:nvSpPr>
        <p:spPr>
          <a:xfrm>
            <a:off x="0" y="16286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Игровые техн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entury Gothic"/>
              </a:rPr>
              <a:t>на уроках физической культур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Заголовок 1" descr=""/>
          <p:cNvPicPr/>
          <p:nvPr/>
        </p:nvPicPr>
        <p:blipFill>
          <a:blip r:embed="rId1"/>
          <a:stretch/>
        </p:blipFill>
        <p:spPr>
          <a:xfrm>
            <a:off x="-146160" y="781200"/>
            <a:ext cx="9528120" cy="3309840"/>
          </a:xfrm>
          <a:prstGeom prst="rect">
            <a:avLst/>
          </a:prstGeom>
          <a:ln w="0">
            <a:noFill/>
          </a:ln>
        </p:spPr>
      </p:pic>
      <p:sp>
        <p:nvSpPr>
          <p:cNvPr id="372" name="TextBox 2"/>
          <p:cNvSpPr/>
          <p:nvPr/>
        </p:nvSpPr>
        <p:spPr>
          <a:xfrm>
            <a:off x="6174000" y="4429080"/>
            <a:ext cx="26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А.М.Горь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9d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2475000" y="-133200"/>
            <a:ext cx="4084560" cy="132876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0" y="2214360"/>
            <a:ext cx="40384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сюжетные игры для малышей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игры-эстафет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игры с прыжкам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кто сильней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игры на вод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зимние игр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игры-аттракцион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игры народов Росси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игры на внимани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215040" y="2357280"/>
            <a:ext cx="2928960" cy="40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баскетбо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волейбо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футбо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бейсбо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хокке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ручной мя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Заголовок 1" descr=""/>
          <p:cNvPicPr/>
          <p:nvPr/>
        </p:nvPicPr>
        <p:blipFill>
          <a:blip r:embed="rId2"/>
          <a:stretch/>
        </p:blipFill>
        <p:spPr>
          <a:xfrm>
            <a:off x="60480" y="1163520"/>
            <a:ext cx="4365360" cy="1006560"/>
          </a:xfrm>
          <a:prstGeom prst="rect">
            <a:avLst/>
          </a:prstGeom>
          <a:ln w="0">
            <a:noFill/>
          </a:ln>
        </p:spPr>
      </p:pic>
      <p:pic>
        <p:nvPicPr>
          <p:cNvPr id="377" name="Заголовок 1" descr=""/>
          <p:cNvPicPr/>
          <p:nvPr/>
        </p:nvPicPr>
        <p:blipFill>
          <a:blip r:embed="rId3"/>
          <a:stretch/>
        </p:blipFill>
        <p:spPr>
          <a:xfrm>
            <a:off x="4632480" y="1163520"/>
            <a:ext cx="4511520" cy="1006560"/>
          </a:xfrm>
          <a:prstGeom prst="rect">
            <a:avLst/>
          </a:prstGeom>
          <a:ln w="0">
            <a:noFill/>
          </a:ln>
        </p:spPr>
      </p:pic>
      <p:sp>
        <p:nvSpPr>
          <p:cNvPr id="378" name="Стрелка вправо 6"/>
          <p:cNvSpPr/>
          <p:nvPr/>
        </p:nvSpPr>
        <p:spPr>
          <a:xfrm rot="3478800">
            <a:off x="5438520" y="1152360"/>
            <a:ext cx="507960" cy="26676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0f6fc6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Стрелка вправо 7"/>
          <p:cNvSpPr/>
          <p:nvPr/>
        </p:nvSpPr>
        <p:spPr>
          <a:xfrm rot="7042800">
            <a:off x="3660840" y="1148040"/>
            <a:ext cx="507960" cy="26532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0f6fc6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444600" y="-73080"/>
            <a:ext cx="8566200" cy="221292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571320" y="17146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0f6fc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6a3"/>
                </a:solidFill>
                <a:latin typeface="Lucida Sans Unicod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присутствие  соперничества и   эмоциональность в двигательных действиях;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0f6fc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непредсказуемую изменчивость как условий, так и действий самих игроков;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0f6fc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проявление максимальных физических усилий и психического воздействия;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0f6fc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стремление учащихся добиваться победы при соблюдении правил игры или соревнования;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0f6fc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применение разнообразных двигательных навыков, целесообразных в конкретных  условиях игры или соревнования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9d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8467560" cy="14508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357120" y="1714680"/>
            <a:ext cx="8477280" cy="49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0f6fc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соответствие приемлемых игровых форм и средств психофизическим особенностям учащихся;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0f6fc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всеобщая доступность;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0f6fc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эмоциональность игр и заданий;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0f6fc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целостность и логическая последовательность игровых средств;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0f6fc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комплексное воздействие на двигательную сферу и интеллект учащихся;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0f6fc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ступенчатость и периодичность использования игр и игровых заданий;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0f6fc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взаимное уважение, доброжелательность учащихся, оздоровительная направленность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Вводная часть:</a:t>
            </a:r>
            <a:endParaRPr b="0" lang="en-US" sz="25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Lucida Sans Unicode"/>
              </a:rPr>
              <a:t>      </a:t>
            </a:r>
            <a:r>
              <a:rPr b="1" lang="ru-RU" sz="2100" spc="-1" strike="noStrike">
                <a:solidFill>
                  <a:srgbClr val="ffffff"/>
                </a:solidFill>
                <a:latin typeface="Lucida Sans Unicode"/>
              </a:rPr>
              <a:t>подготовка организма учащихся к предстоящей работе (упражнения, проводимые в виде соревнования, выполняемые в парах с элементами силовых единоборств, упражнения скоростно-силового характера).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Основная часть:</a:t>
            </a:r>
            <a:endParaRPr b="0" lang="en-US" sz="25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Lucida Sans Unicode"/>
              </a:rPr>
              <a:t>     </a:t>
            </a:r>
            <a:r>
              <a:rPr b="1" lang="ru-RU" sz="2100" spc="-1" strike="noStrike">
                <a:solidFill>
                  <a:srgbClr val="ffffff"/>
                </a:solidFill>
                <a:latin typeface="Lucida Sans Unicode"/>
              </a:rPr>
              <a:t>упражнения для закрепления двигательного навыка, эстафеты с элементами, изученными на уроке, мини-соревнования, соревнования по упрощенным правилам.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Заключительная часть:</a:t>
            </a:r>
            <a:endParaRPr b="0" lang="en-US" sz="25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Lucida Sans Unicode"/>
              </a:rPr>
              <a:t>     </a:t>
            </a:r>
            <a:r>
              <a:rPr b="1" lang="ru-RU" sz="2100" spc="-1" strike="noStrike">
                <a:solidFill>
                  <a:srgbClr val="ffffff"/>
                </a:solidFill>
                <a:latin typeface="Lucida Sans Unicode"/>
              </a:rPr>
              <a:t>игровые задания для расслабления и успокоения организма (упражнения под музыкальное сопровождение – танцевальные шаги, игры на внимание, релаксация).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Lucida Sans Unicode"/>
              </a:rPr>
              <a:t>   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Line 43"/>
          <p:cNvSpPr/>
          <p:nvPr/>
        </p:nvSpPr>
        <p:spPr>
          <a:xfrm>
            <a:off x="1979640" y="5445000"/>
            <a:ext cx="0" cy="50508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40"/>
          <p:cNvSpPr/>
          <p:nvPr/>
        </p:nvSpPr>
        <p:spPr>
          <a:xfrm>
            <a:off x="6659640" y="5445000"/>
            <a:ext cx="0" cy="21600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30"/>
          <p:cNvSpPr/>
          <p:nvPr/>
        </p:nvSpPr>
        <p:spPr>
          <a:xfrm>
            <a:off x="6516720" y="1700280"/>
            <a:ext cx="0" cy="36036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1"/>
          <p:cNvSpPr/>
          <p:nvPr/>
        </p:nvSpPr>
        <p:spPr>
          <a:xfrm>
            <a:off x="6516720" y="2565360"/>
            <a:ext cx="0" cy="28728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2"/>
          <p:cNvSpPr/>
          <p:nvPr/>
        </p:nvSpPr>
        <p:spPr>
          <a:xfrm>
            <a:off x="6516720" y="3573360"/>
            <a:ext cx="0" cy="28728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4"/>
          <p:cNvSpPr/>
          <p:nvPr/>
        </p:nvSpPr>
        <p:spPr>
          <a:xfrm flipV="1">
            <a:off x="900000" y="2781360"/>
            <a:ext cx="0" cy="50328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41"/>
          <p:cNvSpPr/>
          <p:nvPr/>
        </p:nvSpPr>
        <p:spPr>
          <a:xfrm flipV="1">
            <a:off x="6516720" y="4365720"/>
            <a:ext cx="0" cy="35856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Заголовок 1" descr=""/>
          <p:cNvPicPr/>
          <p:nvPr/>
        </p:nvPicPr>
        <p:blipFill>
          <a:blip r:embed="rId1"/>
          <a:stretch/>
        </p:blipFill>
        <p:spPr>
          <a:xfrm>
            <a:off x="-12600" y="-36360"/>
            <a:ext cx="8431200" cy="130464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14"/>
          <p:cNvSpPr/>
          <p:nvPr/>
        </p:nvSpPr>
        <p:spPr>
          <a:xfrm>
            <a:off x="1619280" y="1341360"/>
            <a:ext cx="236052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ПРЕПОДАВ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5"/>
          <p:cNvSpPr/>
          <p:nvPr/>
        </p:nvSpPr>
        <p:spPr>
          <a:xfrm>
            <a:off x="5003640" y="1341360"/>
            <a:ext cx="236088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УЧАЩИЕ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6"/>
          <p:cNvSpPr/>
          <p:nvPr/>
        </p:nvSpPr>
        <p:spPr>
          <a:xfrm>
            <a:off x="468360" y="2060640"/>
            <a:ext cx="3097080" cy="733320"/>
          </a:xfrm>
          <a:prstGeom prst="rect">
            <a:avLst/>
          </a:prstGeom>
          <a:solidFill>
            <a:srgbClr val="cccc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задание – ознакомление, показ, организация двигательных действ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7"/>
          <p:cNvSpPr/>
          <p:nvPr/>
        </p:nvSpPr>
        <p:spPr>
          <a:xfrm>
            <a:off x="395280" y="3284640"/>
            <a:ext cx="3097080" cy="520200"/>
          </a:xfrm>
          <a:prstGeom prst="rect">
            <a:avLst/>
          </a:prstGeom>
          <a:solidFill>
            <a:srgbClr val="cccc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анализ с выявлением ошибок и путь их устра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9"/>
          <p:cNvSpPr/>
          <p:nvPr/>
        </p:nvSpPr>
        <p:spPr>
          <a:xfrm>
            <a:off x="5364000" y="2060640"/>
            <a:ext cx="3097440" cy="520200"/>
          </a:xfrm>
          <a:prstGeom prst="rect">
            <a:avLst/>
          </a:prstGeom>
          <a:solidFill>
            <a:srgbClr val="cccc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восприятие задания и подготовка к его выполн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0"/>
          <p:cNvSpPr/>
          <p:nvPr/>
        </p:nvSpPr>
        <p:spPr>
          <a:xfrm>
            <a:off x="5364000" y="2852640"/>
            <a:ext cx="3097440" cy="733320"/>
          </a:xfrm>
          <a:prstGeom prst="rect">
            <a:avLst/>
          </a:prstGeom>
          <a:solidFill>
            <a:srgbClr val="cccc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осмысление и распределение последовательности выполнения задания учащим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1"/>
          <p:cNvSpPr/>
          <p:nvPr/>
        </p:nvSpPr>
        <p:spPr>
          <a:xfrm>
            <a:off x="5364000" y="3860640"/>
            <a:ext cx="3097440" cy="520200"/>
          </a:xfrm>
          <a:prstGeom prst="rect">
            <a:avLst/>
          </a:prstGeom>
          <a:solidFill>
            <a:srgbClr val="cccc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выполнение соревновательно-игрового зад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2"/>
          <p:cNvSpPr/>
          <p:nvPr/>
        </p:nvSpPr>
        <p:spPr>
          <a:xfrm>
            <a:off x="3276720" y="4581360"/>
            <a:ext cx="236052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Ц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3"/>
          <p:cNvSpPr/>
          <p:nvPr/>
        </p:nvSpPr>
        <p:spPr>
          <a:xfrm>
            <a:off x="1187280" y="5157720"/>
            <a:ext cx="2360880" cy="307080"/>
          </a:xfrm>
          <a:prstGeom prst="rect">
            <a:avLst/>
          </a:prstGeom>
          <a:solidFill>
            <a:srgbClr val="cccc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неправиль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4"/>
          <p:cNvSpPr/>
          <p:nvPr/>
        </p:nvSpPr>
        <p:spPr>
          <a:xfrm>
            <a:off x="4716360" y="5157720"/>
            <a:ext cx="2360880" cy="307080"/>
          </a:xfrm>
          <a:prstGeom prst="rect">
            <a:avLst/>
          </a:prstGeom>
          <a:solidFill>
            <a:srgbClr val="cccc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правиль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5"/>
          <p:cNvSpPr/>
          <p:nvPr/>
        </p:nvSpPr>
        <p:spPr>
          <a:xfrm>
            <a:off x="468360" y="5950080"/>
            <a:ext cx="2360520" cy="307080"/>
          </a:xfrm>
          <a:prstGeom prst="rect">
            <a:avLst/>
          </a:prstGeom>
          <a:solidFill>
            <a:srgbClr val="cccc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обращение за помощ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6"/>
          <p:cNvSpPr/>
          <p:nvPr/>
        </p:nvSpPr>
        <p:spPr>
          <a:xfrm>
            <a:off x="5435640" y="5661000"/>
            <a:ext cx="3168720" cy="733320"/>
          </a:xfrm>
          <a:prstGeom prst="rect">
            <a:avLst/>
          </a:prstGeom>
          <a:solidFill>
            <a:srgbClr val="cccc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совершенствование предыдущего или получение нового зад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7"/>
          <p:cNvSpPr/>
          <p:nvPr/>
        </p:nvSpPr>
        <p:spPr>
          <a:xfrm>
            <a:off x="3995640" y="1484280"/>
            <a:ext cx="1008000" cy="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8"/>
          <p:cNvSpPr/>
          <p:nvPr/>
        </p:nvSpPr>
        <p:spPr>
          <a:xfrm>
            <a:off x="3995640" y="1628640"/>
            <a:ext cx="43200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9"/>
          <p:cNvSpPr/>
          <p:nvPr/>
        </p:nvSpPr>
        <p:spPr>
          <a:xfrm>
            <a:off x="4427640" y="1628640"/>
            <a:ext cx="0" cy="295272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35"/>
          <p:cNvSpPr/>
          <p:nvPr/>
        </p:nvSpPr>
        <p:spPr>
          <a:xfrm flipV="1">
            <a:off x="900000" y="3789360"/>
            <a:ext cx="0" cy="216072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36"/>
          <p:cNvSpPr/>
          <p:nvPr/>
        </p:nvSpPr>
        <p:spPr>
          <a:xfrm>
            <a:off x="900000" y="1484280"/>
            <a:ext cx="719280" cy="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37"/>
          <p:cNvSpPr/>
          <p:nvPr/>
        </p:nvSpPr>
        <p:spPr>
          <a:xfrm flipV="1">
            <a:off x="900000" y="1483920"/>
            <a:ext cx="0" cy="57636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38"/>
          <p:cNvSpPr/>
          <p:nvPr/>
        </p:nvSpPr>
        <p:spPr>
          <a:xfrm flipH="1">
            <a:off x="2362320" y="4848840"/>
            <a:ext cx="885600" cy="30384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9"/>
          <p:cNvSpPr/>
          <p:nvPr/>
        </p:nvSpPr>
        <p:spPr>
          <a:xfrm>
            <a:off x="5635080" y="4779360"/>
            <a:ext cx="864720" cy="36792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42"/>
          <p:cNvSpPr/>
          <p:nvPr/>
        </p:nvSpPr>
        <p:spPr>
          <a:xfrm flipH="1">
            <a:off x="5651280" y="4724280"/>
            <a:ext cx="865080" cy="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-6480" y="-249120"/>
            <a:ext cx="8388360" cy="846000"/>
          </a:xfrm>
          <a:prstGeom prst="rect">
            <a:avLst/>
          </a:prstGeom>
          <a:ln w="0">
            <a:noFill/>
          </a:ln>
        </p:spPr>
      </p:pic>
      <p:sp>
        <p:nvSpPr>
          <p:cNvPr id="415" name="AutoShape 4"/>
          <p:cNvSpPr/>
          <p:nvPr/>
        </p:nvSpPr>
        <p:spPr>
          <a:xfrm>
            <a:off x="324000" y="692280"/>
            <a:ext cx="1655640" cy="1873080"/>
          </a:xfrm>
          <a:prstGeom prst="rightArrowCallout">
            <a:avLst>
              <a:gd name="adj1" fmla="val 28286"/>
              <a:gd name="adj2" fmla="val 28283"/>
              <a:gd name="adj3" fmla="val 16667"/>
              <a:gd name="adj4" fmla="val 66667"/>
            </a:avLst>
          </a:prstGeom>
          <a:solidFill>
            <a:srgbClr val="ccccff"/>
          </a:solidFill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250560" y="1100160"/>
            <a:ext cx="163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одгот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0"/>
          <p:cNvSpPr/>
          <p:nvPr/>
        </p:nvSpPr>
        <p:spPr>
          <a:xfrm>
            <a:off x="324000" y="2637000"/>
            <a:ext cx="1655640" cy="1873080"/>
          </a:xfrm>
          <a:prstGeom prst="rightArrowCallout">
            <a:avLst>
              <a:gd name="adj1" fmla="val 28286"/>
              <a:gd name="adj2" fmla="val 28283"/>
              <a:gd name="adj3" fmla="val 16667"/>
              <a:gd name="adj4" fmla="val 66667"/>
            </a:avLst>
          </a:prstGeom>
          <a:solidFill>
            <a:srgbClr val="ccccff"/>
          </a:solidFill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250920" y="3116160"/>
            <a:ext cx="170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ов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2"/>
          <p:cNvSpPr/>
          <p:nvPr/>
        </p:nvSpPr>
        <p:spPr>
          <a:xfrm>
            <a:off x="324000" y="4581360"/>
            <a:ext cx="1655640" cy="1873440"/>
          </a:xfrm>
          <a:prstGeom prst="rightArrowCallout">
            <a:avLst>
              <a:gd name="adj1" fmla="val 28291"/>
              <a:gd name="adj2" fmla="val 28289"/>
              <a:gd name="adj3" fmla="val 16667"/>
              <a:gd name="adj4" fmla="val 66667"/>
            </a:avLst>
          </a:prstGeom>
          <a:solidFill>
            <a:srgbClr val="ccccff"/>
          </a:solidFill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3"/>
          <p:cNvSpPr/>
          <p:nvPr/>
        </p:nvSpPr>
        <p:spPr>
          <a:xfrm>
            <a:off x="250920" y="4989600"/>
            <a:ext cx="144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анал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4"/>
          <p:cNvSpPr/>
          <p:nvPr/>
        </p:nvSpPr>
        <p:spPr>
          <a:xfrm>
            <a:off x="1979640" y="692280"/>
            <a:ext cx="6985080" cy="187308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учебного материала и требования физиче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ости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ор игр, игровых заданий в соответствии с задачами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тивирование игровых 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ор вида и организации игров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контро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15"/>
          <p:cNvSpPr/>
          <p:nvPr/>
        </p:nvSpPr>
        <p:spPr>
          <a:xfrm>
            <a:off x="1979640" y="2637000"/>
            <a:ext cx="6985080" cy="187308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кома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ановка целей и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кий инструктаж по технике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ое и коллективное поощрение в ходе 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од по результатам игры и подведение итог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6"/>
          <p:cNvSpPr/>
          <p:nvPr/>
        </p:nvSpPr>
        <p:spPr>
          <a:xfrm>
            <a:off x="1979640" y="4581360"/>
            <a:ext cx="6985080" cy="187344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ий анализ игров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оценка по проведению иг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ка рекомендаций по использованию иг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ктировка сюжета, правил игры, параметров нагруз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4"/>
          <p:cNvSpPr/>
          <p:nvPr/>
        </p:nvSpPr>
        <p:spPr>
          <a:xfrm>
            <a:off x="253080" y="-108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ef0f7"/>
                </a:solidFill>
                <a:latin typeface="Arial"/>
              </a:rPr>
              <a:t>«Скрытый па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179280" y="415440"/>
            <a:ext cx="96649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ч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закрепление навыков скрытых бросков мяча в определенном направлении и ловли летящего мяч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тие координации дви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нвентар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баскетбольные и волейбольные мя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сто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спортивный зал, площа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2843280" y="1700280"/>
          <a:ext cx="6076800" cy="4906800"/>
        </p:xfrm>
        <a:graphic>
          <a:graphicData uri="http://schemas.openxmlformats.org/drawingml/2006/table">
            <a:tbl>
              <a:tblPr/>
              <a:tblGrid>
                <a:gridCol w="934920"/>
                <a:gridCol w="1728720"/>
                <a:gridCol w="1893960"/>
                <a:gridCol w="1519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Сх. ри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Прави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О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9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 центре каждого из кругов находится водящий-игрок другой команды. Участники команд перебрасывают мяч друг другу, стараясь, чтобы водящий не коснулся или не поймал ег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арианты передачи: двумя руками от груди и сверху, одной рукой от плеча, сверху, сбоку, снизу; с отскоком от пола любым способ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гру следует начинать только по сигналу учител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сли водящему удается коснуться мяча или поймать его, он приносит команде очко. Мяч передается в круг и игра продолжается. Игрок , неправильно или неудачно выполнивший передачу. Выбывает из игр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беждает команда, имевшая меньше потерь мяча и у которой больше осталось игро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гру можно проводить в четырех подгруппах, стоящих в кругах. Кроме того, ее можно усложнить путем введения двух водящих и выполнения перебрасывания двумя рук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7" name="Picture 67" descr="IMG_0678"/>
          <p:cNvPicPr/>
          <p:nvPr/>
        </p:nvPicPr>
        <p:blipFill>
          <a:blip r:embed="rId1"/>
          <a:srcRect l="0" t="0" r="0" b="22471"/>
          <a:stretch/>
        </p:blipFill>
        <p:spPr>
          <a:xfrm>
            <a:off x="0" y="2565360"/>
            <a:ext cx="3708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6:32:10Z</dcterms:created>
  <dc:creator>Лицей</dc:creator>
  <dc:description/>
  <dc:language>en-US</dc:language>
  <cp:lastModifiedBy>Настя</cp:lastModifiedBy>
  <dcterms:modified xsi:type="dcterms:W3CDTF">2017-05-24T16:12:01Z</dcterms:modified>
  <cp:revision>26</cp:revision>
  <dc:subject/>
  <dc:title>Подвижные и спортивные игры на уроках физической культуры как средство развития социальной компетенции</dc:title>
</cp:coreProperties>
</file>