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A46-5A3B-41BD-9758-C8465237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811-9E69-44CB-9EFA-E5454B9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53B-3C71-4BD9-A580-3E3C5B17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CD1-BF5B-4359-89AC-4B7C8243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D8EC-59F7-4B1D-867D-13F71A40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5591-11BC-4FFF-ACDA-0DCBF9A9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44BE-DDA8-48AD-95D5-D9DBFDBE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86BB-5765-4AC5-A405-416587D1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F9BF-D072-4B0C-86C1-D3465710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097C-961A-4D7A-8A10-875E4CA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E85A-786D-4DF5-BDEF-3C1B80F6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DF5-0659-411F-BE6D-3B0B981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0F66-8DB5-41BD-9488-5A06663E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9757-A59D-4B5C-A50A-E98173D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856A-27D6-4E18-AEED-C2296DEC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BD5E-6D38-4A17-83B1-5443C0A8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D46F-489C-4B7A-8C9E-9E237A2E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7096-8B01-447F-952F-9AE3F7BC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9DD07-0FE4-40D2-8777-161B0943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B4E94-8253-4B2B-A701-075ABB2B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AFC73-E0C2-4768-86AA-6C4576FF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13B16-4765-4FA6-ACD5-AF7BD4CB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C3C-03DB-4579-A9A0-66F4CEDD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A9E0-182B-48D5-BA53-DCD11BF7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52E9-3D78-4535-9405-BDAC8ED3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6E6A-E415-468F-BCC6-AD7346A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3435-EA4C-48A4-B140-84624BF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3E02D-756A-4153-8002-19F27326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4FD5-9498-416B-8FF3-8083662F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2E81-ACD4-438B-A89A-B7170A37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35255-4E98-4E62-BE09-83846268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3072B-E1FA-4BCE-9007-FBAAF2CD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ABEEC-7C46-4360-98CE-CDE6072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E28-8AB7-434A-AEE5-A4733E11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9E87-EDD0-4BBC-B94C-0DCAD8BB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EC145-24A6-4D52-A837-BCC29066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E7975-E425-43D3-A842-1EEFF628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B3628-B770-4FE0-BAD6-721625B7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CF31-2CC0-4EC5-AB6C-4E3CFE76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7C2F-E7E9-4908-9188-9B73C99E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A3933-5EE1-4EE8-BEA9-C84A6B35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014C2-648A-4643-998B-28A7490F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D1E1-09CF-4AB0-8A58-B5A7FB98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31E9-F92E-449A-9BCD-611AC311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6C7-840E-48B6-901D-967CF2D0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06631-1594-45DE-85A9-3D60470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32C12-883E-4D60-AD9B-EF862C0C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EE93E-6F8C-444E-91A5-17784FCC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335E-A823-4204-B0E5-7862A8EB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44EAF-5462-4C54-8864-0464FF23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3A63D-8EC3-4358-8F7F-2411CCD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C1C74-72C5-431B-98F9-45298C26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26E5B-42D4-4ED1-AF2D-EE311BEA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936C-4FD5-4B44-BAE9-FF6F33AB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C452C-273D-4BF3-8312-88B8FB3D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D2C-D7F7-424D-BB66-C1F0D0D0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E95F6-06F6-4C78-B316-0CB12AD9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03D46-AEA1-4631-82DC-B5AD9862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98B33-C025-4FA3-AD0F-80C55F94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2F391-7B84-4999-812B-4C22A5AE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13895-A2B2-4A95-ADEF-86DDC28E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B147D-79A1-4672-A401-15997F25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BBF0C-D01B-41D4-9901-F39CB9DB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124CA-506A-4FBA-ABCF-8D64743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C9A85-6CA1-4D2B-A300-27B2160D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7C7D7-71D4-4C1F-8863-805F6790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8C3-1284-4025-9674-DB20C28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C989F-FF1C-4463-83B7-1BF15197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94D4C-E37B-4CEF-87F6-963AC7E6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AAE0F-6978-4C82-BD93-F8E86E63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31410-F5F2-4EC8-B703-1CE55CDF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3B8D7-DEC6-4F21-9F44-08622F30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A4300-0193-4726-BA33-DBBF1AF0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8A86E-81C7-4808-A8FE-7E8B0100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EE9BD-D9B0-4C5E-B34E-4EB90C0E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F052-3F8B-4AF1-8533-E6EE5428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46F7D-E76C-4BC8-8CAD-BA75418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A88-FE62-4EE3-9585-980341F0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42F31-1BC7-4954-9F93-F76CD10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BFB37-8500-4496-858B-30BDA364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EEA31-3C8D-4F5B-BC68-E67166F7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C7C94-68F6-4B5E-9E74-CE25DE90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49818-8410-4D03-9BFE-8803E613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A19F2-EC09-45B4-BAA6-7497B433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4850E-B45F-43FC-ABBD-A5F5BD28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1BB8E-D9AD-4976-8E9E-62CBA01F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F9A1E-047F-47D0-8E88-452B013C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DD208-01EA-4DA6-A38F-99DC0D8E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D86-55CA-4782-992D-812038B4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E006F-BBB0-4F8B-A903-80EDC5E0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A50A9-67C7-487F-9146-C2AE7BD2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8C3EE-5E17-44F9-B5EF-EEDBEF21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39E41-04AD-4B7E-A563-01DB6F2C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31FB2-3A8B-4247-9DE0-BADE6641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7F4F-8E28-48A1-8A79-5BB96DA7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EC521-F3FC-4B22-8998-BDCBF342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5093-A237-481E-89C4-9628C24B5E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0A1-8DE6-4DD8-B8FB-8C372B66F3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2F3D-9D5E-4BFA-8166-3D22C4AAC1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E41E-2E84-45DE-A75A-A9C5066ABB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C7A9-AE49-4D2E-BCDB-EFCD6BBCBF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448B-849A-48A5-A646-AE334F891A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5FA4-870F-4CFC-AC67-DDF80CF535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AD99-1B5D-45E2-9AB1-AB45F2DE94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3"/>
          <p:cNvSpPr/>
          <p:nvPr/>
        </p:nvSpPr>
        <p:spPr>
          <a:xfrm>
            <a:off x="0" y="1628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гров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на уроках физической культу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-146160" y="781200"/>
            <a:ext cx="9528120" cy="33098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6174000" y="442908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А.М.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9d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475000" y="-133200"/>
            <a:ext cx="4084560" cy="1328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0" y="2214360"/>
            <a:ext cx="40384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сюжетные игры для малыш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-эстафе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 с прыжкам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кто сильней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 на во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имние игр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-аттракцион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 народов Росс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гры на внима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215040" y="2357280"/>
            <a:ext cx="2928960" cy="40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баскетбо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олейбо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футбо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бейсбо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хокк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ручной мя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60480" y="1163520"/>
            <a:ext cx="4365360" cy="100656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3"/>
          <a:stretch/>
        </p:blipFill>
        <p:spPr>
          <a:xfrm>
            <a:off x="4632480" y="1163520"/>
            <a:ext cx="4511520" cy="1006560"/>
          </a:xfrm>
          <a:prstGeom prst="rect">
            <a:avLst/>
          </a:prstGeom>
          <a:ln w="0">
            <a:noFill/>
          </a:ln>
        </p:spPr>
      </p:pic>
      <p:sp>
        <p:nvSpPr>
          <p:cNvPr id="378" name="Стрелка вправо 6"/>
          <p:cNvSpPr/>
          <p:nvPr/>
        </p:nvSpPr>
        <p:spPr>
          <a:xfrm rot="3478800">
            <a:off x="5438520" y="1152360"/>
            <a:ext cx="507960" cy="26676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право 7"/>
          <p:cNvSpPr/>
          <p:nvPr/>
        </p:nvSpPr>
        <p:spPr>
          <a:xfrm rot="7042800">
            <a:off x="3660840" y="1148040"/>
            <a:ext cx="507960" cy="2653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44600" y="-73080"/>
            <a:ext cx="8566200" cy="22129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57132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исутствие  соперничества и   эмоциональность в двигательных действиях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непредсказуемую изменчивость как условий, так и действий самих игроков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оявление максимальных физических усилий и психического воздействия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стремление учащихся добиваться победы при соблюдении правил игры или соревнования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именение разнообразных двигательных навыков, целесообразных в конкретных  условиях игры или соревнования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9d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8467560" cy="14508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57120" y="1714680"/>
            <a:ext cx="847728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оответствие приемлемых игровых форм и средств психофизическим особенностям учащихся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сеобщая доступность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эмоциональность игр и заданий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целостность и логическая последовательность игровых средств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плексное воздействие на двигательную сферу и интеллект учащихся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тупенчатость и периодичность использования игр и игровых заданий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0f6fc6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заимное уважение, доброжелательность учащихся, оздоровительная направленность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Вводная часть: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      </a:t>
            </a:r>
            <a:r>
              <a:rPr b="1" lang="ru-RU" sz="2100" spc="-1" strike="noStrike">
                <a:solidFill>
                  <a:srgbClr val="ffffff"/>
                </a:solidFill>
                <a:latin typeface="Lucida Sans Unicode"/>
              </a:rPr>
              <a:t>подготовка организма учащихся к предстоящей работе (упражнения, проводимые в виде соревнования, выполняемые в парах с элементами силовых единоборств, упражнения скоростно-силового характера).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Основная часть: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1" lang="ru-RU" sz="2100" spc="-1" strike="noStrike">
                <a:solidFill>
                  <a:srgbClr val="ffffff"/>
                </a:solidFill>
                <a:latin typeface="Lucida Sans Unicode"/>
              </a:rPr>
              <a:t>упражнения для закрепления двигательного навыка, эстафеты с элементами, изученными на уроке, мини-соревнования, соревнования по упрощенным правилам.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Заключительная часть: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1" lang="ru-RU" sz="2100" spc="-1" strike="noStrike">
                <a:solidFill>
                  <a:srgbClr val="ffffff"/>
                </a:solidFill>
                <a:latin typeface="Lucida Sans Unicode"/>
              </a:rPr>
              <a:t>игровые задания для расслабления и успокоения организма (упражнения под музыкальное сопровождение – танцевальные шаги, игры на внимание, релаксация).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43"/>
          <p:cNvSpPr/>
          <p:nvPr/>
        </p:nvSpPr>
        <p:spPr>
          <a:xfrm>
            <a:off x="1979640" y="5445000"/>
            <a:ext cx="0" cy="5050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0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0"/>
          <p:cNvSpPr/>
          <p:nvPr/>
        </p:nvSpPr>
        <p:spPr>
          <a:xfrm>
            <a:off x="6516720" y="1700280"/>
            <a:ext cx="0" cy="3603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1"/>
          <p:cNvSpPr/>
          <p:nvPr/>
        </p:nvSpPr>
        <p:spPr>
          <a:xfrm>
            <a:off x="6516720" y="2565360"/>
            <a:ext cx="0" cy="287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>
            <a:off x="6516720" y="3573360"/>
            <a:ext cx="0" cy="287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4"/>
          <p:cNvSpPr/>
          <p:nvPr/>
        </p:nvSpPr>
        <p:spPr>
          <a:xfrm flipV="1">
            <a:off x="900000" y="2781360"/>
            <a:ext cx="0" cy="503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1"/>
          <p:cNvSpPr/>
          <p:nvPr/>
        </p:nvSpPr>
        <p:spPr>
          <a:xfrm flipV="1">
            <a:off x="6516720" y="4365720"/>
            <a:ext cx="0" cy="35856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-12600" y="-36360"/>
            <a:ext cx="8431200" cy="13046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4"/>
          <p:cNvSpPr/>
          <p:nvPr/>
        </p:nvSpPr>
        <p:spPr>
          <a:xfrm>
            <a:off x="1619280" y="1341360"/>
            <a:ext cx="236052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ЕПОДА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003640" y="1341360"/>
            <a:ext cx="23608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УЧА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468360" y="2060640"/>
            <a:ext cx="3097080" cy="73332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задание – ознакомление, показ, организация двигательных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395280" y="3284640"/>
            <a:ext cx="3097080" cy="52020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анализ с выявлением ошибок и путь их уст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5364000" y="2060640"/>
            <a:ext cx="3097440" cy="52020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восприятие задания и подготовка к его выпол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5364000" y="2852640"/>
            <a:ext cx="3097440" cy="73332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осмысление и распределение последовательности выполнения задания учащим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5364000" y="3860640"/>
            <a:ext cx="3097440" cy="52020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выполнение соревновательно-игрового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3276720" y="4581360"/>
            <a:ext cx="236052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187280" y="5157720"/>
            <a:ext cx="23608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неправи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4716360" y="5157720"/>
            <a:ext cx="23608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рави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468360" y="5950080"/>
            <a:ext cx="236052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обращение за помощ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6"/>
          <p:cNvSpPr/>
          <p:nvPr/>
        </p:nvSpPr>
        <p:spPr>
          <a:xfrm>
            <a:off x="5435640" y="5661000"/>
            <a:ext cx="3168720" cy="73332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совершенствование предыдущего или получение нового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7"/>
          <p:cNvSpPr/>
          <p:nvPr/>
        </p:nvSpPr>
        <p:spPr>
          <a:xfrm>
            <a:off x="3995640" y="1484280"/>
            <a:ext cx="100800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8"/>
          <p:cNvSpPr/>
          <p:nvPr/>
        </p:nvSpPr>
        <p:spPr>
          <a:xfrm>
            <a:off x="3995640" y="1628640"/>
            <a:ext cx="432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9"/>
          <p:cNvSpPr/>
          <p:nvPr/>
        </p:nvSpPr>
        <p:spPr>
          <a:xfrm>
            <a:off x="4427640" y="1628640"/>
            <a:ext cx="0" cy="2952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5"/>
          <p:cNvSpPr/>
          <p:nvPr/>
        </p:nvSpPr>
        <p:spPr>
          <a:xfrm flipV="1">
            <a:off x="900000" y="3789360"/>
            <a:ext cx="0" cy="2160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6"/>
          <p:cNvSpPr/>
          <p:nvPr/>
        </p:nvSpPr>
        <p:spPr>
          <a:xfrm>
            <a:off x="900000" y="1484280"/>
            <a:ext cx="71928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7"/>
          <p:cNvSpPr/>
          <p:nvPr/>
        </p:nvSpPr>
        <p:spPr>
          <a:xfrm flipV="1">
            <a:off x="900000" y="1483920"/>
            <a:ext cx="0" cy="57636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8"/>
          <p:cNvSpPr/>
          <p:nvPr/>
        </p:nvSpPr>
        <p:spPr>
          <a:xfrm flipH="1">
            <a:off x="2362320" y="4848840"/>
            <a:ext cx="885600" cy="303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9"/>
          <p:cNvSpPr/>
          <p:nvPr/>
        </p:nvSpPr>
        <p:spPr>
          <a:xfrm>
            <a:off x="5635080" y="4779360"/>
            <a:ext cx="864720" cy="36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2"/>
          <p:cNvSpPr/>
          <p:nvPr/>
        </p:nvSpPr>
        <p:spPr>
          <a:xfrm flipH="1">
            <a:off x="5651280" y="472428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8388360" cy="84600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4"/>
          <p:cNvSpPr/>
          <p:nvPr/>
        </p:nvSpPr>
        <p:spPr>
          <a:xfrm>
            <a:off x="324000" y="692280"/>
            <a:ext cx="1655640" cy="1873080"/>
          </a:xfrm>
          <a:prstGeom prst="rightArrowCallout">
            <a:avLst>
              <a:gd name="adj1" fmla="val 28286"/>
              <a:gd name="adj2" fmla="val 28283"/>
              <a:gd name="adj3" fmla="val 16667"/>
              <a:gd name="adj4" fmla="val 66667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50560" y="110016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324000" y="2637000"/>
            <a:ext cx="1655640" cy="1873080"/>
          </a:xfrm>
          <a:prstGeom prst="rightArrowCallout">
            <a:avLst>
              <a:gd name="adj1" fmla="val 28286"/>
              <a:gd name="adj2" fmla="val 28283"/>
              <a:gd name="adj3" fmla="val 16667"/>
              <a:gd name="adj4" fmla="val 66667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50920" y="3116160"/>
            <a:ext cx="17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324000" y="4581360"/>
            <a:ext cx="1655640" cy="1873440"/>
          </a:xfrm>
          <a:prstGeom prst="rightArrowCallout">
            <a:avLst>
              <a:gd name="adj1" fmla="val 28291"/>
              <a:gd name="adj2" fmla="val 28289"/>
              <a:gd name="adj3" fmla="val 16667"/>
              <a:gd name="adj4" fmla="val 66667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250920" y="498960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1979640" y="692280"/>
            <a:ext cx="6985080" cy="187308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учебного материала и требования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игр, игровых заданий в соответствии с задачами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ирование игровы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вида и организации игров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контр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1979640" y="2637000"/>
            <a:ext cx="6985080" cy="187308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ка целей и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й инструктаж по технике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е и коллективное поощрение в ход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по результатам игры и подведение ито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1979640" y="4581360"/>
            <a:ext cx="6985080" cy="187344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анализ игров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оценка по проведению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рекомендаций по использованию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тировка сюжета, правил игры, параметров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253080" y="-10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f0f7"/>
                </a:solidFill>
                <a:latin typeface="Arial"/>
              </a:rPr>
              <a:t>«Скрытый п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179280" y="415440"/>
            <a:ext cx="96649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закрепление навыков скрытых бросков мяча в определенном направлении и ловли летящего мяч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координации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вента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баскетбольные и волейбольные мя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портивный зал, площа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843280" y="1700280"/>
          <a:ext cx="6076800" cy="4906800"/>
        </p:xfrm>
        <a:graphic>
          <a:graphicData uri="http://schemas.openxmlformats.org/drawingml/2006/table">
            <a:tbl>
              <a:tblPr/>
              <a:tblGrid>
                <a:gridCol w="934920"/>
                <a:gridCol w="1728720"/>
                <a:gridCol w="1893960"/>
                <a:gridCol w="1519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Сх. ри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рав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 центре каждого из кругов находится водящий-игрок другой команды. Участники команд перебрасывают мяч друг другу, стараясь, чтобы водящий не коснулся или не поймал е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арианты передачи: двумя руками от груди и сверху, одной рукой от плеча, сверху, сбоку, снизу; с отскоком от пола любым способ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гру следует начинать только по сигналу учи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сли водящему удается коснуться мяча или поймать его, он приносит команде очко. Мяч передается в круг и игра продолжается. Игрок , неправильно или неудачно выполнивший передачу. Выбывает из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беждает команда, имевшая меньше потерь мяча и у которой больше осталось игро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гру можно проводить в четырех подгруппах, стоящих в кругах. Кроме того, ее можно усложнить путем введения двух водящих и выполнения перебрасывания двумя ру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7" name="Picture 67" descr="IMG_0678"/>
          <p:cNvPicPr/>
          <p:nvPr/>
        </p:nvPicPr>
        <p:blipFill>
          <a:blip r:embed="rId1"/>
          <a:srcRect l="0" t="0" r="0" b="22471"/>
          <a:stretch/>
        </p:blipFill>
        <p:spPr>
          <a:xfrm>
            <a:off x="0" y="256536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6:32:10Z</dcterms:created>
  <dc:creator>Лицей</dc:creator>
  <dc:description/>
  <dc:language>en-US</dc:language>
  <cp:lastModifiedBy>Настя</cp:lastModifiedBy>
  <dcterms:modified xsi:type="dcterms:W3CDTF">2017-05-24T16:12:01Z</dcterms:modified>
  <cp:revision>26</cp:revision>
  <dc:subject/>
  <dc:title>Подвижные и спортивные игры на уроках физической культуры как средство развития социальной компетенции</dc:title>
</cp:coreProperties>
</file>