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13C-EB15-4C21-84E5-91CE6AA9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335-635D-41B9-A472-7B81AE0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536-7E5B-4398-8EA1-FD97C164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713-2A42-4AE8-8A5E-5C4A4FE1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1CC-84E6-46AC-9E04-6E37266D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3A1-5554-4E5B-A4FE-60079700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A8B-ADAE-4490-8B8A-2D00393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40D-7A9F-46A1-BCC7-F822277B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E43-DA46-4A9F-BEA4-62F7391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1D21-19E5-43AD-94C0-B407D29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879C-EAE6-4C38-B0E9-84E348C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C90-C2BE-4787-9463-6482733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627-D76D-4BC1-94A4-1EB667B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6E69-6AC0-44C5-90D9-AF6E5F69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CF66-8331-4B37-A7A6-B79F8A8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F23-9322-41BE-84C2-73680220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7875-54F5-472B-95E9-01DF81B3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15F-4E57-4067-84D0-2FEE3EE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13B-4375-4C5B-889F-16A5F01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722-E17D-4FD9-89BA-5C777DE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7AA-98B8-4324-93D5-70E1358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932-9559-4E6E-BCFF-346B164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196-12D6-4706-8E9B-AB03C51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BAC-BD64-415B-93B5-1A434B2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965-AABB-44B5-AD13-17082230BD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3E0-2BA2-4B0E-B8C8-BC69D8E12D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pp.vk.me/c630116/v630116507/937b/9fRRNnHEAt4.jpg"/>
          <p:cNvPicPr/>
          <p:nvPr/>
        </p:nvPicPr>
        <p:blipFill>
          <a:blip r:embed="rId1"/>
          <a:stretch/>
        </p:blipFill>
        <p:spPr>
          <a:xfrm>
            <a:off x="3027240" y="189000"/>
            <a:ext cx="471348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pp.vk.me/c630116/v630116507/9385/uS7TC8J-Y1o.jpg"/>
          <p:cNvPicPr/>
          <p:nvPr/>
        </p:nvPicPr>
        <p:blipFill>
          <a:blip r:embed="rId1"/>
          <a:stretch/>
        </p:blipFill>
        <p:spPr>
          <a:xfrm>
            <a:off x="2987640" y="0"/>
            <a:ext cx="518472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569.JPG"/>
          <p:cNvPicPr/>
          <p:nvPr/>
        </p:nvPicPr>
        <p:blipFill>
          <a:blip r:embed="rId1"/>
          <a:stretch/>
        </p:blipFill>
        <p:spPr>
          <a:xfrm>
            <a:off x="2214720" y="285840"/>
            <a:ext cx="63579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4" descr="tat-ornament.jpg"/>
          <p:cNvPicPr/>
          <p:nvPr/>
        </p:nvPicPr>
        <p:blipFill>
          <a:blip r:embed="rId2"/>
          <a:stretch/>
        </p:blipFill>
        <p:spPr>
          <a:xfrm>
            <a:off x="2571840" y="2714760"/>
            <a:ext cx="4286160" cy="3143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venzelya_01.jpg"/>
          <p:cNvPicPr/>
          <p:nvPr/>
        </p:nvPicPr>
        <p:blipFill>
          <a:blip r:embed="rId3"/>
          <a:stretch/>
        </p:blipFill>
        <p:spPr>
          <a:xfrm>
            <a:off x="7072200" y="3143160"/>
            <a:ext cx="17398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ttps://pp.vk.me/c630116/v630116507/93eb/z8nmNeEK7n8.jpg"/>
          <p:cNvPicPr/>
          <p:nvPr/>
        </p:nvPicPr>
        <p:blipFill>
          <a:blip r:embed="rId1"/>
          <a:stretch/>
        </p:blipFill>
        <p:spPr>
          <a:xfrm>
            <a:off x="2700360" y="189000"/>
            <a:ext cx="626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pp.vk.me/c630116/v630116507/93f4/lADudGwPLSk.jpg"/>
          <p:cNvPicPr/>
          <p:nvPr/>
        </p:nvPicPr>
        <p:blipFill>
          <a:blip r:embed="rId1"/>
          <a:stretch/>
        </p:blipFill>
        <p:spPr>
          <a:xfrm>
            <a:off x="2916360" y="0"/>
            <a:ext cx="466092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4720" cy="219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i043.radikal.ru/0805/e8/b738d4538ec6.gif"/>
          <p:cNvPicPr/>
          <p:nvPr/>
        </p:nvPicPr>
        <p:blipFill>
          <a:blip r:embed="rId2"/>
          <a:stretch/>
        </p:blipFill>
        <p:spPr>
          <a:xfrm>
            <a:off x="2050920" y="2276640"/>
            <a:ext cx="68421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07:00Z</dcterms:created>
  <dc:creator>User</dc:creator>
  <dc:description/>
  <dc:language>en-US</dc:language>
  <cp:lastModifiedBy>Елена</cp:lastModifiedBy>
  <dcterms:modified xsi:type="dcterms:W3CDTF">2016-02-24T13:59:50Z</dcterms:modified>
  <cp:revision>15</cp:revision>
  <dc:subject/>
  <dc:title>Презентация PowerPoint</dc:title>
</cp:coreProperties>
</file>