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D73-25E2-4A91-A9EB-AD567BA3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754-1D3A-4207-92D1-BCEA6EC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E89-5E5C-4795-B59F-36FBC5AC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470-B438-4CF6-90A2-FD846DEE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5874-48E3-4C63-9C74-AF6F32E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15D9-E1EC-4A20-ACFC-A96BD23A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3FA0-B3B1-4567-B573-DF779E3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7BEB-70D1-4109-B450-EB9001C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0A8-F542-4469-A047-C27D416C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EC13-DC54-4895-B881-E4228F7B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13DB-40A2-4EB6-A847-CB74EF8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2EE-4CE7-448B-B656-BB590A34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6690-418D-493C-8C58-4148BC9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5126-7EFF-4653-88C7-0F477E7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A4D1-A2A9-451A-9014-931FCF36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2C96-AC91-43B5-925D-BF513B1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D6D5-D067-4C8C-99BD-C70A72B0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766-CEC3-4547-90BA-214D5158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88B-027C-4A1B-83DC-FE7337A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CF2-8F07-45B6-B2B0-6D475C9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FEF-A46D-415A-B366-5D0E1A7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F72-CE89-4C59-8167-8906EEF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09C-7410-4E74-973E-F8015A7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32D-527D-41DB-9BA3-1DC9758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F420-3736-47EC-A949-9D87D44B50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21FC-E7D6-486F-A415-A084E6BEFB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pp.vk.me/c630116/v630116507/937b/9fRRNnHEAt4.jpg"/>
          <p:cNvPicPr/>
          <p:nvPr/>
        </p:nvPicPr>
        <p:blipFill>
          <a:blip r:embed="rId1"/>
          <a:stretch/>
        </p:blipFill>
        <p:spPr>
          <a:xfrm>
            <a:off x="3027240" y="189000"/>
            <a:ext cx="471348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pp.vk.me/c630116/v630116507/9385/uS7TC8J-Y1o.jpg"/>
          <p:cNvPicPr/>
          <p:nvPr/>
        </p:nvPicPr>
        <p:blipFill>
          <a:blip r:embed="rId1"/>
          <a:stretch/>
        </p:blipFill>
        <p:spPr>
          <a:xfrm>
            <a:off x="2987640" y="0"/>
            <a:ext cx="518472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569.JPG"/>
          <p:cNvPicPr/>
          <p:nvPr/>
        </p:nvPicPr>
        <p:blipFill>
          <a:blip r:embed="rId1"/>
          <a:stretch/>
        </p:blipFill>
        <p:spPr>
          <a:xfrm>
            <a:off x="2214720" y="285840"/>
            <a:ext cx="63579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4" descr="tat-ornament.jpg"/>
          <p:cNvPicPr/>
          <p:nvPr/>
        </p:nvPicPr>
        <p:blipFill>
          <a:blip r:embed="rId2"/>
          <a:stretch/>
        </p:blipFill>
        <p:spPr>
          <a:xfrm>
            <a:off x="2571840" y="2714760"/>
            <a:ext cx="4286160" cy="3143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venzelya_01.jpg"/>
          <p:cNvPicPr/>
          <p:nvPr/>
        </p:nvPicPr>
        <p:blipFill>
          <a:blip r:embed="rId3"/>
          <a:stretch/>
        </p:blipFill>
        <p:spPr>
          <a:xfrm>
            <a:off x="7072200" y="3143160"/>
            <a:ext cx="17398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ttps://pp.vk.me/c630116/v630116507/93eb/z8nmNeEK7n8.jpg"/>
          <p:cNvPicPr/>
          <p:nvPr/>
        </p:nvPicPr>
        <p:blipFill>
          <a:blip r:embed="rId1"/>
          <a:stretch/>
        </p:blipFill>
        <p:spPr>
          <a:xfrm>
            <a:off x="2700360" y="189000"/>
            <a:ext cx="626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pp.vk.me/c630116/v630116507/93f4/lADudGwPLSk.jpg"/>
          <p:cNvPicPr/>
          <p:nvPr/>
        </p:nvPicPr>
        <p:blipFill>
          <a:blip r:embed="rId1"/>
          <a:stretch/>
        </p:blipFill>
        <p:spPr>
          <a:xfrm>
            <a:off x="2916360" y="0"/>
            <a:ext cx="466092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4720" cy="219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i043.radikal.ru/0805/e8/b738d4538ec6.gif"/>
          <p:cNvPicPr/>
          <p:nvPr/>
        </p:nvPicPr>
        <p:blipFill>
          <a:blip r:embed="rId2"/>
          <a:stretch/>
        </p:blipFill>
        <p:spPr>
          <a:xfrm>
            <a:off x="2050920" y="2276640"/>
            <a:ext cx="68421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07:00Z</dcterms:created>
  <dc:creator>User</dc:creator>
  <dc:description/>
  <dc:language>en-US</dc:language>
  <cp:lastModifiedBy>Елена</cp:lastModifiedBy>
  <dcterms:modified xsi:type="dcterms:W3CDTF">2016-02-24T13:59:50Z</dcterms:modified>
  <cp:revision>15</cp:revision>
  <dc:subject/>
  <dc:title>Презентация PowerPoint</dc:title>
</cp:coreProperties>
</file>