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wmf" ContentType="image/x-wmf"/>
  <Override PartName="/ppt/media/image9.wmf" ContentType="image/x-wmf"/>
  <Override PartName="/ppt/media/image8.wmf" ContentType="image/x-wmf"/>
  <Override PartName="/ppt/media/image12.png" ContentType="image/png"/>
  <Override PartName="/ppt/media/image7.wmf" ContentType="image/x-wmf"/>
  <Override PartName="/ppt/media/image20.gif" ContentType="image/gif"/>
  <Override PartName="/ppt/media/image18.jpeg" ContentType="image/jpeg"/>
  <Override PartName="/ppt/media/image16.gif" ContentType="image/gif"/>
  <Override PartName="/ppt/media/image14.wmf" ContentType="image/x-wmf"/>
  <Override PartName="/ppt/media/image5.png" ContentType="image/png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3AA-0636-4CB2-B0B7-8F8CFEF1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E69-E884-467B-B668-07AAE13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970-B8A1-4C31-B912-3A3A00DC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5FF-8E0B-427E-9245-4D8414EE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AE3-2B2B-4312-A915-D9E6C54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9A3-A2C9-4D85-A2EE-6436D99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28D-0A57-4F5C-A58A-40BBAD9E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C50-F9EA-4143-8D49-07ACCCCF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C0B-717B-4C02-986A-BFE0116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494-B5C8-4F30-8989-C7782A05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9C2-13E0-4204-A25A-7984645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069-A081-49B9-94CE-717E6DA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FDCD-89ED-4E31-8EA7-11532AA14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4;%20&#1087;&#1088;&#1086;&#1080;&#1089;&#1093;&#1086;&#1078;&#1076;&#1077;&#1085;&#1080;&#1080;%20&#1085;&#1072;&#1096;&#1080;&#1093;%20%20%20&#1080;&#1084;&#1077;&#1085;%20&#1080;%20&#1092;&#1072;&#1084;&#1080;&#1083;&#1080;&#1081;.ppt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hyperlink" Target="file:///&#1054;%20&#1087;&#1088;&#1086;&#1080;&#1089;&#1093;&#1086;&#1078;&#1076;&#1077;&#1085;&#1080;&#1080;%20&#1085;&#1072;&#1096;&#1080;&#1093;%20%20%20&#1080;&#1084;&#1077;&#1085;%20&#1080;%20&#1092;&#1072;&#1084;&#1080;&#1083;&#1080;&#1081;.ppt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417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 ОГЭ шаг за шагом!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6 класс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вторим изученное по орфографии и пунктуации , морфологии и морфемике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056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4. Из предложения 7 выпишите слово (-а), в котором (-ых)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056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4. Из предложения 7 выпишите слово (-а), в котором (-ых)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3860640"/>
            <a:ext cx="76438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исходными, происхо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Рисунок5"/>
          <p:cNvPicPr/>
          <p:nvPr/>
        </p:nvPicPr>
        <p:blipFill>
          <a:blip r:embed="rId1"/>
          <a:stretch/>
        </p:blipFill>
        <p:spPr>
          <a:xfrm>
            <a:off x="2268360" y="4508640"/>
            <a:ext cx="4680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129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5. Какой частью речи является слово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2):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именем прилага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именем существ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. именем числ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4. местоим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129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5. Какой частью речи является слово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2):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именем прилага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именем существительным</a:t>
            </a:r>
            <a:br>
              <a:rPr sz="2800"/>
            </a:b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3. именем числительны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4. местоим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Рисунок4"/>
          <p:cNvPicPr/>
          <p:nvPr/>
        </p:nvPicPr>
        <p:blipFill>
          <a:blip r:embed="rId1"/>
          <a:stretch/>
        </p:blipFill>
        <p:spPr>
          <a:xfrm>
            <a:off x="2700360" y="4076640"/>
            <a:ext cx="4606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2360" y="33300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6. В  предложении 4 найдите  деепричастие и  запишите ег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2360" y="33300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6. В  предложении 4 найдите  деепричастие и  запишите ег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41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довольствуяс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Рисунок2"/>
          <p:cNvPicPr/>
          <p:nvPr/>
        </p:nvPicPr>
        <p:blipFill>
          <a:blip r:embed="rId1"/>
          <a:stretch/>
        </p:blipFill>
        <p:spPr>
          <a:xfrm>
            <a:off x="3203640" y="3716280"/>
            <a:ext cx="40323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7. Из предложения 6 выпишите слово, образованное приставочным способ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7. Из предложения 6 выпишите слово, образованное приставочным способ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созр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Рисунок6"/>
          <p:cNvPicPr/>
          <p:nvPr/>
        </p:nvPicPr>
        <p:blipFill>
          <a:blip r:embed="rId1"/>
          <a:stretch/>
        </p:blipFill>
        <p:spPr>
          <a:xfrm>
            <a:off x="3780000" y="3429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8. В предложениях 1-5 найдите составное числительное, запишите его слов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8. В предложениях 1-5 найдите составное числительное, запишите его слова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(в) тысяча восемьсот шестьдесят первом 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Рисунок1234"/>
          <p:cNvPicPr/>
          <p:nvPr/>
        </p:nvPicPr>
        <p:blipFill>
          <a:blip r:embed="rId1"/>
          <a:stretch/>
        </p:blipFill>
        <p:spPr>
          <a:xfrm>
            <a:off x="1116000" y="4365720"/>
            <a:ext cx="2108160" cy="222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Рисунок5"/>
          <p:cNvPicPr/>
          <p:nvPr/>
        </p:nvPicPr>
        <p:blipFill>
          <a:blip r:embed="rId2"/>
          <a:stretch/>
        </p:blipFill>
        <p:spPr>
          <a:xfrm>
            <a:off x="3780000" y="2997360"/>
            <a:ext cx="4679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вторение и обобщение правил  по орфографии, пунктуации и морфемике, изученных в курсе 5-6 классов; повторение сведений по теме «Имя числительное», подготовка к ГИА; комплексная работа с тек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Рисунокщш1"/>
          <p:cNvPicPr/>
          <p:nvPr/>
        </p:nvPicPr>
        <p:blipFill>
          <a:blip r:embed="rId1"/>
          <a:stretch/>
        </p:blipFill>
        <p:spPr>
          <a:xfrm>
            <a:off x="1187280" y="404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исунок1ми"/>
          <p:cNvPicPr/>
          <p:nvPr/>
        </p:nvPicPr>
        <p:blipFill>
          <a:blip r:embed="rId2"/>
          <a:stretch/>
        </p:blipFill>
        <p:spPr>
          <a:xfrm>
            <a:off x="6084720" y="4221000"/>
            <a:ext cx="2449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9. Среди предложений 1-4 найдите сложноподчиненное предложение, укаж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9. Среди предложений 1-4 найдите сложноподчиненное предложение, укаж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59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Рисунок7"/>
          <p:cNvPicPr/>
          <p:nvPr/>
        </p:nvPicPr>
        <p:blipFill>
          <a:blip r:embed="rId1"/>
          <a:stretch/>
        </p:blipFill>
        <p:spPr>
          <a:xfrm>
            <a:off x="3851280" y="3573360"/>
            <a:ext cx="3745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0. Укажите количество грамматических основ в предложении  8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Рисунок10"/>
          <p:cNvPicPr/>
          <p:nvPr/>
        </p:nvPicPr>
        <p:blipFill>
          <a:blip r:embed="rId1"/>
          <a:stretch/>
        </p:blipFill>
        <p:spPr>
          <a:xfrm>
            <a:off x="6516720" y="4941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0. Укажите количество грамматических основ в предложении  8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77612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Рисунок3"/>
          <p:cNvPicPr/>
          <p:nvPr/>
        </p:nvPicPr>
        <p:blipFill>
          <a:blip r:embed="rId1"/>
          <a:stretch/>
        </p:blipFill>
        <p:spPr>
          <a:xfrm>
            <a:off x="3348000" y="3500280"/>
            <a:ext cx="3240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1. Среди предложений 4-6  найдите предложение с однородными членами, запиш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1. Среди предложений 4-6  найдите предложение с однородными членами, запишите его ном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2205000"/>
            <a:ext cx="7715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Рисунок2"/>
          <p:cNvPicPr/>
          <p:nvPr/>
        </p:nvPicPr>
        <p:blipFill>
          <a:blip r:embed="rId1"/>
          <a:stretch/>
        </p:blipFill>
        <p:spPr>
          <a:xfrm>
            <a:off x="2484360" y="3429000"/>
            <a:ext cx="468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2. В данном ниже  предложении расставлены все знаки препинания. Выпишите только те цифры, которые обозначают запятые при однородных членах предло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7283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ервые фамилии появились в 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(1)которыми владели князья, (2) бояре, (3) а позже купцы и двор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2. В данном ниже  предложении расставлены все знаки препинания. Выпишите только те цифры, которые обозначают запятые при однородных членах предло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7283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ервые фамилии появились в 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(1)которыми владели князья, </a:t>
            </a:r>
            <a:r>
              <a:rPr b="0" i="1" lang="ru-RU" sz="2800" spc="-1" strike="noStrike">
                <a:solidFill>
                  <a:srgbClr val="800080"/>
                </a:solidFill>
                <a:latin typeface="Calibri"/>
              </a:rPr>
              <a:t>(2)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бояре, </a:t>
            </a:r>
            <a:r>
              <a:rPr b="0" i="1" lang="ru-RU" sz="2800" spc="-1" strike="noStrike">
                <a:solidFill>
                  <a:srgbClr val="800080"/>
                </a:solidFill>
                <a:latin typeface="Calibri"/>
              </a:rPr>
              <a:t>(3)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а позже купцы и дворя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Рисунок1234"/>
          <p:cNvPicPr/>
          <p:nvPr/>
        </p:nvPicPr>
        <p:blipFill>
          <a:blip r:embed="rId1"/>
          <a:stretch/>
        </p:blipFill>
        <p:spPr>
          <a:xfrm>
            <a:off x="6732720" y="5013360"/>
            <a:ext cx="2108160" cy="222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Рисунок2"/>
          <p:cNvPicPr/>
          <p:nvPr/>
        </p:nvPicPr>
        <p:blipFill>
          <a:blip r:embed="rId2"/>
          <a:stretch/>
        </p:blipFill>
        <p:spPr>
          <a:xfrm>
            <a:off x="1187280" y="5157720"/>
            <a:ext cx="2305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8692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Индивидуальные зад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)просклонять числительное  (в)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1897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 году)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 (предложение 10);   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2) выполнить морфологический разбор числительных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)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еках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 пред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404640"/>
            <a:ext cx="77612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й (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Р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го (г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ому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как И. или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Т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тысяча восемьсот девяносто седьмым (год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.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(в) тысяча восемьсот девяносто седьмом (год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Рисунок3"/>
          <p:cNvPicPr/>
          <p:nvPr/>
        </p:nvPicPr>
        <p:blipFill>
          <a:blip r:embed="rId1"/>
          <a:stretch/>
        </p:blipFill>
        <p:spPr>
          <a:xfrm>
            <a:off x="7308720" y="5516640"/>
            <a:ext cx="1376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Работа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408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1)Истории фамилий и их значения тесно связаны с различными сословиями. (2) Первые фамилии появились в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веках и были связаны с названиями земель, которыми владели князья, бояре, а позже купцы и дворяне. (3)Это такие фамилии, как Тверской, Суздальс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4)Простой же русский народ обходился без фамилий, довольствуясь именами, отчествами, прозвищами.  (5)Так было до отмены крепостного права в 1861 году. (6)Только после этого созрела необходимость давать фамил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7)Тогда в большинстве случаев именно отчества и прозвища стали исходными данными для происхождения фамилий Иванов, Силантьев, Болтунов, Заигр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8)Другие фамилии  образовались от  места жительства ее первоносителя,  от названий животных и птиц. Это такие фамилии, как Медведев, Соболев, Москвин, Тамбовце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9)Часть фамилий указывает на род занятий: Кузнецов, Плотников, Сапож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10)Первые  достоверные данные о наличии фамилий появились после переписи населения в 1897 году. (11) Тогда переписчики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часто вынуждены были сами придумывать фамилии для крестья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Рисунок1ор"/>
          <p:cNvPicPr/>
          <p:nvPr/>
        </p:nvPicPr>
        <p:blipFill>
          <a:blip r:embed="rId1"/>
          <a:stretch/>
        </p:blipFill>
        <p:spPr>
          <a:xfrm>
            <a:off x="7740720" y="0"/>
            <a:ext cx="9525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Морфологический раз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777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В)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XIV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(веках) -  числительные; каждое из них  отвечает на вопрос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в каком?;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. ф.четырнадцатый-пятнадцатый (века); разряд – порядковые; по строению – сложные; употреблены во множественном числе, в предложном падеже; согласуются с существительным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в веках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; в предложении выполняют роль опреде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Рисунок6"/>
          <p:cNvPicPr/>
          <p:nvPr/>
        </p:nvPicPr>
        <p:blipFill>
          <a:blip r:embed="rId1"/>
          <a:stretch/>
        </p:blipFill>
        <p:spPr>
          <a:xfrm>
            <a:off x="6443640" y="5229360"/>
            <a:ext cx="1800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сследовательская работа </a:t>
            </a:r>
            <a:br>
              <a:rPr sz="3200"/>
            </a:b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роисхождении наших   имен и фамилий.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ogotip RJAL"/>
          <p:cNvPicPr/>
          <p:nvPr/>
        </p:nvPicPr>
        <p:blipFill>
          <a:blip r:embed="rId2"/>
          <a:stretch/>
        </p:blipFill>
        <p:spPr>
          <a:xfrm>
            <a:off x="1116000" y="4292640"/>
            <a:ext cx="2664000" cy="223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Рисунок9жэ"/>
          <p:cNvPicPr/>
          <p:nvPr/>
        </p:nvPicPr>
        <p:blipFill>
          <a:blip r:embed="rId3"/>
          <a:stretch/>
        </p:blipFill>
        <p:spPr>
          <a:xfrm>
            <a:off x="6516720" y="1628640"/>
            <a:ext cx="187164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900000" y="333360"/>
            <a:ext cx="7761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сследовательская работа </a:t>
            </a:r>
            <a:br>
              <a:rPr sz="3200"/>
            </a:b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 происхождении наших   имен и фамилий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оставить синквейн, связанный с ключевыми словами урока –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«фамилия», «им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Рисунок9ьл"/>
          <p:cNvPicPr/>
          <p:nvPr/>
        </p:nvPicPr>
        <p:blipFill>
          <a:blip r:embed="rId1"/>
          <a:stretch/>
        </p:blipFill>
        <p:spPr>
          <a:xfrm>
            <a:off x="6948360" y="0"/>
            <a:ext cx="1797120" cy="1738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971640" y="3144960"/>
            <a:ext cx="753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стихотворение из 5 строк, которое строится по правил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1 строка – тема или предмет (одно существительное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2 строка – описание предмета (два прилагательных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3 строка – описание действия (три глагола)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4 строка – фраза, выражающая отношение к предмету;</a:t>
            </a:r>
            <a:br>
              <a:rPr sz="2000"/>
            </a:b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5 строка – синоним, обобщающий или расширяющий смысл темы или предмета (одно сл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57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+”“–”“?”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В графу “+” записываете все факты, вызвавшие положительные эмоции. В графу “–”  выписываете все, что у вас отсутствует или осталось непонятным. В графу “интересно” (?) выписываете все то, о чем хотелось бы узнать подробнее, что вам интерес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3789360"/>
          <a:ext cx="6572160" cy="2746440"/>
        </p:xfrm>
        <a:graphic>
          <a:graphicData uri="http://schemas.openxmlformats.org/drawingml/2006/table">
            <a:tbl>
              <a:tblPr/>
              <a:tblGrid>
                <a:gridCol w="2376720"/>
                <a:gridCol w="2232000"/>
                <a:gridCol w="196344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–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8"/>
          <p:cNvSpPr/>
          <p:nvPr/>
        </p:nvSpPr>
        <p:spPr>
          <a:xfrm>
            <a:off x="250920" y="526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719160-9f4482aa90e06417"/>
          <p:cNvPicPr/>
          <p:nvPr/>
        </p:nvPicPr>
        <p:blipFill>
          <a:blip r:embed="rId1"/>
          <a:stretch/>
        </p:blipFill>
        <p:spPr>
          <a:xfrm>
            <a:off x="6516720" y="189000"/>
            <a:ext cx="1744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86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писать сочинение–миниатюру о происхождении фамилий известных писателей: М. Пришвина, В. Астафьева,                 В. Распут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default"/>
          <p:cNvPicPr/>
          <p:nvPr/>
        </p:nvPicPr>
        <p:blipFill>
          <a:blip r:embed="rId1"/>
          <a:stretch/>
        </p:blipFill>
        <p:spPr>
          <a:xfrm>
            <a:off x="3708360" y="4076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fault"/>
          <p:cNvPicPr/>
          <p:nvPr/>
        </p:nvPicPr>
        <p:blipFill>
          <a:blip r:embed="rId2"/>
          <a:stretch/>
        </p:blipFill>
        <p:spPr>
          <a:xfrm>
            <a:off x="1042920" y="3141720"/>
            <a:ext cx="2089080" cy="280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faultшш"/>
          <p:cNvPicPr/>
          <p:nvPr/>
        </p:nvPicPr>
        <p:blipFill>
          <a:blip r:embed="rId3"/>
          <a:stretch/>
        </p:blipFill>
        <p:spPr>
          <a:xfrm>
            <a:off x="6588000" y="3284640"/>
            <a:ext cx="2127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1117253-da4a3567e63d343a"/>
          <p:cNvPicPr/>
          <p:nvPr/>
        </p:nvPicPr>
        <p:blipFill>
          <a:blip r:embed="rId1"/>
          <a:stretch/>
        </p:blipFill>
        <p:spPr>
          <a:xfrm>
            <a:off x="3348000" y="2276640"/>
            <a:ext cx="2638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. Укажите, в каком значении употребляется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остоверные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 (предложение 10</a:t>
            </a: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востепе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ч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 вызывающие сом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1. Укажите, в каком значении употребляется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остоверные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(предложение 10</a:t>
            </a: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востепе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ч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е вызывающие сом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Рисунок6"/>
          <p:cNvPicPr/>
          <p:nvPr/>
        </p:nvPicPr>
        <p:blipFill>
          <a:blip r:embed="rId1"/>
          <a:stretch/>
        </p:blipFill>
        <p:spPr>
          <a:xfrm>
            <a:off x="3924360" y="407664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2. Замените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созрела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з предложения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6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2. Замените слово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созрела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из предложения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6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322360"/>
            <a:ext cx="77151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возникла, наступила, приблиз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Рисунок3"/>
          <p:cNvPicPr/>
          <p:nvPr/>
        </p:nvPicPr>
        <p:blipFill>
          <a:blip r:embed="rId1"/>
          <a:stretch/>
        </p:blipFill>
        <p:spPr>
          <a:xfrm>
            <a:off x="3780000" y="3500280"/>
            <a:ext cx="2879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3. Из предложения 5 выпишите слово с непроизносимой согласной в корне. 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Рисунок10"/>
          <p:cNvPicPr/>
          <p:nvPr/>
        </p:nvPicPr>
        <p:blipFill>
          <a:blip r:embed="rId1"/>
          <a:stretch/>
        </p:blipFill>
        <p:spPr>
          <a:xfrm>
            <a:off x="6877080" y="5157720"/>
            <a:ext cx="14032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 3. Из предложения 5 выпишите слово с непроизносимой согласной в корн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488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крепост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Рисунок7"/>
          <p:cNvPicPr/>
          <p:nvPr/>
        </p:nvPicPr>
        <p:blipFill>
          <a:blip r:embed="rId1"/>
          <a:stretch/>
        </p:blipFill>
        <p:spPr>
          <a:xfrm>
            <a:off x="3059280" y="3716280"/>
            <a:ext cx="345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4:59:57Z</dcterms:created>
  <dc:creator>Admin</dc:creator>
  <dc:description/>
  <dc:language>en-US</dc:language>
  <cp:lastModifiedBy>Анастасия</cp:lastModifiedBy>
  <dcterms:modified xsi:type="dcterms:W3CDTF">2014-05-13T20:38:18Z</dcterms:modified>
  <cp:revision>31</cp:revision>
  <dc:subject/>
  <dc:title>Слайд 1</dc:title>
</cp:coreProperties>
</file>