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0.wmf" ContentType="image/x-wmf"/>
  <Override PartName="/ppt/media/image9.wmf" ContentType="image/x-wmf"/>
  <Override PartName="/ppt/media/image8.wmf" ContentType="image/x-wmf"/>
  <Override PartName="/ppt/media/image12.png" ContentType="image/png"/>
  <Override PartName="/ppt/media/image7.wmf" ContentType="image/x-wmf"/>
  <Override PartName="/ppt/media/image20.gif" ContentType="image/gif"/>
  <Override PartName="/ppt/media/image18.jpeg" ContentType="image/jpeg"/>
  <Override PartName="/ppt/media/image16.gif" ContentType="image/gif"/>
  <Override PartName="/ppt/media/image14.wmf" ContentType="image/x-wmf"/>
  <Override PartName="/ppt/media/image5.png" ContentType="image/png"/>
  <Override PartName="/ppt/media/image6.wmf" ContentType="image/x-wmf"/>
  <Override PartName="/ppt/media/image19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15.wmf" ContentType="image/x-wmf"/>
  <Override PartName="/ppt/media/image4.gif" ContentType="image/gif"/>
  <Override PartName="/ppt/media/image11.wmf" ContentType="image/x-wmf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A43-55AB-4517-9FC8-0AFDE407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E71-C7F8-4250-89C0-5D57D89E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331-23D5-417F-9146-901709BD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E16-998F-4DF7-8A8C-F841E17D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FA7-2ABB-4B39-AB79-E6B65A49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A74F-EB4D-4066-80FB-252D0E7A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FCF-2239-4ECE-9CB6-9780D70B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8CC6-3885-4A00-A2F9-D2286CF6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1FB5-9DB9-42DC-84DB-02FE5C86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3CF-B4A0-42AD-9932-4FFF50B4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366-807E-4598-888E-B84AE03A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DA1F-38CA-49CB-9393-9324F5F8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A6A7-D611-461F-9A31-16DB1FB478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&#1054;%20&#1087;&#1088;&#1086;&#1080;&#1089;&#1093;&#1086;&#1078;&#1076;&#1077;&#1085;&#1080;&#1080;%20&#1085;&#1072;&#1096;&#1080;&#1093;%20%20%20&#1080;&#1084;&#1077;&#1085;%20&#1080;%20&#1092;&#1072;&#1084;&#1080;&#1083;&#1080;&#1081;.ppt" TargetMode="External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hyperlink" Target="file:///&#1054;%20&#1087;&#1088;&#1086;&#1080;&#1089;&#1093;&#1086;&#1078;&#1076;&#1077;&#1085;&#1080;&#1080;%20&#1085;&#1072;&#1096;&#1080;&#1093;%20%20%20&#1080;&#1084;&#1077;&#1085;%20&#1080;%20&#1092;&#1072;&#1084;&#1080;&#1083;&#1080;&#1081;.ppt" TargetMode="Externa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6920" y="620640"/>
            <a:ext cx="74170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 ОГЭ шаг за шагом!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6 класс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овторим изученное по орфографии и пунктуации , морфологии и морфемике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05672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4. Из предложения 7 выпишите слово (-а), в котором (-ых) правописание приставки определяется правилом: «Если после приставки следует глухой согласный, то на конце её пишется буква, обозначающая глухой согласный зву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05672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4. Из предложения 7 выпишите слово (-а), в котором (-ых) правописание приставки определяется правилом: «Если после приставки следует глухой согласный, то на конце её пишется буква, обозначающая глухой согласный зву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3860640"/>
            <a:ext cx="764388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исходными, происхож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Рисунок5"/>
          <p:cNvPicPr/>
          <p:nvPr/>
        </p:nvPicPr>
        <p:blipFill>
          <a:blip r:embed="rId1"/>
          <a:stretch/>
        </p:blipFill>
        <p:spPr>
          <a:xfrm>
            <a:off x="2268360" y="4508640"/>
            <a:ext cx="468000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12980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5. Какой частью речи является слово  </a:t>
            </a: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первые</a:t>
            </a: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 (предложение 2):</a:t>
            </a:r>
            <a:br>
              <a:rPr sz="32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1. именем прилагательным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2. именем существительным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3. именем числительным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4. местоиме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12980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5. Какой частью речи является слово  </a:t>
            </a: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первые</a:t>
            </a: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 (предложение 2):</a:t>
            </a:r>
            <a:br>
              <a:rPr sz="32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1. именем прилагательным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2. именем существительным</a:t>
            </a:r>
            <a:br>
              <a:rPr sz="2800"/>
            </a:b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3. именем числительным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4. местоиме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Рисунок4"/>
          <p:cNvPicPr/>
          <p:nvPr/>
        </p:nvPicPr>
        <p:blipFill>
          <a:blip r:embed="rId1"/>
          <a:stretch/>
        </p:blipFill>
        <p:spPr>
          <a:xfrm>
            <a:off x="2700360" y="4076640"/>
            <a:ext cx="46069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2360" y="333000"/>
            <a:ext cx="752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6. В  предложении 4 найдите  деепричастие и  запишите ег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2360" y="333000"/>
            <a:ext cx="752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6. В  предложении 4 найдите  деепричастие и  запишите ег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6920" y="1988640"/>
            <a:ext cx="7417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довольствуяс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Рисунок2"/>
          <p:cNvPicPr/>
          <p:nvPr/>
        </p:nvPicPr>
        <p:blipFill>
          <a:blip r:embed="rId1"/>
          <a:stretch/>
        </p:blipFill>
        <p:spPr>
          <a:xfrm>
            <a:off x="3203640" y="3716280"/>
            <a:ext cx="403236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7. Из предложения 6 выпишите слово, образованное приставочным способом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7. Из предложения 6 выпишите слово, образованное приставочным способом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созре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Рисунок6"/>
          <p:cNvPicPr/>
          <p:nvPr/>
        </p:nvPicPr>
        <p:blipFill>
          <a:blip r:embed="rId1"/>
          <a:stretch/>
        </p:blipFill>
        <p:spPr>
          <a:xfrm>
            <a:off x="3780000" y="3429000"/>
            <a:ext cx="3384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2599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8. В предложениях 1-5 найдите составное числительное, запишите его словам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2599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8. В предложениях 1-5 найдите составное числительное, запишите его словам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2133720"/>
            <a:ext cx="7715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(в) тысяча восемьсот шестьдесят первом (год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Рисунок1234"/>
          <p:cNvPicPr/>
          <p:nvPr/>
        </p:nvPicPr>
        <p:blipFill>
          <a:blip r:embed="rId1"/>
          <a:stretch/>
        </p:blipFill>
        <p:spPr>
          <a:xfrm>
            <a:off x="1116000" y="4365720"/>
            <a:ext cx="2108160" cy="2220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Рисунок5"/>
          <p:cNvPicPr/>
          <p:nvPr/>
        </p:nvPicPr>
        <p:blipFill>
          <a:blip r:embed="rId2"/>
          <a:stretch/>
        </p:blipFill>
        <p:spPr>
          <a:xfrm>
            <a:off x="3780000" y="2997360"/>
            <a:ext cx="46796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Цель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6920" y="184464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повторение и обобщение правил  по орфографии, пунктуации и морфемике, изученных в курсе 5-6 классов; повторение сведений по теме «Имя числительное», подготовка к ГИА; комплексная работа с тек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Рисунокщш1"/>
          <p:cNvPicPr/>
          <p:nvPr/>
        </p:nvPicPr>
        <p:blipFill>
          <a:blip r:embed="rId1"/>
          <a:stretch/>
        </p:blipFill>
        <p:spPr>
          <a:xfrm>
            <a:off x="1187280" y="404640"/>
            <a:ext cx="1511640" cy="1511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Рисунок1ми"/>
          <p:cNvPicPr/>
          <p:nvPr/>
        </p:nvPicPr>
        <p:blipFill>
          <a:blip r:embed="rId2"/>
          <a:stretch/>
        </p:blipFill>
        <p:spPr>
          <a:xfrm>
            <a:off x="6084720" y="4221000"/>
            <a:ext cx="24498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33300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9. Среди предложений 1-4 найдите сложноподчиненное предложение, укажите его номе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33300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9. Среди предложений 1-4 найдите сложноподчиненное предложение, укажите его номе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5640" y="2133720"/>
            <a:ext cx="75596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6" descr="Рисунок7"/>
          <p:cNvPicPr/>
          <p:nvPr/>
        </p:nvPicPr>
        <p:blipFill>
          <a:blip r:embed="rId1"/>
          <a:stretch/>
        </p:blipFill>
        <p:spPr>
          <a:xfrm>
            <a:off x="3851280" y="3573360"/>
            <a:ext cx="37450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33300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10. Укажите количество грамматических основ в предложении  8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Рисунок10"/>
          <p:cNvPicPr/>
          <p:nvPr/>
        </p:nvPicPr>
        <p:blipFill>
          <a:blip r:embed="rId1"/>
          <a:stretch/>
        </p:blipFill>
        <p:spPr>
          <a:xfrm>
            <a:off x="6516720" y="4941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33300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10. Укажите количество грамматических основ в предложении  8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060280"/>
            <a:ext cx="77612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6" descr="Рисунок3"/>
          <p:cNvPicPr/>
          <p:nvPr/>
        </p:nvPicPr>
        <p:blipFill>
          <a:blip r:embed="rId1"/>
          <a:stretch/>
        </p:blipFill>
        <p:spPr>
          <a:xfrm>
            <a:off x="3348000" y="3500280"/>
            <a:ext cx="3240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11. Среди предложений 4-6  найдите предложение с однородными членами, запишите его номе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11. Среди предложений 4-6  найдите предложение с однородными членами, запишите его номе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280" y="2205000"/>
            <a:ext cx="7715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Рисунок2"/>
          <p:cNvPicPr/>
          <p:nvPr/>
        </p:nvPicPr>
        <p:blipFill>
          <a:blip r:embed="rId1"/>
          <a:stretch/>
        </p:blipFill>
        <p:spPr>
          <a:xfrm>
            <a:off x="2484360" y="3429000"/>
            <a:ext cx="4681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7770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12. В данном ниже  предложении расставлены все знаки препинания. Выпишите только те цифры, которые обозначают запятые при однородных членах предложени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72835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Первые фамилии появились в 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XIV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-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XV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веках и были связаны с названиями земель,(1)которыми владели князья, (2) бояре, (3) а позже купцы и дворя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7770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12. В данном ниже  предложении расставлены все знаки препинания. Выпишите только те цифры, которые обозначают запятые при однородных членах предложени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72835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Первые фамилии появились в 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XIV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-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XV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веках и были связаны с названиями земель,(1)которыми владели князья, </a:t>
            </a:r>
            <a:r>
              <a:rPr b="0" i="1" lang="ru-RU" sz="2800" spc="-1" strike="noStrike">
                <a:solidFill>
                  <a:srgbClr val="800080"/>
                </a:solidFill>
                <a:latin typeface="Calibri"/>
              </a:rPr>
              <a:t>(2)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бояре, </a:t>
            </a:r>
            <a:r>
              <a:rPr b="0" i="1" lang="ru-RU" sz="2800" spc="-1" strike="noStrike">
                <a:solidFill>
                  <a:srgbClr val="800080"/>
                </a:solidFill>
                <a:latin typeface="Calibri"/>
              </a:rPr>
              <a:t>(3)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а позже купцы и дворя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Рисунок1234"/>
          <p:cNvPicPr/>
          <p:nvPr/>
        </p:nvPicPr>
        <p:blipFill>
          <a:blip r:embed="rId1"/>
          <a:stretch/>
        </p:blipFill>
        <p:spPr>
          <a:xfrm>
            <a:off x="6732720" y="5013360"/>
            <a:ext cx="2108160" cy="2220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Рисунок2"/>
          <p:cNvPicPr/>
          <p:nvPr/>
        </p:nvPicPr>
        <p:blipFill>
          <a:blip r:embed="rId2"/>
          <a:stretch/>
        </p:blipFill>
        <p:spPr>
          <a:xfrm>
            <a:off x="1187280" y="5157720"/>
            <a:ext cx="230508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86924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libri"/>
              </a:rPr>
              <a:t>Индивидуальные зада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1)просклонять числительное  (в) 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1897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( году)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  (предложение 10);    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 2) выполнить морфологический разбор числительных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(в)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XIV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-</a:t>
            </a: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XV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(веках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( пред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040" y="404640"/>
            <a:ext cx="77612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И.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тысяча восемьсот девяносто седьмой (го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Р.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тысяча восемьсот девяносто седьмого (год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Д.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тысяча восемьсот девяносто седьмому(год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В.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как И. или 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Т.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тысяча восемьсот девяносто седьмым (годо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П.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(в) тысяча восемьсот девяносто седьмом (год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Рисунок3"/>
          <p:cNvPicPr/>
          <p:nvPr/>
        </p:nvPicPr>
        <p:blipFill>
          <a:blip r:embed="rId1"/>
          <a:stretch/>
        </p:blipFill>
        <p:spPr>
          <a:xfrm>
            <a:off x="7308720" y="5516640"/>
            <a:ext cx="1376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Работа с текс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4088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(1)Истории фамилий и их значения тесно связаны с различными сословиями. (2) Первые фамилии появились в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XIV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XV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 веках и были связаны с названиями земель, которыми владели князья, бояре, а позже купцы и дворяне. (3)Это такие фамилии, как Тверской, Суздальск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(4)Простой же русский народ обходился без фамилий, довольствуясь именами, отчествами, прозвищами.  (5)Так было до отмены крепостного права в 1861 году. (6)Только после этого созрела необходимость давать фамил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(7)Тогда в большинстве случаев именно отчества и прозвища стали исходными данными для происхождения фамилий Иванов, Силантьев, Болтунов, Заигра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(8)Другие фамилии  образовались от  места жительства ее первоносителя,  от названий животных и птиц. Это такие фамилии, как Медведев, Соболев, Москвин, Тамбовце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(9)Часть фамилий указывает на род занятий: Кузнецов, Плотников, Сапож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(10)Первые  достоверные данные о наличии фамилий появились после переписи населения в 1897 году. (11) Тогда переписчики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часто вынуждены были сами придумывать фамилии для крестья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Рисунок1ор"/>
          <p:cNvPicPr/>
          <p:nvPr/>
        </p:nvPicPr>
        <p:blipFill>
          <a:blip r:embed="rId1"/>
          <a:stretch/>
        </p:blipFill>
        <p:spPr>
          <a:xfrm>
            <a:off x="7740720" y="0"/>
            <a:ext cx="9525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76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Морфологический разб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7777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(В)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XIV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XV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 (веках) -  числительные; каждое из них  отвечает на вопрос 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в каком?;                     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н. ф.четырнадцатый-пятнадцатый (века); разряд – порядковые; по строению – сложные; употреблены во множественном числе, в предложном падеже; согласуются с существительным 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в веках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; в предложении выполняют роль определ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Рисунок6"/>
          <p:cNvPicPr/>
          <p:nvPr/>
        </p:nvPicPr>
        <p:blipFill>
          <a:blip r:embed="rId1"/>
          <a:stretch/>
        </p:blipFill>
        <p:spPr>
          <a:xfrm>
            <a:off x="6443640" y="5229360"/>
            <a:ext cx="1800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333000"/>
            <a:ext cx="77612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Исследовательская работа </a:t>
            </a:r>
            <a:br>
              <a:rPr sz="3200"/>
            </a:b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 происхождении наших   имен и фамилий.p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logotip RJAL"/>
          <p:cNvPicPr/>
          <p:nvPr/>
        </p:nvPicPr>
        <p:blipFill>
          <a:blip r:embed="rId2"/>
          <a:stretch/>
        </p:blipFill>
        <p:spPr>
          <a:xfrm>
            <a:off x="1116000" y="4292640"/>
            <a:ext cx="2664000" cy="2238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Рисунок9жэ"/>
          <p:cNvPicPr/>
          <p:nvPr/>
        </p:nvPicPr>
        <p:blipFill>
          <a:blip r:embed="rId3"/>
          <a:stretch/>
        </p:blipFill>
        <p:spPr>
          <a:xfrm>
            <a:off x="6516720" y="1628640"/>
            <a:ext cx="1871640" cy="2880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900000" y="333360"/>
            <a:ext cx="77612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Исследовательская работа </a:t>
            </a:r>
            <a:br>
              <a:rPr sz="3200"/>
            </a:b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О происхождении наших   имен и фамилий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33300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Творческое 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Составить синквейн, связанный с ключевыми словами урока – 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«фамилия», «им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Рисунок9ьл"/>
          <p:cNvPicPr/>
          <p:nvPr/>
        </p:nvPicPr>
        <p:blipFill>
          <a:blip r:embed="rId1"/>
          <a:stretch/>
        </p:blipFill>
        <p:spPr>
          <a:xfrm>
            <a:off x="6948360" y="0"/>
            <a:ext cx="1797120" cy="17384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971640" y="3144960"/>
            <a:ext cx="7534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инкве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Это стихотворение из 5 строк, которое строится по правил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1 строка – тема или предмет (одно существительное);</a:t>
            </a:r>
            <a:br>
              <a:rPr sz="2000"/>
            </a:b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2 строка – описание предмета (два прилагательных);</a:t>
            </a:r>
            <a:br>
              <a:rPr sz="2000"/>
            </a:b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3 строка – описание действия (три глагола);</a:t>
            </a:r>
            <a:br>
              <a:rPr sz="2000"/>
            </a:b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4 строка – фраза, выражающая отношение к предмету;</a:t>
            </a:r>
            <a:br>
              <a:rPr sz="2000"/>
            </a:b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5 строка – синоним, обобщающий или расширяющий смысл темы или предмета (одно сло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7570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+”“–”“?”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В графу “+” записываете все факты, вызвавшие положительные эмоции. В графу “–”  выписываете все, что у вас отсутствует или осталось непонятным. В графу “интересно” (?) выписываете все то, о чем хотелось бы узнать подробнее, что вам интерес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03280" y="3789360"/>
          <a:ext cx="6572160" cy="2746440"/>
        </p:xfrm>
        <a:graphic>
          <a:graphicData uri="http://schemas.openxmlformats.org/drawingml/2006/table">
            <a:tbl>
              <a:tblPr/>
              <a:tblGrid>
                <a:gridCol w="2376720"/>
                <a:gridCol w="2232000"/>
                <a:gridCol w="1963440"/>
              </a:tblGrid>
              <a:tr h="15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“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“–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“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18"/>
          <p:cNvSpPr/>
          <p:nvPr/>
        </p:nvSpPr>
        <p:spPr>
          <a:xfrm>
            <a:off x="250920" y="5262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9" descr="719160-9f4482aa90e06417"/>
          <p:cNvPicPr/>
          <p:nvPr/>
        </p:nvPicPr>
        <p:blipFill>
          <a:blip r:embed="rId1"/>
          <a:stretch/>
        </p:blipFill>
        <p:spPr>
          <a:xfrm>
            <a:off x="6516720" y="189000"/>
            <a:ext cx="17445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7786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написать сочинение–миниатюру о происхождении фамилий известных писателей: М. Пришвина, В. Астафьева,                 В. Распут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default"/>
          <p:cNvPicPr/>
          <p:nvPr/>
        </p:nvPicPr>
        <p:blipFill>
          <a:blip r:embed="rId1"/>
          <a:stretch/>
        </p:blipFill>
        <p:spPr>
          <a:xfrm>
            <a:off x="3708360" y="4076640"/>
            <a:ext cx="2016000" cy="259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default"/>
          <p:cNvPicPr/>
          <p:nvPr/>
        </p:nvPicPr>
        <p:blipFill>
          <a:blip r:embed="rId2"/>
          <a:stretch/>
        </p:blipFill>
        <p:spPr>
          <a:xfrm>
            <a:off x="1042920" y="3141720"/>
            <a:ext cx="2089080" cy="2808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defaultшш"/>
          <p:cNvPicPr/>
          <p:nvPr/>
        </p:nvPicPr>
        <p:blipFill>
          <a:blip r:embed="rId3"/>
          <a:stretch/>
        </p:blipFill>
        <p:spPr>
          <a:xfrm>
            <a:off x="6588000" y="3284640"/>
            <a:ext cx="21272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Спасибо за урок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1117253-da4a3567e63d343a"/>
          <p:cNvPicPr/>
          <p:nvPr/>
        </p:nvPicPr>
        <p:blipFill>
          <a:blip r:embed="rId1"/>
          <a:stretch/>
        </p:blipFill>
        <p:spPr>
          <a:xfrm>
            <a:off x="3348000" y="2276640"/>
            <a:ext cx="263844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2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1. Укажите, в каком значении употребляется слово </a:t>
            </a: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достоверные</a:t>
            </a: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 (предложение 10</a:t>
            </a:r>
            <a:r>
              <a:rPr b="0" lang="ru-RU" sz="4000" spc="-1" strike="noStrike">
                <a:solidFill>
                  <a:srgbClr val="99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положите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первостепен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нача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не вызывающие сом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2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1. Укажите, в каком значении употребляется слово </a:t>
            </a: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достоверные </a:t>
            </a: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(предложение 10</a:t>
            </a:r>
            <a:r>
              <a:rPr b="0" lang="ru-RU" sz="4000" spc="-1" strike="noStrike">
                <a:solidFill>
                  <a:srgbClr val="99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положите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первостепен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нача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не вызывающие сом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Рисунок6"/>
          <p:cNvPicPr/>
          <p:nvPr/>
        </p:nvPicPr>
        <p:blipFill>
          <a:blip r:embed="rId1"/>
          <a:stretch/>
        </p:blipFill>
        <p:spPr>
          <a:xfrm>
            <a:off x="3924360" y="4076640"/>
            <a:ext cx="2663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4995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2. Замените слово </a:t>
            </a: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созрела </a:t>
            </a: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из предложения</a:t>
            </a: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6 стилистически нейтральным синонимом. Напишите это сло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4995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2. Замените слово </a:t>
            </a: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созрела </a:t>
            </a: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из предложения</a:t>
            </a: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6 стилистически нейтральным синонимом. Напишите это сло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560" y="2322360"/>
            <a:ext cx="77151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Calibri"/>
              </a:rPr>
              <a:t>возникла, наступила, приблизила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Рисунок3"/>
          <p:cNvPicPr/>
          <p:nvPr/>
        </p:nvPicPr>
        <p:blipFill>
          <a:blip r:embed="rId1"/>
          <a:stretch/>
        </p:blipFill>
        <p:spPr>
          <a:xfrm>
            <a:off x="3780000" y="3500280"/>
            <a:ext cx="28796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705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3. Из предложения 5 выпишите слово с непроизносимой согласной в корне. </a:t>
            </a:r>
            <a:br>
              <a:rPr sz="32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3. Из предложения 5 выпишите слово с непроизносимой согласной в корн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5640" y="2060280"/>
            <a:ext cx="74883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Calibri"/>
              </a:rPr>
              <a:t>крепост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Рисунок7"/>
          <p:cNvPicPr/>
          <p:nvPr/>
        </p:nvPicPr>
        <p:blipFill>
          <a:blip r:embed="rId1"/>
          <a:stretch/>
        </p:blipFill>
        <p:spPr>
          <a:xfrm>
            <a:off x="3059280" y="3716280"/>
            <a:ext cx="345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4:59:57Z</dcterms:created>
  <dc:creator>Admin</dc:creator>
  <dc:description/>
  <dc:language>en-US</dc:language>
  <cp:lastModifiedBy>Анастасия</cp:lastModifiedBy>
  <dcterms:modified xsi:type="dcterms:W3CDTF">2014-05-13T20:38:18Z</dcterms:modified>
  <cp:revision>31</cp:revision>
  <dc:subject/>
  <dc:title>Слайд 1</dc:title>
</cp:coreProperties>
</file>