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26AE-1CA3-414D-B2B6-A3EE6C49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575-39F7-4876-BBD8-47190050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DA5-1B66-42AC-83E2-6210F058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733F-C6FD-4747-8ABE-85F9C8DA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2C90-C24D-4CE0-A4D2-FB22EFF3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C419-D639-46F5-9419-6A229884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F1C6-1EBF-411F-83AB-408464E1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67B6-44F9-4A41-975F-B2618A12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9D02-0734-46EF-9C1D-EEC8126D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B490-253A-468A-A292-0DFE186F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C87D-67F2-4480-82D5-CCD4A205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CB3-9F19-4A1A-9A5E-F14C9246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EF97-DF46-49DF-85A9-3DA2819C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78DE-F5A0-4811-95F1-02279DDD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3BDF-BC39-4A6C-ABAC-2815E37F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E3C3-A3AA-4F69-8C8F-5C3A87F3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6963-EFEE-42BA-AE38-0B97E1A0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0FA-F39D-41DF-B4A2-FB9D458B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295-0BAD-4AE9-8A5F-3222B26C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59B-E1CE-48C3-ACF4-F0D03049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B3C-0DB6-4B9C-B19F-D1C73751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F530-A3B6-4789-B3F0-674B251D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A2B-4706-4F7C-9F09-ECC49C27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356-9312-4679-B919-7697EEE7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E08C-8615-42D1-9BB9-D29197785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02B3-0971-481C-87D6-9A873958A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ccc5cf10-523a-20d1-5e73-0e29f2bbf8c2/index.ht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432f464f-1f22-5224-e016-91243ab1f09c/index.htm" TargetMode="External"/><Relationship Id="rId2" Type="http://schemas.openxmlformats.org/officeDocument/2006/relationships/hyperlink" Target="http://files.school-collection.edu.ru/dlrstore/432f464f-1f22-5224-e016-91243ab1f09c/index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rial Black"/>
              </a:rPr>
              <a:t>Кислоты </a:t>
            </a:r>
            <a:br>
              <a:rPr sz="6600"/>
            </a:b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в свете теории электролитической диссоци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771" t="0" r="5644" b="12976"/>
          <a:stretch/>
        </p:blipFill>
        <p:spPr>
          <a:xfrm>
            <a:off x="6084720" y="4398840"/>
            <a:ext cx="266400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cc"/>
                </a:solidFill>
                <a:latin typeface="Arial Black"/>
              </a:rPr>
              <a:t>Правила взаимодействия металлов с кислотам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Металлы, стоящие до водорода в электрохимическом ряду напряжений металлов, вытесняют его из растворов кисло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Соль, образующаяся в реакции должна быть раствор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Кислота, участвующая в реакции должна быть раствор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Концентрированный раствор серной кислоты и раствор азотной кислоты любой концентрации взаимодействуют с металлами инач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Pb + H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SO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Ag + HCl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Al + HCl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2Al + 6HCl =</a:t>
            </a: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lCl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3H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п. 33, задание 3,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O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O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ru-RU" sz="4400" spc="-1" strike="noStrike" baseline="-25000">
                <a:solidFill>
                  <a:srgbClr val="ffff66"/>
                </a:solidFill>
                <a:latin typeface="Arial"/>
              </a:rPr>
              <a:t>	</a:t>
            </a:r>
            <a:r>
              <a:rPr b="1" lang="ru-RU" sz="4400" spc="-1" strike="noStrike" baseline="-25000">
                <a:solidFill>
                  <a:srgbClr val="ffff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H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iO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HNO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PO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это электролиты, при диссоциации которых образуются катионы водорода и анионы кислотного остат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050920" y="620640"/>
            <a:ext cx="540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ИСЛО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Реакции нейтрализа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Cl + NaOH = NaCl + 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 Cl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+ Na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 OH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= Na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 Cl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1" lang="ru-RU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H</a:t>
            </a:r>
            <a:r>
              <a:rPr b="1" lang="ru-RU" sz="3200" spc="-1" strike="noStrike" baseline="30000">
                <a:solidFill>
                  <a:srgbClr val="cc33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1" lang="ru-RU" sz="32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заимодействие оксида меди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(II)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с серной кислото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files.school-collection.edu.ru/dlrstore/ccc5cf10-523a-20d1-5e73-0e29f2bbf8c2/index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Arial Black"/>
              </a:rPr>
              <a:t>ВЗАИМОДЕЙСТВИЕ  С ОСНОВНЫМИ  ОКСИДАМ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uO + 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= CuS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uO + 2H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+ S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2-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= Cu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2+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 S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2-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+ 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uO + 2H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 = Cu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2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Arial Black"/>
              </a:rPr>
              <a:t>ВЗАИМОДЕЙСТВИЕ  С СОЛЯМ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aCl</a:t>
            </a:r>
            <a:r>
              <a:rPr b="1" lang="ru-RU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ru-RU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</a:t>
            </a:r>
            <a:r>
              <a:rPr b="1" lang="ru-RU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aSO</a:t>
            </a:r>
            <a:r>
              <a:rPr b="1" lang="ru-RU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 + 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a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2+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2Cl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2H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S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2-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= BaS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2H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2Cl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</a:t>
            </a:r>
            <a:r>
              <a:rPr b="1" lang="ru-RU" sz="3200" spc="-1" strike="noStrike" baseline="30000">
                <a:solidFill>
                  <a:srgbClr val="cc3300"/>
                </a:solidFill>
                <a:latin typeface="Arial"/>
              </a:rPr>
              <a:t>2+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O</a:t>
            </a:r>
            <a:r>
              <a:rPr b="1" lang="ru-RU" sz="3200" spc="-1" strike="noStrike" baseline="-25000">
                <a:solidFill>
                  <a:srgbClr val="cc3300"/>
                </a:solidFill>
                <a:latin typeface="Arial"/>
              </a:rPr>
              <a:t>4</a:t>
            </a:r>
            <a:r>
              <a:rPr b="1" lang="ru-RU" sz="3200" spc="-1" strike="noStrike" baseline="30000">
                <a:solidFill>
                  <a:srgbClr val="cc3300"/>
                </a:solidFill>
                <a:latin typeface="Arial"/>
              </a:rPr>
              <a:t>2-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O</a:t>
            </a:r>
            <a:r>
              <a:rPr b="1" lang="ru-RU" sz="3200" spc="-1" strike="noStrike" baseline="-25000">
                <a:solidFill>
                  <a:srgbClr val="cc33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aCO</a:t>
            </a:r>
            <a:r>
              <a:rPr b="1" lang="ru-RU" sz="32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 + 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Cl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aCl</a:t>
            </a:r>
            <a:r>
              <a:rPr b="1" lang="ru-RU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ru-RU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</a:t>
            </a:r>
            <a:r>
              <a:rPr b="1" lang="ru-RU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aC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2H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2Cl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Ca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2+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2Cl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 +C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CO</a:t>
            </a:r>
            <a:r>
              <a:rPr b="1" lang="ru-RU" sz="32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+ 2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1" lang="ru-RU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</a:t>
            </a:r>
            <a:r>
              <a:rPr b="1" lang="ru-RU" sz="3200" spc="-1" strike="noStrike" baseline="30000">
                <a:solidFill>
                  <a:srgbClr val="cc3300"/>
                </a:solidFill>
                <a:latin typeface="Arial"/>
              </a:rPr>
              <a:t>2+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1" lang="ru-RU" sz="32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</a:t>
            </a:r>
            <a:r>
              <a:rPr b="1" lang="ru-RU" sz="32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3640" y="1989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263700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00720" y="321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8459640" y="494172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308720" y="4292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04000" y="5445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заимодействие с металлам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://files.school-collection.edu.ru/dlrstore/432f464f-1f22-5224-e016-91243ab1f09c/index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Arial Black"/>
              </a:rPr>
              <a:t>Взаимодействие с металлам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Zn + 2HCl = ZnCl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+ H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Fe +2HCl = FeCl</a:t>
            </a:r>
            <a:r>
              <a:rPr b="1" lang="ru-RU" sz="40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+ H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443640" y="1988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300720" y="2781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5:29:56Z</dcterms:created>
  <dc:creator>Admin</dc:creator>
  <dc:description/>
  <dc:language>en-US</dc:language>
  <cp:lastModifiedBy>Дом</cp:lastModifiedBy>
  <dcterms:modified xsi:type="dcterms:W3CDTF">2013-03-24T19:38:04Z</dcterms:modified>
  <cp:revision>24</cp:revision>
  <dc:subject/>
  <dc:title>Кислоты</dc:title>
</cp:coreProperties>
</file>