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97A-273A-4C9B-80BA-E7C99807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573-5C92-473C-824E-5A0E2AF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FA0-77B1-42F0-BC04-9CE5908D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1DC-09DB-4D8F-B50C-0B415A62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980-46E2-4A7E-98AF-B2B4A6F0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C21-E21C-4E25-9937-8AEBFC5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E3D3-398B-4063-B895-E8F5090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8A2-3355-425F-AFF9-6D21282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B9B8-C6CD-46A3-AE2B-4346D021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26F6-60DE-4BD2-A31E-282B4FE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CD3-D27A-4112-80EC-D6B4B63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4CA-27C9-48B9-A243-43A05C25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175-B694-4910-8373-CADE0DD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B97-6869-4667-9BE0-66A384F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96A-B065-4FFD-B6F4-67179E6D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1F34-D0DD-4DD9-92F9-4BCD9C99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741-E055-44A5-8FA9-3E3C9F9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003-0564-44F5-B25E-1105C8BE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2ED-C836-44BE-9BA6-65E23F4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E1C-0C80-42F9-B2AA-C7213D72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766-EFD8-471F-BC1C-EA89CC90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209-1F04-4099-BC00-F0E878C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D7F-7453-444C-AD3C-E7462C7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E56-0E42-4F50-A244-3CB69F9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1FF-1CBF-4DF2-BEDE-9E56A08F1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70F-9C00-437C-8580-47A061422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cc5cf10-523a-20d1-5e73-0e29f2bbf8c2/index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432f464f-1f22-5224-e016-91243ab1f09c/index.htm" TargetMode="External"/><Relationship Id="rId2" Type="http://schemas.openxmlformats.org/officeDocument/2006/relationships/hyperlink" Target="http://files.school-collection.edu.ru/dlrstore/432f464f-1f22-5224-e016-91243ab1f09c/index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Кислоты 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 свете теории электролитической диссоци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771" t="0" r="5644" b="12976"/>
          <a:stretch/>
        </p:blipFill>
        <p:spPr>
          <a:xfrm>
            <a:off x="6084720" y="4398840"/>
            <a:ext cx="2664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 Black"/>
              </a:rPr>
              <a:t>Правила взаимодействия металлов с кислотам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еталлы, стоящие до водорода в электрохимическом ряду напряжений металлов, вытесняют его из растворов кисл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оль, образующаяся в реакции должна быть раств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ислота, участвующая в реакции должна быть раств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онцентрированный раствор серной кислоты и раствор азотной кислоты любой концентрации взаимодействуют с металлами инач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b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g + HCl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l + HCl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Al + 6HCl =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Cl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3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. 33, задание 3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i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N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O</a:t>
            </a:r>
            <a:r>
              <a:rPr b="1" lang="en-US" sz="44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это электролиты, при диссоциации которых образуются катионы водорода и анионы кислотного оста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50920" y="620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СЛ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Реакции нейтрализ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 + NaOH = NaCl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+ N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O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N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заимодействие оксида меди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(II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с серной кислот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files.school-collection.edu.ru/dlrstore/ccc5cf10-523a-20d1-5e73-0e29f2bbf8c2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 Black"/>
              </a:rPr>
              <a:t>ВЗАИМОДЕЙСТВИЕ  С ОСНОВНЫМИ  ОКСИДАМ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uO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Cu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uO + 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+ 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Cu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+ 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uO + 2H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= Cu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 Black"/>
              </a:rPr>
              <a:t>ВЗАИМОДЕЙСТВИЕ  С СОЛЯ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Cl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S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BaS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-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Cl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l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</a:t>
            </a:r>
            <a:r>
              <a:rPr b="1" lang="ru-RU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C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H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Ca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2Cl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 +CO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C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+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637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459640" y="4941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04000" y="5445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заимодействие с металл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files.school-collection.edu.ru/dlrstore/432f464f-1f22-5224-e016-91243ab1f09c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 Black"/>
              </a:rPr>
              <a:t>Взаимодействие с металла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Zn + 2HCl = ZnCl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e +2HCl = FeCl</a:t>
            </a:r>
            <a:r>
              <a:rPr b="1" lang="ru-RU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198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00720" y="2781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29:56Z</dcterms:created>
  <dc:creator>Admin</dc:creator>
  <dc:description/>
  <dc:language>en-US</dc:language>
  <cp:lastModifiedBy>Дом</cp:lastModifiedBy>
  <dcterms:modified xsi:type="dcterms:W3CDTF">2013-03-24T19:38:04Z</dcterms:modified>
  <cp:revision>24</cp:revision>
  <dc:subject/>
  <dc:title>Кислоты</dc:title>
</cp:coreProperties>
</file>