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C9F-4A94-46F9-8C77-258BC074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404-3DE8-44D5-AAA5-2D7BF258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2514-12B9-4B08-90BD-1291B8B8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C0E-0AA9-4EDC-B4B6-96E22ACD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7D28E-78D0-4B50-A970-66C90E78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213D0-0BCD-4782-B9DF-88753733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3D570-9A7D-4FA0-BEB6-041462F0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01C8E-A79C-41C6-B634-605970DB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0175A-51C1-4FC2-A4D4-602AA6B0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7408C-326A-49DC-ADE7-D7041699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4CE33-4D73-4DCD-9853-1923AB59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D624-8483-4EBD-8CC3-A2863BB1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B0280-A3C0-4A36-B27A-045B9288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7B289-3108-48E1-9E2B-162883F0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202BC-8A4F-4D4F-8767-A9F3D330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F4C34-F890-4661-9E34-993CDAE6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7482A-4057-457B-82E3-D0C69553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CC38-E42A-4792-9115-732C520C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ABE4C-3695-48AF-B21D-DB8BED1F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7B644-C921-48D3-AC63-3A673FF4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8D081-961F-4175-B68C-CAFD8379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2A1B0-5D82-48FB-89AD-3FBD8586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B076-8679-4AC6-8CCC-B49312BA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7380A-26C2-45B8-BB3C-F7293F16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2B0A4-0441-466C-8C75-B15D9309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65C95-D972-4ACB-BCDB-9419AFD1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8FE8-55F4-4172-9EE8-2CF3F59E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760E0-6785-4286-865E-664DFF41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2194B-666F-4B7C-9B2B-F18188C6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85178-259A-4559-ADDA-E472ED93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219328-EA61-49B8-AD77-97D8A76A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CB583B-1387-42B3-A901-264944D3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B18766-7712-48B7-9D58-05F9EF96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BA8-F218-4028-B237-A890851C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CD26A6-59D5-4751-9813-E2303309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436279-46A4-4528-BC49-9130E8C4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AC20E2-78DC-4E2E-BC68-EFA3F897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FC8639-5C13-49A6-89F4-DA4A26BA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7E591E-C81E-4C00-88D3-A34033A5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BD7E80-4921-4C93-AA54-1C9C1A1F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8CCEEE-1AF2-4651-9DFF-D45CE90A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928357-1A87-472A-B275-A55FC2DB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B51037-1187-4B77-9DAD-D132D7F0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7B8-C039-4AAC-980F-DD85D9DF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CB0-617D-4965-B584-5E2ECDC1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7DE-C082-4422-8314-06DA537D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2D3-9544-4BFA-860F-369E6FC4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DEB5-AD20-4999-BFD4-E4351F04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5070-1C59-43A3-89B3-355BF703DB4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0E27-0312-4A3E-8A0F-652679B4508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4A17-4050-4A93-990B-94AA3795D4B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5B25-072E-4142-A556-0B10F9179E9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Прямоугольник 3" descr=""/>
          <p:cNvPicPr/>
          <p:nvPr/>
        </p:nvPicPr>
        <p:blipFill>
          <a:blip r:embed="rId1"/>
          <a:stretch/>
        </p:blipFill>
        <p:spPr>
          <a:xfrm>
            <a:off x="-407880" y="4406760"/>
            <a:ext cx="4473360" cy="14576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http://inmortal.narod.ru/foto/liniia.gif"/>
          <p:cNvPicPr/>
          <p:nvPr/>
        </p:nvPicPr>
        <p:blipFill>
          <a:blip r:embed="rId2"/>
          <a:stretch/>
        </p:blipFill>
        <p:spPr>
          <a:xfrm>
            <a:off x="4317840" y="647640"/>
            <a:ext cx="3810240" cy="2476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http://inmortal.narod.ru/vinebar2.gif"/>
          <p:cNvPicPr/>
          <p:nvPr/>
        </p:nvPicPr>
        <p:blipFill>
          <a:blip r:embed="rId3"/>
          <a:stretch/>
        </p:blipFill>
        <p:spPr>
          <a:xfrm>
            <a:off x="4424400" y="1238400"/>
            <a:ext cx="3714840" cy="228600"/>
          </a:xfrm>
          <a:prstGeom prst="rect">
            <a:avLst/>
          </a:prstGeom>
          <a:ln w="0">
            <a:noFill/>
          </a:ln>
        </p:spPr>
      </p:pic>
      <p:sp>
        <p:nvSpPr>
          <p:cNvPr id="173" name="Поле 1"/>
          <p:cNvSpPr/>
          <p:nvPr/>
        </p:nvSpPr>
        <p:spPr>
          <a:xfrm rot="21368400">
            <a:off x="-3573720" y="2722680"/>
            <a:ext cx="33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Calibri"/>
              </a:rPr>
              <a:t>Коста Хетагуров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Рисунок 7" descr="http://inmortal.narod.ru/foto/kosta2.jpg"/>
          <p:cNvPicPr/>
          <p:nvPr/>
        </p:nvPicPr>
        <p:blipFill>
          <a:blip r:embed="rId4"/>
          <a:stretch/>
        </p:blipFill>
        <p:spPr>
          <a:xfrm>
            <a:off x="96840" y="139680"/>
            <a:ext cx="3914640" cy="74311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7405560" y="100080"/>
            <a:ext cx="306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Bookman Old Style"/>
                <a:ea typeface="Times New Roman"/>
              </a:rPr>
              <a:t>КОСТА ХЕТАГУР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5282640" y="921600"/>
            <a:ext cx="167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ЕТИНСКАЯ ЛИРА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1239840" y="637920"/>
            <a:ext cx="750888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Весь мир - мой храм,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Любовь - моя святыня,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Вселенная - отечество моё.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nstantia"/>
            </a:endParaRPr>
          </a:p>
          <a:p>
            <a:pPr marL="3403440" algn="ct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 algn="ct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 подножия белоснежных вершин Кавказа, на могучем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алистом кряже, омываемом горным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оками, приютилось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большое осетинское селение Нар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десь 158 лет назад родился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стантин Леванович Хетагуров (1859-1906)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орого народ с любовью называет просто Кост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1" descr="http://www.uchportfolio.ru/users_content/caaa29eab72b231b0af62fbdff89bfce/images/%D0%B8%D1%80%D0%BE%D0%BD%20%D1%84%D0%B0%D0%BD%D0%B4%D1%8B%D1%80.jp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1" descr="http://www.uchportfolio.ru/users_content/caaa29eab72b231b0af62fbdff89bfce/images/%D0%B8%D1%80%D0%BE%D0%BD%20%D1%84%D0%B0%D0%BD%D0%B4%D1%8B%D1%804.jpg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79280" y="449280"/>
            <a:ext cx="8666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:\Users\007\Desktop\Коста\1.jpg"/>
          <p:cNvPicPr/>
          <p:nvPr/>
        </p:nvPicPr>
        <p:blipFill>
          <a:blip r:embed="rId1"/>
          <a:stretch/>
        </p:blipFill>
        <p:spPr>
          <a:xfrm>
            <a:off x="2062080" y="95400"/>
            <a:ext cx="5019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Users\007\Desktop\Коста\2.jpg"/>
          <p:cNvPicPr/>
          <p:nvPr/>
        </p:nvPicPr>
        <p:blipFill>
          <a:blip r:embed="rId1"/>
          <a:stretch/>
        </p:blipFill>
        <p:spPr>
          <a:xfrm>
            <a:off x="324000" y="692280"/>
            <a:ext cx="84992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:\Users\007\Desktop\Коста\3.jpg"/>
          <p:cNvPicPr/>
          <p:nvPr/>
        </p:nvPicPr>
        <p:blipFill>
          <a:blip r:embed="rId1"/>
          <a:stretch/>
        </p:blipFill>
        <p:spPr>
          <a:xfrm>
            <a:off x="2776680" y="181080"/>
            <a:ext cx="359064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Users\007\Desktop\Коста\4.jpg"/>
          <p:cNvPicPr/>
          <p:nvPr/>
        </p:nvPicPr>
        <p:blipFill>
          <a:blip r:embed="rId1"/>
          <a:stretch/>
        </p:blipFill>
        <p:spPr>
          <a:xfrm>
            <a:off x="800280" y="414360"/>
            <a:ext cx="744372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Users\007\Desktop\Коста\5.jpg"/>
          <p:cNvPicPr/>
          <p:nvPr/>
        </p:nvPicPr>
        <p:blipFill>
          <a:blip r:embed="rId1"/>
          <a:stretch/>
        </p:blipFill>
        <p:spPr>
          <a:xfrm>
            <a:off x="2666880" y="372960"/>
            <a:ext cx="3921120" cy="617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007\Desktop\Коста\6.jpg"/>
          <p:cNvPicPr/>
          <p:nvPr/>
        </p:nvPicPr>
        <p:blipFill>
          <a:blip r:embed="rId1"/>
          <a:stretch/>
        </p:blipFill>
        <p:spPr>
          <a:xfrm>
            <a:off x="2340000" y="333360"/>
            <a:ext cx="44449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" descr="новый-2"/>
          <p:cNvPicPr/>
          <p:nvPr/>
        </p:nvPicPr>
        <p:blipFill>
          <a:blip r:embed="rId1"/>
          <a:stretch/>
        </p:blipFill>
        <p:spPr>
          <a:xfrm>
            <a:off x="2050920" y="333360"/>
            <a:ext cx="5185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1" descr="http://www.stavropolye.tv/upload/iblock/c24/.jpg"/>
          <p:cNvPicPr/>
          <p:nvPr/>
        </p:nvPicPr>
        <p:blipFill>
          <a:blip r:embed="rId1"/>
          <a:stretch/>
        </p:blipFill>
        <p:spPr>
          <a:xfrm>
            <a:off x="900000" y="189000"/>
            <a:ext cx="7452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3T14:18:58Z</dcterms:created>
  <dc:creator>007</dc:creator>
  <dc:description/>
  <dc:language>en-US</dc:language>
  <cp:lastModifiedBy>USER</cp:lastModifiedBy>
  <dcterms:modified xsi:type="dcterms:W3CDTF">2016-10-24T05:48:26Z</dcterms:modified>
  <cp:revision>7</cp:revision>
  <dc:subject/>
  <dc:title>Презентация PowerPoint</dc:title>
</cp:coreProperties>
</file>