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254-86AF-4350-B2AE-AF103DFD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917-A730-45B8-BEDE-B3846245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96C-C847-486D-87E6-FE2A9E94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226-7F6A-4011-B4F1-2C8FA86D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891F0-6407-4AFF-9869-BEB908F5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9EB2A-1F5F-4D22-9010-9D38DD3D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85650-4645-4853-85CB-3D9C53C1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B4A65-4E27-4AFE-BC66-9A7160BF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FB55B-EB53-41E3-BCD6-516DD2F6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702DE-F51B-4C9F-87BB-922E8C66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BEAD6-B91C-4076-8CAA-AC45D9E3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663-6A38-4F3C-A79D-8E94CA20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FB2B6-08FD-4555-B3E2-463004F0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4066A-6E20-4D1E-ABA1-4EA10DF0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748BC-47BB-4796-B8EA-FB0D4EA1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D4B62-8C51-4E21-A78A-8BBCBB90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86D78-163D-4A68-BFCC-90F6B08B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39BA9-7425-4B04-ADBC-80E35A99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9B855-C598-4A88-9129-FC32C50F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9A0D4-DDC5-411C-9198-46B86EE1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31400-E08F-4EA4-9A25-B5FD5DA9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C5ADD-40F4-4649-9AC1-879B1D5A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2B4D-3A50-46AA-8FD3-73291931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17A5D-178B-48BC-B579-80959D00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EE21C-EFB4-4469-B26E-A4AC4D59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01F2F-AF79-4CD6-967B-70D9D6C7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9B845-0C05-4E14-BC91-3EC78FFA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5A9DE-438A-4185-B374-6F556FA6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376D1-79EF-421C-BD2D-69CE3E73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47FEF-2256-4AD9-A4D0-139A0E9F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FA6B83-324A-4363-B605-042E9A2D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FA3A47-F7D4-4F95-A145-E6384F8C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386257-5EF4-4DB9-9551-90AC5990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521-D6D7-485C-97F5-7806391A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D182FF-D915-43A4-983E-BD8D32F5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8EF121-4EEF-432A-89C6-23BEB766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0492A7-9E5C-49C0-A691-6103EA56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D07439-06C3-475B-94DC-AD5D5943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C44924-7BBF-42DF-8935-F45DD21F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26243E-6051-467B-8F69-6A8EDA7F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BA3A16-C20B-4121-8338-E86DB9E4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990940-F899-48DD-973A-2A184B7A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095117-EB0A-4CEF-B13D-BD1895D6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C0AD-21BE-4F88-AF97-E545A7D5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583-0DAC-41E1-9D26-67E049AB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86C-0F9B-43DC-923A-91B26518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16B-DA16-4F15-B060-E931E712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216-A9C3-4F33-A600-15B697CB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66C8-3CC5-464C-82FB-AF23181DE5E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227A-1E2F-4FA7-AB90-EC4917F9397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2BC1-77D6-462F-97AF-FF1D272F3E0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8789-B3D8-4013-9E7E-3ABBD128960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Прямоугольник 3" descr=""/>
          <p:cNvPicPr/>
          <p:nvPr/>
        </p:nvPicPr>
        <p:blipFill>
          <a:blip r:embed="rId1"/>
          <a:stretch/>
        </p:blipFill>
        <p:spPr>
          <a:xfrm>
            <a:off x="-407880" y="4406760"/>
            <a:ext cx="4473360" cy="14576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http://inmortal.narod.ru/foto/liniia.gif"/>
          <p:cNvPicPr/>
          <p:nvPr/>
        </p:nvPicPr>
        <p:blipFill>
          <a:blip r:embed="rId2"/>
          <a:stretch/>
        </p:blipFill>
        <p:spPr>
          <a:xfrm>
            <a:off x="4317840" y="647640"/>
            <a:ext cx="3810240" cy="2476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http://inmortal.narod.ru/vinebar2.gif"/>
          <p:cNvPicPr/>
          <p:nvPr/>
        </p:nvPicPr>
        <p:blipFill>
          <a:blip r:embed="rId3"/>
          <a:stretch/>
        </p:blipFill>
        <p:spPr>
          <a:xfrm>
            <a:off x="4424400" y="1238400"/>
            <a:ext cx="3714840" cy="228600"/>
          </a:xfrm>
          <a:prstGeom prst="rect">
            <a:avLst/>
          </a:prstGeom>
          <a:ln w="0">
            <a:noFill/>
          </a:ln>
        </p:spPr>
      </p:pic>
      <p:sp>
        <p:nvSpPr>
          <p:cNvPr id="173" name="Поле 1"/>
          <p:cNvSpPr/>
          <p:nvPr/>
        </p:nvSpPr>
        <p:spPr>
          <a:xfrm rot="21368400">
            <a:off x="-3573720" y="2722680"/>
            <a:ext cx="33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Calibri"/>
              </a:rPr>
              <a:t>Коста Хетагуров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Рисунок 7" descr="http://inmortal.narod.ru/foto/kosta2.jpg"/>
          <p:cNvPicPr/>
          <p:nvPr/>
        </p:nvPicPr>
        <p:blipFill>
          <a:blip r:embed="rId4"/>
          <a:stretch/>
        </p:blipFill>
        <p:spPr>
          <a:xfrm>
            <a:off x="96840" y="139680"/>
            <a:ext cx="3914640" cy="74311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7405560" y="100080"/>
            <a:ext cx="306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Bookman Old Style"/>
                <a:ea typeface="Times New Roman"/>
              </a:rPr>
              <a:t>КОСТА ХЕТАГУР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5282640" y="921600"/>
            <a:ext cx="167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ЕТИНСКАЯ ЛИРА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1239840" y="637920"/>
            <a:ext cx="750888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Весь мир - мой храм,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Любовь - моя святыня,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Вселенная - отечество моё.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  <a:p>
            <a:pPr marL="3403440" algn="ct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 algn="ct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 подножия белоснежных вершин Кавказа, на могучем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алистом кряже, омываемом горным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оками, приютилось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большое осетинское селение Нар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десь 158 лет назад родился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стантин Леванович Хетагуров (1859-1906)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орого народ с любовью называет просто Кост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034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1" descr="http://www.uchportfolio.ru/users_content/caaa29eab72b231b0af62fbdff89bfce/images/%D0%B8%D1%80%D0%BE%D0%BD%20%D1%84%D0%B0%D0%BD%D0%B4%D1%8B%D1%80.jp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1" descr="http://www.uchportfolio.ru/users_content/caaa29eab72b231b0af62fbdff89bfce/images/%D0%B8%D1%80%D0%BE%D0%BD%20%D1%84%D0%B0%D0%BD%D0%B4%D1%8B%D1%804.jpg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79280" y="449280"/>
            <a:ext cx="8666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:\Users\007\Desktop\Коста\1.jpg"/>
          <p:cNvPicPr/>
          <p:nvPr/>
        </p:nvPicPr>
        <p:blipFill>
          <a:blip r:embed="rId1"/>
          <a:stretch/>
        </p:blipFill>
        <p:spPr>
          <a:xfrm>
            <a:off x="2062080" y="95400"/>
            <a:ext cx="5019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Users\007\Desktop\Коста\2.jpg"/>
          <p:cNvPicPr/>
          <p:nvPr/>
        </p:nvPicPr>
        <p:blipFill>
          <a:blip r:embed="rId1"/>
          <a:stretch/>
        </p:blipFill>
        <p:spPr>
          <a:xfrm>
            <a:off x="324000" y="692280"/>
            <a:ext cx="84992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:\Users\007\Desktop\Коста\3.jpg"/>
          <p:cNvPicPr/>
          <p:nvPr/>
        </p:nvPicPr>
        <p:blipFill>
          <a:blip r:embed="rId1"/>
          <a:stretch/>
        </p:blipFill>
        <p:spPr>
          <a:xfrm>
            <a:off x="2776680" y="181080"/>
            <a:ext cx="359064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Users\007\Desktop\Коста\4.jpg"/>
          <p:cNvPicPr/>
          <p:nvPr/>
        </p:nvPicPr>
        <p:blipFill>
          <a:blip r:embed="rId1"/>
          <a:stretch/>
        </p:blipFill>
        <p:spPr>
          <a:xfrm>
            <a:off x="800280" y="414360"/>
            <a:ext cx="744372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Users\007\Desktop\Коста\5.jpg"/>
          <p:cNvPicPr/>
          <p:nvPr/>
        </p:nvPicPr>
        <p:blipFill>
          <a:blip r:embed="rId1"/>
          <a:stretch/>
        </p:blipFill>
        <p:spPr>
          <a:xfrm>
            <a:off x="2666880" y="372960"/>
            <a:ext cx="3921120" cy="617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007\Desktop\Коста\6.jpg"/>
          <p:cNvPicPr/>
          <p:nvPr/>
        </p:nvPicPr>
        <p:blipFill>
          <a:blip r:embed="rId1"/>
          <a:stretch/>
        </p:blipFill>
        <p:spPr>
          <a:xfrm>
            <a:off x="2340000" y="333360"/>
            <a:ext cx="44449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" descr="новый-2"/>
          <p:cNvPicPr/>
          <p:nvPr/>
        </p:nvPicPr>
        <p:blipFill>
          <a:blip r:embed="rId1"/>
          <a:stretch/>
        </p:blipFill>
        <p:spPr>
          <a:xfrm>
            <a:off x="2050920" y="333360"/>
            <a:ext cx="5185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1" descr="http://www.stavropolye.tv/upload/iblock/c24/.jpg"/>
          <p:cNvPicPr/>
          <p:nvPr/>
        </p:nvPicPr>
        <p:blipFill>
          <a:blip r:embed="rId1"/>
          <a:stretch/>
        </p:blipFill>
        <p:spPr>
          <a:xfrm>
            <a:off x="900000" y="189000"/>
            <a:ext cx="7452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3T14:18:58Z</dcterms:created>
  <dc:creator>007</dc:creator>
  <dc:description/>
  <dc:language>en-US</dc:language>
  <cp:lastModifiedBy>USER</cp:lastModifiedBy>
  <dcterms:modified xsi:type="dcterms:W3CDTF">2016-10-24T05:48:26Z</dcterms:modified>
  <cp:revision>7</cp:revision>
  <dc:subject/>
  <dc:title>Презентация PowerPoint</dc:title>
</cp:coreProperties>
</file>