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8.gif" ContentType="image/gif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77E1-4559-48A7-A0A4-3C8FD9B2BD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73A2-2D24-4502-ADEB-7A85C74071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1003320" y="695160"/>
            <a:ext cx="484812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20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671-F3BB-4B98-8D71-00C8DB3A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38D-4C4D-4529-A9A7-F0693DDD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241-D0E6-4ED4-9A1D-6224CFA3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6BF-547B-419B-8023-472F1B09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70C78-3D09-4FB9-8BCD-3AEED958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E0543-CCB9-4F5B-A416-CB104BE1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91444-6389-4E45-8F38-7CA8F59C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957CC-1575-4DEE-80AC-1D1F0D80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01533-799C-4D1B-998F-F5179042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F2877-8497-48C5-B777-B367C6D1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E8E09-D761-4D03-A9F8-9A6A5E2D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A82-BCC3-4C31-BB1E-86D644A1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B4AB9-E426-4EEF-B95D-747CDFFC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06901-E0D3-4093-8BA5-7E9A835B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56F6A-A8C0-455E-8E64-E4020B18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B6283-1C91-4596-B37A-EC5C5CDB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1E004-5220-4314-8529-17411A35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5CA-754E-4B09-A8C3-4D6232AF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087-B421-4345-8164-F7493711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206-6E07-493B-B2C9-A1DEB838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A13-2F75-42FC-90ED-8B2511C9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5C7-AE54-43C8-B8B8-77DE1F94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36A-D0F5-4FD2-AF8D-DD89EDE6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452-B838-49CB-A50E-ED9B468D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60AD-7362-4F7D-9E05-4FF19907F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BDB7-DAC4-4389-A4B3-B207EE17D0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ЕМА: КРУГОВОРОТ ВОДЫ В ПРИРО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Рисунок 3" descr="http://okna-polus.ru/goghogwik/2596"/>
          <p:cNvPicPr/>
          <p:nvPr/>
        </p:nvPicPr>
        <p:blipFill>
          <a:blip r:embed="rId1"/>
          <a:stretch/>
        </p:blipFill>
        <p:spPr>
          <a:xfrm>
            <a:off x="1522440" y="101520"/>
            <a:ext cx="6084720" cy="443700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4"/>
          <p:cNvSpPr/>
          <p:nvPr/>
        </p:nvSpPr>
        <p:spPr>
          <a:xfrm>
            <a:off x="187200" y="4724280"/>
            <a:ext cx="879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вода, выпавшая на сушу в процессе круговорота воды, пресн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3" descr="http://okna-polus.ru/goghogwik/2596"/>
          <p:cNvPicPr/>
          <p:nvPr/>
        </p:nvPicPr>
        <p:blipFill>
          <a:blip r:embed="rId1"/>
          <a:stretch/>
        </p:blipFill>
        <p:spPr>
          <a:xfrm>
            <a:off x="1522440" y="101520"/>
            <a:ext cx="6084720" cy="443700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4"/>
          <p:cNvSpPr/>
          <p:nvPr/>
        </p:nvSpPr>
        <p:spPr>
          <a:xfrm>
            <a:off x="187200" y="4724280"/>
            <a:ext cx="87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бы круговорот воды в природе исчез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b1e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Рисунок 2" descr="E:\эксперимент\вода\сайт про воду\сайт про воду\Новая страница 3.files\s4.jpg"/>
          <p:cNvPicPr/>
          <p:nvPr/>
        </p:nvPicPr>
        <p:blipFill>
          <a:blip r:embed="rId1"/>
          <a:stretch/>
        </p:blipFill>
        <p:spPr>
          <a:xfrm>
            <a:off x="2627280" y="1341360"/>
            <a:ext cx="3600360" cy="273528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12"/>
          <p:cNvSpPr/>
          <p:nvPr/>
        </p:nvSpPr>
        <p:spPr>
          <a:xfrm rot="251400">
            <a:off x="6499080" y="793800"/>
            <a:ext cx="2251080" cy="1935000"/>
          </a:xfrm>
          <a:prstGeom prst="irregularSeal1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Ход проце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изменился 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1"/>
          <p:cNvSpPr/>
          <p:nvPr/>
        </p:nvSpPr>
        <p:spPr>
          <a:xfrm>
            <a:off x="6588000" y="2786040"/>
            <a:ext cx="2413080" cy="2082960"/>
          </a:xfrm>
          <a:prstGeom prst="irregularSeal1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Меньш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та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кисло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5508720" y="4481640"/>
            <a:ext cx="2555640" cy="2376360"/>
          </a:xfrm>
          <a:prstGeom prst="irregularSeal1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Исчез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асти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2556000" y="4221000"/>
            <a:ext cx="2555640" cy="2376720"/>
          </a:xfrm>
          <a:prstGeom prst="irregularSeal1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Иссяк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одзем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0" y="3357720"/>
            <a:ext cx="2556000" cy="2376360"/>
          </a:xfrm>
          <a:prstGeom prst="irregularSeal1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ересох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е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0" y="765000"/>
            <a:ext cx="2556000" cy="2376720"/>
          </a:xfrm>
          <a:prstGeom prst="irregularSeal1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екратил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дож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2600" y="188640"/>
            <a:ext cx="7929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cccc"/>
                </a:solidFill>
                <a:latin typeface="Arial"/>
              </a:rPr>
              <a:t>Если бы круговорот воды</a:t>
            </a: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cccc"/>
                </a:solidFill>
                <a:latin typeface="Arial"/>
              </a:rPr>
              <a:t>исчез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324000" y="2492280"/>
            <a:ext cx="360360" cy="1224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17"/>
          <p:cNvSpPr/>
          <p:nvPr/>
        </p:nvSpPr>
        <p:spPr>
          <a:xfrm>
            <a:off x="1763640" y="5445000"/>
            <a:ext cx="792360" cy="144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18"/>
          <p:cNvSpPr/>
          <p:nvPr/>
        </p:nvSpPr>
        <p:spPr>
          <a:xfrm>
            <a:off x="4788000" y="5805360"/>
            <a:ext cx="863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 flipV="1">
            <a:off x="8101080" y="4508640"/>
            <a:ext cx="287280" cy="1225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22"/>
          <p:cNvSpPr/>
          <p:nvPr/>
        </p:nvSpPr>
        <p:spPr>
          <a:xfrm flipH="1" flipV="1">
            <a:off x="7571880" y="2357280"/>
            <a:ext cx="287640" cy="719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24"/>
          <p:cNvSpPr/>
          <p:nvPr/>
        </p:nvSpPr>
        <p:spPr>
          <a:xfrm>
            <a:off x="2843280" y="1197000"/>
            <a:ext cx="3024000" cy="31687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5"/>
          <p:cNvSpPr/>
          <p:nvPr/>
        </p:nvSpPr>
        <p:spPr>
          <a:xfrm flipH="1">
            <a:off x="3059280" y="1197000"/>
            <a:ext cx="2520720" cy="31687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http://okna-polus.ru/goghogwik/2596"/>
          <p:cNvPicPr/>
          <p:nvPr/>
        </p:nvPicPr>
        <p:blipFill>
          <a:blip r:embed="rId1"/>
          <a:stretch/>
        </p:blipFill>
        <p:spPr>
          <a:xfrm>
            <a:off x="1908000" y="101520"/>
            <a:ext cx="5699160" cy="390384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4"/>
          <p:cNvSpPr/>
          <p:nvPr/>
        </p:nvSpPr>
        <p:spPr>
          <a:xfrm>
            <a:off x="395280" y="4086360"/>
            <a:ext cx="85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оисходит  с водяным паром высоко над земной поверх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конденс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испа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выпадение оса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) охлаж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cc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e4ff"/>
                </a:solidFill>
                <a:latin typeface="Times New Roman"/>
                <a:ea typeface="Times New Roman"/>
              </a:rPr>
              <a:t>Круговорот воды в природе  - один из основополагающих процессов на планете Зем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e4ff"/>
                </a:solidFill>
                <a:latin typeface="Times New Roman"/>
                <a:ea typeface="Times New Roman"/>
              </a:rPr>
              <a:t>Круговорот воды лежит в основе многих процессов, происходящих в природе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e4ff"/>
                </a:solidFill>
                <a:latin typeface="Times New Roman"/>
                <a:ea typeface="Times New Roman"/>
              </a:rPr>
              <a:t>Круговорот воды подвластен энергии Солнца и силе тяже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e4ff"/>
                </a:solidFill>
                <a:latin typeface="Times New Roman"/>
                <a:ea typeface="Times New Roman"/>
              </a:rPr>
              <a:t>Основными этапами круговорота воды в природе являются испарение, образование влаги и осад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7" descr="Рисунок9"/>
          <p:cNvPicPr/>
          <p:nvPr/>
        </p:nvPicPr>
        <p:blipFill>
          <a:blip r:embed="rId1"/>
          <a:stretch/>
        </p:blipFill>
        <p:spPr>
          <a:xfrm>
            <a:off x="642960" y="4429080"/>
            <a:ext cx="3816360" cy="2428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Рисунок10"/>
          <p:cNvPicPr/>
          <p:nvPr/>
        </p:nvPicPr>
        <p:blipFill>
          <a:blip r:embed="rId2"/>
          <a:stretch/>
        </p:blipFill>
        <p:spPr>
          <a:xfrm>
            <a:off x="4929120" y="4429080"/>
            <a:ext cx="367344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816120" y="228600"/>
            <a:ext cx="761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0520"/>
                <a:tab algn="l" pos="4478400"/>
                <a:tab algn="l" pos="4886280"/>
                <a:tab algn="l" pos="5292720"/>
                <a:tab algn="l" pos="5700600"/>
                <a:tab algn="l" pos="6107040"/>
                <a:tab algn="l" pos="6515280"/>
                <a:tab algn="l" pos="6921360"/>
                <a:tab algn="l" pos="7329600"/>
                <a:tab algn="l" pos="7737480"/>
                <a:tab algn="l" pos="814392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DejaVu Sans"/>
                <a:ea typeface="DejaVu Sans"/>
              </a:rPr>
              <a:t>Без воды – жизнь невозможн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5072040" y="857160"/>
            <a:ext cx="3417840" cy="2428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720720" y="3714840"/>
            <a:ext cx="3524400" cy="2490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5072040" y="3714840"/>
            <a:ext cx="3429000" cy="2490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/>
          <p:cNvPicPr/>
          <p:nvPr/>
        </p:nvPicPr>
        <p:blipFill>
          <a:blip r:embed="rId4"/>
          <a:stretch/>
        </p:blipFill>
        <p:spPr>
          <a:xfrm>
            <a:off x="714240" y="865080"/>
            <a:ext cx="350064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  <p:tav tm="-1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27" descr="H:\UMP\Разное\подложка.jpg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0094"/>
                </a:solidFill>
                <a:latin typeface="Arial"/>
              </a:rPr>
              <a:t>Трудно представить себе область человеческой деятельности, где не применялась бы вод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8" name="Picture 1029" descr="H:\UMP\Разное\ГЭС.jpg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1676520"/>
            <a:ext cx="2438280" cy="1619280"/>
          </a:xfrm>
          <a:prstGeom prst="rect">
            <a:avLst/>
          </a:prstGeom>
          <a:ln w="0">
            <a:noFill/>
          </a:ln>
          <a:effectLst>
            <a:outerShdw dist="188838" dir="2862256" blurRad="0" rotWithShape="0">
              <a:srgbClr val="3399ff"/>
            </a:outerShdw>
          </a:effectLst>
        </p:spPr>
      </p:pic>
      <p:pic>
        <p:nvPicPr>
          <p:cNvPr id="339" name="Picture 1030" descr="H:\UMP\Разное\коровы.jpg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7200" y="3657600"/>
            <a:ext cx="1417680" cy="2133720"/>
          </a:xfrm>
          <a:prstGeom prst="rect">
            <a:avLst/>
          </a:prstGeom>
          <a:ln w="0">
            <a:noFill/>
          </a:ln>
          <a:effectLst>
            <a:outerShdw dist="161899" dir="8100000" blurRad="0" rotWithShape="0">
              <a:srgbClr val="3399ff"/>
            </a:outerShdw>
          </a:effectLst>
        </p:spPr>
      </p:pic>
      <p:pic>
        <p:nvPicPr>
          <p:cNvPr id="340" name="Picture 1031" descr="H:\UMP\Разное\корабль.jpg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2057400" y="4572000"/>
            <a:ext cx="2438280" cy="1619280"/>
          </a:xfrm>
          <a:prstGeom prst="rect">
            <a:avLst/>
          </a:prstGeom>
          <a:ln w="0">
            <a:noFill/>
          </a:ln>
          <a:effectLst>
            <a:outerShdw dist="171040" dir="2879153" blurRad="0" rotWithShape="0">
              <a:srgbClr val="3399ff"/>
            </a:outerShdw>
          </a:effectLst>
        </p:spPr>
      </p:pic>
      <p:pic>
        <p:nvPicPr>
          <p:cNvPr id="341" name="Picture 1032" descr="H:\UMP\Разное\кирпичи.jpg"/>
          <p:cNvPicPr/>
          <p:nvPr/>
        </p:nvPicPr>
        <p:blipFill>
          <a:blip r:embed="rId5"/>
          <a:stretch/>
        </p:blipFill>
        <p:spPr>
          <a:xfrm>
            <a:off x="6781680" y="1295280"/>
            <a:ext cx="1820880" cy="2514600"/>
          </a:xfrm>
          <a:prstGeom prst="rect">
            <a:avLst/>
          </a:prstGeom>
          <a:ln w="0">
            <a:noFill/>
          </a:ln>
          <a:effectLst>
            <a:outerShdw dist="206639" dir="2551730" blurRad="0" rotWithShape="0">
              <a:srgbClr val="3399ff"/>
            </a:outerShdw>
          </a:effectLst>
        </p:spPr>
      </p:pic>
      <p:pic>
        <p:nvPicPr>
          <p:cNvPr id="342" name="Picture 1033" descr="H:\UMP\Разное\сок.gif"/>
          <p:cNvPicPr/>
          <p:nvPr/>
        </p:nvPicPr>
        <p:blipFill>
          <a:blip r:embed="rId6"/>
          <a:stretch/>
        </p:blipFill>
        <p:spPr>
          <a:xfrm>
            <a:off x="7010280" y="4191120"/>
            <a:ext cx="1706760" cy="1981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28" descr="H:\UMP\Разное\стакан воды.jpg"/>
          <p:cNvPicPr/>
          <p:nvPr/>
        </p:nvPicPr>
        <p:blipFill>
          <a:blip r:embed="rId7"/>
          <a:stretch/>
        </p:blipFill>
        <p:spPr>
          <a:xfrm>
            <a:off x="3657600" y="1676520"/>
            <a:ext cx="2063880" cy="2438280"/>
          </a:xfrm>
          <a:prstGeom prst="rect">
            <a:avLst/>
          </a:prstGeom>
          <a:ln w="0">
            <a:noFill/>
          </a:ln>
          <a:effectLst>
            <a:outerShdw dist="234128" dir="2965642" blurRad="0" rotWithShape="0">
              <a:srgbClr val="3399ff"/>
            </a:outerShdw>
          </a:effectLst>
        </p:spPr>
      </p:pic>
      <p:pic>
        <p:nvPicPr>
          <p:cNvPr id="344" name="Picture 1034" descr="H:\UMP\Разное\мытье окон.jpg"/>
          <p:cNvPicPr/>
          <p:nvPr/>
        </p:nvPicPr>
        <p:blipFill>
          <a:blip r:embed="rId8"/>
          <a:stretch/>
        </p:blipFill>
        <p:spPr>
          <a:xfrm>
            <a:off x="4952880" y="4572000"/>
            <a:ext cx="1303560" cy="1962000"/>
          </a:xfrm>
          <a:prstGeom prst="rect">
            <a:avLst/>
          </a:prstGeom>
          <a:ln w="0">
            <a:noFill/>
          </a:ln>
          <a:effectLst>
            <a:outerShdw dist="153009" dir="2493982" blurRad="0" rotWithShape="0">
              <a:srgbClr val="3399ff"/>
            </a:outerShdw>
          </a:effectLst>
        </p:spPr>
      </p:pic>
      <p:sp>
        <p:nvSpPr>
          <p:cNvPr id="345" name="Text Box 1035"/>
          <p:cNvSpPr/>
          <p:nvPr/>
        </p:nvSpPr>
        <p:spPr>
          <a:xfrm>
            <a:off x="228600" y="3048120"/>
            <a:ext cx="2438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дроэлектроста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036"/>
          <p:cNvSpPr/>
          <p:nvPr/>
        </p:nvSpPr>
        <p:spPr>
          <a:xfrm>
            <a:off x="0" y="5562720"/>
            <a:ext cx="1676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037"/>
          <p:cNvSpPr/>
          <p:nvPr/>
        </p:nvSpPr>
        <p:spPr>
          <a:xfrm>
            <a:off x="1828800" y="5943600"/>
            <a:ext cx="1981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шиностро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038"/>
          <p:cNvSpPr/>
          <p:nvPr/>
        </p:nvSpPr>
        <p:spPr>
          <a:xfrm>
            <a:off x="6248520" y="3581280"/>
            <a:ext cx="1904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39"/>
          <p:cNvSpPr/>
          <p:nvPr/>
        </p:nvSpPr>
        <p:spPr>
          <a:xfrm>
            <a:off x="4724280" y="6248520"/>
            <a:ext cx="990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быт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Содержимое 4" descr="6720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187280" y="475920"/>
            <a:ext cx="69948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30"/>
                </a:solidFill>
                <a:uFillTx/>
                <a:latin typeface="Arial"/>
              </a:rPr>
              <a:t>Обращение к в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0"/>
                </a:solidFill>
                <a:latin typeface="Arial"/>
              </a:rPr>
              <a:t>Вода, у тебя нет ни вкуса, ни цвета, ни запах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0"/>
                </a:solidFill>
                <a:latin typeface="Arial"/>
              </a:rPr>
              <a:t>тебя невозможно описать, тобой наслаждаю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0"/>
                </a:solidFill>
                <a:latin typeface="Arial"/>
              </a:rPr>
              <a:t>не ведая, что ты такое! Нельзя сказать, что ты необходима д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0"/>
                </a:solidFill>
                <a:latin typeface="Arial"/>
              </a:rPr>
              <a:t>жизни: ты – сама жизнь. Ты наполняешь нас радостью, котор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0"/>
                </a:solidFill>
                <a:latin typeface="Arial"/>
              </a:rPr>
              <a:t>не объяснить нашими чувствами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0"/>
                </a:solidFill>
                <a:latin typeface="Arial"/>
              </a:rPr>
              <a:t>Ты самое большое богатство на свет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0"/>
                </a:solidFill>
                <a:latin typeface="Arial"/>
              </a:rPr>
              <a:t>             </a:t>
            </a:r>
            <a:r>
              <a:rPr b="1" i="1" lang="ru-RU" sz="2800" spc="-1" strike="noStrike">
                <a:solidFill>
                  <a:srgbClr val="000030"/>
                </a:solidFill>
                <a:latin typeface="Arial"/>
              </a:rPr>
              <a:t>Антуан де Сент-Экзюпер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Содержимое 4" descr="67205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5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Обращение к землян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Цивилизация – это диалог между человеком и водой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де нет замены. Поэтому все люди должны бережно к ней относиться, не загрязнять, не расходовать попусту, помнить, что вода – самый ценный минерал нашей плане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ндира Ганд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Рисунок 4" descr="Выберите человечка по имени Капитошка, который выражает ваше настроение (грустное, весёлое, без эмоций)   1 3 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11"/>
          <p:cNvSpPr txBox="1"/>
          <p:nvPr/>
        </p:nvSpPr>
        <p:spPr>
          <a:xfrm>
            <a:off x="714240" y="1000080"/>
            <a:ext cx="7929720" cy="487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6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714240" y="76500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: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обраться в понятии «Круговорот  воды в природе» и установить взаимосвязи в данном природном явле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Автор: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санова Ирина Василь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9640" y="1225440"/>
            <a:ext cx="7848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Гидросфе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 водная оболочка Зем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Прямая со стрелкой 4"/>
          <p:cNvCxnSpPr/>
          <p:nvPr/>
        </p:nvCxnSpPr>
        <p:spPr>
          <a:xfrm flipH="1">
            <a:off x="2199960" y="3319200"/>
            <a:ext cx="211680" cy="70380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134" name="Прямая со стрелкой 6"/>
          <p:cNvCxnSpPr/>
          <p:nvPr/>
        </p:nvCxnSpPr>
        <p:spPr>
          <a:xfrm>
            <a:off x="3203280" y="3319560"/>
            <a:ext cx="1080" cy="140544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135" name="Прямая со стрелкой 7"/>
          <p:cNvCxnSpPr/>
          <p:nvPr/>
        </p:nvCxnSpPr>
        <p:spPr>
          <a:xfrm>
            <a:off x="4140000" y="3319560"/>
            <a:ext cx="1080" cy="8467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136" name="Прямая со стрелкой 8"/>
          <p:cNvCxnSpPr/>
          <p:nvPr/>
        </p:nvCxnSpPr>
        <p:spPr>
          <a:xfrm>
            <a:off x="5076360" y="3319200"/>
            <a:ext cx="1080" cy="167220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137" name="Прямая со стрелкой 9"/>
          <p:cNvCxnSpPr/>
          <p:nvPr/>
        </p:nvCxnSpPr>
        <p:spPr>
          <a:xfrm>
            <a:off x="5867280" y="3319200"/>
            <a:ext cx="218160" cy="11437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138" name="Прямая со стрелкой 10"/>
          <p:cNvCxnSpPr/>
          <p:nvPr/>
        </p:nvCxnSpPr>
        <p:spPr>
          <a:xfrm>
            <a:off x="6659640" y="3319560"/>
            <a:ext cx="792720" cy="83880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139" name="Прямая со стрелкой 17"/>
          <p:cNvCxnSpPr/>
          <p:nvPr/>
        </p:nvCxnSpPr>
        <p:spPr>
          <a:xfrm flipH="1">
            <a:off x="1123560" y="3319560"/>
            <a:ext cx="575280" cy="83880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140" name="Прямоугольник 19"/>
          <p:cNvSpPr/>
          <p:nvPr/>
        </p:nvSpPr>
        <p:spPr>
          <a:xfrm>
            <a:off x="179280" y="4157640"/>
            <a:ext cx="1231920" cy="85572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еа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20"/>
          <p:cNvSpPr/>
          <p:nvPr/>
        </p:nvSpPr>
        <p:spPr>
          <a:xfrm>
            <a:off x="1698480" y="4165560"/>
            <a:ext cx="1001880" cy="64764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200320" y="4991040"/>
            <a:ext cx="1673280" cy="75240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зем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1"/>
          <p:cNvSpPr/>
          <p:nvPr/>
        </p:nvSpPr>
        <p:spPr>
          <a:xfrm>
            <a:off x="3492360" y="4292640"/>
            <a:ext cx="1366920" cy="52056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4572000" y="5078520"/>
            <a:ext cx="1152360" cy="57600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5724360" y="4489560"/>
            <a:ext cx="1332000" cy="58896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7236000" y="4292640"/>
            <a:ext cx="1296720" cy="69840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250920" y="162864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Проблемный вопрос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Почему  вода это - кровеносная система земли.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28440" y="9360"/>
            <a:ext cx="911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Какие у вас появляются ассоциации со словосочетание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«круговорот воды в природе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s://fs00.infourok.ru/images/doc/122/142876/img4.jpg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s://otvet.imgsmail.ru/download/875a8375f91de049494d6073098e8a2f_482c3981c7c43aebae4e05c276609209.jpg"/>
          <p:cNvPicPr/>
          <p:nvPr/>
        </p:nvPicPr>
        <p:blipFill>
          <a:blip r:embed="rId1"/>
          <a:stretch/>
        </p:blipFill>
        <p:spPr>
          <a:xfrm>
            <a:off x="0" y="9360"/>
            <a:ext cx="91314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Line 4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003399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27360" bIns="27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7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0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21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69" name="Oval 22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23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24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25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26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27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28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29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30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31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32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33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34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35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6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37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38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9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40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41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42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43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44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45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46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47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48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49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50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51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52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53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54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55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56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57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58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59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207" name="Oval 60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1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62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63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64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65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66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67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68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69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70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71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72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73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74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75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6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77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78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79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80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81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82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83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84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85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86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87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88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89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90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91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92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93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94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95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96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AutoShape 97"/>
          <p:cNvSpPr/>
          <p:nvPr/>
        </p:nvSpPr>
        <p:spPr>
          <a:xfrm>
            <a:off x="7308720" y="105264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98"/>
          <p:cNvSpPr/>
          <p:nvPr/>
        </p:nvSpPr>
        <p:spPr>
          <a:xfrm>
            <a:off x="7308720" y="76500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99"/>
          <p:cNvSpPr/>
          <p:nvPr/>
        </p:nvSpPr>
        <p:spPr>
          <a:xfrm>
            <a:off x="6948360" y="112536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00"/>
          <p:cNvSpPr/>
          <p:nvPr/>
        </p:nvSpPr>
        <p:spPr>
          <a:xfrm>
            <a:off x="7740720" y="90792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01"/>
          <p:cNvSpPr/>
          <p:nvPr/>
        </p:nvSpPr>
        <p:spPr>
          <a:xfrm>
            <a:off x="6588000" y="134136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02"/>
          <p:cNvSpPr/>
          <p:nvPr/>
        </p:nvSpPr>
        <p:spPr>
          <a:xfrm>
            <a:off x="6516720" y="105264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03"/>
          <p:cNvSpPr/>
          <p:nvPr/>
        </p:nvSpPr>
        <p:spPr>
          <a:xfrm>
            <a:off x="7596360" y="1125360"/>
            <a:ext cx="21564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04"/>
          <p:cNvSpPr/>
          <p:nvPr/>
        </p:nvSpPr>
        <p:spPr>
          <a:xfrm>
            <a:off x="6948360" y="76500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05"/>
          <p:cNvSpPr/>
          <p:nvPr/>
        </p:nvSpPr>
        <p:spPr>
          <a:xfrm>
            <a:off x="6877080" y="83664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06"/>
          <p:cNvSpPr/>
          <p:nvPr/>
        </p:nvSpPr>
        <p:spPr>
          <a:xfrm>
            <a:off x="8028000" y="98100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07"/>
          <p:cNvSpPr/>
          <p:nvPr/>
        </p:nvSpPr>
        <p:spPr>
          <a:xfrm>
            <a:off x="7812000" y="134136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8"/>
          <p:cNvSpPr/>
          <p:nvPr/>
        </p:nvSpPr>
        <p:spPr>
          <a:xfrm>
            <a:off x="6877080" y="141300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09"/>
          <p:cNvSpPr/>
          <p:nvPr/>
        </p:nvSpPr>
        <p:spPr>
          <a:xfrm>
            <a:off x="7308720" y="141300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10"/>
          <p:cNvSpPr/>
          <p:nvPr/>
        </p:nvSpPr>
        <p:spPr>
          <a:xfrm>
            <a:off x="7308720" y="170028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11"/>
          <p:cNvSpPr/>
          <p:nvPr/>
        </p:nvSpPr>
        <p:spPr>
          <a:xfrm>
            <a:off x="6732720" y="1628640"/>
            <a:ext cx="21564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12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3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14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15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16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117"/>
          <p:cNvSpPr/>
          <p:nvPr/>
        </p:nvSpPr>
        <p:spPr>
          <a:xfrm>
            <a:off x="166680" y="1844640"/>
            <a:ext cx="9158400" cy="5113440"/>
          </a:xfrm>
          <a:prstGeom prst="pie">
            <a:avLst/>
          </a:pr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118"/>
          <p:cNvSpPr/>
          <p:nvPr/>
        </p:nvSpPr>
        <p:spPr>
          <a:xfrm>
            <a:off x="7272360" y="1700280"/>
            <a:ext cx="1871640" cy="1530360"/>
          </a:xfrm>
          <a:prstGeom prst="pi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119"/>
          <p:cNvSpPr/>
          <p:nvPr/>
        </p:nvSpPr>
        <p:spPr>
          <a:xfrm>
            <a:off x="-36360" y="5229360"/>
            <a:ext cx="3744720" cy="1670040"/>
          </a:xfrm>
          <a:prstGeom prst="pi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120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21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2"/>
          <p:cNvSpPr/>
          <p:nvPr/>
        </p:nvSpPr>
        <p:spPr>
          <a:xfrm>
            <a:off x="468360" y="4797360"/>
            <a:ext cx="17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23"/>
          <p:cNvSpPr/>
          <p:nvPr/>
        </p:nvSpPr>
        <p:spPr>
          <a:xfrm>
            <a:off x="0" y="1773360"/>
            <a:ext cx="255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24"/>
          <p:cNvSpPr/>
          <p:nvPr/>
        </p:nvSpPr>
        <p:spPr>
          <a:xfrm>
            <a:off x="2700360" y="2421000"/>
            <a:ext cx="100800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25"/>
          <p:cNvSpPr/>
          <p:nvPr/>
        </p:nvSpPr>
        <p:spPr>
          <a:xfrm>
            <a:off x="7740720" y="404640"/>
            <a:ext cx="122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26"/>
          <p:cNvSpPr/>
          <p:nvPr/>
        </p:nvSpPr>
        <p:spPr>
          <a:xfrm>
            <a:off x="3851280" y="692280"/>
            <a:ext cx="86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27"/>
          <p:cNvSpPr/>
          <p:nvPr/>
        </p:nvSpPr>
        <p:spPr>
          <a:xfrm>
            <a:off x="503280" y="6165720"/>
            <a:ext cx="8640720" cy="3661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28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129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30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131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132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33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34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35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rc 136"/>
          <p:cNvSpPr/>
          <p:nvPr/>
        </p:nvSpPr>
        <p:spPr>
          <a:xfrm flipV="1">
            <a:off x="3276720" y="2997360"/>
            <a:ext cx="4608360" cy="2808000"/>
          </a:xfrm>
          <a:prstGeom prst="pie">
            <a:avLst/>
          </a:pr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37"/>
          <p:cNvSpPr/>
          <p:nvPr/>
        </p:nvSpPr>
        <p:spPr>
          <a:xfrm>
            <a:off x="6948360" y="5373720"/>
            <a:ext cx="187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Freeform 138"/>
          <p:cNvSpPr/>
          <p:nvPr/>
        </p:nvSpPr>
        <p:spPr>
          <a:xfrm>
            <a:off x="4427640" y="4292640"/>
            <a:ext cx="2246040" cy="777960"/>
          </a:xfrm>
          <a:prstGeom prst="pie">
            <a:avLst/>
          </a:pr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39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40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41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42"/>
          <p:cNvSpPr/>
          <p:nvPr/>
        </p:nvSpPr>
        <p:spPr>
          <a:xfrm>
            <a:off x="6877080" y="4005360"/>
            <a:ext cx="18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43"/>
          <p:cNvSpPr/>
          <p:nvPr/>
        </p:nvSpPr>
        <p:spPr>
          <a:xfrm>
            <a:off x="7885080" y="1989000"/>
            <a:ext cx="107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44"/>
          <p:cNvSpPr/>
          <p:nvPr/>
        </p:nvSpPr>
        <p:spPr>
          <a:xfrm>
            <a:off x="3708360" y="4653000"/>
            <a:ext cx="107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45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46"/>
          <p:cNvSpPr/>
          <p:nvPr/>
        </p:nvSpPr>
        <p:spPr>
          <a:xfrm>
            <a:off x="5796000" y="3860640"/>
            <a:ext cx="86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147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48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9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0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51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52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53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58"/>
          <p:cNvSpPr/>
          <p:nvPr/>
        </p:nvSpPr>
        <p:spPr>
          <a:xfrm>
            <a:off x="971640" y="5373720"/>
            <a:ext cx="165564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59"/>
          <p:cNvSpPr/>
          <p:nvPr/>
        </p:nvSpPr>
        <p:spPr>
          <a:xfrm>
            <a:off x="8101080" y="4581360"/>
            <a:ext cx="104292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7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7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49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53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54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5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58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59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6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63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64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8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4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4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4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5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b1e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77336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416"/>
                </a:solidFill>
                <a:latin typeface="Arial"/>
              </a:rPr>
              <a:t>Испарение с поверхности оке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416"/>
                </a:solidFill>
                <a:latin typeface="Arial"/>
              </a:rPr>
              <a:t>Охлаждение п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416"/>
                </a:solidFill>
                <a:latin typeface="Arial"/>
              </a:rPr>
              <a:t>Образование обла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416"/>
                </a:solidFill>
                <a:latin typeface="Arial"/>
              </a:rPr>
              <a:t>Выпадение осад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416"/>
                </a:solidFill>
                <a:latin typeface="Arial"/>
              </a:rPr>
              <a:t>Пополнение рек и подземных в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416"/>
                </a:solidFill>
                <a:latin typeface="Arial"/>
              </a:rPr>
              <a:t>Сток в оке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WordArt 4"/>
          <p:cNvSpPr txBox="1"/>
          <p:nvPr/>
        </p:nvSpPr>
        <p:spPr>
          <a:xfrm>
            <a:off x="1258920" y="476280"/>
            <a:ext cx="67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апы  круговорота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5" name="~PP21271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4:52:12Z</dcterms:created>
  <dc:creator>Ястребов Роман Юрьевич</dc:creator>
  <dc:description/>
  <dc:language>en-US</dc:language>
  <cp:lastModifiedBy>Admin</cp:lastModifiedBy>
  <dcterms:modified xsi:type="dcterms:W3CDTF">2017-05-24T15:50:29Z</dcterms:modified>
  <cp:revision>135</cp:revision>
  <dc:subject/>
  <dc:title>Слайд 1</dc:title>
</cp:coreProperties>
</file>