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9A7E-EEC6-43F0-A81B-5813B18DFC68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том тепло. А иногда жарк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ходят в легкой одежде (сарафанчиках, кофточке и шортах), с открытыми руками и ног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лесу поют птич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ревья и кусты красуются в пышных зеленых нарядах. Земля тоже покрыта зеленой травой и цвет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том можно поесть вкусные ягоды. Они растут в лесу: земляника, черника, брусника и клюква. И в саду: клубиник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ыжовник, красная и черная смородина. В конце лета в лесу появляются грибы, а в саду начинают созревать фрукты: яблок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уши; и овощи: помидоры, огурцы, редис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том можно купаться в речке или море. А из песка на берегу можно делать куличики и строить зам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том очень краси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8000"/>
                </a:solidFill>
                <a:latin typeface="Arial Black"/>
              </a:rPr>
              <a:t>ИВАН  ИВАНОВИЧ </a:t>
            </a:r>
            <a:r>
              <a:rPr b="1" lang="ru-RU" sz="2400" spc="-1" strike="noStrike">
                <a:solidFill>
                  <a:srgbClr val="008000"/>
                </a:solidFill>
                <a:latin typeface="Arial Black"/>
              </a:rPr>
              <a:t>ШИШК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ж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 Black"/>
              </a:rPr>
              <a:t>CLAUDE MONET</a:t>
            </a:r>
            <a:r>
              <a:rPr b="1" lang="en-US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олок сада в Монжерон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Times New Roman"/>
              </a:rPr>
              <a:t>ВАСИЛИЙ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Times New Roman"/>
              </a:rPr>
              <a:t>ДМИТРИЕВИЧ</a:t>
            </a:r>
            <a:br>
              <a:rPr sz="1000"/>
            </a:b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ПОЛЕНОВ</a:t>
            </a:r>
            <a:r>
              <a:rPr b="1" lang="ru-RU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00"/>
            </a:br>
            <a:r>
              <a:rPr b="1" lang="ru-RU" sz="300" spc="-1" strike="noStrike">
                <a:solidFill>
                  <a:srgbClr val="000000"/>
                </a:solidFill>
                <a:latin typeface="Times New Roman"/>
              </a:rPr>
              <a:t>Вид на Абрамцево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 Black"/>
              </a:rPr>
              <a:t>CLAUDE</a:t>
            </a:r>
            <a:r>
              <a:rPr b="1" lang="ru-RU" sz="18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 Black"/>
              </a:rPr>
              <a:t>MONET</a:t>
            </a:r>
            <a:r>
              <a:rPr b="1" lang="en-US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00"/>
            </a:br>
            <a:r>
              <a:rPr b="1" lang="ru-RU" sz="300" spc="-1" strike="noStrike">
                <a:solidFill>
                  <a:srgbClr val="000000"/>
                </a:solidFill>
                <a:latin typeface="Times New Roman"/>
              </a:rPr>
              <a:t>Главная дорожка через сад в Живерни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ИСААК  ИЛЬИЧ</a:t>
            </a:r>
            <a:r>
              <a:rPr b="0" lang="en-US" sz="12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</a:rPr>
              <a:t>ЛЕВИТАН</a:t>
            </a:r>
            <a:r>
              <a:rPr b="1" lang="en-US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нюфа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117A-095D-4652-9E52-66287E18D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2759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7E88-34C4-47E8-BC59-0917DD93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CA63-D8B8-4167-9F54-4D8723233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8EC6-D0BC-49EE-8E4A-050E977A2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6D3D-C9E4-4CE2-8973-CFDB097E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E2E9-CE65-4F04-8DA3-3DFE9560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2B59-C44B-46FB-B645-6505F7F9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D6C1-D586-4C79-A18B-B33D9FBF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6019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38C2-73DE-4247-9260-BBA0F263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6EC4-8BF4-459D-9EE3-E52C8A05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B860-E20D-41D0-9860-AF5CB1CC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5D62-FD1F-4D70-AC65-A1EB7970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65F8-D75E-4061-8963-6AF63E5804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2520" y="53316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1" lang="ru-RU" sz="8000" spc="-1" strike="noStrike">
                <a:solidFill>
                  <a:srgbClr val="ff3300"/>
                </a:solidFill>
                <a:latin typeface="Arial"/>
              </a:rPr>
              <a:t>ТО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Дерево%20Летом" descr=""/>
          <p:cNvPicPr/>
          <p:nvPr/>
        </p:nvPicPr>
        <p:blipFill>
          <a:blip r:embed="rId1"/>
          <a:stretch/>
        </p:blipFill>
        <p:spPr>
          <a:xfrm>
            <a:off x="0" y="619200"/>
            <a:ext cx="4373640" cy="5781600"/>
          </a:xfrm>
          <a:prstGeom prst="rect">
            <a:avLst/>
          </a:prstGeom>
          <a:ln w="0">
            <a:noFill/>
          </a:ln>
        </p:spPr>
      </p:pic>
      <p:pic>
        <p:nvPicPr>
          <p:cNvPr id="50" name="лето2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3444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ЯГОДЫ%20ЛЕТОМ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8686800" cy="62578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и в саду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124600" y="5867280"/>
            <a:ext cx="1885680" cy="609840"/>
            <a:chOff x="5124600" y="5867280"/>
            <a:chExt cx="1885680" cy="609840"/>
          </a:xfrm>
        </p:grpSpPr>
        <p:sp>
          <p:nvSpPr>
            <p:cNvPr id="106" name=""/>
            <p:cNvSpPr/>
            <p:nvPr/>
          </p:nvSpPr>
          <p:spPr>
            <a:xfrm>
              <a:off x="5124600" y="5867280"/>
              <a:ext cx="1885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24600" y="5867280"/>
              <a:ext cx="18856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МА</a:t>
              </a:r>
              <a:r>
                <a:rPr b="0" lang="ru-RU" sz="3600" spc="-1" strike="noStrike">
                  <a:solidFill>
                    <a:srgbClr val="000000"/>
                  </a:solidFill>
                  <a:latin typeface="Impact"/>
                </a:rPr>
                <a:t>ЛИ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Н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876920" y="2286000"/>
            <a:ext cx="4190760" cy="1143000"/>
            <a:chOff x="4876920" y="2286000"/>
            <a:chExt cx="4190760" cy="1143000"/>
          </a:xfrm>
        </p:grpSpPr>
        <p:sp>
          <p:nvSpPr>
            <p:cNvPr id="109" name=""/>
            <p:cNvSpPr/>
            <p:nvPr/>
          </p:nvSpPr>
          <p:spPr>
            <a:xfrm>
              <a:off x="4876920" y="2286000"/>
              <a:ext cx="41907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2286000"/>
              <a:ext cx="41907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Impact"/>
                </a:rPr>
                <a:t>ЧЁ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Р</a:t>
              </a:r>
              <a:r>
                <a:rPr b="0" lang="ru-RU" sz="3600" spc="-1" strike="noStrike">
                  <a:solidFill>
                    <a:srgbClr val="003300"/>
                  </a:solidFill>
                  <a:latin typeface="Impact"/>
                </a:rPr>
                <a:t>НА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Я</a:t>
              </a:r>
              <a:r>
                <a:rPr b="0" lang="en-US" sz="3600" spc="-1" strike="noStrike">
                  <a:solidFill>
                    <a:srgbClr val="008000"/>
                  </a:solidFill>
                  <a:latin typeface="Impact"/>
                </a:rPr>
                <a:t> 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 и  К</a:t>
              </a:r>
              <a:r>
                <a:rPr b="0" lang="ru-RU" sz="3600" spc="-1" strike="noStrike">
                  <a:solidFill>
                    <a:srgbClr val="000000"/>
                  </a:solidFill>
                  <a:latin typeface="Impact"/>
                </a:rPr>
                <a:t>РА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С</a:t>
              </a:r>
              <a:r>
                <a:rPr b="0" lang="ru-RU" sz="3600" spc="-1" strike="noStrike">
                  <a:solidFill>
                    <a:srgbClr val="003300"/>
                  </a:solidFill>
                  <a:latin typeface="Impact"/>
                </a:rPr>
                <a:t>НА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Я </a:t>
              </a:r>
              <a:r>
                <a:rPr b="0" lang="ru-RU" sz="3600" spc="-1" strike="noStrike">
                  <a:solidFill>
                    <a:srgbClr val="003300"/>
                  </a:solidFill>
                  <a:latin typeface="Impact"/>
                </a:rPr>
                <a:t>С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МО</a:t>
              </a:r>
              <a:r>
                <a:rPr b="0" lang="ru-RU" sz="3600" spc="-1" strike="noStrike">
                  <a:solidFill>
                    <a:srgbClr val="000000"/>
                  </a:solidFill>
                  <a:latin typeface="Impact"/>
                </a:rPr>
                <a:t>РО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ДИ</a:t>
              </a:r>
              <a:r>
                <a:rPr b="0" lang="ru-RU" sz="3600" spc="-1" strike="noStrike">
                  <a:solidFill>
                    <a:srgbClr val="003300"/>
                  </a:solidFill>
                  <a:latin typeface="Impact"/>
                </a:rPr>
                <a:t>Н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447920" y="5410080"/>
            <a:ext cx="2819160" cy="609840"/>
            <a:chOff x="1447920" y="5410080"/>
            <a:chExt cx="2819160" cy="609840"/>
          </a:xfrm>
        </p:grpSpPr>
        <p:grpSp>
          <p:nvGrpSpPr>
            <p:cNvPr id="112" name=""/>
            <p:cNvGrpSpPr/>
            <p:nvPr/>
          </p:nvGrpSpPr>
          <p:grpSpPr>
            <a:xfrm>
              <a:off x="1449720" y="5412240"/>
              <a:ext cx="2815200" cy="605160"/>
              <a:chOff x="1449720" y="5412240"/>
              <a:chExt cx="2815200" cy="60516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1449720" y="5412240"/>
                <a:ext cx="2815200" cy="360"/>
                <a:chOff x="1449720" y="5412240"/>
                <a:chExt cx="2815200" cy="3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1477800" y="5412240"/>
                  <a:ext cx="2758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449720" y="5412240"/>
                  <a:ext cx="2815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449720" y="5412240"/>
                <a:ext cx="2815200" cy="605160"/>
                <a:chOff x="1449720" y="5412240"/>
                <a:chExt cx="2815200" cy="6051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477800" y="5412240"/>
                  <a:ext cx="2758680" cy="60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3600" spc="-1" strike="noStrike">
                      <a:solidFill>
                        <a:srgbClr val="003300"/>
                      </a:solidFill>
                      <a:latin typeface="Impact"/>
                    </a:rPr>
                    <a:t>К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РЫ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Impact"/>
                    </a:rPr>
                    <a:t>ЖО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В</a:t>
                  </a:r>
                  <a:r>
                    <a:rPr b="0" lang="ru-RU" sz="3600" spc="-1" strike="noStrike">
                      <a:solidFill>
                        <a:srgbClr val="003300"/>
                      </a:solidFill>
                      <a:latin typeface="Impact"/>
                    </a:rPr>
                    <a:t>НИ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К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449720" y="5412240"/>
                  <a:ext cx="2815200" cy="60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9" name=""/>
            <p:cNvSpPr/>
            <p:nvPr/>
          </p:nvSpPr>
          <p:spPr>
            <a:xfrm>
              <a:off x="1447920" y="5410080"/>
              <a:ext cx="2819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057400" y="2057400"/>
            <a:ext cx="2343240" cy="609480"/>
            <a:chOff x="2057400" y="2057400"/>
            <a:chExt cx="2343240" cy="609480"/>
          </a:xfrm>
        </p:grpSpPr>
        <p:sp>
          <p:nvSpPr>
            <p:cNvPr id="121" name=""/>
            <p:cNvSpPr/>
            <p:nvPr/>
          </p:nvSpPr>
          <p:spPr>
            <a:xfrm>
              <a:off x="2057400" y="2057400"/>
              <a:ext cx="2343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57400" y="2057400"/>
              <a:ext cx="2343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К</a:t>
              </a:r>
              <a:r>
                <a:rPr b="0" lang="ru-RU" sz="3600" spc="-1" strike="noStrike">
                  <a:solidFill>
                    <a:srgbClr val="003300"/>
                  </a:solidFill>
                  <a:latin typeface="Impact"/>
                </a:rPr>
                <a:t>ЛУ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Б</a:t>
              </a:r>
              <a:r>
                <a:rPr b="0" lang="ru-RU" sz="3600" spc="-1" strike="noStrike">
                  <a:solidFill>
                    <a:srgbClr val="000000"/>
                  </a:solidFill>
                  <a:latin typeface="Impact"/>
                </a:rPr>
                <a:t>НИ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К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конце лета в лесу появляются грибы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Подберезовик" descr=""/>
          <p:cNvPicPr/>
          <p:nvPr/>
        </p:nvPicPr>
        <p:blipFill>
          <a:blip r:embed="rId1"/>
          <a:stretch/>
        </p:blipFill>
        <p:spPr>
          <a:xfrm>
            <a:off x="282600" y="457200"/>
            <a:ext cx="4213080" cy="4724280"/>
          </a:xfrm>
          <a:prstGeom prst="rect">
            <a:avLst/>
          </a:prstGeom>
          <a:ln w="0">
            <a:noFill/>
          </a:ln>
        </p:spPr>
      </p:pic>
      <p:pic>
        <p:nvPicPr>
          <p:cNvPr id="125" name="Боровик" descr=""/>
          <p:cNvPicPr/>
          <p:nvPr/>
        </p:nvPicPr>
        <p:blipFill>
          <a:blip r:embed="rId2"/>
          <a:stretch/>
        </p:blipFill>
        <p:spPr>
          <a:xfrm>
            <a:off x="4572000" y="657360"/>
            <a:ext cx="4419720" cy="42955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28960" y="4952880"/>
            <a:ext cx="40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П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Д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Б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Ё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ЗО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ВИ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92560" y="4921200"/>
            <a:ext cx="24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Б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РО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ФРУКТЫ%20ЛЕТОМ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991720" cy="50515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а в саду начинают созревать фрукт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92760" y="44197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Г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У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Ш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54100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С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В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228600"/>
            <a:ext cx="259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Б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Л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К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ОВОЩИ%20ЛЕТОМ" descr=""/>
          <p:cNvPicPr/>
          <p:nvPr/>
        </p:nvPicPr>
        <p:blipFill>
          <a:blip r:embed="rId1"/>
          <a:stretch/>
        </p:blipFill>
        <p:spPr>
          <a:xfrm>
            <a:off x="533520" y="303120"/>
            <a:ext cx="8305560" cy="6083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и овощ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53600" y="3473280"/>
            <a:ext cx="23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К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У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С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6880" y="2268360"/>
            <a:ext cx="25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П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М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16600" y="882720"/>
            <a:ext cx="251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М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Р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В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1800" y="5029200"/>
            <a:ext cx="202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ГУ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полях собирают пшеницу и рожь, из которых потом пекут хлеб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85840" y="533520"/>
            <a:ext cx="857232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5715000"/>
            <a:ext cx="2514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том можно купаться в речке или море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Купание" descr=""/>
          <p:cNvPicPr/>
          <p:nvPr/>
        </p:nvPicPr>
        <p:blipFill>
          <a:blip r:embed="rId1"/>
          <a:srcRect l="1430" t="0" r="1787" b="0"/>
          <a:stretch/>
        </p:blipFill>
        <p:spPr>
          <a:xfrm>
            <a:off x="3386160" y="0"/>
            <a:ext cx="575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556236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из песка на берегу можно делать куличик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строить замк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На%20пляже" descr=""/>
          <p:cNvPicPr/>
          <p:nvPr/>
        </p:nvPicPr>
        <p:blipFill>
          <a:blip r:embed="rId1"/>
          <a:stretch/>
        </p:blipFill>
        <p:spPr>
          <a:xfrm>
            <a:off x="3281400" y="0"/>
            <a:ext cx="586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5409720"/>
            <a:ext cx="1676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том очень красиво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604" t="0" r="1718" b="0"/>
          <a:stretch/>
        </p:blipFill>
        <p:spPr>
          <a:xfrm>
            <a:off x="1905120" y="0"/>
            <a:ext cx="723888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5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том тепло. А иногда жарко. Все ходят в легкой одежде с открытыми руками и ногам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лето" descr=""/>
          <p:cNvPicPr/>
          <p:nvPr/>
        </p:nvPicPr>
        <p:blipFill>
          <a:blip r:embed="rId1"/>
          <a:srcRect l="0" t="0" r="8953" b="0"/>
          <a:stretch/>
        </p:blipFill>
        <p:spPr>
          <a:xfrm>
            <a:off x="1143000" y="457200"/>
            <a:ext cx="678168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ревья и кусты красуются в пышных зеленых нарядах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емля тоже покрыта зеленой травой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325440"/>
            <a:ext cx="82342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юду цветут цветы: в садах и парках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0" r="0" b="11811"/>
          <a:stretch/>
        </p:blipFill>
        <p:spPr>
          <a:xfrm>
            <a:off x="1247760" y="152280"/>
            <a:ext cx="667692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в лесу и на лугах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36003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даже в пруду и речке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5280" y="380880"/>
            <a:ext cx="835344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лесу и на лугу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ют птички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6316" descr=""/>
          <p:cNvPicPr/>
          <p:nvPr/>
        </p:nvPicPr>
        <p:blipFill>
          <a:blip r:embed="rId1"/>
          <a:srcRect l="0" t="5561" r="0" b="0"/>
          <a:stretch/>
        </p:blipFill>
        <p:spPr>
          <a:xfrm>
            <a:off x="4281480" y="0"/>
            <a:ext cx="486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летают бабочк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6334" descr=""/>
          <p:cNvPicPr/>
          <p:nvPr/>
        </p:nvPicPr>
        <p:blipFill>
          <a:blip r:embed="rId1"/>
          <a:srcRect l="0" t="0" r="0" b="6663"/>
          <a:stretch/>
        </p:blipFill>
        <p:spPr>
          <a:xfrm>
            <a:off x="4222800" y="0"/>
            <a:ext cx="492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ЛЕСНЫЕ%20ЯГОДЫ%20ЛЕТОМ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8229600" cy="5781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том можно поесть вкусные ягоды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т какие ягоды растут в лесу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371600" y="2273400"/>
            <a:ext cx="2819520" cy="609480"/>
            <a:chOff x="1371600" y="2273400"/>
            <a:chExt cx="2819520" cy="609480"/>
          </a:xfrm>
        </p:grpSpPr>
        <p:grpSp>
          <p:nvGrpSpPr>
            <p:cNvPr id="68" name=""/>
            <p:cNvGrpSpPr/>
            <p:nvPr/>
          </p:nvGrpSpPr>
          <p:grpSpPr>
            <a:xfrm>
              <a:off x="1373400" y="2275560"/>
              <a:ext cx="2815560" cy="604800"/>
              <a:chOff x="1373400" y="2275560"/>
              <a:chExt cx="2815560" cy="60480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1373400" y="2275560"/>
                <a:ext cx="2815560" cy="360"/>
                <a:chOff x="1373400" y="2275560"/>
                <a:chExt cx="2815560" cy="36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1401480" y="2275560"/>
                  <a:ext cx="2759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1373400" y="2275560"/>
                  <a:ext cx="2815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1373400" y="2275560"/>
                <a:ext cx="2815560" cy="604800"/>
                <a:chOff x="1373400" y="2275560"/>
                <a:chExt cx="2815560" cy="60480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1401480" y="2275560"/>
                  <a:ext cx="2759040" cy="60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ЗЕ</a:t>
                  </a:r>
                  <a:r>
                    <a:rPr b="0" lang="ru-RU" sz="3600" spc="-1" strike="noStrike">
                      <a:solidFill>
                        <a:srgbClr val="003300"/>
                      </a:solidFill>
                      <a:latin typeface="Impact"/>
                    </a:rPr>
                    <a:t>М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ЛЯ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Impact"/>
                    </a:rPr>
                    <a:t>НИ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КА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373400" y="2275560"/>
                  <a:ext cx="2815560" cy="60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" name=""/>
            <p:cNvSpPr/>
            <p:nvPr/>
          </p:nvSpPr>
          <p:spPr>
            <a:xfrm>
              <a:off x="1371600" y="2273400"/>
              <a:ext cx="2819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762120" y="5105520"/>
            <a:ext cx="1981080" cy="609480"/>
            <a:chOff x="762120" y="5105520"/>
            <a:chExt cx="1981080" cy="609480"/>
          </a:xfrm>
        </p:grpSpPr>
        <p:grpSp>
          <p:nvGrpSpPr>
            <p:cNvPr id="77" name=""/>
            <p:cNvGrpSpPr/>
            <p:nvPr/>
          </p:nvGrpSpPr>
          <p:grpSpPr>
            <a:xfrm>
              <a:off x="763200" y="5108760"/>
              <a:ext cx="1978560" cy="602280"/>
              <a:chOff x="763200" y="5108760"/>
              <a:chExt cx="1978560" cy="602280"/>
            </a:xfrm>
          </p:grpSpPr>
          <p:grpSp>
            <p:nvGrpSpPr>
              <p:cNvPr id="78" name=""/>
              <p:cNvGrpSpPr/>
              <p:nvPr/>
            </p:nvGrpSpPr>
            <p:grpSpPr>
              <a:xfrm>
                <a:off x="763200" y="5108760"/>
                <a:ext cx="1978560" cy="360"/>
                <a:chOff x="763200" y="5108760"/>
                <a:chExt cx="1978560" cy="36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783000" y="5108760"/>
                  <a:ext cx="1938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763200" y="5108760"/>
                  <a:ext cx="1978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763200" y="5108760"/>
                <a:ext cx="1978560" cy="602280"/>
                <a:chOff x="763200" y="5108760"/>
                <a:chExt cx="1978560" cy="6022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783000" y="5108760"/>
                  <a:ext cx="1938960" cy="60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3600" spc="-1" strike="noStrike">
                      <a:solidFill>
                        <a:srgbClr val="003300"/>
                      </a:solidFill>
                      <a:latin typeface="Impact"/>
                    </a:rPr>
                    <a:t>Е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ЖЕ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Impact"/>
                    </a:rPr>
                    <a:t>ВИ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КА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63200" y="5108760"/>
                  <a:ext cx="1978560" cy="60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4" name=""/>
            <p:cNvSpPr/>
            <p:nvPr/>
          </p:nvSpPr>
          <p:spPr>
            <a:xfrm>
              <a:off x="762120" y="5105520"/>
              <a:ext cx="1981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5029200" y="5354640"/>
            <a:ext cx="2514600" cy="665280"/>
            <a:chOff x="5029200" y="5354640"/>
            <a:chExt cx="2514600" cy="665280"/>
          </a:xfrm>
        </p:grpSpPr>
        <p:grpSp>
          <p:nvGrpSpPr>
            <p:cNvPr id="86" name=""/>
            <p:cNvGrpSpPr/>
            <p:nvPr/>
          </p:nvGrpSpPr>
          <p:grpSpPr>
            <a:xfrm>
              <a:off x="5030640" y="5358240"/>
              <a:ext cx="2511360" cy="657720"/>
              <a:chOff x="5030640" y="5358240"/>
              <a:chExt cx="2511360" cy="65772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5030640" y="5358240"/>
                <a:ext cx="2511360" cy="360"/>
                <a:chOff x="5030640" y="5358240"/>
                <a:chExt cx="2511360" cy="3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5055840" y="5358240"/>
                  <a:ext cx="2460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5030640" y="5358240"/>
                  <a:ext cx="2511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5030640" y="5358240"/>
                <a:ext cx="2511360" cy="657720"/>
                <a:chOff x="5030640" y="5358240"/>
                <a:chExt cx="2511360" cy="65772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055840" y="5358240"/>
                  <a:ext cx="246096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Б</a:t>
                  </a:r>
                  <a:r>
                    <a:rPr b="0" lang="ru-RU" sz="3600" spc="-1" strike="noStrike">
                      <a:solidFill>
                        <a:srgbClr val="003300"/>
                      </a:solidFill>
                      <a:latin typeface="Impact"/>
                    </a:rPr>
                    <a:t>РУ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С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Impact"/>
                    </a:rPr>
                    <a:t>НИ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КА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5030640" y="5358240"/>
                  <a:ext cx="251136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" name=""/>
            <p:cNvSpPr/>
            <p:nvPr/>
          </p:nvSpPr>
          <p:spPr>
            <a:xfrm>
              <a:off x="5029200" y="5354640"/>
              <a:ext cx="251460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781680" y="152280"/>
            <a:ext cx="2057400" cy="609840"/>
            <a:chOff x="6781680" y="152280"/>
            <a:chExt cx="2057400" cy="609840"/>
          </a:xfrm>
        </p:grpSpPr>
        <p:grpSp>
          <p:nvGrpSpPr>
            <p:cNvPr id="95" name=""/>
            <p:cNvGrpSpPr/>
            <p:nvPr/>
          </p:nvGrpSpPr>
          <p:grpSpPr>
            <a:xfrm>
              <a:off x="6782760" y="154440"/>
              <a:ext cx="2054520" cy="605160"/>
              <a:chOff x="6782760" y="154440"/>
              <a:chExt cx="2054520" cy="60516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6782760" y="154440"/>
                <a:ext cx="2054520" cy="360"/>
                <a:chOff x="6782760" y="154440"/>
                <a:chExt cx="2054520" cy="3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6803280" y="154440"/>
                  <a:ext cx="2013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782760" y="154440"/>
                  <a:ext cx="205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6782760" y="154440"/>
                <a:ext cx="2054520" cy="605160"/>
                <a:chOff x="6782760" y="154440"/>
                <a:chExt cx="2054520" cy="60516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6803280" y="154440"/>
                  <a:ext cx="2013120" cy="60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3600" spc="-1" strike="noStrike">
                      <a:solidFill>
                        <a:srgbClr val="003300"/>
                      </a:solidFill>
                      <a:latin typeface="Impact"/>
                    </a:rPr>
                    <a:t>ЧЕ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Р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Impact"/>
                    </a:rPr>
                    <a:t>НИ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КА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6782760" y="154440"/>
                  <a:ext cx="2054520" cy="60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2" name=""/>
            <p:cNvSpPr/>
            <p:nvPr/>
          </p:nvSpPr>
          <p:spPr>
            <a:xfrm>
              <a:off x="6781680" y="152280"/>
              <a:ext cx="20574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14:06:46Z</dcterms:created>
  <dc:creator>Admin</dc:creator>
  <dc:description/>
  <dc:language>en-US</dc:language>
  <cp:lastModifiedBy>VIT</cp:lastModifiedBy>
  <dcterms:modified xsi:type="dcterms:W3CDTF">2005-10-06T16:19:46Z</dcterms:modified>
  <cp:revision>59</cp:revision>
  <dc:subject/>
  <dc:title>ЗИМА</dc:title>
</cp:coreProperties>
</file>