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FBFC-63D2-44E5-BFAC-34DFCB2E792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C94-24F0-4C85-9DB8-0E005CFB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86B-6DD5-46FB-BDAC-39D58699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A2C-520B-403E-AFD7-E5E9F8B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C36-0FF6-49B1-BD8C-44FADD2A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993-6C71-4131-9F05-5FBC6A7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599-09FA-4A27-BFD8-4986C52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69F-B325-4118-B0D8-17BB0C4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998-B9F2-45CA-A35E-1319559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A20-F217-4728-99C6-1B80711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63A-9270-4869-8D3E-A40D68D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9D8-D766-4013-8699-054FD62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894-C249-485C-B601-5298FFC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E03-D89A-4F49-B325-0534C637FF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Летом" descr="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0" name="лето2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ЯГОДЫ%20ЛЕТОМ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6" name="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09" name="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2" name="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1" name="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одберезовик" descr="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Боровик" descr="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ФРУКТЫ%20ЛЕТОМ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ВОЩИ%20ЛЕТОМ" descr="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упание" descr="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На%20пляже" descr="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лето" descr="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600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316" descr="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6334" descr="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ЛЕСНЫЕ%20ЯГОДЫ%20ЛЕТОМ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68" name="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6" name="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5" name="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VIT</cp:lastModifiedBy>
  <dcterms:modified xsi:type="dcterms:W3CDTF">2005-10-06T16:19:46Z</dcterms:modified>
  <cp:revision>59</cp:revision>
  <dc:subject/>
  <dc:title>ЗИМА</dc:title>
</cp:coreProperties>
</file>