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07CE-DA91-46DB-B5DF-EB871764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9988-721A-468D-AA0E-2192D6C9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B6E-E1D1-4F0D-954B-6FA74264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9A43-C4A5-4BA3-A584-1AC55476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859E-B594-47B7-9AA4-FC82DA7A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5DD2-5A84-4644-AAB4-9A73770D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7A9D-DE0D-4EBB-B942-A7489D58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C73A-3DFC-4293-8754-4F518782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7F0F-43C1-44C5-BD47-F220B6D9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B326-9D57-4D07-A602-1E566DE2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2F62-765D-41B1-9894-ACDF8D68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B5D7-A132-4F80-BCCC-E77EBB10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3100-1004-4887-8C38-F095584B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7104-2E1B-4EA8-9B8C-BAD86E46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1236-DA79-48B9-8499-66A0DA36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4E10-9188-4C7F-896C-6D1E7C84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91D7-3354-4FB0-AF27-A96F8EA4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1D4E-F499-4884-A342-1E26DDAB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D03-3932-451E-A7A1-524D06F0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794-CA6C-4556-848E-2A4B646E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94F-2047-4536-8DD3-6CCEBB65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DC14-EB17-4718-A673-5722802C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E83-7398-43C5-901F-052DE3EA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7BCF-C55C-4DCE-A60F-0D1CB86C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0_6129d_c2d0151_XL.jpeg"/>
          <p:cNvPicPr/>
          <p:nvPr/>
        </p:nvPicPr>
        <p:blipFill>
          <a:blip r:embed="rId3"/>
          <a:stretch/>
        </p:blipFill>
        <p:spPr>
          <a:xfrm>
            <a:off x="7143840" y="5475240"/>
            <a:ext cx="18572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" name="Прямоугольник 6"/>
          <p:cNvGrpSpPr/>
          <p:nvPr/>
        </p:nvGrpSpPr>
        <p:grpSpPr>
          <a:xfrm>
            <a:off x="-195120" y="-195120"/>
            <a:ext cx="9540720" cy="7254720"/>
            <a:chOff x="-195120" y="-195120"/>
            <a:chExt cx="9540720" cy="7254720"/>
          </a:xfrm>
        </p:grpSpPr>
        <p:pic>
          <p:nvPicPr>
            <p:cNvPr id="2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195120" y="-195120"/>
              <a:ext cx="9540720" cy="72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71280" y="71280"/>
              <a:ext cx="9001440" cy="67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B038-7DC9-462F-AA6C-EC662E5D10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7" descr="0_6129d_c2d0151_XL.jpeg"/>
          <p:cNvPicPr/>
          <p:nvPr/>
        </p:nvPicPr>
        <p:blipFill>
          <a:blip r:embed="rId3"/>
          <a:stretch/>
        </p:blipFill>
        <p:spPr>
          <a:xfrm>
            <a:off x="7143840" y="5475240"/>
            <a:ext cx="18572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46" name="Прямоугольник 6"/>
          <p:cNvGrpSpPr/>
          <p:nvPr/>
        </p:nvGrpSpPr>
        <p:grpSpPr>
          <a:xfrm>
            <a:off x="-195120" y="-195120"/>
            <a:ext cx="9540720" cy="7254720"/>
            <a:chOff x="-195120" y="-195120"/>
            <a:chExt cx="9540720" cy="7254720"/>
          </a:xfrm>
        </p:grpSpPr>
        <p:pic>
          <p:nvPicPr>
            <p:cNvPr id="47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195120" y="-195120"/>
              <a:ext cx="9540720" cy="72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71280" y="71280"/>
              <a:ext cx="9001440" cy="67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" name="Рисунок 8" descr="color1.jpg"/>
          <p:cNvPicPr/>
          <p:nvPr/>
        </p:nvPicPr>
        <p:blipFill>
          <a:blip r:embed="rId5"/>
          <a:srcRect l="0" t="27727" r="0" b="27727"/>
          <a:stretch/>
        </p:blipFill>
        <p:spPr>
          <a:xfrm>
            <a:off x="142920" y="71280"/>
            <a:ext cx="8786880" cy="2000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D761-C28D-4DD1-947B-BB847E9BD4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3" descr=""/>
          <p:cNvPicPr/>
          <p:nvPr/>
        </p:nvPicPr>
        <p:blipFill>
          <a:blip r:embed="rId1"/>
          <a:stretch/>
        </p:blipFill>
        <p:spPr>
          <a:xfrm>
            <a:off x="407880" y="2090880"/>
            <a:ext cx="8487000" cy="3627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6227640" y="5084640"/>
            <a:ext cx="27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спитатель ВКК Погорелая В.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3708360" y="61675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Май 201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3" descr=""/>
          <p:cNvPicPr/>
          <p:nvPr/>
        </p:nvPicPr>
        <p:blipFill>
          <a:blip r:embed="rId1"/>
          <a:stretch/>
        </p:blipFill>
        <p:spPr>
          <a:xfrm>
            <a:off x="596880" y="2755800"/>
            <a:ext cx="84186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447840" y="549360"/>
            <a:ext cx="78580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Рисование необычными материалами, оригинальными техниками позволяет детям ощутить незабываемые положительные эмоции. Нетрадиционное рисование доставляет детям множество положительных эмоций, раскрывает новые возможности использования хорошо знакомых им предметов в качестве художественных материалов, удивляет своей непредсказуемостью. Оригинальное рисование без кисточки и карандаша расковывает ребенка, позволяет почувствовать краски, их характер, настроение. Незаметно для себя дети учатся наблюдать, думать, фантазировать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4"/>
          <p:cNvSpPr/>
          <p:nvPr/>
        </p:nvSpPr>
        <p:spPr>
          <a:xfrm>
            <a:off x="785880" y="78588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"/>
                <a:ea typeface="Arial"/>
              </a:rPr>
              <a:t>Нетрадиционные техники рисования во второй младшей группе (3-4 год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Рисование пальчик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Рисование ладош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Рисование ватной палоч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Рисование поролон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Рисование с помощью трафар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исование с использованием нетрадиционных техник:</a:t>
            </a: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снятию детских страх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уверенность в своих силах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пространственное мышлен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 детей свободно выражать свой замысел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ждает детей к творческим поискам и решения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 детей работать с разнообразным материал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чувство композиции, ритма,  колорита,  цветовосприятия;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чувство фактурности и объём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мелкую моторику рук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творческие способности, воображение и  полёт фантаз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работы дети получают эстетическое удовольств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"/>
              </a:rPr>
              <a:t>НАШИ  РАБ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C:\Users\Viktoria\Desktop\рисование\image (7).jpg"/>
          <p:cNvPicPr/>
          <p:nvPr/>
        </p:nvPicPr>
        <p:blipFill>
          <a:blip r:embed="rId1"/>
          <a:srcRect l="25693" t="3395" r="17709" b="2467"/>
          <a:stretch/>
        </p:blipFill>
        <p:spPr>
          <a:xfrm rot="20752200">
            <a:off x="624960" y="2876400"/>
            <a:ext cx="3554640" cy="3324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:\Users\Viktoria\Desktop\рисование\image (8).jpg"/>
          <p:cNvPicPr/>
          <p:nvPr/>
        </p:nvPicPr>
        <p:blipFill>
          <a:blip r:embed="rId2"/>
          <a:srcRect l="6236" t="18504" r="14655" b="14548"/>
          <a:stretch/>
        </p:blipFill>
        <p:spPr>
          <a:xfrm>
            <a:off x="4284720" y="1628640"/>
            <a:ext cx="44085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1"/>
          <a:srcRect l="0" t="21098" r="2916" b="13283"/>
          <a:stretch/>
        </p:blipFill>
        <p:spPr>
          <a:xfrm>
            <a:off x="900000" y="765000"/>
            <a:ext cx="3295800" cy="296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C:\Users\Viktoria\Desktop\рисование\image (12).jpg"/>
          <p:cNvPicPr/>
          <p:nvPr/>
        </p:nvPicPr>
        <p:blipFill>
          <a:blip r:embed="rId2"/>
          <a:srcRect l="17480" t="0" r="25133" b="0"/>
          <a:stretch/>
        </p:blipFill>
        <p:spPr>
          <a:xfrm>
            <a:off x="4759200" y="2138400"/>
            <a:ext cx="32702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8" descr="C:\Users\Viktoria\Desktop\рисование\image (1).jpg"/>
          <p:cNvPicPr/>
          <p:nvPr/>
        </p:nvPicPr>
        <p:blipFill>
          <a:blip r:embed="rId1"/>
          <a:srcRect l="0" t="0" r="15498" b="0"/>
          <a:stretch/>
        </p:blipFill>
        <p:spPr>
          <a:xfrm>
            <a:off x="3995640" y="476280"/>
            <a:ext cx="4759560" cy="3168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C:\Users\Viktoria\Desktop\рисование\image (5).jpg"/>
          <p:cNvPicPr/>
          <p:nvPr/>
        </p:nvPicPr>
        <p:blipFill>
          <a:blip r:embed="rId2"/>
          <a:srcRect l="7288" t="0" r="12714" b="0"/>
          <a:stretch/>
        </p:blipFill>
        <p:spPr>
          <a:xfrm>
            <a:off x="324000" y="3357720"/>
            <a:ext cx="4319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Users\Viktoria\Desktop\рисование\image (11).jpg"/>
          <p:cNvPicPr/>
          <p:nvPr/>
        </p:nvPicPr>
        <p:blipFill>
          <a:blip r:embed="rId1"/>
          <a:srcRect l="9302" t="2577" r="20702" b="0"/>
          <a:stretch/>
        </p:blipFill>
        <p:spPr>
          <a:xfrm>
            <a:off x="4254480" y="189000"/>
            <a:ext cx="4659480" cy="3647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Viktoria\Desktop\рисование\image (14).jpg"/>
          <p:cNvPicPr/>
          <p:nvPr/>
        </p:nvPicPr>
        <p:blipFill>
          <a:blip r:embed="rId2"/>
          <a:srcRect l="9911" t="5573" r="17979" b="3574"/>
          <a:stretch/>
        </p:blipFill>
        <p:spPr>
          <a:xfrm>
            <a:off x="250920" y="3213000"/>
            <a:ext cx="478944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"/>
              </a:rPr>
              <a:t>Итоговое родительское собрание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унок различными способами и техни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C:\Users\Viktoria\Desktop\image.jpg"/>
          <p:cNvPicPr/>
          <p:nvPr/>
        </p:nvPicPr>
        <p:blipFill>
          <a:blip r:embed="rId1"/>
          <a:srcRect l="0" t="0" r="11623" b="0"/>
          <a:stretch/>
        </p:blipFill>
        <p:spPr>
          <a:xfrm>
            <a:off x="1763640" y="1577880"/>
            <a:ext cx="5543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8:01:09Z</dcterms:created>
  <dc:creator>Admin</dc:creator>
  <dc:description/>
  <dc:language>en-US</dc:language>
  <cp:lastModifiedBy>Пользователь Windows</cp:lastModifiedBy>
  <dcterms:modified xsi:type="dcterms:W3CDTF">2017-05-24T18:19:52Z</dcterms:modified>
  <cp:revision>9</cp:revision>
  <dc:subject/>
  <dc:title>Слайд 1</dc:title>
</cp:coreProperties>
</file>