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B43-A1BD-42CA-B143-5E7C8935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682-EF35-418F-9A55-508BC76F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782-0A09-4332-970C-E89BFC9F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D34-A849-4224-B952-39A2D511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5F3-4A5D-4951-97EA-EBB1D424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875-1EB1-4158-9CF8-3B98293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9F0D-53D4-412A-8778-A1C16A9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4DC0-754F-4F8B-AA79-4CC0649D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ADC1-1EBA-498A-AC9A-97165F7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3647-1825-440C-9BAA-C806B3F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5EF-A937-4452-B9BE-183B677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18E-FE13-4633-9B33-FD58E88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8BAD-8ABC-4502-9D73-69FCAAA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4D66-19B8-429C-B308-C3D989A0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4CFF-130A-403E-AFCF-8E3FE585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C6BF-2FEC-4F20-87FB-9D0A477D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C24-037A-4849-95F2-D7D16157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431-A17A-493A-8C24-077646C9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B51-6641-459C-B938-A71E1EB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FDA-D42F-4D61-BFDC-4C7F6E18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C90-1FF4-4AFD-B0BC-14A7794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3DE-5B50-4B30-87A3-819064D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9BE-353B-4724-85EC-0895149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29A-772E-4D01-BE12-BD0593B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408-E576-47A9-887E-9E6FF66CB6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4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Рисунок 8" descr="color1.jpg"/>
          <p:cNvPicPr/>
          <p:nvPr/>
        </p:nvPicPr>
        <p:blipFill>
          <a:blip r:embed="rId5"/>
          <a:srcRect l="0" t="27727" r="0" b="27727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487A-9EB1-44A3-80D7-BC057F3DFA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407880" y="2090880"/>
            <a:ext cx="8487000" cy="362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227640" y="508464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 ВКК Погорелая В.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708360" y="61675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ай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596880" y="2755800"/>
            <a:ext cx="84186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447840" y="549360"/>
            <a:ext cx="7858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Рисование необычными материалами, оригинальными техниками позволяет детям ощутить незабываемые положительные эмоции. Нетрадиционное рисование доставляет детям множество положительных эмоций, раскрывает новые возможности использования хорошо знакомых им предметов в качестве художественных материалов, удивляет своей непредсказуемостью. Оригинальное рисование без кисточки и карандаша расковывает ребенка, позволяет почувствовать краски, их характер, настроение. Незаметно для себя дети учатся наблюдать, думать, фантазировать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785880" y="7858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  <a:ea typeface="Arial"/>
              </a:rPr>
              <a:t>Нетрадиционные техники рисования во второй младшей группе (3-4 г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пальчик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ладош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ватной палоч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пороло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с помощью трафар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ование с использованием нетрадиционных техник: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снятию детских страх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веренность в своих сила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пространственное мышл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детей свободно выражать свой замысе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ет детей к творческим поискам и решения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детей работать с разнообразным материал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чувство композиции, ритма,  колорита,  цветовосприятия;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чувство фактурности и объём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мелкую моторику ру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творческие способности, воображение и  полёт фантаз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работы дети получают эстетическое удовольств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"/>
              </a:rPr>
              <a:t>НАШИ 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C:\Users\Viktoria\Desktop\рисование\image (7).jpg"/>
          <p:cNvPicPr/>
          <p:nvPr/>
        </p:nvPicPr>
        <p:blipFill>
          <a:blip r:embed="rId1"/>
          <a:srcRect l="25693" t="3395" r="17709" b="2467"/>
          <a:stretch/>
        </p:blipFill>
        <p:spPr>
          <a:xfrm rot="20752200">
            <a:off x="624960" y="2876400"/>
            <a:ext cx="3554640" cy="33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Viktoria\Desktop\рисование\image (8).jpg"/>
          <p:cNvPicPr/>
          <p:nvPr/>
        </p:nvPicPr>
        <p:blipFill>
          <a:blip r:embed="rId2"/>
          <a:srcRect l="6236" t="18504" r="14655" b="14548"/>
          <a:stretch/>
        </p:blipFill>
        <p:spPr>
          <a:xfrm>
            <a:off x="4284720" y="1628640"/>
            <a:ext cx="44085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1"/>
          <a:srcRect l="0" t="21098" r="2916" b="13283"/>
          <a:stretch/>
        </p:blipFill>
        <p:spPr>
          <a:xfrm>
            <a:off x="900000" y="765000"/>
            <a:ext cx="3295800" cy="296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Viktoria\Desktop\рисование\image (12).jpg"/>
          <p:cNvPicPr/>
          <p:nvPr/>
        </p:nvPicPr>
        <p:blipFill>
          <a:blip r:embed="rId2"/>
          <a:srcRect l="17480" t="0" r="25133" b="0"/>
          <a:stretch/>
        </p:blipFill>
        <p:spPr>
          <a:xfrm>
            <a:off x="4759200" y="2138400"/>
            <a:ext cx="32702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C:\Users\Viktoria\Desktop\рисование\image (1).jpg"/>
          <p:cNvPicPr/>
          <p:nvPr/>
        </p:nvPicPr>
        <p:blipFill>
          <a:blip r:embed="rId1"/>
          <a:srcRect l="0" t="0" r="15498" b="0"/>
          <a:stretch/>
        </p:blipFill>
        <p:spPr>
          <a:xfrm>
            <a:off x="3995640" y="476280"/>
            <a:ext cx="4759560" cy="316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Users\Viktoria\Desktop\рисование\image (5).jpg"/>
          <p:cNvPicPr/>
          <p:nvPr/>
        </p:nvPicPr>
        <p:blipFill>
          <a:blip r:embed="rId2"/>
          <a:srcRect l="7288" t="0" r="12714" b="0"/>
          <a:stretch/>
        </p:blipFill>
        <p:spPr>
          <a:xfrm>
            <a:off x="324000" y="3357720"/>
            <a:ext cx="4319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Viktoria\Desktop\рисование\image (11).jpg"/>
          <p:cNvPicPr/>
          <p:nvPr/>
        </p:nvPicPr>
        <p:blipFill>
          <a:blip r:embed="rId1"/>
          <a:srcRect l="9302" t="2577" r="20702" b="0"/>
          <a:stretch/>
        </p:blipFill>
        <p:spPr>
          <a:xfrm>
            <a:off x="4254480" y="189000"/>
            <a:ext cx="4659480" cy="36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Viktoria\Desktop\рисование\image (14).jpg"/>
          <p:cNvPicPr/>
          <p:nvPr/>
        </p:nvPicPr>
        <p:blipFill>
          <a:blip r:embed="rId2"/>
          <a:srcRect l="9911" t="5573" r="17979" b="3574"/>
          <a:stretch/>
        </p:blipFill>
        <p:spPr>
          <a:xfrm>
            <a:off x="250920" y="3213000"/>
            <a:ext cx="47894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"/>
              </a:rPr>
              <a:t>Итоговое родительское собрание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различными способами и тех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Viktoria\Desktop\image.jpg"/>
          <p:cNvPicPr/>
          <p:nvPr/>
        </p:nvPicPr>
        <p:blipFill>
          <a:blip r:embed="rId1"/>
          <a:srcRect l="0" t="0" r="11623" b="0"/>
          <a:stretch/>
        </p:blipFill>
        <p:spPr>
          <a:xfrm>
            <a:off x="1763640" y="1577880"/>
            <a:ext cx="5543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8:01:09Z</dcterms:created>
  <dc:creator>Admin</dc:creator>
  <dc:description/>
  <dc:language>en-US</dc:language>
  <cp:lastModifiedBy>Пользователь Windows</cp:lastModifiedBy>
  <dcterms:modified xsi:type="dcterms:W3CDTF">2017-05-24T18:19:52Z</dcterms:modified>
  <cp:revision>9</cp:revision>
  <dc:subject/>
  <dc:title>Слайд 1</dc:title>
</cp:coreProperties>
</file>