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9BCE-9F95-4842-A4AF-2D11FD47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146-1000-44FE-A379-D965B7ED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E7A0-78CD-41FF-AFC6-44BE8756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6C9F-F2E3-42C1-BC54-8207FD6B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4945-398E-4065-A253-3EF4203E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2F3B-5EB9-41B0-8E6B-B05E9618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EB2F-7C03-46E2-9CCC-96035D86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B870-6A4F-419D-8867-ABEB729F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130A-C8C5-4EAE-A9B0-1C0A83CF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774A-1EAD-43BF-B674-4D22D6EC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BDB-15A0-41C7-BCBA-63CDF78F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8F3A-7B98-4693-AB13-5AF6ACAA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9A7D-850E-4ECD-BBE5-A0CCFEA707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6280" y="-360"/>
            <a:ext cx="1135404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марта.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ая работа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26640" y="1800360"/>
            <a:ext cx="10806120" cy="32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егодня я узнал …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ыло интересно …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считаю, что на уроке я поработал ...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41120" y="0"/>
            <a:ext cx="1151424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.кабрь               сев..р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.н..грет             косм…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.роз                   в..р..бь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.ница                 в..кза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Объект 2" descr=""/>
          <p:cNvPicPr/>
          <p:nvPr/>
        </p:nvPicPr>
        <p:blipFill>
          <a:blip r:embed="rId1"/>
          <a:stretch/>
        </p:blipFill>
        <p:spPr>
          <a:xfrm>
            <a:off x="1305000" y="549360"/>
            <a:ext cx="10679040" cy="5491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954000" y="596880"/>
          <a:ext cx="10110960" cy="5916600"/>
        </p:xfrm>
        <a:graphic>
          <a:graphicData uri="http://schemas.openxmlformats.org/drawingml/2006/table">
            <a:tbl>
              <a:tblPr/>
              <a:tblGrid>
                <a:gridCol w="8256600"/>
                <a:gridCol w="1854360"/>
              </a:tblGrid>
              <a:tr h="920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казыва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Имена существительные обозначают признак предмета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Имена существительные в начальной форме отвечают на вопросы: кто? что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6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мена существительные не изменяются по числам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5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мена существительные в единственном числе различаются по склонениям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клонение существительного можно определить по роду и окончанию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" name="Rectangle 4"/>
          <p:cNvSpPr/>
          <p:nvPr/>
        </p:nvSpPr>
        <p:spPr>
          <a:xfrm flipV="1">
            <a:off x="379440" y="2321640"/>
            <a:ext cx="161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9504360" y="1612800"/>
            <a:ext cx="94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9504360" y="3691080"/>
            <a:ext cx="94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9633240" y="2620800"/>
            <a:ext cx="69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9633240" y="4630680"/>
            <a:ext cx="69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9633240" y="5567400"/>
            <a:ext cx="69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74760" y="1593720"/>
            <a:ext cx="7804080" cy="28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ыб нет зуб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ыб нет зубов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ыб нет зубей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4"/>
          <p:cNvSpPr/>
          <p:nvPr/>
        </p:nvSpPr>
        <p:spPr>
          <a:xfrm>
            <a:off x="1378080" y="3786120"/>
            <a:ext cx="6710400" cy="65160"/>
          </a:xfrm>
          <a:prstGeom prst="line">
            <a:avLst/>
          </a:prstGeom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407880"/>
            <a:ext cx="10515600" cy="22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ончания существительных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множественном числе в Р.п.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нулевое, -ов, -ев, -ей)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17040" y="2138400"/>
            <a:ext cx="107362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ся особенностями окончаний имен существительных множественного числа в родительном падеже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образовывать существительные в Р.п. мн.ч. от существительных И.п. мн.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2392200"/>
          <a:ext cx="12192120" cy="1793880"/>
        </p:xfrm>
        <a:graphic>
          <a:graphicData uri="http://schemas.openxmlformats.org/drawingml/2006/table">
            <a:tbl>
              <a:tblPr/>
              <a:tblGrid>
                <a:gridCol w="4064040"/>
                <a:gridCol w="4064040"/>
                <a:gridCol w="4064040"/>
              </a:tblGrid>
              <a:tr h="897120">
                <a:tc>
                  <a:txBody>
                    <a:bodyPr lIns="65880" rIns="65880" tIns="66240" bIns="66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.р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66240" bIns="66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.р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66240" bIns="66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.р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65880" rIns="65880" tIns="66240" bIns="66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ов, -ев, -ей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66240" bIns="66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й, 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66240" bIns="66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ов, -ев, 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2392200"/>
          <a:ext cx="12192120" cy="1793880"/>
        </p:xfrm>
        <a:graphic>
          <a:graphicData uri="http://schemas.openxmlformats.org/drawingml/2006/table">
            <a:tbl>
              <a:tblPr/>
              <a:tblGrid>
                <a:gridCol w="4064040"/>
                <a:gridCol w="4064040"/>
                <a:gridCol w="4064040"/>
              </a:tblGrid>
              <a:tr h="897120">
                <a:tc>
                  <a:txBody>
                    <a:bodyPr lIns="65880" rIns="65880" tIns="66240" bIns="66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.р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66240" bIns="66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.р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66240" bIns="66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.р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65880" rIns="65880" tIns="66240" bIns="66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ы, -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66240" bIns="66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ы, -и 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66240" bIns="66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а, -я 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3"/>
          <p:cNvSpPr/>
          <p:nvPr/>
        </p:nvSpPr>
        <p:spPr>
          <a:xfrm>
            <a:off x="9644040" y="5065560"/>
            <a:ext cx="69552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2"/>
          <p:cNvSpPr/>
          <p:nvPr/>
        </p:nvSpPr>
        <p:spPr>
          <a:xfrm>
            <a:off x="9772560" y="4149720"/>
            <a:ext cx="69552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10584000" y="3232080"/>
            <a:ext cx="69516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10"/>
          <p:cNvSpPr/>
          <p:nvPr/>
        </p:nvSpPr>
        <p:spPr>
          <a:xfrm>
            <a:off x="10339560" y="2316240"/>
            <a:ext cx="69516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9"/>
          <p:cNvSpPr/>
          <p:nvPr/>
        </p:nvSpPr>
        <p:spPr>
          <a:xfrm>
            <a:off x="7931160" y="1352520"/>
            <a:ext cx="69516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8"/>
          <p:cNvSpPr/>
          <p:nvPr/>
        </p:nvSpPr>
        <p:spPr>
          <a:xfrm>
            <a:off x="3359160" y="5065560"/>
            <a:ext cx="69516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3205080" y="4149720"/>
            <a:ext cx="69552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2857680" y="3232080"/>
            <a:ext cx="69516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2973240" y="2316240"/>
            <a:ext cx="69552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2048040" y="1352520"/>
            <a:ext cx="69516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44440" y="1171440"/>
          <a:ext cx="11796840" cy="4637160"/>
        </p:xfrm>
        <a:graphic>
          <a:graphicData uri="http://schemas.openxmlformats.org/drawingml/2006/table">
            <a:tbl>
              <a:tblPr/>
              <a:tblGrid>
                <a:gridCol w="5899320"/>
                <a:gridCol w="5897520"/>
              </a:tblGrid>
              <a:tr h="927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ж- уже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- еже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н- слоно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емот- бегемото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нот- еното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шалот- кашалото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ень- олене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юлень- тюлене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ж- морже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иж- стриже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8T11:50:02Z</dcterms:created>
  <dc:creator>HP</dc:creator>
  <dc:description/>
  <dc:language>en-US</dc:language>
  <cp:lastModifiedBy>Windows User</cp:lastModifiedBy>
  <dcterms:modified xsi:type="dcterms:W3CDTF">2017-05-24T07:29:11Z</dcterms:modified>
  <cp:revision>17</cp:revision>
  <dc:subject/>
  <dc:title>Презентация PowerPoint</dc:title>
</cp:coreProperties>
</file>