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740-6D61-43A8-B66B-AFBF34F1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315-94CC-46B2-9453-7569126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98A-702C-49BD-9B72-8043A27F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863-1E13-4F7E-9C83-B0E17AD7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304-AB7E-4D78-86B0-93A6263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091-8B20-401D-86A9-2C84631D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9CB-5F40-4055-8267-5826856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AF9-1033-4FA8-B998-F7F7508E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2A6-6F39-488A-B2A0-B976A668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2E7-B1C4-451B-8907-0F00A5C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791-99DE-44DB-9CC4-F825693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D0A-C20E-4DD1-A808-6E73BC61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D1B-507E-469F-8AB3-ACD5958A8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280" y="-360"/>
            <a:ext cx="1135404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марта.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6640" y="1800360"/>
            <a:ext cx="1080612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годня я узнал …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ло интересно …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читаю, что на уроке я поработал ...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1120" y="0"/>
            <a:ext cx="115142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.кабрь               сев..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.н..грет             косм…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.роз                   в..р..бь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.ница                 в..кза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2" descr=""/>
          <p:cNvPicPr/>
          <p:nvPr/>
        </p:nvPicPr>
        <p:blipFill>
          <a:blip r:embed="rId1"/>
          <a:stretch/>
        </p:blipFill>
        <p:spPr>
          <a:xfrm>
            <a:off x="1305000" y="549360"/>
            <a:ext cx="10679040" cy="549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54000" y="596880"/>
          <a:ext cx="10110960" cy="5916600"/>
        </p:xfrm>
        <a:graphic>
          <a:graphicData uri="http://schemas.openxmlformats.org/drawingml/2006/table">
            <a:tbl>
              <a:tblPr/>
              <a:tblGrid>
                <a:gridCol w="8256600"/>
                <a:gridCol w="1854360"/>
              </a:tblGrid>
              <a:tr h="92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мена существительные обозначают признак предмета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мена существительные в начальной форме отвечают на вопросы: кто? ч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мена существительные не изменяются по числам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мена существительные в единственном числе различаются по склонениям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клонение существительного можно определить по роду и окончанию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4"/>
          <p:cNvSpPr/>
          <p:nvPr/>
        </p:nvSpPr>
        <p:spPr>
          <a:xfrm flipV="1">
            <a:off x="379440" y="2321640"/>
            <a:ext cx="16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9504360" y="16128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9504360" y="369108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9633240" y="262080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633240" y="463068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9633240" y="5567400"/>
            <a:ext cx="6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74760" y="1593720"/>
            <a:ext cx="780408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ыб нет зуб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ыб нет зубов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ыб нет зубей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>
            <a:off x="1378080" y="3786120"/>
            <a:ext cx="6710400" cy="6516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07880"/>
            <a:ext cx="1051560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ончания существительных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множественном числе в Р.п.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улевое, -ов, -ев, -ей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7040" y="2138400"/>
            <a:ext cx="107362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особенностями окончаний имен существительных множественного числа в родительном падеж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бразовывать существительные в Р.п. мн.ч. от существительных И.п. мн.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392200"/>
          <a:ext cx="12192120" cy="179388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</a:tblGrid>
              <a:tr h="897120"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в, -ев, -е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й,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в, -ев,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392200"/>
          <a:ext cx="12192120" cy="179388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</a:tblGrid>
              <a:tr h="897120"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.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ы, -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ы, -и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66240" bIns="66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а, -я 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3"/>
          <p:cNvSpPr/>
          <p:nvPr/>
        </p:nvSpPr>
        <p:spPr>
          <a:xfrm>
            <a:off x="9644040" y="506556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9772560" y="414972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0584000" y="3232080"/>
            <a:ext cx="6951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10339560" y="231624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7931160" y="135252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359160" y="506556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205080" y="414972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857680" y="3232080"/>
            <a:ext cx="6951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973240" y="2316240"/>
            <a:ext cx="69552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048040" y="1352520"/>
            <a:ext cx="6951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44440" y="1171440"/>
          <a:ext cx="11796840" cy="4637160"/>
        </p:xfrm>
        <a:graphic>
          <a:graphicData uri="http://schemas.openxmlformats.org/drawingml/2006/table">
            <a:tbl>
              <a:tblPr/>
              <a:tblGrid>
                <a:gridCol w="5899320"/>
                <a:gridCol w="5897520"/>
              </a:tblGrid>
              <a:tr h="92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ж- у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- е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- слон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емот- бегемот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от- енот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шалот- кашалот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нь- олен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лень- тюлен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ж- мор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ж- стриж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1:50:02Z</dcterms:created>
  <dc:creator>HP</dc:creator>
  <dc:description/>
  <dc:language>en-US</dc:language>
  <cp:lastModifiedBy>Windows User</cp:lastModifiedBy>
  <dcterms:modified xsi:type="dcterms:W3CDTF">2017-05-24T07:29:11Z</dcterms:modified>
  <cp:revision>17</cp:revision>
  <dc:subject/>
  <dc:title>Презентация PowerPoint</dc:title>
</cp:coreProperties>
</file>