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6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30.jpeg" ContentType="image/jpeg"/>
  <Override PartName="/ppt/media/image15.png" ContentType="image/png"/>
  <Override PartName="/ppt/media/image29.jpeg" ContentType="image/jpeg"/>
  <Override PartName="/ppt/media/image3.wmf" ContentType="image/x-wmf"/>
  <Override PartName="/ppt/media/image2.png" ContentType="image/png"/>
  <Override PartName="/ppt/media/image25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F2A-93CD-4466-A8D0-D9BED1A8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5B4-5247-4835-BF83-D50AB141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DC9-8BE6-40A3-8EBF-584A17F8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B69-A650-47BA-8C01-C63BF845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32A7-E838-4DC5-A41D-E23654EE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1FCE-3331-41C5-B908-19CD9F46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C3EC-1E07-4BFA-A8D3-B07234D4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32EF-E99C-4F6E-8D3F-4618772F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B7CF-70CE-41C1-A848-60E26839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7F3F-DCD8-4288-B21A-11B9C470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8D51-FE73-479B-9F08-367A7E7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4FF-32EA-4CBA-9367-82BE9ED2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4A6B-023C-4D85-B6F1-C1DA901D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AA3D-F13C-4E03-9844-98987B97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A652-BF3D-4B80-A23B-0EE07F00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9298-553D-4B14-AA05-07C25E69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3159-867B-4433-958E-FC438F5D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D382-AFD1-4ACA-AADC-B3810FA6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2009-250D-4435-94AF-1636C604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DB91-A432-4532-82EA-533BFB60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2C6B-52F7-4EE8-88C4-85E1D232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860A-6E93-4022-96B4-4E72BD11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960-2B18-4155-B50D-98B3B742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1B94-0BFC-4FE0-97BA-A0B8B8BC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D6B2-C5E6-4DF4-A657-69A4E39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DB3F-87D4-4ED1-9B27-47CF615B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7D71-31EC-46FD-ACB0-6F28D96A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43056-EE51-43E8-BADB-F4D5B90C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5EC8-7819-4C7B-93A0-C3794889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EC2F-4F1B-4115-9648-6037EAF1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F20DF-FBA2-4DE5-B14F-AC266954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C1643-7711-4C1F-A158-34101D43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F15A6-863D-4C8B-866B-2CA52B5A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634-F23E-42E5-AD7C-A90B705D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938DC-BA4F-4CFD-8684-D8D3946B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633C-7B64-4416-8AAD-6A6B6B74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4FB61-93F5-4CAB-B900-1807C0B8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C1D28-7899-4A16-8684-87873F1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181E4-EBEC-4314-8B43-474DE4D3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47F7D-63DF-45BC-9971-004424B9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56998-421B-4604-94BF-C83DB442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AB9DD-AC2E-46F0-A6FA-040630A1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6BA50-AF84-46DA-B268-14F97405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01016-3C7F-4ADB-9E25-A631FC7F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7C4-49E1-43F3-854F-5C9E9144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FB08-BAEE-4653-A5CF-3E90962F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B885D-73DB-49BA-B123-1AA40DC5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0BADD-2AB6-438A-8F34-2523C5E5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36582-6468-4FFA-ABFA-407C631D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F45DD-14AA-40D5-AB36-FE0EF79A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78416-F5A2-4F54-8795-5842B670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E9A34-6FCE-4765-A63C-0FC73475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4BF2A-37C9-4D9F-99D5-F912A25C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FA736-A820-43BE-A642-114597A1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7CA26-A2A2-4CFB-A4AB-F7DFC2D4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98E-AD11-487F-9FA9-CF24D573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8B30D-F2D9-42EE-9288-BD32C806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47F-4335-4B9A-B6F2-95B4A319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5E6-BC68-4DE9-9BF8-A4B0D8A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3CA-70B6-459D-9FBC-7CB51BF9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1335-1825-4364-8511-0EFE2C4E4EC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3D84-0565-4B55-8CC2-900D52CA341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367A-5BBF-4002-A77F-A577CF3DE9D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B854-7C5F-4B37-B3D5-44580E60259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285C-C7FF-4313-B113-25A028AC3FB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Отчет за 2015-2016 уч. год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Иванов Дмитрий Филиппович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Старший тренер – преподаватель по дзюдо МУ ДО «ДЮСШ» МО «Мирнинский район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тделение дзюдо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712000" cy="250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Тренерско-педагогический состав – один штатный тренер.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Часовая нагрузка – 36 часов в неделю.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Учебные группы: две группы начальной подготовки и одна учебно-тренировочная.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Количество учащихся: на начало года – 63, на конец года – 62.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3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02440" cy="779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Участие в соревнованиях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10680" y="1125360"/>
            <a:ext cx="20401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Лучшие результат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92240" y="2205000"/>
            <a:ext cx="2292120" cy="338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2351160" y="981000"/>
          <a:ext cx="6541920" cy="5472360"/>
        </p:xfrm>
        <a:graphic>
          <a:graphicData uri="http://schemas.openxmlformats.org/drawingml/2006/table">
            <a:tbl>
              <a:tblPr/>
              <a:tblGrid>
                <a:gridCol w="1730160"/>
                <a:gridCol w="1136880"/>
                <a:gridCol w="1249200"/>
                <a:gridCol w="1763640"/>
                <a:gridCol w="662040"/>
              </a:tblGrid>
              <a:tr h="5943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оревн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есто прове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Участни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ест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2660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ервенство ДВФ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ладивост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Январь 2016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коловская 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65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ервенство РС(Я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999-2001г.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Жата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екабрь 2015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коловская 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гиазарян Ар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Чигликов 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рлов 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963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ервенство РС(Я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02-2003г.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кровс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рт 2016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анилов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65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Республиканский отборочный турнир в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VI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С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Якутс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екабрь 2015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коловская 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рлов 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Чигликов 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гиазарян Ар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27908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тборочные соревнования к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VI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С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кровс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рт 2016 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коловская 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рлов 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гиазарян Ар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Чигликов 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анилов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5284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Республиканский турнир на кубок СК «Славутич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Якутс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рт 2016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коловская 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рлов 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анилов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3716280"/>
            <a:ext cx="8785440" cy="28814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Команда Мирнинского района среди младших юношей - </a:t>
            </a:r>
            <a:r>
              <a:rPr b="0" lang="en-US" sz="2500" spc="-1" strike="noStrike">
                <a:solidFill>
                  <a:srgbClr val="696464"/>
                </a:solidFill>
                <a:latin typeface="Franklin Gothic Book"/>
              </a:rPr>
              <a:t>I </a:t>
            </a: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место в командном первенстве РС(Я) в г. Покровск, март 2016г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Орлов Алексей и Соколовская Елена вошли в сборную Республики Саха (Якутия) для участия в </a:t>
            </a:r>
            <a:r>
              <a:rPr b="0" lang="en-US" sz="2500" spc="-1" strike="noStrike">
                <a:solidFill>
                  <a:srgbClr val="696464"/>
                </a:solidFill>
                <a:latin typeface="Franklin Gothic Book"/>
              </a:rPr>
              <a:t>VI </a:t>
            </a: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МСИ «Дети Азии».</a:t>
            </a:r>
            <a:br>
              <a:rPr sz="2500"/>
            </a:b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Соколовская Елена вошла в десятку лучших спортсменов района среди взрослых.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7" name="Picture 5" descr="E:\IMG_7521.JPG"/>
          <p:cNvPicPr/>
          <p:nvPr/>
        </p:nvPicPr>
        <p:blipFill>
          <a:blip r:embed="rId1"/>
          <a:stretch/>
        </p:blipFill>
        <p:spPr>
          <a:xfrm>
            <a:off x="324000" y="260280"/>
            <a:ext cx="2444760" cy="345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C:\Users\егора\Desktop\папин телефон\1.jpg"/>
          <p:cNvPicPr/>
          <p:nvPr/>
        </p:nvPicPr>
        <p:blipFill>
          <a:blip r:embed="rId2"/>
          <a:stretch/>
        </p:blipFill>
        <p:spPr>
          <a:xfrm>
            <a:off x="6156360" y="260280"/>
            <a:ext cx="2422440" cy="3456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http://yakutsk.bezformata.ru/content/image114111508.png"/>
          <p:cNvPicPr/>
          <p:nvPr/>
        </p:nvPicPr>
        <p:blipFill>
          <a:blip r:embed="rId3"/>
          <a:stretch/>
        </p:blipFill>
        <p:spPr>
          <a:xfrm>
            <a:off x="2828880" y="260280"/>
            <a:ext cx="32479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275520" cy="2125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В текущем учебном году в целях самообразования и повышения квалификации,  Иванов Д.Ф. принял участие в следующих </a:t>
            </a: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on</a:t>
            </a: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line </a:t>
            </a: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конкурсах: 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2548080"/>
            <a:ext cx="7057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- всероссийский конкурс для педагогов и воспитателей «Территория здоровья», </a:t>
            </a:r>
            <a:r>
              <a:rPr b="0" lang="en-US" sz="2400" spc="-1" strike="noStrike">
                <a:solidFill>
                  <a:srgbClr val="404040"/>
                </a:solidFill>
                <a:latin typeface="Perpetua"/>
              </a:rPr>
              <a:t>I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место в номинации «Консультация для родителей»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- всероссийское тестирование «Основы компьютерной грамотности», </a:t>
            </a:r>
            <a:r>
              <a:rPr b="0" lang="en-US" sz="2400" spc="-1" strike="noStrike">
                <a:solidFill>
                  <a:srgbClr val="404040"/>
                </a:solidFill>
                <a:latin typeface="Perpetua"/>
              </a:rPr>
              <a:t>I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место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- всероссийский конкурс «Техника безопасности для учителей физкультуры», </a:t>
            </a:r>
            <a:r>
              <a:rPr b="0" lang="en-US" sz="2400" spc="-1" strike="noStrike">
                <a:solidFill>
                  <a:srgbClr val="404040"/>
                </a:solidFill>
                <a:latin typeface="Perpetua"/>
              </a:rPr>
              <a:t>I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место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- всероссийская блиц-олимпиада «Ключевые особенности ФГОС», </a:t>
            </a:r>
            <a:r>
              <a:rPr b="0" lang="en-US" sz="2400" spc="-1" strike="noStrike">
                <a:solidFill>
                  <a:srgbClr val="404040"/>
                </a:solidFill>
                <a:latin typeface="Perpetua"/>
              </a:rPr>
              <a:t>I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место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- всероссийский конкур «Современный учитель», </a:t>
            </a:r>
            <a:r>
              <a:rPr b="0" lang="en-US" sz="2400" spc="-1" strike="noStrike">
                <a:solidFill>
                  <a:srgbClr val="404040"/>
                </a:solidFill>
                <a:latin typeface="Perpetua"/>
              </a:rPr>
              <a:t>III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мест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Picture 2" descr="C:\Users\егора\Documents\Димочка\2015-2016\аттестация\сертификаты\diplom (2)0001.jpg"/>
          <p:cNvPicPr/>
          <p:nvPr/>
        </p:nvPicPr>
        <p:blipFill>
          <a:blip r:embed="rId1"/>
          <a:stretch/>
        </p:blipFill>
        <p:spPr>
          <a:xfrm>
            <a:off x="6948360" y="333360"/>
            <a:ext cx="1140120" cy="1612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C:\Users\егора\Documents\Димочка\2015-2016\аттестация\сертификаты\diplom_NA0021-0118390001.jpg"/>
          <p:cNvPicPr/>
          <p:nvPr/>
        </p:nvPicPr>
        <p:blipFill>
          <a:blip r:embed="rId2"/>
          <a:stretch/>
        </p:blipFill>
        <p:spPr>
          <a:xfrm>
            <a:off x="7756560" y="1268280"/>
            <a:ext cx="1170000" cy="165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C:\Users\егора\Documents\Димочка\2015-2016\аттестация\сертификаты\diploma1.jpg"/>
          <p:cNvPicPr/>
          <p:nvPr/>
        </p:nvPicPr>
        <p:blipFill>
          <a:blip r:embed="rId3"/>
          <a:stretch/>
        </p:blipFill>
        <p:spPr>
          <a:xfrm>
            <a:off x="7143840" y="2637000"/>
            <a:ext cx="1123920" cy="1690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Users\егора\Documents\Димочка\2015-2016\аттестация\сертификаты\umn1-1870680001.jpg"/>
          <p:cNvPicPr/>
          <p:nvPr/>
        </p:nvPicPr>
        <p:blipFill>
          <a:blip r:embed="rId4"/>
          <a:stretch/>
        </p:blipFill>
        <p:spPr>
          <a:xfrm>
            <a:off x="7839000" y="3932280"/>
            <a:ext cx="1120680" cy="1584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Users\егора\Documents\Димочка\2015-2016\аттестация\сертификаты\diploma.jpg"/>
          <p:cNvPicPr/>
          <p:nvPr/>
        </p:nvPicPr>
        <p:blipFill>
          <a:blip r:embed="rId5"/>
          <a:stretch/>
        </p:blipFill>
        <p:spPr>
          <a:xfrm>
            <a:off x="7307280" y="5111640"/>
            <a:ext cx="10098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Воспитательная работ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4000" y="3499920"/>
            <a:ext cx="8640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еседы о технике безопасности, правилах поведения, об истории дзюдо, здоровом образе жизни и вредных привычках, о самоконтроле и врачебном контроле здоровья, моральной и психологической подготовке спортсмена и т.д.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астие в судействе на городских и районных соревнованиях, в различных городских мероприятиях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ультпоходы и чаепития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влечение учащихся к иной деятельности, связанной со спортом (участие в викторинах, создание информационных презентаций и др.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здание презентации для родителей и детей о дзюдо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9" name="Picture 2" descr="C:\Users\егора\Documents\Димочка\2015-2016\аттестация\сертификаты\diplom (1)0001.jpg"/>
          <p:cNvPicPr/>
          <p:nvPr/>
        </p:nvPicPr>
        <p:blipFill>
          <a:blip r:embed="rId1"/>
          <a:stretch/>
        </p:blipFill>
        <p:spPr>
          <a:xfrm>
            <a:off x="225360" y="890640"/>
            <a:ext cx="1322280" cy="1870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Users\егора\Documents\Димочка\2015-2016\аттестация\сертификаты\diplom (2)0001.jpg"/>
          <p:cNvPicPr/>
          <p:nvPr/>
        </p:nvPicPr>
        <p:blipFill>
          <a:blip r:embed="rId2"/>
          <a:stretch/>
        </p:blipFill>
        <p:spPr>
          <a:xfrm>
            <a:off x="1260360" y="1639800"/>
            <a:ext cx="1252800" cy="1770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Users\егора\Documents\Димочка\2015-2016\аттестация\сертификаты\svidetelstvo_tr-2198413.png"/>
          <p:cNvPicPr/>
          <p:nvPr/>
        </p:nvPicPr>
        <p:blipFill>
          <a:blip r:embed="rId3"/>
          <a:stretch/>
        </p:blipFill>
        <p:spPr>
          <a:xfrm>
            <a:off x="2328840" y="890640"/>
            <a:ext cx="1217520" cy="1714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Users\егора\Documents\Димочка\2015-2016\аттестация\сертификаты\certificate_219020001.jpg"/>
          <p:cNvPicPr/>
          <p:nvPr/>
        </p:nvPicPr>
        <p:blipFill>
          <a:blip r:embed="rId4"/>
          <a:stretch/>
        </p:blipFill>
        <p:spPr>
          <a:xfrm>
            <a:off x="3371760" y="1628640"/>
            <a:ext cx="1195560" cy="1690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5"/>
          <a:stretch/>
        </p:blipFill>
        <p:spPr>
          <a:xfrm>
            <a:off x="4567320" y="890640"/>
            <a:ext cx="1706400" cy="1279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6"/>
          <a:stretch/>
        </p:blipFill>
        <p:spPr>
          <a:xfrm>
            <a:off x="4859280" y="1370160"/>
            <a:ext cx="1635120" cy="1225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"/>
          <p:cNvPicPr/>
          <p:nvPr/>
        </p:nvPicPr>
        <p:blipFill>
          <a:blip r:embed="rId7"/>
          <a:stretch/>
        </p:blipFill>
        <p:spPr>
          <a:xfrm>
            <a:off x="6783480" y="890640"/>
            <a:ext cx="1657080" cy="1243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"/>
          <p:cNvPicPr/>
          <p:nvPr/>
        </p:nvPicPr>
        <p:blipFill>
          <a:blip r:embed="rId8"/>
          <a:stretch/>
        </p:blipFill>
        <p:spPr>
          <a:xfrm>
            <a:off x="5148360" y="2011320"/>
            <a:ext cx="1635120" cy="1227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9"/>
          <a:stretch/>
        </p:blipFill>
        <p:spPr>
          <a:xfrm>
            <a:off x="7020000" y="1384200"/>
            <a:ext cx="1627200" cy="12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"/>
          <p:cNvPicPr/>
          <p:nvPr/>
        </p:nvPicPr>
        <p:blipFill>
          <a:blip r:embed="rId10"/>
          <a:stretch/>
        </p:blipFill>
        <p:spPr>
          <a:xfrm>
            <a:off x="7254720" y="2011320"/>
            <a:ext cx="1635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7640" y="4608000"/>
            <a:ext cx="8785080" cy="22496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Планы на 2016-2017 учебный год:</a:t>
            </a:r>
            <a:br>
              <a:rPr sz="2800"/>
            </a:br>
            <a:r>
              <a:rPr b="0" lang="ru-RU" sz="800" spc="-1" strike="noStrike">
                <a:solidFill>
                  <a:srgbClr val="696464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- формирование и укомплектование учебных групп по возрастам, </a:t>
            </a:r>
            <a:br>
              <a:rPr sz="2400"/>
            </a:b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- подготовка спортсменов для участия в Первенстве РС(Я) и ДВФО.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7885080" y="3673440"/>
            <a:ext cx="176400" cy="284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363600" y="426960"/>
            <a:ext cx="2101680" cy="2133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3"/>
          <a:stretch/>
        </p:blipFill>
        <p:spPr>
          <a:xfrm>
            <a:off x="5999040" y="39996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G:\IMG-20160221-WA0037.jpg"/>
          <p:cNvPicPr/>
          <p:nvPr/>
        </p:nvPicPr>
        <p:blipFill>
          <a:blip r:embed="rId4"/>
          <a:stretch/>
        </p:blipFill>
        <p:spPr>
          <a:xfrm>
            <a:off x="2617920" y="399960"/>
            <a:ext cx="3224160" cy="216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G:\IMG_7241.JPG"/>
          <p:cNvPicPr/>
          <p:nvPr/>
        </p:nvPicPr>
        <p:blipFill>
          <a:blip r:embed="rId5"/>
          <a:stretch/>
        </p:blipFill>
        <p:spPr>
          <a:xfrm>
            <a:off x="363600" y="2760840"/>
            <a:ext cx="4064040" cy="1814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G:\IMG_7222.JPG"/>
          <p:cNvPicPr/>
          <p:nvPr/>
        </p:nvPicPr>
        <p:blipFill>
          <a:blip r:embed="rId6"/>
          <a:stretch/>
        </p:blipFill>
        <p:spPr>
          <a:xfrm>
            <a:off x="4521240" y="2760840"/>
            <a:ext cx="1514520" cy="1814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:\Users\егора\Downloads\IMG-20151024-WA0028 (1).jpg"/>
          <p:cNvPicPr/>
          <p:nvPr/>
        </p:nvPicPr>
        <p:blipFill>
          <a:blip r:embed="rId7"/>
          <a:stretch/>
        </p:blipFill>
        <p:spPr>
          <a:xfrm>
            <a:off x="6129360" y="2760840"/>
            <a:ext cx="26193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пасибо за вним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8" name="Picture 3" descr="C:\Users\егора\Documents\Димочка\images.jpg"/>
          <p:cNvPicPr/>
          <p:nvPr/>
        </p:nvPicPr>
        <p:blipFill>
          <a:blip r:embed="rId1"/>
          <a:stretch/>
        </p:blipFill>
        <p:spPr>
          <a:xfrm>
            <a:off x="3203640" y="3933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6T12:45:23Z</dcterms:created>
  <dc:creator>Galinchipups</dc:creator>
  <dc:description/>
  <dc:language>en-US</dc:language>
  <cp:lastModifiedBy>Galinchipups</cp:lastModifiedBy>
  <dcterms:modified xsi:type="dcterms:W3CDTF">2017-05-24T13:33:13Z</dcterms:modified>
  <cp:revision>15</cp:revision>
  <dc:subject/>
  <dc:title>Отделение дзюдо</dc:title>
</cp:coreProperties>
</file>