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30.jpeg" ContentType="image/jpeg"/>
  <Override PartName="/ppt/media/image15.png" ContentType="image/png"/>
  <Override PartName="/ppt/media/image29.jpeg" ContentType="image/jpeg"/>
  <Override PartName="/ppt/media/image3.wmf" ContentType="image/x-wmf"/>
  <Override PartName="/ppt/media/image2.png" ContentType="image/png"/>
  <Override PartName="/ppt/media/image25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5FA-AE98-489C-801E-F64983E0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FE7-0BBC-423C-9692-A65F02BF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C4A-7B4A-4C2F-A5D9-C7ED8B4B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0EE-7B0B-4005-99A5-87CFA433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4DF1-81E0-49C5-A19F-EB2DEADD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9171-20D1-4AAE-A5FC-E8BA9048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672F-E379-4265-9C15-F65613E1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8D69-3387-4E26-A563-50AB3C26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1511-A147-4DCA-A8C0-D0D8BBD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0E08-BDBD-4BBC-8B94-D944BC86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D2EC-6640-4E1E-A66F-7051CB6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E85-E943-47A0-AA84-CFA3FF11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384-0B6F-4F67-B4A3-7BF146D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83DE-DB9B-4743-A528-2AAECEA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1B5F-2025-4B24-BBAF-C8E439E0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5E7A-BDC9-4787-A365-BB9BA889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7982-CD3D-40AF-B0C9-DDDE6ADA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B56F-6570-4F91-BAE7-A3D2F336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C18F-18C6-4936-93FD-3964244F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D7A8-B2F5-4234-B206-87D9EAB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D62D-8C33-4984-A4D8-92CBCFC8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F4A7-3117-4608-87DA-279D2365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04A-0DCB-4176-8DED-1D2CF407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1BD6-80BE-425E-B82B-B661CCCC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BB5F-23AF-4BE8-81AB-48FA1527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593D-7588-4879-B500-D5260D6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4F96-E255-4EA8-94F9-E16C905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D099-5CC9-40BD-8C0E-2382E406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AAD9-B1DE-41A4-9EFC-89100DAF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FA57-ED45-4777-A364-159372A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65CB-EA09-469E-9B95-ED17FB66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AF89-5F89-44EE-8CE2-D2610E92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1C8F4-CE03-474F-844A-1EACA631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5F5-F463-4F28-B5D1-D5CED96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9ACB-B58A-4074-BE81-4A1DCC43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5C5F-1E88-4EF6-9A4D-F5EF9A8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1DFD-CA90-4119-AF36-FC5076B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F2CE-0105-4064-98AF-B0705440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EFF6-EB4A-4786-8F00-9A47D7E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8549-B897-4F7D-A30F-66D0D33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2A264-BD24-4280-89DE-B87CC20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AABA-4AE6-489C-93BA-14D272B6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56A7-052A-4681-9D72-4EF66D7D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E5FB-5946-4488-84A9-096A76F7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40D-89B7-40BE-A67C-93866208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915A-2ECD-4723-A636-4D120AA8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82A7-44BE-4A1A-8805-CCA22B10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F2EFF-77CC-4CA7-9F75-5189C40B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93F3E-7B84-405C-A8AE-FE431731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7976-D841-42CE-9DE2-7FB4E1C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5CBD7-B4DD-4437-A0DB-BAA67806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013C-3D77-452B-AC5B-D893A7A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9C8F-50EC-40B5-819B-76BB751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457C5-BB8D-4B79-A711-F51D271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9A614-A6CC-4FE2-90AF-F226913F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7B9-B4B2-4D3E-9A79-0BD5D43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374B-38FD-44AF-8135-75C8EA3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A54-D6E1-4968-809F-00B51DC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A28-649A-40DD-B187-3E3C6CA6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FFC-11C3-4473-841E-6742A12A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6D71-FBBC-4C65-A6D9-76AFDFBB318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B6A-4B9B-44B4-8A12-9D3B9E69723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CB9-3542-4966-BF76-3E589BBA28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F3C0-C37B-4CC0-A55E-C005525370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B779-3E0F-44CB-BA4F-6834D4D286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Отчет за 2015-2016 уч. го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Иванов Дмитрий Филиппович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Старший тренер – преподаватель по дзюдо МУ ДО «ДЮСШ» МО «Мирнинский район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тделение дзюд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712000" cy="250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Тренерско-педагогический состав – один штатный тренер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Часовая нагрузка – 36 часов в неделю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Учебные группы: две группы начальной подготовки и одна учебно-тренировочная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Количество учащихся: на начало года – 63, на конец года – 62.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02440" cy="779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Участие в соревнованиях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0680" y="1125360"/>
            <a:ext cx="20401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Лучшие результат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92240" y="2205000"/>
            <a:ext cx="2292120" cy="33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2351160" y="981000"/>
          <a:ext cx="6541920" cy="5472360"/>
        </p:xfrm>
        <a:graphic>
          <a:graphicData uri="http://schemas.openxmlformats.org/drawingml/2006/table">
            <a:tbl>
              <a:tblPr/>
              <a:tblGrid>
                <a:gridCol w="1730160"/>
                <a:gridCol w="1136880"/>
                <a:gridCol w="1249200"/>
                <a:gridCol w="1763640"/>
                <a:gridCol w="662040"/>
              </a:tblGrid>
              <a:tr h="5943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оревн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есто прове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частн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ест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2660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венство ДВФ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ладивост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Январь 2016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65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венство РС(Я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999-2001г.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ата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екабрь 2015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гиазарян 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игликов 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63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венство РС(Я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02-2003г.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кров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рт 2016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илов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65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еспубликанский отборочный турнир в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VI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Якут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екабрь 2015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игликов 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гиазарян 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2790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тборочные соревнования к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VI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кров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рт 2016 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гиазарян 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Чигликов 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илов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5284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еспубликанский турнир на кубок СК «Славутич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Якут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рт 2016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коловская 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р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нилов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3716280"/>
            <a:ext cx="8785440" cy="2881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Команда Мирнинского района среди младших юношей - </a:t>
            </a: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I </a:t>
            </a: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место в командном первенстве РС(Я) в г. Покровск, март 2016г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Орлов Алексей и Соколовская Елена вошли в сборную Республики Саха (Якутия) для участия в </a:t>
            </a: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VI </a:t>
            </a: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МСИ «Дети Азии».</a:t>
            </a:r>
            <a:br>
              <a:rPr sz="2500"/>
            </a:b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Соколовская Елена вошла в десятку лучших спортсменов района среди взрослых.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7" name="Picture 5" descr="E:\IMG_7521.JPG"/>
          <p:cNvPicPr/>
          <p:nvPr/>
        </p:nvPicPr>
        <p:blipFill>
          <a:blip r:embed="rId1"/>
          <a:stretch/>
        </p:blipFill>
        <p:spPr>
          <a:xfrm>
            <a:off x="324000" y="260280"/>
            <a:ext cx="2444760" cy="34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:\Users\егора\Desktop\папин телефон\1.jpg"/>
          <p:cNvPicPr/>
          <p:nvPr/>
        </p:nvPicPr>
        <p:blipFill>
          <a:blip r:embed="rId2"/>
          <a:stretch/>
        </p:blipFill>
        <p:spPr>
          <a:xfrm>
            <a:off x="6156360" y="260280"/>
            <a:ext cx="2422440" cy="345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http://yakutsk.bezformata.ru/content/image114111508.png"/>
          <p:cNvPicPr/>
          <p:nvPr/>
        </p:nvPicPr>
        <p:blipFill>
          <a:blip r:embed="rId3"/>
          <a:stretch/>
        </p:blipFill>
        <p:spPr>
          <a:xfrm>
            <a:off x="2828880" y="260280"/>
            <a:ext cx="32479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275520" cy="2125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В текущем учебном году в целях самообразования и повышения квалификации,  Иванов Д.Ф. принял участие в следующих 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on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line 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конкурсах: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2548080"/>
            <a:ext cx="7057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ий конкурс для педагогов и воспитателей «Территория здоровья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 в номинации «Консультация для родителей»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ое тестирование «Основы компьютерной грамотности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ий конкурс «Техника безопасности для учителей физкультуры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ая блиц-олимпиада «Ключевые особенности ФГОС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- всероссийский конкур «Современный учитель», </a:t>
            </a:r>
            <a:r>
              <a:rPr b="0" lang="en-US" sz="2400" spc="-1" strike="noStrike">
                <a:solidFill>
                  <a:srgbClr val="404040"/>
                </a:solidFill>
                <a:latin typeface="Perpetua"/>
              </a:rPr>
              <a:t>III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мест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C:\Users\егора\Documents\Димочка\2015-2016\аттестация\сертификаты\diplom (2)0001.jpg"/>
          <p:cNvPicPr/>
          <p:nvPr/>
        </p:nvPicPr>
        <p:blipFill>
          <a:blip r:embed="rId1"/>
          <a:stretch/>
        </p:blipFill>
        <p:spPr>
          <a:xfrm>
            <a:off x="6948360" y="333360"/>
            <a:ext cx="1140120" cy="1612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егора\Documents\Димочка\2015-2016\аттестация\сертификаты\diplom_NA0021-0118390001.jpg"/>
          <p:cNvPicPr/>
          <p:nvPr/>
        </p:nvPicPr>
        <p:blipFill>
          <a:blip r:embed="rId2"/>
          <a:stretch/>
        </p:blipFill>
        <p:spPr>
          <a:xfrm>
            <a:off x="7756560" y="1268280"/>
            <a:ext cx="1170000" cy="165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егора\Documents\Димочка\2015-2016\аттестация\сертификаты\diploma1.jpg"/>
          <p:cNvPicPr/>
          <p:nvPr/>
        </p:nvPicPr>
        <p:blipFill>
          <a:blip r:embed="rId3"/>
          <a:stretch/>
        </p:blipFill>
        <p:spPr>
          <a:xfrm>
            <a:off x="7143840" y="2637000"/>
            <a:ext cx="1123920" cy="1690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Users\егора\Documents\Димочка\2015-2016\аттестация\сертификаты\umn1-1870680001.jpg"/>
          <p:cNvPicPr/>
          <p:nvPr/>
        </p:nvPicPr>
        <p:blipFill>
          <a:blip r:embed="rId4"/>
          <a:stretch/>
        </p:blipFill>
        <p:spPr>
          <a:xfrm>
            <a:off x="7839000" y="3932280"/>
            <a:ext cx="1120680" cy="15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Users\егора\Documents\Димочка\2015-2016\аттестация\сертификаты\diploma.jpg"/>
          <p:cNvPicPr/>
          <p:nvPr/>
        </p:nvPicPr>
        <p:blipFill>
          <a:blip r:embed="rId5"/>
          <a:stretch/>
        </p:blipFill>
        <p:spPr>
          <a:xfrm>
            <a:off x="7307280" y="5111640"/>
            <a:ext cx="10098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оспитательная работ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4000" y="3499920"/>
            <a:ext cx="8640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еседы о технике безопасности, правилах поведения, об истории дзюдо, здоровом образе жизни и вредных привычках, о самоконтроле и врачебном контроле здоровья, моральной и психологической подготовке спортсмена и т.д.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астие в судействе на городских и районных соревнованиях, в различных городских мероприятиях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ультпоходы и чаепити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влечение учащихся к иной деятельности, связанной со спортом (участие в викторинах, создание информационных презентаций и др.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презентации для родителей и детей о дзюдо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9" name="Picture 2" descr="C:\Users\егора\Documents\Димочка\2015-2016\аттестация\сертификаты\diplom (1)0001.jpg"/>
          <p:cNvPicPr/>
          <p:nvPr/>
        </p:nvPicPr>
        <p:blipFill>
          <a:blip r:embed="rId1"/>
          <a:stretch/>
        </p:blipFill>
        <p:spPr>
          <a:xfrm>
            <a:off x="225360" y="890640"/>
            <a:ext cx="1322280" cy="187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егора\Documents\Димочка\2015-2016\аттестация\сертификаты\diplom (2)0001.jpg"/>
          <p:cNvPicPr/>
          <p:nvPr/>
        </p:nvPicPr>
        <p:blipFill>
          <a:blip r:embed="rId2"/>
          <a:stretch/>
        </p:blipFill>
        <p:spPr>
          <a:xfrm>
            <a:off x="1260360" y="1639800"/>
            <a:ext cx="1252800" cy="1770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Users\егора\Documents\Димочка\2015-2016\аттестация\сертификаты\svidetelstvo_tr-2198413.png"/>
          <p:cNvPicPr/>
          <p:nvPr/>
        </p:nvPicPr>
        <p:blipFill>
          <a:blip r:embed="rId3"/>
          <a:stretch/>
        </p:blipFill>
        <p:spPr>
          <a:xfrm>
            <a:off x="2328840" y="890640"/>
            <a:ext cx="1217520" cy="1714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егора\Documents\Димочка\2015-2016\аттестация\сертификаты\certificate_219020001.jpg"/>
          <p:cNvPicPr/>
          <p:nvPr/>
        </p:nvPicPr>
        <p:blipFill>
          <a:blip r:embed="rId4"/>
          <a:stretch/>
        </p:blipFill>
        <p:spPr>
          <a:xfrm>
            <a:off x="3371760" y="1628640"/>
            <a:ext cx="1195560" cy="1690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5"/>
          <a:stretch/>
        </p:blipFill>
        <p:spPr>
          <a:xfrm>
            <a:off x="4567320" y="890640"/>
            <a:ext cx="1706400" cy="1279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6"/>
          <a:stretch/>
        </p:blipFill>
        <p:spPr>
          <a:xfrm>
            <a:off x="4859280" y="1370160"/>
            <a:ext cx="1635120" cy="1225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"/>
          <p:cNvPicPr/>
          <p:nvPr/>
        </p:nvPicPr>
        <p:blipFill>
          <a:blip r:embed="rId7"/>
          <a:stretch/>
        </p:blipFill>
        <p:spPr>
          <a:xfrm>
            <a:off x="6783480" y="89064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"/>
          <p:cNvPicPr/>
          <p:nvPr/>
        </p:nvPicPr>
        <p:blipFill>
          <a:blip r:embed="rId8"/>
          <a:stretch/>
        </p:blipFill>
        <p:spPr>
          <a:xfrm>
            <a:off x="5148360" y="2011320"/>
            <a:ext cx="1635120" cy="1227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9"/>
          <a:stretch/>
        </p:blipFill>
        <p:spPr>
          <a:xfrm>
            <a:off x="7020000" y="1384200"/>
            <a:ext cx="1627200" cy="12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"/>
          <p:cNvPicPr/>
          <p:nvPr/>
        </p:nvPicPr>
        <p:blipFill>
          <a:blip r:embed="rId10"/>
          <a:stretch/>
        </p:blipFill>
        <p:spPr>
          <a:xfrm>
            <a:off x="7254720" y="2011320"/>
            <a:ext cx="1635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4608000"/>
            <a:ext cx="8785080" cy="2249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Планы на 2016-2017 учебный год:</a:t>
            </a:r>
            <a:br>
              <a:rPr sz="2800"/>
            </a:br>
            <a:r>
              <a:rPr b="0" lang="ru-RU" sz="800" spc="-1" strike="noStrike">
                <a:solidFill>
                  <a:srgbClr val="696464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- формирование и укомплектование учебных групп по возрастам, </a:t>
            </a:r>
            <a:br>
              <a:rPr sz="2400"/>
            </a:b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- подготовка спортсменов для участия в Первенстве РС(Я) и ДВФО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7885080" y="3673440"/>
            <a:ext cx="176400" cy="284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363600" y="426960"/>
            <a:ext cx="2101680" cy="213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3"/>
          <a:stretch/>
        </p:blipFill>
        <p:spPr>
          <a:xfrm>
            <a:off x="5999040" y="39996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G:\IMG-20160221-WA0037.jpg"/>
          <p:cNvPicPr/>
          <p:nvPr/>
        </p:nvPicPr>
        <p:blipFill>
          <a:blip r:embed="rId4"/>
          <a:stretch/>
        </p:blipFill>
        <p:spPr>
          <a:xfrm>
            <a:off x="2617920" y="399960"/>
            <a:ext cx="3224160" cy="216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G:\IMG_7241.JPG"/>
          <p:cNvPicPr/>
          <p:nvPr/>
        </p:nvPicPr>
        <p:blipFill>
          <a:blip r:embed="rId5"/>
          <a:stretch/>
        </p:blipFill>
        <p:spPr>
          <a:xfrm>
            <a:off x="363600" y="2760840"/>
            <a:ext cx="4064040" cy="1814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G:\IMG_7222.JPG"/>
          <p:cNvPicPr/>
          <p:nvPr/>
        </p:nvPicPr>
        <p:blipFill>
          <a:blip r:embed="rId6"/>
          <a:stretch/>
        </p:blipFill>
        <p:spPr>
          <a:xfrm>
            <a:off x="4521240" y="2760840"/>
            <a:ext cx="1514520" cy="1814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Users\егора\Downloads\IMG-20151024-WA0028 (1).jpg"/>
          <p:cNvPicPr/>
          <p:nvPr/>
        </p:nvPicPr>
        <p:blipFill>
          <a:blip r:embed="rId7"/>
          <a:stretch/>
        </p:blipFill>
        <p:spPr>
          <a:xfrm>
            <a:off x="6129360" y="2760840"/>
            <a:ext cx="26193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8" name="Picture 3" descr="C:\Users\егора\Documents\Димочка\images.jpg"/>
          <p:cNvPicPr/>
          <p:nvPr/>
        </p:nvPicPr>
        <p:blipFill>
          <a:blip r:embed="rId1"/>
          <a:stretch/>
        </p:blipFill>
        <p:spPr>
          <a:xfrm>
            <a:off x="3203640" y="3933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12:45:23Z</dcterms:created>
  <dc:creator>Galinchipups</dc:creator>
  <dc:description/>
  <dc:language>en-US</dc:language>
  <cp:lastModifiedBy>Galinchipups</cp:lastModifiedBy>
  <dcterms:modified xsi:type="dcterms:W3CDTF">2017-05-24T13:33:13Z</dcterms:modified>
  <cp:revision>15</cp:revision>
  <dc:subject/>
  <dc:title>Отделение дзюдо</dc:title>
</cp:coreProperties>
</file>