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9E7-C851-4E2A-BF7D-CFC71670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74E-6E72-42A9-9B70-96FD4693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538-DF66-49B1-A6A3-0CDCF759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8EF-A4E4-4AA1-93BC-77A68A9D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7FD-10A4-4B81-BDFC-5180BFEA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7CF-660E-4988-B0B8-21D5FC2F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724-2B3A-4958-9489-88DA29D6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760-9FD6-4DE8-8797-91250360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7C1-5B3E-4C08-B92B-141BBA05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698-76C3-4101-9F7B-0BD2623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DF7-64EA-4F47-AFA1-4B3049D3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15F-790B-4935-A3C3-42E9470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8191-3CD0-4192-8C84-CC85DC2C6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" name="Fiksiki_-_Pomogator_(iPlayer.fm).mp3" descr=""/>
          <p:cNvPicPr/>
          <p:nvPr/>
        </p:nvPicPr>
        <p:blipFill>
          <a:blip r:embed="rId1"/>
          <a:stretch/>
        </p:blipFill>
        <p:spPr>
          <a:xfrm>
            <a:off x="4267080" y="35575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Fiksiki_-_Pomogator_(iPlayer.fm).mp3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284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28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цените свою работу на уроке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3560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:12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*2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*3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:5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:6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:13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:17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*8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*5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:3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:3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:14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:15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*4=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*3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=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Calibri"/>
              </a:rPr>
              <a:t>Работа. Время. Производительнос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25909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улируйте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 цель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а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перед собой сегодня поставим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полненная работа равна производительности, умноженной на время работы.</a:t>
            </a:r>
            <a:br>
              <a:rPr sz="4400"/>
            </a:br>
            <a:r>
              <a:rPr b="1" lang="ru-RU" sz="6700" spc="-1" strike="noStrike">
                <a:solidFill>
                  <a:srgbClr val="ff0000"/>
                </a:solidFill>
                <a:latin typeface="Calibri"/>
              </a:rPr>
              <a:t>А= </a:t>
            </a:r>
            <a:r>
              <a:rPr b="1" lang="en-US" sz="67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1" lang="ru-RU" sz="6700" spc="-1" strike="noStrike">
                <a:solidFill>
                  <a:srgbClr val="ff0000"/>
                </a:solidFill>
                <a:latin typeface="Calibri"/>
              </a:rPr>
              <a:t>· </a:t>
            </a:r>
            <a:r>
              <a:rPr b="1" lang="en-US" sz="6700" spc="-1" strike="noStrike">
                <a:solidFill>
                  <a:srgbClr val="ff0000"/>
                </a:solidFill>
                <a:latin typeface="Calibri"/>
              </a:rPr>
              <a:t>t</a:t>
            </a: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бы найти производительность, надо всю выполненную работу разделить на время.</a:t>
            </a:r>
            <a:br>
              <a:rPr sz="4000"/>
            </a:b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= А :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бы найти время работы, надо работу разделить на производительность.</a:t>
            </a:r>
            <a:br>
              <a:rPr sz="4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=  А :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228600" y="75096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карь выпекает 30 булок хлеба в час . Сколько он испечет булок хлеба за 5 часов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решил за  5 примеров за минуту. Сколько минут потребуется ему, чтобы решить 25 примеров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10 минут автомат заворачивает 360 конфет. Сколько он заворачивает за 1 мину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ья выкопала 20кг картошки за 1 день . Сколько кг картошки выкопает за 3 д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ар испек 240 пирожков за 2 часа. Сколько пирожков он испечет за 1 ч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цените свои умения 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0b050"/>
                </a:solidFill>
                <a:latin typeface="Constantia"/>
              </a:rPr>
              <a:t>Да, я умею решать задачи  </a:t>
            </a:r>
            <a:r>
              <a:rPr b="0" lang="ru-RU" sz="40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0b050"/>
                </a:solidFill>
                <a:latin typeface="Constantia"/>
              </a:rPr>
              <a:t>пользуясь формулой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Мне не хватает уверенности в 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решении задач с помощью 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6b6bcf"/>
                </a:solidFill>
                <a:latin typeface="Constantia"/>
              </a:rPr>
              <a:t>форму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ока я затрудняюсь в решении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задач с помощью формул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7886880" y="2057400"/>
            <a:ext cx="125712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124080" y="4051440"/>
            <a:ext cx="838440" cy="82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7153200" y="5410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Храмцова</cp:lastModifiedBy>
  <dcterms:modified xsi:type="dcterms:W3CDTF">2017-04-18T20:24:1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