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A1A-1589-4558-8C36-D1D6F54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A3D-FBCE-4C10-B15A-389D212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123-457C-44E2-881A-8E24326B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770-B2EC-46C5-844A-5013D709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C22-FDF2-4282-9013-7956CC6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223-4A6C-4831-8184-B88EED53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267-ADFD-4BD9-AE81-4321C0C8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593-CC89-42E3-851C-08D9E50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6DC-6ED5-4390-A59C-4C31AA9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47D-1015-447E-B72B-6507017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53C-0F6C-46E3-A294-1B5B506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7E5-ACD3-4371-A281-900D748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F6B1-5B13-4DBC-8D1D-D3210E5F2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" name="Fiksiki_-_Pomogator_(iPlayer.fm)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Fiksiki_-_Pomogator_(iPlayer.fm).mp3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8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28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цените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356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:12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*2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*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:5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:6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:13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:17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*8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*5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:3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: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:14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:15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*4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*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бота. Время. Производительнос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2590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ируйт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цел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а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еред собой сегодня постави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олненная работа равна производительности, умноженной на время работы.</a:t>
            </a:r>
            <a:br>
              <a:rPr sz="4400"/>
            </a:br>
            <a:r>
              <a:rPr b="1" lang="ru-RU" sz="6700" spc="-1" strike="noStrike">
                <a:solidFill>
                  <a:srgbClr val="ff0000"/>
                </a:solidFill>
                <a:latin typeface="Calibri"/>
              </a:rPr>
              <a:t>А= </a:t>
            </a:r>
            <a:r>
              <a:rPr b="1" lang="en-US" sz="67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1" lang="ru-RU" sz="6700" spc="-1" strike="noStrike">
                <a:solidFill>
                  <a:srgbClr val="ff0000"/>
                </a:solidFill>
                <a:latin typeface="Calibri"/>
              </a:rPr>
              <a:t>· </a:t>
            </a:r>
            <a:r>
              <a:rPr b="1" lang="en-US" sz="67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йти производительность, надо всю выполненную работу разделить на время.</a:t>
            </a:r>
            <a:br>
              <a:rPr sz="4000"/>
            </a:b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= А :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йти время работы, надо работу разделить на производительность.</a:t>
            </a:r>
            <a:br>
              <a:rPr sz="4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=  А :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28600" y="75096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карь выпекает 30 булок хлеба в час . Сколько он испечет булок хлеба за 5 час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решил за  5 примеров за минуту. Сколько минут потребуется ему, чтобы решить 25 пример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10 минут автомат заворачивает 360 конфет. Сколько он заворачивает за 1 мину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я выкопала 20кг картошки за 1 день . Сколько кг картошки выкопает за 3 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 испек 240 пирожков за 2 часа. Сколько пирожков он испечет за 1 ч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цените свои умения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Да, я умею решать задачи  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пользуясь формулой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Мне не хватает уверенности в 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решении задач с помощью 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форму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ока я затрудняюсь в решени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задач с помощью формул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886880" y="205740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124080" y="4051440"/>
            <a:ext cx="838440" cy="82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7153200" y="5410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Храмцова</cp:lastModifiedBy>
  <dcterms:modified xsi:type="dcterms:W3CDTF">2017-04-18T20:24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