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32A-272F-4EAE-890F-2EB9F892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3E6-56E5-432D-BD75-6CA4BDFF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A7901-F0FD-4DB4-A195-98F60B8F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E80F0-3425-4B59-A3C7-E53A9429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886B4-D5B4-435F-A6AF-D3B57677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0751B-CD3C-4C74-A27F-C148E13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E170B-1802-4025-AEED-7CAB3969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9CAEC-2B66-4EE0-AE36-E6A7EE92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B5986-CA9C-4CA1-B3F1-6C1A8C9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2A174-0031-4920-AAA0-818C3193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F47EA-0205-4B6B-AAFD-2E0C303F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73517-57A8-4C30-961C-4B3063FA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5D7-F2DF-41D1-AD66-4EA16996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6435E-8ED1-4CC5-AA08-8CC34519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3782A-9991-459E-9E2F-CFC681CD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559DA-B462-4A9D-B411-94DBDE83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B58AD-E904-4A34-B33C-3191316C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5683F-4B30-47BF-8391-D228A43B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88C85-D6A0-4877-B640-F79589C6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1370E-5FB0-4426-B458-F5EA748E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22503-9164-4AFC-B2A5-508F7856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70B5A-A11E-4357-9FF7-F3B5591A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D5D45-CEB7-4659-8A8D-100D72E2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6B1-3790-405F-B8CB-A87763AA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57C31-EBD5-47A9-BE3B-3E7EDBA0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BFB49-0C77-4272-9FF6-747179E1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E0EF5-4F78-4B9A-B60F-A7A2BDBF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96F92-9E1F-4C4F-A280-4D7F62E4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E44F3-E4E6-4D8E-BB85-62FE4819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40EB4-A68B-45B2-8300-F7601AEF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CE6EF-E0D9-45F2-89A8-A310EE99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9B26E-9835-4630-A591-9F593C98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3673C-27AD-4DF9-BD17-BE4A690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0CA4D-B129-4DE6-8290-3568B44A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D734-0D74-4899-B7CF-20750C0F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5D08E-ACFB-4E5E-A685-0822C8D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D6F7D-88A4-4325-9D58-64EE35EF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BED3B-EF25-4C80-800A-A2C619C5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D2BB6-9C8A-456D-9602-8FE66DCA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B1672-72B7-401B-9735-DA812531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251E6-2C32-4D95-A09B-843F1522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60A02-FF85-4566-AAEC-75929F2E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401B8-7E29-445D-9E37-0530581E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28B79-93D5-42CD-B351-5073A7E8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D1380-6ACF-4C07-9E2D-38C01FEC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AD56-9064-48B6-9311-6D12DEF2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AA844-BD42-493D-B942-83822D0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AE541-3F2C-4750-9F2C-7D2BD14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307BC-7444-4102-9FF3-93BD17EE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409D7-2C11-4F24-879E-1EFD9CA6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4EB58-A765-452C-A819-6354EC12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32594-1EF6-4354-9279-C4A0A0CF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3FADC-FF44-407D-8CE2-3592D52C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D31EF-1686-4ED6-A938-8A67E5A9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074F5-D800-47CA-953A-0FC32BF5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1CF74-194F-4ADD-8B87-3F782195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5F84-E550-44DE-84D6-11E330EF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999EA-CEB4-41ED-BCC5-E3756F18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B0DE8-8FBB-4154-A9F3-D3A6AB54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9034E-53EA-4BE8-A0CF-FA47CF2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D5D0D-27AD-4D14-8638-0CC3D50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B0725-C6EC-4C7B-8A2E-55ADB81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B53E1-7CB3-4204-AA51-3A114BAE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A4432-F033-4D6B-BB5A-3CFA7A06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DE68A-89E1-49FB-9161-0E8DA6BB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F2B9C-3D1F-4F8B-B07D-8162219C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5462C-15B1-4D72-B733-922BC67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E849-8665-49B8-B0AA-AE40E058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B0D80-0E64-4916-9B53-7FFB36B3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97A60-E519-4A6D-B6B6-A74CC6C2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5D863-C331-4AD9-AEC5-68D607D7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47B0E-BF65-4F87-A28F-BC875EB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6B748-133A-49BA-8B07-9C92082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0A974-F8AE-4C5A-A804-FAF3B4A8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637F9-3AB6-4AA4-A7F3-4D901BF0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78B34-FBA2-4136-AAEB-0A888D4E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9C4F0-C60E-4735-9C59-A6FD1BA4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176CA-C132-434F-9AFE-79400E75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45CE-5D3E-415C-B001-1829A050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DF8E7-2511-4E1F-859A-00EDE2F7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2DE99-D841-4B31-B05F-96768D16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19583-BDD0-44E6-96C5-5940CB5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B5FF4-3B00-42AD-AC70-DCF06EE7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F867D-3F44-423C-A144-E0F55099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AC3C8-7423-40FA-94F1-1A755D3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AD808-BAE7-4E0B-8396-13495852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863F5-CF0E-41CB-BB8A-F1C31E39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64113-BEBF-45F8-9DC3-0FA2FAB8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FCF01-A15E-4041-BCF4-906E4FD6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379A-4B41-4D05-973F-18E779F9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DF6F4-A75C-40C3-8487-16813CFC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02024-80CF-465C-A01C-58B25F7F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70DAF-F5E0-4243-8A95-E883DC57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6705C-7E01-4610-A3C6-E1646647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D3C34-2869-415F-B2CB-D046A97F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BE9B3-72FF-4F8C-90B5-2D20EB5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89AF1-CD14-4316-A356-55820431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36D70-EC76-41C2-8A3A-399FDC96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5DEFCE-F1CE-4382-9223-2CDFDBA6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BC1DA-06F6-4B91-A30C-DECE40F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E3B-6E9F-4353-9AC1-AD05796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EE86F-0674-4268-9641-D25447A1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8A7F5E-8B0D-42DF-9F88-866344D3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FF31E-A49F-4B62-BE57-CE91268E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EF50B-A2A6-47EE-AD8B-62DCB778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FA3BF-6E04-45F8-BCBE-A4E3433D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A2AC5-1679-4F66-9C4E-87FC064C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52F89-03BD-4E52-8B47-C0F3464C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9835A-CD2B-47C4-9E18-8BD9F976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A2973-DF0C-4B95-BBEB-734C381C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09050-4E41-4D4F-9AAA-4DF2C049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DA3-E591-4D54-B77B-1F090AFD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B1ED-894E-4A52-A448-366CA847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3E65C-5B7A-40E1-A870-66AD540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0A86A8-CA8B-4ECB-B477-91EFD635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B26DD-A521-48EF-B1BC-6D5BCDDE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4470F-1FD1-4CD2-998E-72A423AF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928A2-7125-407E-8F47-BA7038C8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9F7F1-BCC6-4541-ACFF-A3108E31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8BD57-6595-424A-BF86-DDA5FCEC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54A10-5C6A-4294-8709-0AD9F2A6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9310A-2D13-405B-BD44-7675200F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0361D-5841-45EB-9856-9646634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113B-26EC-41DA-AFF2-E6F48DC2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79E80-FCC6-470A-9501-E92DD51C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EC477-E247-421F-8085-B14134A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785E1-6714-48F6-9FC9-B3A07B8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21139-6989-4456-A701-BD9E6D1D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6EFE8-9240-40BF-9DD9-E822A450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2351D-C9F3-4085-9CF9-38F0FFF6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1342B-E1AF-4819-AFCB-1F0A246A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3C2BC-7010-422C-B151-C6E019F8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72466-8D49-43D0-83FB-EBF5A180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F249C-FD8F-4E0B-9DC4-9196D9F4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A5F4-5ADB-4F85-B754-A79828F7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CD6503-EEA0-4A1D-80A8-E63D94B8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0B624-E70E-4C7C-A309-C7028E33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CDB83-E45F-44A6-9E1F-834342D8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968C2-8C4A-4418-8BD6-0EEC5D2A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97A32-5441-4681-9081-AC7012A5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00F94-472F-4D1D-9E52-D719CDF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7EFD7E-6179-4BA9-9432-468299E8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967B7-48F1-467B-B554-98BCD5C7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825D4-372B-474D-8594-9B210247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DC69AC-B1B1-4E7F-87C6-DD4C4C1C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9E32-852D-4373-959C-8314C339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949CA-94E8-4AE9-ADFC-85662D6D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5D26C-D1FD-49F4-80A7-890C8BE0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D38FE-8912-4259-8B95-6AD6A87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BBDA2-85BB-438C-B08C-DD61749E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57B85-694A-4D1E-AACA-D15BB0BF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34218-9D74-4D9A-B137-0F6F5F72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81EF0F-F6F7-4C0F-AF5C-F8BEB27D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2BE8D-00EC-4F94-AD37-03B258C7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5B45B-114B-49B0-A95C-C4A9620A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4A959-BFD3-45A8-A823-257B2E39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5CC9-C07A-42D5-B476-8BE0C058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7B1FB-F71B-4F99-9574-0F885897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7A6A-238E-4ACB-9CCC-4A44F8E0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D74D-F315-4195-B113-8C001C79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E93F-6EE4-44FF-A524-5BEC2C7E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12CD-30F0-43F9-9909-C3362069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113C3-B3CF-407A-A1B7-9C0B8CE9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78A-BEF5-4B34-BF50-B91C1AB2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0DE2-AF17-430D-BE69-8635BA07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26B7-2485-4DE0-A1EC-F40CE5AB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C2C0-EED4-4CD9-9BFB-F656CDAC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AEBF-7A23-4F88-99A3-9CCD0E17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6015-A000-495C-8E57-9D250C3E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CA6D-B49D-4FE0-90BD-566B5F2B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8CF5-5663-44F9-924C-E9C66F57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B861-A2D7-475B-9236-55E362C7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6829-BAFB-417F-924B-39996D88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4494-9C92-4F97-8459-310B0250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78B-E16E-4885-8004-4ADF3A21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F4565-6567-4905-BC52-EE5CE6A6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6680-8E8E-4377-977B-53689460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43B2-30EC-4E5C-865C-2E932AE1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747A-F8E1-4E4B-B880-32004410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C856-7881-4D5C-A60C-E290CF9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F79C-DCB8-4B00-A22F-AF9E81B5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6931-07F7-43A4-B6BD-AAD01F74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DC43-97BA-42B6-864A-305B2381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3777-3CE6-4505-B10E-CAF7B200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3B0E5-E4E4-4EAA-972C-C29D359A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9F3-9AA1-4EB0-A7E3-1DEEC7ED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35077-FE83-46C1-A1E9-23B3ACB7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58375-86F1-44B8-B01C-575E68E9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385E1-7170-4D68-AC86-33E9B33E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41E0F-F887-4C94-B136-45D3B150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C8FBD-C84B-4082-890F-825F1D69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45BD-24DE-4466-9ADE-C09BAA43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9D05-3578-49CA-83AB-D40408B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BB5F1-F0DA-4C23-AEBF-FC578C37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8927-DA2B-456B-A7A3-72DAEC3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AF52B-A37C-4661-A371-F050C2C5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C9A-2363-4A78-A81C-66B38D9E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B2A63-B355-403F-AB50-655FBC23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B288C-D1EC-4B23-8596-E8264088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2677F-D13E-425F-B382-FCE30850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ACB0-6A13-4496-B8FD-233DB34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2BD61-3569-48A7-A947-9D2F0CFC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E9A73-C3F4-41AD-BD14-FEF428D7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6372-05DB-4445-A1D9-F6DF091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AF52-8ED7-4CC1-840D-7BC61ED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01B86-7CEC-4026-8A92-8F4C41F5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3FA8E-0863-48C8-B445-2C3B492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1CA-F349-4159-910E-F3767F8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3A582-7845-4AA0-861E-13C03534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C575E-FDEE-4A3B-B782-75191AC8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0BB48-508B-436B-B933-4913FC23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306BE-3DC0-4E2A-B8F6-2C8005C9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9F835-8E31-4AE2-931E-13774675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D5D4-F7EE-463A-91C1-5D1A0621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808A-7CB3-4DF4-BD96-4BB86CE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4CE8F-3C69-4F9B-8908-9B972DDA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F097D-BADC-490D-90B4-945C4711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6A868-A95C-4F06-83EF-B22820D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B61-CF7B-4E4D-80DD-8CD65802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A026A-12BC-47F8-8355-3E0EFD59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47F96-43A3-452F-B587-9F17FA5C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9F317-CAD3-4E53-9690-E4A52644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78A6B-2DE5-4360-BBE1-8D8DF3C5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51932-8829-4103-A4F2-E66464E2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27C76-6317-42CD-8A36-A2A8555F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40461-359E-4205-BE86-8B768D2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B9FDB-489E-401B-8E94-7370740A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CE1EB-42EF-47E1-ABEF-16739806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4C2F0-0DFA-4853-AE05-0326385F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DC6-6D9A-499B-A558-BDF071E0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9160" cy="84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B0A5-FA60-4803-82EC-FEE55061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89337-ECE2-4F43-B402-0337824B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F313F-FB03-4ACB-A639-3B5215DA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609E5-787F-49EF-BD5E-EB136CE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371240" y="4800240"/>
            <a:ext cx="639756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A87B2-15A0-4E9F-BD19-5C267B8B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49760" y="388620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37124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49760" y="4800240"/>
            <a:ext cx="3121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A60CF-D932-4B13-A2D7-003E9FCF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3448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97720" y="388620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37124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53448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697720" y="4800240"/>
            <a:ext cx="2059920" cy="8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9A5BF-5AEB-4A1E-B48A-B3A2F099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8B107-92C9-45CE-B69F-976EB1BC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9ED51-F194-427E-A746-9DA05AD0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14E8B-D64D-476D-B9B1-3607F69A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2400 w 6854760"/>
                <a:gd name="textAreaRight" fmla="*/ 6192360 w 6854760"/>
                <a:gd name="textAreaTop" fmla="*/ 21240 h 222480"/>
                <a:gd name="textAreaBottom" fmla="*/ 20124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320" y="6242040"/>
            <a:ext cx="1779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160"/>
            <a:ext cx="34527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21145-54A4-4EB9-9880-1E5EF0AD873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8454960" cy="5940360"/>
            <a:chOff x="0" y="0"/>
            <a:chExt cx="8454960" cy="5940360"/>
          </a:xfrm>
        </p:grpSpPr>
        <p:sp>
          <p:nvSpPr>
            <p:cNvPr id="501" name=""/>
            <p:cNvSpPr/>
            <p:nvPr/>
          </p:nvSpPr>
          <p:spPr>
            <a:xfrm>
              <a:off x="0" y="2286000"/>
              <a:ext cx="8180280" cy="36543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0"/>
              <a:ext cx="8454960" cy="585324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917F79-CBB2-4D5B-A255-95DF1AA975D0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685440" y="1768320"/>
            <a:ext cx="776916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7616880" cy="6854760"/>
            <a:chOff x="0" y="0"/>
            <a:chExt cx="7616880" cy="6854760"/>
          </a:xfrm>
        </p:grpSpPr>
        <p:grpSp>
          <p:nvGrpSpPr>
            <p:cNvPr id="544" name=""/>
            <p:cNvGrpSpPr/>
            <p:nvPr/>
          </p:nvGrpSpPr>
          <p:grpSpPr>
            <a:xfrm>
              <a:off x="0" y="0"/>
              <a:ext cx="3197160" cy="6854760"/>
              <a:chOff x="0" y="0"/>
              <a:chExt cx="3197160" cy="685476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0"/>
                <a:ext cx="758880" cy="68547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7200" y="0"/>
                <a:ext cx="2739960" cy="11635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28240" y="1981080"/>
              <a:ext cx="7388640" cy="316080"/>
              <a:chOff x="228240" y="1981080"/>
              <a:chExt cx="7388640" cy="316080"/>
            </a:xfrm>
          </p:grpSpPr>
          <p:sp>
            <p:nvSpPr>
              <p:cNvPr id="548" name=""/>
              <p:cNvSpPr/>
              <p:nvPr/>
            </p:nvSpPr>
            <p:spPr>
              <a:xfrm>
                <a:off x="609480" y="1981080"/>
                <a:ext cx="7007400" cy="3142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227880" y="1981080"/>
                <a:ext cx="390600" cy="3160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B1650C-44CF-46E3-A313-A673004C96F4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0" y="0"/>
            <a:ext cx="5864400" cy="6854760"/>
            <a:chOff x="0" y="0"/>
            <a:chExt cx="5864400" cy="6854760"/>
          </a:xfrm>
        </p:grpSpPr>
        <p:sp>
          <p:nvSpPr>
            <p:cNvPr id="592" name=""/>
            <p:cNvSpPr/>
            <p:nvPr/>
          </p:nvSpPr>
          <p:spPr>
            <a:xfrm>
              <a:off x="0" y="0"/>
              <a:ext cx="4568760" cy="68547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990720"/>
              <a:ext cx="5178600" cy="1901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632040" y="4889520"/>
            <a:ext cx="4873680" cy="315720"/>
            <a:chOff x="3632040" y="4889520"/>
            <a:chExt cx="4873680" cy="315720"/>
          </a:xfrm>
        </p:grpSpPr>
        <p:sp>
          <p:nvSpPr>
            <p:cNvPr id="595" name=""/>
            <p:cNvSpPr/>
            <p:nvPr/>
          </p:nvSpPr>
          <p:spPr>
            <a:xfrm flipH="1">
              <a:off x="3632040" y="4889520"/>
              <a:ext cx="4623120" cy="3142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48680" y="4889520"/>
              <a:ext cx="257040" cy="3157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dt" idx="34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35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36"/>
          </p:nvPr>
        </p:nvSpPr>
        <p:spPr>
          <a:xfrm>
            <a:off x="76320" y="624816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9994AB-10D5-4B29-8180-B20ECED8009E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title"/>
          </p:nvPr>
        </p:nvSpPr>
        <p:spPr>
          <a:xfrm>
            <a:off x="964800" y="1270080"/>
            <a:ext cx="766908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0" y="152280"/>
            <a:ext cx="8683560" cy="6093000"/>
            <a:chOff x="0" y="152280"/>
            <a:chExt cx="8683560" cy="6093000"/>
          </a:xfrm>
        </p:grpSpPr>
        <p:sp>
          <p:nvSpPr>
            <p:cNvPr id="638" name=""/>
            <p:cNvSpPr/>
            <p:nvPr/>
          </p:nvSpPr>
          <p:spPr>
            <a:xfrm>
              <a:off x="380880" y="533520"/>
              <a:ext cx="8302680" cy="5711760"/>
            </a:xfrm>
            <a:prstGeom prst="roundRect">
              <a:avLst>
                <a:gd name="adj" fmla="val 13727"/>
              </a:avLst>
            </a:prstGeom>
            <a:noFill/>
            <a:ln cap="sq"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152280"/>
              <a:ext cx="8531280" cy="1216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1219320"/>
              <a:ext cx="8074080" cy="0"/>
            </a:xfrm>
            <a:prstGeom prst="line">
              <a:avLst/>
            </a:prstGeom>
            <a:ln cap="sq"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2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18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82AC33-E4DE-497C-B136-7AF5D592DC77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927000"/>
            <a:ext cx="8988480" cy="4492800"/>
            <a:chOff x="0" y="927000"/>
            <a:chExt cx="8988480" cy="4492800"/>
          </a:xfrm>
        </p:grpSpPr>
        <p:sp>
          <p:nvSpPr>
            <p:cNvPr id="683" name=""/>
            <p:cNvSpPr/>
            <p:nvPr/>
          </p:nvSpPr>
          <p:spPr>
            <a:xfrm>
              <a:off x="685800" y="2070000"/>
              <a:ext cx="7388280" cy="3349800"/>
            </a:xfrm>
            <a:prstGeom prst="roundRect">
              <a:avLst>
                <a:gd name="adj" fmla="val 16667"/>
              </a:avLst>
            </a:prstGeom>
            <a:noFill/>
            <a:ln cap="sq"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8600" y="927000"/>
              <a:ext cx="7159680" cy="987480"/>
            </a:xfrm>
            <a:prstGeom prst="rect">
              <a:avLst/>
            </a:prstGeom>
            <a:solidFill>
              <a:srgbClr val="260000"/>
            </a:solidFill>
            <a:ln cap="sq" w="5724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1384200"/>
              <a:ext cx="8988480" cy="18255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0" y="3060720"/>
              <a:ext cx="8302680" cy="0"/>
            </a:xfrm>
            <a:prstGeom prst="line">
              <a:avLst/>
            </a:prstGeom>
            <a:ln cap="sq"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28600" y="1426680"/>
            <a:ext cx="807408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40"/>
          </p:nvPr>
        </p:nvSpPr>
        <p:spPr>
          <a:xfrm>
            <a:off x="457200" y="6248160"/>
            <a:ext cx="2130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41"/>
          </p:nvPr>
        </p:nvSpPr>
        <p:spPr>
          <a:xfrm>
            <a:off x="3123720" y="625284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160"/>
            <a:ext cx="2130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4988CC-D6B3-4C98-AB2C-5E794FDFEC09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00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09CEDC-7D30-4D73-A390-2F4F2485741E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2438280"/>
            <a:ext cx="9005760" cy="1049400"/>
            <a:chOff x="0" y="2438280"/>
            <a:chExt cx="9005760" cy="1049400"/>
          </a:xfrm>
        </p:grpSpPr>
        <p:grpSp>
          <p:nvGrpSpPr>
            <p:cNvPr id="776" name=""/>
            <p:cNvGrpSpPr/>
            <p:nvPr/>
          </p:nvGrpSpPr>
          <p:grpSpPr>
            <a:xfrm>
              <a:off x="290520" y="2546280"/>
              <a:ext cx="708120" cy="471600"/>
              <a:chOff x="290520" y="2546280"/>
              <a:chExt cx="708120" cy="471600"/>
            </a:xfrm>
          </p:grpSpPr>
          <p:sp>
            <p:nvSpPr>
              <p:cNvPr id="777" name=""/>
              <p:cNvSpPr/>
              <p:nvPr/>
            </p:nvSpPr>
            <p:spPr>
              <a:xfrm>
                <a:off x="290520" y="2546280"/>
                <a:ext cx="434880" cy="47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73200" y="2546280"/>
                <a:ext cx="32544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14360" y="2968560"/>
              <a:ext cx="734760" cy="471600"/>
              <a:chOff x="414360" y="2968560"/>
              <a:chExt cx="734760" cy="471600"/>
            </a:xfrm>
          </p:grpSpPr>
          <p:sp>
            <p:nvSpPr>
              <p:cNvPr id="780" name=""/>
              <p:cNvSpPr/>
              <p:nvPr/>
            </p:nvSpPr>
            <p:spPr>
              <a:xfrm>
                <a:off x="414360" y="2968560"/>
                <a:ext cx="421560" cy="47160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83360" y="2968560"/>
                <a:ext cx="36576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>
              <a:off x="0" y="2895480"/>
              <a:ext cx="557280" cy="4194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5040" y="2438280"/>
              <a:ext cx="28440" cy="10494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16080" y="3259800"/>
              <a:ext cx="868968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46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47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48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22D93F-3A0E-4865-8D1B-5528DF49DC3F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5405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6840" y="1719360"/>
            <a:ext cx="82263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FC5033-B33D-4A88-8376-8E9BD152564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8153280" y="152280"/>
            <a:ext cx="789120" cy="1292400"/>
            <a:chOff x="8153280" y="152280"/>
            <a:chExt cx="789120" cy="1292400"/>
          </a:xfrm>
        </p:grpSpPr>
        <p:sp>
          <p:nvSpPr>
            <p:cNvPr id="832" name=""/>
            <p:cNvSpPr/>
            <p:nvPr/>
          </p:nvSpPr>
          <p:spPr>
            <a:xfrm>
              <a:off x="8153280" y="15228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21760" y="152280"/>
              <a:ext cx="11736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489880" y="15228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53280" y="320760"/>
              <a:ext cx="117720" cy="117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321760" y="320760"/>
              <a:ext cx="117360" cy="117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89880" y="320760"/>
              <a:ext cx="117720" cy="117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656560" y="320760"/>
              <a:ext cx="11772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153280" y="48888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321760" y="488880"/>
              <a:ext cx="11736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489880" y="488880"/>
              <a:ext cx="11772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656560" y="488880"/>
              <a:ext cx="11772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825040" y="488880"/>
              <a:ext cx="117360" cy="1177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153280" y="65556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321760" y="655560"/>
              <a:ext cx="11736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89880" y="655560"/>
              <a:ext cx="11772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656560" y="655560"/>
              <a:ext cx="117720" cy="1177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53280" y="824040"/>
              <a:ext cx="11772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21760" y="824040"/>
              <a:ext cx="11736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89880" y="824040"/>
              <a:ext cx="11772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656560" y="824040"/>
              <a:ext cx="11772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825040" y="824040"/>
              <a:ext cx="11736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53280" y="992160"/>
              <a:ext cx="11772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21760" y="992160"/>
              <a:ext cx="11736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89880" y="992160"/>
              <a:ext cx="11772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656560" y="992160"/>
              <a:ext cx="11772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153280" y="1160640"/>
              <a:ext cx="11772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21760" y="1160640"/>
              <a:ext cx="11736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89880" y="1160640"/>
              <a:ext cx="117720" cy="115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56560" y="1160640"/>
              <a:ext cx="117720" cy="115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21760" y="1328760"/>
              <a:ext cx="117360" cy="115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656560" y="1328760"/>
              <a:ext cx="117720" cy="115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15720" y="466560"/>
            <a:ext cx="677844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BD6994-F18C-446C-BB49-42F1F15A4F4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7493040" y="2992320"/>
            <a:ext cx="1334880" cy="2186280"/>
            <a:chOff x="7493040" y="2992320"/>
            <a:chExt cx="1334880" cy="2186280"/>
          </a:xfrm>
        </p:grpSpPr>
        <p:sp>
          <p:nvSpPr>
            <p:cNvPr id="905" name=""/>
            <p:cNvSpPr/>
            <p:nvPr/>
          </p:nvSpPr>
          <p:spPr>
            <a:xfrm>
              <a:off x="7493040" y="2992320"/>
              <a:ext cx="198360" cy="198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7080" y="2992320"/>
              <a:ext cx="198360" cy="198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61480" y="2992320"/>
              <a:ext cx="198360" cy="198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93040" y="327672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77080" y="327672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61480" y="327672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45520" y="3276720"/>
              <a:ext cx="19836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93040" y="356076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777080" y="3560760"/>
              <a:ext cx="19836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061480" y="3560760"/>
              <a:ext cx="19836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45520" y="3560760"/>
              <a:ext cx="19836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29560" y="356076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93040" y="3843360"/>
              <a:ext cx="1983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77080" y="3843360"/>
              <a:ext cx="1983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61480" y="3843360"/>
              <a:ext cx="1983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43360"/>
              <a:ext cx="1983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93040" y="4127400"/>
              <a:ext cx="1983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777080" y="4127400"/>
              <a:ext cx="1983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61480" y="4127400"/>
              <a:ext cx="1983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45520" y="4127400"/>
              <a:ext cx="1983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29560" y="4127400"/>
              <a:ext cx="19836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93040" y="4411800"/>
              <a:ext cx="19836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777080" y="441180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61480" y="441180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345520" y="4411800"/>
              <a:ext cx="198360" cy="198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93040" y="469584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77080" y="4695840"/>
              <a:ext cx="1983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061480" y="4695840"/>
              <a:ext cx="198360" cy="198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45520" y="4695840"/>
              <a:ext cx="198360" cy="198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777080" y="4979880"/>
              <a:ext cx="198360" cy="1987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45520" y="4979880"/>
              <a:ext cx="198360" cy="1987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55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80C275-45C6-40A1-9A8E-3625EE90178C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2400 w 6854760"/>
                <a:gd name="textAreaRight" fmla="*/ 6192360 w 6854760"/>
                <a:gd name="textAreaTop" fmla="*/ 21240 h 222480"/>
                <a:gd name="textAreaBottom" fmla="*/ 20124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276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320" y="6242040"/>
            <a:ext cx="1779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160"/>
            <a:ext cx="34527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ED0F13-4AD9-4EF4-AFA3-39917144198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012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dt" idx="58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ftr" idx="59"/>
          </p:nvPr>
        </p:nvSpPr>
        <p:spPr>
          <a:xfrm>
            <a:off x="312372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FF7A2F-A43C-4F6C-87EB-EE3CEAA21123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3439BD-45D9-4258-8BA7-B9566E63EFB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33DADE-232C-48F3-9612-F4321CA1EAA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683560" cy="4873680"/>
            <a:chOff x="0" y="0"/>
            <a:chExt cx="8683560" cy="487368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606600" cy="487368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80880" y="1417680"/>
              <a:ext cx="8302680" cy="179280"/>
              <a:chOff x="380880" y="1417680"/>
              <a:chExt cx="8302680" cy="179280"/>
            </a:xfrm>
          </p:grpSpPr>
          <p:sp>
            <p:nvSpPr>
              <p:cNvPr id="276" name=""/>
              <p:cNvSpPr/>
              <p:nvPr/>
            </p:nvSpPr>
            <p:spPr>
              <a:xfrm>
                <a:off x="6858000" y="1417680"/>
                <a:ext cx="1825560" cy="17928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0880" y="1494000"/>
                <a:ext cx="8302680" cy="0"/>
              </a:xfrm>
              <a:prstGeom prst="line">
                <a:avLst/>
              </a:prstGeom>
              <a:ln cap="sq"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782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16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552A79-1956-464E-A2C1-5C7301A7A654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8759880" cy="5940360"/>
            <a:chOff x="0" y="0"/>
            <a:chExt cx="8759880" cy="594036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1749600" cy="487368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0" y="3505320"/>
              <a:ext cx="8759880" cy="2435040"/>
              <a:chOff x="0" y="3505320"/>
              <a:chExt cx="8759880" cy="2435040"/>
            </a:xfrm>
          </p:grpSpPr>
          <p:sp>
            <p:nvSpPr>
              <p:cNvPr id="323" name=""/>
              <p:cNvSpPr/>
              <p:nvPr/>
            </p:nvSpPr>
            <p:spPr>
              <a:xfrm>
                <a:off x="990720" y="3505320"/>
                <a:ext cx="7769160" cy="243504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38240" y="3733920"/>
                <a:ext cx="7645320" cy="213516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4876920"/>
                <a:ext cx="987480" cy="0"/>
              </a:xfrm>
              <a:prstGeom prst="line">
                <a:avLst/>
              </a:prstGeom>
              <a:ln cap="sq"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35040" y="533520"/>
              <a:ext cx="8074080" cy="301680"/>
              <a:chOff x="635040" y="533520"/>
              <a:chExt cx="8074080" cy="301680"/>
            </a:xfrm>
          </p:grpSpPr>
          <p:sp>
            <p:nvSpPr>
              <p:cNvPr id="327" name=""/>
              <p:cNvSpPr/>
              <p:nvPr/>
            </p:nvSpPr>
            <p:spPr>
              <a:xfrm>
                <a:off x="6273720" y="533520"/>
                <a:ext cx="2435400" cy="30168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5040" y="685800"/>
                <a:ext cx="8074080" cy="0"/>
              </a:xfrm>
              <a:prstGeom prst="line">
                <a:avLst/>
              </a:prstGeom>
              <a:ln cap="sq"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912960" y="625140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6B9227-56C3-4ED5-A540-66332AAFAD6D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906531-0C7F-4B55-BD7A-0DE1E54A71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8120" y="228600"/>
            <a:ext cx="8820360" cy="6093000"/>
            <a:chOff x="168120" y="228600"/>
            <a:chExt cx="8820360" cy="6093000"/>
          </a:xfrm>
        </p:grpSpPr>
        <p:sp>
          <p:nvSpPr>
            <p:cNvPr id="375" name=""/>
            <p:cNvSpPr/>
            <p:nvPr/>
          </p:nvSpPr>
          <p:spPr>
            <a:xfrm>
              <a:off x="168120" y="228600"/>
              <a:ext cx="8820360" cy="609300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2120" y="1709640"/>
              <a:ext cx="769284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22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23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4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1C83B4-FD42-45D2-B93B-17E3ED97B4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7238880" cy="1978200"/>
            <a:chOff x="0" y="0"/>
            <a:chExt cx="7238880" cy="1978200"/>
          </a:xfrm>
        </p:grpSpPr>
        <p:sp>
          <p:nvSpPr>
            <p:cNvPr id="457" name=""/>
            <p:cNvSpPr/>
            <p:nvPr/>
          </p:nvSpPr>
          <p:spPr>
            <a:xfrm>
              <a:off x="0" y="925560"/>
              <a:ext cx="7120080" cy="105264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0"/>
              <a:ext cx="7238880" cy="19000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EAD42A-C29C-4CC3-B8AB-55993E91DF0F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006560" y="259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Классификация соревновани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60360" y="1655280"/>
            <a:ext cx="7561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соревнования  классифицируются по различным признак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 масштаб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 целям и задач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 условиям зач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 форме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2040"/>
                            </p:stCondLst>
                            <p:childTnLst>
                              <p:par>
                                <p:cTn id="1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540"/>
                            </p:stCondLst>
                            <p:childTnLst>
                              <p:par>
                                <p:cTn id="1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3040"/>
                            </p:stCondLst>
                            <p:childTnLst>
                              <p:par>
                                <p:cTn id="2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3540"/>
                            </p:stCondLst>
                            <p:childTnLst>
                              <p:par>
                                <p:cTn id="2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4040"/>
                            </p:stCondLst>
                            <p:childTnLst>
                              <p:par>
                                <p:cTn id="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09840" y="44100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По целям и задача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31640" y="1440000"/>
            <a:ext cx="633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ревнования делятся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лев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тбороч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онтроль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зачетно-классификацион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оказатель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ассово-оздоровительны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5397480" y="1655640"/>
            <a:ext cx="31701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230200" y="151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По условиям зачет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31640" y="1440000"/>
            <a:ext cx="46087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ревнования делятся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лич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омандны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лично-командны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2"/>
          <a:stretch/>
        </p:blipFill>
        <p:spPr>
          <a:xfrm>
            <a:off x="3527280" y="4046400"/>
            <a:ext cx="5099040" cy="243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34560" y="72720"/>
            <a:ext cx="7417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По форме организ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42560" y="1510920"/>
            <a:ext cx="5832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ревнования делятся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ткрыт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закрыт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атчевые встреч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4459320" y="2376360"/>
            <a:ext cx="4110120" cy="278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0:37:56Z</dcterms:created>
  <dc:creator>Люба</dc:creator>
  <dc:description/>
  <dc:language>en-US</dc:language>
  <cp:lastModifiedBy>Люба</cp:lastModifiedBy>
  <dcterms:modified xsi:type="dcterms:W3CDTF">2008-02-01T06:43:04Z</dcterms:modified>
  <cp:revision>70</cp:revision>
  <dc:subject/>
  <dc:title>Виды лыжного спорта</dc:title>
</cp:coreProperties>
</file>