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B2D-CC39-42C8-BC43-D7F2FA7E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FA1-746D-4A25-A729-3D780217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4339D-9204-435F-8184-A32693D0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BAD59-6256-4585-BCBF-29740A4D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AB9E4-946F-4F8E-97EE-D99D09F7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2D52B-DB17-45C5-B233-4650B16D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90F16-14D9-461F-9F02-7C4F7E21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FBF20-B3BF-4DF4-97A0-1F454466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EC755-3199-4063-A721-B7F488B4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93104-070D-47EA-9EC4-F5B8BBF5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10569-1F2F-4F20-9BA0-8F12B77E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F19A5-2B9F-4BDC-8B4A-5A8D5023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1C7C-7454-4AB7-93DA-788B95C7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C8BF5-BD1F-4C09-A382-33B5F0A3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E8188-B004-470F-99F1-609E0EF1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6E9A0-6097-4407-99B7-BADC317F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92297-9227-418B-9D48-8AF86C7B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BF135-FD1A-4C83-AE8E-AC3F4D06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46F1C-4EEA-47AF-889A-FE36CE18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65127-A42D-43FF-8D44-10A49DD2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E4289-D0F1-43F3-A01F-069D81FC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3CE74-0F37-419F-B076-65C992EE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16BAD-221E-4094-AB7E-2B5E687C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312-8FD1-4FC3-8EA1-FA69020F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4C864-7737-4812-A0AF-BD15ADEC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AC899-5F34-49D9-855E-ADB0F59B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E3786-57AB-4B4D-9D3A-65E29417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8F062-389A-4C3B-A130-ACEC216B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36365-FF37-4E1B-9946-23808C9F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31376-0ED0-48EC-B339-7B3076A3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65E7B-584F-48D9-9D93-90CD452B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B715D-40D6-43CA-9E58-90818BE8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A425B-7D8A-4C32-8AC3-05C99DE1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623DB-CA7E-4989-A4F8-AD18805C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F97C-5308-4EB8-B76E-A0493225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7578A-0AA3-4423-BD4F-710D8072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3AE8B-5F0D-40E1-9A49-5FF75034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E0DE3-35FB-4E7C-86D9-6DC4607B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6C623-31AA-4A4E-B1F0-3F0E0AA9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C56F8-ABB2-44F3-88CE-B416D63C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E4058-D19C-40B3-B6EE-CCFD0DAF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F0B9A-E445-49DE-A521-552712E4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59D5D-8B4E-4595-AFAA-70441D83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3F2CA-47EB-4DA3-89C6-E90192EA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F067B-C25B-457F-A7E8-944F4271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B206-3955-45FB-8909-FA5F8ADD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6CABB-073F-4F3E-B14A-FB4A63E0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778D1-FD52-4C06-86BC-FF7C7517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65FB7-B670-408B-ACD0-B74F3B60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7BE6D-5A3C-400A-9991-395951BC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E0FDC-F546-4803-9753-21D1385C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F1C00-02C2-4054-9C66-E0AF4C54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1F223-267A-4F77-BD94-F963A249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32D52-A45E-4594-9C92-EC8474AC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CAD787-924C-4710-BC0E-18CA932C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29D83-A17B-4D99-ACC6-D5A4D887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DC96-32B6-4004-B7BF-AAF2183B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6396C-34B1-4E87-95CE-32A90149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0BC55-B263-4A78-9ABC-5917E525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BFC4C2-C854-4EC4-91BC-1FFF3994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E86AA4-AFEE-4B70-B7AF-1B57936C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0508B8-B133-4AB4-818A-15B2171A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24807-75F0-4CB3-B60B-0B1799B0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CFCEB-B0CA-41F6-B10A-6082B4D6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86B986-9CFC-444D-ADA6-DEC2C4F7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60E182-B6DE-4D7E-A570-7CF7563B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315603-4BAF-418E-BC4A-53F66619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434D-428C-47E3-9F9E-53037572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9C8592-DEE3-4C79-8B3F-B02C4605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CA2CD4-9CDE-4B2C-B171-BA590C2E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89AB1-59CD-4234-9532-D0F96F89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84D6A6-409F-4E46-9424-14300D80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99C89-2CEE-4C99-86B0-23FB0E0A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1AE21-7E93-40A7-9788-96F7C054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853C68-97EF-4B3E-8ADD-99A31F77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E4889C-5E70-4399-A3A9-035DEB0C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1F88DC-C16C-46E7-9DCC-C091CF09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14E150-A874-4B5A-BB82-9D807ABA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FE5E-A185-4922-8A6D-99F1C91A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4F9C60-20C6-4A3B-AA2C-EDB7E212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B6F36E-DF1F-4E79-B532-68E537D9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AB4F75-CDB7-47E5-AD34-E1759A47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123E10-E733-4988-BAE7-E25C1FCA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6B27F9-B6AF-4B68-A22C-E3C9263A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8945B9-FE63-4C74-9C27-B386C7E9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2ABA56-6044-42D1-A65D-9327FAF5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055514-6B1F-4E50-85B7-3A6ADDE3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91724F-7FF7-4DE9-A7C4-79C3684A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9A94B3-5669-46DE-939B-6F5E4D68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783E-FEAF-43E8-AEBB-BE9409BF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51B03A-5F61-4987-A498-3194AE92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341A36-DAD6-4ED9-8C94-8190E3E7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32CA74-C928-4715-9D2E-028FBD64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099244-71D4-4392-874A-11BF5266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9AF813-6CA0-4E53-81E5-7075EAC9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A0B3C-1715-4E3C-8A05-42B12014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6C48A5-9D59-4DF7-BE34-65DD89E0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46B1CC-8A32-48B2-8842-33C9E876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5B3E48-9457-4B6C-B3E7-53259032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0E9036-93AD-49A0-9D21-82430754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5DF3-C78D-4201-A6F5-CF8F57D5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E78C89-8921-4DB7-93D0-6609F361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E4D4E4-E20F-4EED-B4C9-810DD6BF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64EC31-F414-4A50-8D08-EC97A6FA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A630C0-523E-4ADC-8DA6-08BDC3D1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0261D3-12DB-42AA-B4C9-B44E6EF3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0B1AA1-EFFF-4536-A4E4-5C17C630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5FF055-051F-4C42-8160-B004D8C4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5E6C23-21FF-4417-B9C9-2398AFD5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DB9292-F81B-4932-ADAD-F79DD8FF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4F85EA-3892-40F8-8199-F148D542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E9D-CAEF-4AFC-A1D2-0051AA76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D8D5-31A3-414C-BEBB-25C35825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5724C8-3735-48F3-A18D-3EFBCFAF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929C46-F0AC-4E91-8999-EB782B34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7AA68C-FF9A-4538-A0C8-C13E7B4E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F90593-4790-41C5-A73F-D124B0A9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2B3920-C8E3-4E90-A0BA-79F4293D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31490F-A034-4F8F-ABD6-FC965639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85F5BA-6CFB-4725-A76A-0D76FF81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41E267-C333-4366-919E-2F4A3F88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9FBB04-F90C-459C-87C4-CF1B26DC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E0F49A-F3B2-4D25-B11D-ECB7B2CF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BB00-C21A-4D7B-A609-5DAA1C97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DFE7A4-0BDE-40F4-93D1-AC454B2F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B6793D-1B37-48C4-97D4-6B39AFD3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96BDAE-3C96-4D4D-80F1-58498E86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CC0250-E5D8-4EF6-83B1-3DE76B26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4AA517-3CE7-4384-94C0-36F4FE3E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E86013-CE56-47D8-AC0C-BDEFAE74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B0051C-C4AB-4C4D-AAD4-5E6B5995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4B9DF1-3D31-48AD-BFF1-6C1AB026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0EB322-A647-422C-A3CB-FA624DB5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8532B7-8470-4C68-AD4B-ACB39D63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B779-6EA9-44C8-8762-D7647C83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63B56B-D57F-4700-BE02-9F8C7793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614524-66EF-498D-BE53-42D758A2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53AF2E-03EA-4076-B8D8-5CE3B881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0016E4-031C-4AC6-8C61-0B678458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377157-9B7F-4A19-9CB2-712B4742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601F48-AC68-41FC-B985-4581889F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73DE12-6DD4-4B16-983A-DC6212B4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CE539D-0C7A-4B78-86EF-273EA242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7B4360-CFED-4FF4-A909-BD842586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E5258A-A8F7-4F7B-A5FA-DB8B4684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931E-557A-40AE-95B9-5E61104C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560989-5E61-432D-9131-082C0E2D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8F2371-4780-492B-8DB3-0140C744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D77A22-BDB6-4FB9-854C-992073B4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D68527-85D6-45F8-A4F1-2C772504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39C3BE-0339-44AA-B625-7E13550E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958CE9-582D-4C73-938C-9A6CF4F1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950DF2-0B25-4C84-8A7C-154B2D71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7EB2D5-4453-4E81-8E87-65529A11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9C0E0D-6476-4BF2-8860-C66732BF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6EE4AA-5FEA-4A3A-B7DA-83FDA0DA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6674-235C-4B8F-8258-EA2CEB57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E92789-94FF-4DDF-9458-127CD6B9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F73E3-4D8E-45EF-80FE-3A812042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D5E3E-E5E9-4DB2-B18B-A1B4710D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2805F-613C-4451-A046-06499D83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133F5-2E8D-4B50-8D44-21360AE9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A15A2-DAA4-4D1B-B0EE-3841D21B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6DB-74BC-4527-8515-E58F9A0F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3B38C-785E-49CD-A45C-E83B11D0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2D29B-3EFF-4B83-BB0E-05B87230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1FEAB-6C3A-4D06-8E54-675E238E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EE393-519C-4637-AE02-DFA951C8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5B73E-0174-4534-ACBC-C235056D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15797-A7A1-468A-B349-FB792BA4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D9D3D-BEB7-4613-8499-9CA783AE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31484-B07D-433F-9D2D-04DA3FDE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79962-28B2-49D0-9B0D-B51C024C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C0A75-E2BB-4198-8C9C-A0F72D99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5A97-F43D-49A8-AE27-EC9FAE58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D1458-D0CD-41AA-80AC-4978BA5D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D6DDF-B675-4D35-8A53-9A43C052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47642-8AFA-4B4A-80F6-F72C236F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B21A3-16D6-4E62-B426-CB07CBB8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CA150-C6A5-41CF-9528-72EAB441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DB153-F099-4297-A17B-57A8A06B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65DD3-FE68-451D-B2D3-DEC360B0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0C9D5-1FC1-4A95-82C4-8BE77EED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7AFC5-9269-41C7-BD76-72EBED68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DD59A-1933-41FE-B0D7-78EE3B4C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D6BB-FAEA-4575-A4C0-C3CD7AAF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1A467-6F0A-4D3A-94F6-A5A0D2D6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FF0FA-71FD-4DB0-867A-CA3E93BE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09041-D710-4FEB-A579-716FEA5A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58B05-3129-4BD8-A3DB-A97550F4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A33DB-22E4-47A1-A94F-8769CE79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4346F-03A2-43BC-9004-7488B669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51757-D469-46D3-A9D6-CA0981D9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7C3FA-B40D-43D0-B01B-89B61FB7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D8BB7-4719-4050-9C29-D62BC5EC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651BE-99E5-4A6E-987F-0D02B358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77F-57CD-45A5-BAF0-EA326513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0B61B-E3FA-445B-8689-6769A90B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FF756-6AC1-4EF8-830E-E23253EC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394FD-591D-40C0-9B57-DC114C2C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C6AB7-9ED3-4A3E-8A92-F9E8CEC0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BFD57-AE17-4D7E-9EE2-6EE16F1F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3BD85-62BF-46A5-9F3D-3FAAD981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C01D4-FD2A-447D-8D36-A2182595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28155-57D5-4073-AC21-D50444AC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722BD-9F6C-4F7E-B492-12C1004B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CB2F9-541B-4966-AF08-CC706B08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A02-796C-489D-8679-8CAB3F3E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15830-3601-4F17-A4EC-BBF04A70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A0330-A810-43DD-83CE-C8A1DC64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0C173-51AD-4219-936F-A86B4860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99E20-2C3C-4D01-BA67-4AF3E0FE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06859-4E66-46F9-B176-07315312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21111-8FDD-4688-A28B-E9F86E9C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C91C2-9371-482A-A677-5F1F4EA8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E0EA7-0586-4190-A935-8CDE0FE2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5F23E-BB45-4A59-A581-495FD8BE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76452-88C3-4E61-AA9E-76570776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3BE-AC21-4D40-A1D3-00084280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2752D-F37D-430F-94C3-61F71440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49712-7107-4B59-91E0-381B7429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F653B-8684-45EB-AA89-7F174501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55899-EF44-4CC0-ADFB-0F061DDE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0F4F3-605A-4674-B4FD-F8ABE60A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945F3-F880-46C4-8AA6-F6656FF8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DAE13-D6A3-4507-8905-965D5430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7B2A2-DABD-491E-AAAB-7E342B1A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66FCF-E03E-4388-94BF-B15A3E84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3320E-C28E-49A6-BE5B-57FEE794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FCC-ABAD-4FD0-9865-6A973842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E6EE6-9FA9-4164-8D02-424C09F4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D11A9-0E16-457B-BBA8-15375FF6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27C60-337E-4111-9BEA-913244B4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6CAA8-3514-4ACD-9A46-C977CC21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27209-43E5-49E5-87A0-DD5F53DB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AD8A8-5C4A-496C-91E2-08A1C8DF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31408-A980-425F-BA85-D90F3086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644C6-2E64-4EB3-98A9-51509B70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D5BD2-C836-490E-A826-B9B1662E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38951-B7B0-4800-A35E-08E0CF40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2040" cy="6305760"/>
              <a:chOff x="7848720" y="1440"/>
              <a:chExt cx="1292040" cy="630576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58880" cy="2266920"/>
                <a:chOff x="8381880" y="1440"/>
                <a:chExt cx="758880" cy="226692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6120" cy="273240"/>
                  <a:chOff x="8704440" y="1440"/>
                  <a:chExt cx="276120" cy="27324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6120" cy="273240"/>
                    <a:chOff x="8704440" y="1440"/>
                    <a:chExt cx="276120" cy="27324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2960" y="-37080"/>
                      <a:ext cx="198720" cy="27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680" y="94320"/>
                      <a:ext cx="13824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4120" y="74880"/>
                    <a:ext cx="399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8640" y="64080"/>
                    <a:ext cx="604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3960" y="192960"/>
                    <a:ext cx="60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69960" y="167040"/>
                    <a:ext cx="34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87280" cy="193680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6080" cy="19969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28680" cy="40338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6320" cy="21812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1160" cy="504504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6480" cy="306864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3120" cy="334980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297000" cy="334980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2080" cy="61596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9000" y="3315960"/>
              <a:ext cx="6854760" cy="222480"/>
            </a:xfrm>
            <a:custGeom>
              <a:avLst/>
              <a:gdLst>
                <a:gd name="textAreaLeft" fmla="*/ 662400 w 6854760"/>
                <a:gd name="textAreaRight" fmla="*/ 6192360 w 6854760"/>
                <a:gd name="textAreaTop" fmla="*/ 21240 h 222480"/>
                <a:gd name="textAreaBottom" fmla="*/ 20124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3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36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320" y="6242040"/>
            <a:ext cx="17794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200" y="6248160"/>
            <a:ext cx="345276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B00B5-B5A2-4E3F-AF61-230E8649CA3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0" y="0"/>
            <a:ext cx="8454960" cy="5940360"/>
            <a:chOff x="0" y="0"/>
            <a:chExt cx="8454960" cy="5940360"/>
          </a:xfrm>
        </p:grpSpPr>
        <p:sp>
          <p:nvSpPr>
            <p:cNvPr id="501" name=""/>
            <p:cNvSpPr/>
            <p:nvPr/>
          </p:nvSpPr>
          <p:spPr>
            <a:xfrm>
              <a:off x="0" y="2286000"/>
              <a:ext cx="8180280" cy="365436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0"/>
              <a:ext cx="8454960" cy="585324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dt" idx="28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29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DA1DBAB-643F-49C9-B844-F8083F5A991B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title"/>
          </p:nvPr>
        </p:nvSpPr>
        <p:spPr>
          <a:xfrm>
            <a:off x="685440" y="1768320"/>
            <a:ext cx="776916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0" y="0"/>
            <a:ext cx="7616880" cy="6854760"/>
            <a:chOff x="0" y="0"/>
            <a:chExt cx="7616880" cy="6854760"/>
          </a:xfrm>
        </p:grpSpPr>
        <p:grpSp>
          <p:nvGrpSpPr>
            <p:cNvPr id="544" name=""/>
            <p:cNvGrpSpPr/>
            <p:nvPr/>
          </p:nvGrpSpPr>
          <p:grpSpPr>
            <a:xfrm>
              <a:off x="0" y="0"/>
              <a:ext cx="3197160" cy="6854760"/>
              <a:chOff x="0" y="0"/>
              <a:chExt cx="3197160" cy="6854760"/>
            </a:xfrm>
          </p:grpSpPr>
          <p:sp>
            <p:nvSpPr>
              <p:cNvPr id="545" name=""/>
              <p:cNvSpPr/>
              <p:nvPr/>
            </p:nvSpPr>
            <p:spPr>
              <a:xfrm>
                <a:off x="0" y="0"/>
                <a:ext cx="758880" cy="68547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57200" y="0"/>
                <a:ext cx="2739960" cy="11635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228240" y="1981080"/>
              <a:ext cx="7388640" cy="316080"/>
              <a:chOff x="228240" y="1981080"/>
              <a:chExt cx="7388640" cy="316080"/>
            </a:xfrm>
          </p:grpSpPr>
          <p:sp>
            <p:nvSpPr>
              <p:cNvPr id="548" name=""/>
              <p:cNvSpPr/>
              <p:nvPr/>
            </p:nvSpPr>
            <p:spPr>
              <a:xfrm>
                <a:off x="609480" y="1981080"/>
                <a:ext cx="7007400" cy="3142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227880" y="1981080"/>
                <a:ext cx="390600" cy="3160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1"/>
          </p:nvPr>
        </p:nvSpPr>
        <p:spPr>
          <a:xfrm>
            <a:off x="2437920" y="6248160"/>
            <a:ext cx="21272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2"/>
          </p:nvPr>
        </p:nvSpPr>
        <p:spPr>
          <a:xfrm>
            <a:off x="5790960" y="6248160"/>
            <a:ext cx="2894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3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7E4857-742F-4E7C-B74B-C6341A9FD746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0" y="0"/>
            <a:ext cx="5864400" cy="6854760"/>
            <a:chOff x="0" y="0"/>
            <a:chExt cx="5864400" cy="6854760"/>
          </a:xfrm>
        </p:grpSpPr>
        <p:sp>
          <p:nvSpPr>
            <p:cNvPr id="592" name=""/>
            <p:cNvSpPr/>
            <p:nvPr/>
          </p:nvSpPr>
          <p:spPr>
            <a:xfrm>
              <a:off x="0" y="0"/>
              <a:ext cx="4568760" cy="68547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5800" y="990720"/>
              <a:ext cx="5178600" cy="19018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632040" y="4889520"/>
            <a:ext cx="4873680" cy="315720"/>
            <a:chOff x="3632040" y="4889520"/>
            <a:chExt cx="4873680" cy="315720"/>
          </a:xfrm>
        </p:grpSpPr>
        <p:sp>
          <p:nvSpPr>
            <p:cNvPr id="595" name=""/>
            <p:cNvSpPr/>
            <p:nvPr/>
          </p:nvSpPr>
          <p:spPr>
            <a:xfrm flipH="1">
              <a:off x="3632040" y="4889520"/>
              <a:ext cx="4623120" cy="3142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248680" y="4889520"/>
              <a:ext cx="257040" cy="3157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dt" idx="34"/>
          </p:nvPr>
        </p:nvSpPr>
        <p:spPr>
          <a:xfrm>
            <a:off x="2437920" y="6248160"/>
            <a:ext cx="21272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ftr" idx="35"/>
          </p:nvPr>
        </p:nvSpPr>
        <p:spPr>
          <a:xfrm>
            <a:off x="5790960" y="6248160"/>
            <a:ext cx="2894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sldNum" idx="36"/>
          </p:nvPr>
        </p:nvSpPr>
        <p:spPr>
          <a:xfrm>
            <a:off x="76320" y="624816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853909-E08F-439E-A951-E14669C8E4EA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title"/>
          </p:nvPr>
        </p:nvSpPr>
        <p:spPr>
          <a:xfrm>
            <a:off x="964800" y="1270080"/>
            <a:ext cx="7669080" cy="13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0" y="152280"/>
            <a:ext cx="8683560" cy="6093000"/>
            <a:chOff x="0" y="152280"/>
            <a:chExt cx="8683560" cy="6093000"/>
          </a:xfrm>
        </p:grpSpPr>
        <p:sp>
          <p:nvSpPr>
            <p:cNvPr id="638" name=""/>
            <p:cNvSpPr/>
            <p:nvPr/>
          </p:nvSpPr>
          <p:spPr>
            <a:xfrm>
              <a:off x="380880" y="533520"/>
              <a:ext cx="8302680" cy="5711760"/>
            </a:xfrm>
            <a:prstGeom prst="roundRect">
              <a:avLst>
                <a:gd name="adj" fmla="val 13727"/>
              </a:avLst>
            </a:prstGeom>
            <a:noFill/>
            <a:ln cap="sq" w="50760">
              <a:solidFill>
                <a:srgbClr val="7587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0" y="152280"/>
              <a:ext cx="8531280" cy="12160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1219320"/>
              <a:ext cx="8074080" cy="0"/>
            </a:xfrm>
            <a:prstGeom prst="line">
              <a:avLst/>
            </a:prstGeom>
            <a:ln cap="sq" w="381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2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18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7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8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AB6AECD-1D38-4979-BF76-27D94E0E5574}" type="slidenum">
              <a:rPr b="0" lang="ru-RU" sz="1200" spc="-1" strike="noStrike">
                <a:solidFill>
                  <a:srgbClr val="ffffff"/>
                </a:solidFill>
                <a:latin typeface="Arial Black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0" y="927000"/>
            <a:ext cx="8988480" cy="4492800"/>
            <a:chOff x="0" y="927000"/>
            <a:chExt cx="8988480" cy="4492800"/>
          </a:xfrm>
        </p:grpSpPr>
        <p:sp>
          <p:nvSpPr>
            <p:cNvPr id="683" name=""/>
            <p:cNvSpPr/>
            <p:nvPr/>
          </p:nvSpPr>
          <p:spPr>
            <a:xfrm>
              <a:off x="685800" y="2070000"/>
              <a:ext cx="7388280" cy="3349800"/>
            </a:xfrm>
            <a:prstGeom prst="roundRect">
              <a:avLst>
                <a:gd name="adj" fmla="val 16667"/>
              </a:avLst>
            </a:prstGeom>
            <a:noFill/>
            <a:ln cap="sq" w="50760">
              <a:solidFill>
                <a:srgbClr val="7587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8600" y="927000"/>
              <a:ext cx="7159680" cy="987480"/>
            </a:xfrm>
            <a:prstGeom prst="rect">
              <a:avLst/>
            </a:prstGeom>
            <a:solidFill>
              <a:srgbClr val="260000"/>
            </a:solidFill>
            <a:ln cap="sq" w="57240">
              <a:solidFill>
                <a:srgbClr val="7587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0" y="1384200"/>
              <a:ext cx="8988480" cy="18255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0" y="3060720"/>
              <a:ext cx="8302680" cy="0"/>
            </a:xfrm>
            <a:prstGeom prst="line">
              <a:avLst/>
            </a:prstGeom>
            <a:ln cap="sq" w="507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28600" y="1426680"/>
            <a:ext cx="8074080" cy="16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dt" idx="40"/>
          </p:nvPr>
        </p:nvSpPr>
        <p:spPr>
          <a:xfrm>
            <a:off x="457200" y="6248160"/>
            <a:ext cx="21304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ftr" idx="41"/>
          </p:nvPr>
        </p:nvSpPr>
        <p:spPr>
          <a:xfrm>
            <a:off x="3123720" y="625284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160"/>
            <a:ext cx="21304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270057-D511-4C3A-ADBC-6BEA024B093F}" type="slidenum">
              <a:rPr b="0" lang="ru-RU" sz="1200" spc="-1" strike="noStrike">
                <a:solidFill>
                  <a:srgbClr val="ffffff"/>
                </a:solidFill>
                <a:latin typeface="Arial Black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00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3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4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5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70B2520-55A0-48D2-871D-90421DC1E1BF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0" y="2438280"/>
            <a:ext cx="9005760" cy="1049400"/>
            <a:chOff x="0" y="2438280"/>
            <a:chExt cx="9005760" cy="1049400"/>
          </a:xfrm>
        </p:grpSpPr>
        <p:grpSp>
          <p:nvGrpSpPr>
            <p:cNvPr id="776" name=""/>
            <p:cNvGrpSpPr/>
            <p:nvPr/>
          </p:nvGrpSpPr>
          <p:grpSpPr>
            <a:xfrm>
              <a:off x="290520" y="2546280"/>
              <a:ext cx="708120" cy="471600"/>
              <a:chOff x="290520" y="2546280"/>
              <a:chExt cx="708120" cy="471600"/>
            </a:xfrm>
          </p:grpSpPr>
          <p:sp>
            <p:nvSpPr>
              <p:cNvPr id="777" name=""/>
              <p:cNvSpPr/>
              <p:nvPr/>
            </p:nvSpPr>
            <p:spPr>
              <a:xfrm>
                <a:off x="290520" y="2546280"/>
                <a:ext cx="434880" cy="471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73200" y="2546280"/>
                <a:ext cx="32544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414360" y="2968560"/>
              <a:ext cx="734760" cy="471600"/>
              <a:chOff x="414360" y="2968560"/>
              <a:chExt cx="734760" cy="471600"/>
            </a:xfrm>
          </p:grpSpPr>
          <p:sp>
            <p:nvSpPr>
              <p:cNvPr id="780" name=""/>
              <p:cNvSpPr/>
              <p:nvPr/>
            </p:nvSpPr>
            <p:spPr>
              <a:xfrm>
                <a:off x="414360" y="2968560"/>
                <a:ext cx="421560" cy="47160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83360" y="2968560"/>
                <a:ext cx="36576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782" name=""/>
            <p:cNvSpPr/>
            <p:nvPr/>
          </p:nvSpPr>
          <p:spPr>
            <a:xfrm>
              <a:off x="0" y="2895480"/>
              <a:ext cx="557280" cy="4194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5040" y="2438280"/>
              <a:ext cx="28440" cy="10494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16080" y="3259800"/>
              <a:ext cx="8689680" cy="5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dt" idx="46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ftr" idx="47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sldNum" idx="48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2A5EA1-5D8B-4390-9AB9-EE6EC72FBBE6}" type="slidenum">
              <a: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754056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56840" y="1719360"/>
            <a:ext cx="82263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9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0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8759C61-4A0B-4AF9-AF71-C5121C254372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8153280" y="152280"/>
            <a:ext cx="789120" cy="1292400"/>
            <a:chOff x="8153280" y="152280"/>
            <a:chExt cx="789120" cy="1292400"/>
          </a:xfrm>
        </p:grpSpPr>
        <p:sp>
          <p:nvSpPr>
            <p:cNvPr id="832" name=""/>
            <p:cNvSpPr/>
            <p:nvPr/>
          </p:nvSpPr>
          <p:spPr>
            <a:xfrm>
              <a:off x="8153280" y="152280"/>
              <a:ext cx="117720" cy="117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21760" y="152280"/>
              <a:ext cx="117360" cy="117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489880" y="152280"/>
              <a:ext cx="117720" cy="117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153280" y="320760"/>
              <a:ext cx="117720" cy="1173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321760" y="320760"/>
              <a:ext cx="117360" cy="1173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489880" y="320760"/>
              <a:ext cx="117720" cy="1173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656560" y="320760"/>
              <a:ext cx="117720" cy="117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153280" y="488880"/>
              <a:ext cx="117720" cy="117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321760" y="488880"/>
              <a:ext cx="117360" cy="117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489880" y="488880"/>
              <a:ext cx="117720" cy="1177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656560" y="488880"/>
              <a:ext cx="117720" cy="1177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825040" y="488880"/>
              <a:ext cx="117360" cy="1177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153280" y="655560"/>
              <a:ext cx="117720" cy="117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321760" y="655560"/>
              <a:ext cx="117360" cy="1177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89880" y="655560"/>
              <a:ext cx="117720" cy="1177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656560" y="655560"/>
              <a:ext cx="117720" cy="1177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153280" y="824040"/>
              <a:ext cx="117720" cy="117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321760" y="824040"/>
              <a:ext cx="117360" cy="117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489880" y="824040"/>
              <a:ext cx="117720" cy="117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656560" y="824040"/>
              <a:ext cx="117720" cy="117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825040" y="824040"/>
              <a:ext cx="117360" cy="1173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153280" y="992160"/>
              <a:ext cx="117720" cy="117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321760" y="992160"/>
              <a:ext cx="117360" cy="117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489880" y="992160"/>
              <a:ext cx="117720" cy="117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656560" y="992160"/>
              <a:ext cx="117720" cy="1173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153280" y="1160640"/>
              <a:ext cx="11772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321760" y="1160640"/>
              <a:ext cx="11736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489880" y="1160640"/>
              <a:ext cx="117720" cy="115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56560" y="1160640"/>
              <a:ext cx="117720" cy="115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321760" y="1328760"/>
              <a:ext cx="117360" cy="1159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656560" y="1328760"/>
              <a:ext cx="117720" cy="1159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7315200" y="1066680"/>
            <a:ext cx="1440" cy="44960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15720" y="466560"/>
            <a:ext cx="677844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dt" idx="52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ftr" idx="53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6D36FF3-BD6B-4BF7-8EB9-5DBE0F774C90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7493040" y="2992320"/>
            <a:ext cx="1334880" cy="2186280"/>
            <a:chOff x="7493040" y="2992320"/>
            <a:chExt cx="1334880" cy="2186280"/>
          </a:xfrm>
        </p:grpSpPr>
        <p:sp>
          <p:nvSpPr>
            <p:cNvPr id="905" name=""/>
            <p:cNvSpPr/>
            <p:nvPr/>
          </p:nvSpPr>
          <p:spPr>
            <a:xfrm>
              <a:off x="7493040" y="2992320"/>
              <a:ext cx="198360" cy="198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77080" y="2992320"/>
              <a:ext cx="198360" cy="198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061480" y="2992320"/>
              <a:ext cx="198360" cy="198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493040" y="3276720"/>
              <a:ext cx="198360" cy="1983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777080" y="3276720"/>
              <a:ext cx="198360" cy="1983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061480" y="3276720"/>
              <a:ext cx="198360" cy="1983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345520" y="3276720"/>
              <a:ext cx="198360" cy="198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493040" y="3560760"/>
              <a:ext cx="198360" cy="1983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777080" y="3560760"/>
              <a:ext cx="198360" cy="1983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061480" y="3560760"/>
              <a:ext cx="198360" cy="198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345520" y="3560760"/>
              <a:ext cx="198360" cy="198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629560" y="3560760"/>
              <a:ext cx="198360" cy="198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493040" y="3843360"/>
              <a:ext cx="198360" cy="200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777080" y="3843360"/>
              <a:ext cx="198360" cy="200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061480" y="3843360"/>
              <a:ext cx="198360" cy="200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43360"/>
              <a:ext cx="198360" cy="200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493040" y="4127400"/>
              <a:ext cx="198360" cy="200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777080" y="4127400"/>
              <a:ext cx="198360" cy="200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061480" y="4127400"/>
              <a:ext cx="198360" cy="200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345520" y="4127400"/>
              <a:ext cx="198360" cy="200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629560" y="4127400"/>
              <a:ext cx="198360" cy="200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93040" y="4411800"/>
              <a:ext cx="198360" cy="198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777080" y="4411800"/>
              <a:ext cx="198360" cy="198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061480" y="4411800"/>
              <a:ext cx="198360" cy="198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345520" y="4411800"/>
              <a:ext cx="198360" cy="1983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493040" y="4695840"/>
              <a:ext cx="198360" cy="198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777080" y="4695840"/>
              <a:ext cx="198360" cy="198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061480" y="4695840"/>
              <a:ext cx="198360" cy="1983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345520" y="4695840"/>
              <a:ext cx="198360" cy="1983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777080" y="4979880"/>
              <a:ext cx="198360" cy="1987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45520" y="4979880"/>
              <a:ext cx="198360" cy="1987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dt" idx="55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ftr" idx="56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313C908-1502-44CC-917C-2D53ACE2B1E3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2040" cy="6305760"/>
              <a:chOff x="7848720" y="1440"/>
              <a:chExt cx="1292040" cy="63057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58880" cy="2266920"/>
                <a:chOff x="8381880" y="1440"/>
                <a:chExt cx="758880" cy="226692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6120" cy="273240"/>
                  <a:chOff x="8704440" y="1440"/>
                  <a:chExt cx="276120" cy="27324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6120" cy="273240"/>
                    <a:chOff x="8704440" y="1440"/>
                    <a:chExt cx="276120" cy="27324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2960" y="-37080"/>
                      <a:ext cx="198720" cy="27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680" y="94320"/>
                      <a:ext cx="13824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4120" y="74880"/>
                    <a:ext cx="399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8640" y="64080"/>
                    <a:ext cx="604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3960" y="192960"/>
                    <a:ext cx="60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69960" y="167040"/>
                    <a:ext cx="34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87280" cy="193680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6080" cy="19969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28680" cy="40338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6320" cy="21812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1160" cy="504504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6480" cy="306864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3120" cy="334980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297000" cy="334980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2080" cy="61596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9000" y="3315960"/>
              <a:ext cx="6854760" cy="222480"/>
            </a:xfrm>
            <a:custGeom>
              <a:avLst/>
              <a:gdLst>
                <a:gd name="textAreaLeft" fmla="*/ 662400 w 6854760"/>
                <a:gd name="textAreaRight" fmla="*/ 6192360 w 6854760"/>
                <a:gd name="textAreaTop" fmla="*/ 21240 h 222480"/>
                <a:gd name="textAreaBottom" fmla="*/ 20124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370160"/>
            <a:ext cx="6962760" cy="20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320" y="6242040"/>
            <a:ext cx="17794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200" y="6248160"/>
            <a:ext cx="345276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5DE8921-9D91-4D7B-9104-4C0DF743FB55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012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dt" idx="58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ftr" idx="59"/>
          </p:nvPr>
        </p:nvSpPr>
        <p:spPr>
          <a:xfrm>
            <a:off x="312372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sldNum" idx="60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B116008-FAE1-4052-BEAF-01EE6AD3F934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9624DE4-E94E-4E4E-895F-B34AF1A9974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11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3953243-7A11-4C9E-8124-83C69991A31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8683560" cy="4873680"/>
            <a:chOff x="0" y="0"/>
            <a:chExt cx="8683560" cy="4873680"/>
          </a:xfrm>
        </p:grpSpPr>
        <p:sp>
          <p:nvSpPr>
            <p:cNvPr id="274" name=""/>
            <p:cNvSpPr/>
            <p:nvPr/>
          </p:nvSpPr>
          <p:spPr>
            <a:xfrm>
              <a:off x="0" y="0"/>
              <a:ext cx="606600" cy="487368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80880" y="1417680"/>
              <a:ext cx="8302680" cy="179280"/>
              <a:chOff x="380880" y="1417680"/>
              <a:chExt cx="8302680" cy="179280"/>
            </a:xfrm>
          </p:grpSpPr>
          <p:sp>
            <p:nvSpPr>
              <p:cNvPr id="276" name=""/>
              <p:cNvSpPr/>
              <p:nvPr/>
            </p:nvSpPr>
            <p:spPr>
              <a:xfrm>
                <a:off x="6858000" y="1417680"/>
                <a:ext cx="1825560" cy="17928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0880" y="1494000"/>
                <a:ext cx="8302680" cy="0"/>
              </a:xfrm>
              <a:prstGeom prst="line">
                <a:avLst/>
              </a:prstGeom>
              <a:ln cap="sq" w="190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782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352320" y="6248160"/>
            <a:ext cx="29689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0FD4B1A-1211-4BD9-9DB5-20BFB77F13D5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cap="sq" w="44280">
            <a:solidFill>
              <a:srgbClr val="797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8759880" cy="5940360"/>
            <a:chOff x="0" y="0"/>
            <a:chExt cx="8759880" cy="5940360"/>
          </a:xfrm>
        </p:grpSpPr>
        <p:sp>
          <p:nvSpPr>
            <p:cNvPr id="321" name=""/>
            <p:cNvSpPr/>
            <p:nvPr/>
          </p:nvSpPr>
          <p:spPr>
            <a:xfrm>
              <a:off x="0" y="0"/>
              <a:ext cx="1749600" cy="487368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0" y="3505320"/>
              <a:ext cx="8759880" cy="2435040"/>
              <a:chOff x="0" y="3505320"/>
              <a:chExt cx="8759880" cy="2435040"/>
            </a:xfrm>
          </p:grpSpPr>
          <p:sp>
            <p:nvSpPr>
              <p:cNvPr id="323" name=""/>
              <p:cNvSpPr/>
              <p:nvPr/>
            </p:nvSpPr>
            <p:spPr>
              <a:xfrm>
                <a:off x="990720" y="3505320"/>
                <a:ext cx="7769160" cy="2435040"/>
              </a:xfrm>
              <a:prstGeom prst="rect">
                <a:avLst/>
              </a:prstGeom>
              <a:solidFill>
                <a:srgbClr val="797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38240" y="3733920"/>
                <a:ext cx="7645320" cy="2135160"/>
              </a:xfrm>
              <a:prstGeom prst="rect">
                <a:avLst/>
              </a:prstGeom>
              <a:solidFill>
                <a:srgbClr val="212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4876920"/>
                <a:ext cx="987480" cy="0"/>
              </a:xfrm>
              <a:prstGeom prst="line">
                <a:avLst/>
              </a:prstGeom>
              <a:ln cap="sq" w="5076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35040" y="533520"/>
              <a:ext cx="8074080" cy="301680"/>
              <a:chOff x="635040" y="533520"/>
              <a:chExt cx="8074080" cy="301680"/>
            </a:xfrm>
          </p:grpSpPr>
          <p:sp>
            <p:nvSpPr>
              <p:cNvPr id="327" name=""/>
              <p:cNvSpPr/>
              <p:nvPr/>
            </p:nvSpPr>
            <p:spPr>
              <a:xfrm>
                <a:off x="6273720" y="533520"/>
                <a:ext cx="2435400" cy="30168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35040" y="685800"/>
                <a:ext cx="8074080" cy="0"/>
              </a:xfrm>
              <a:prstGeom prst="line">
                <a:avLst/>
              </a:prstGeom>
              <a:ln cap="sq" w="442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057400" y="1143000"/>
            <a:ext cx="662616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16"/>
          </p:nvPr>
        </p:nvSpPr>
        <p:spPr>
          <a:xfrm>
            <a:off x="912960" y="625140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17"/>
          </p:nvPr>
        </p:nvSpPr>
        <p:spPr>
          <a:xfrm>
            <a:off x="3354480" y="6248160"/>
            <a:ext cx="28922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4BCF5A3-7159-4BEE-AA91-595397762330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9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0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1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2056FAA-309D-4C55-90E4-9A57FD7F62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8120" y="228600"/>
            <a:ext cx="8820360" cy="6093000"/>
            <a:chOff x="168120" y="228600"/>
            <a:chExt cx="8820360" cy="6093000"/>
          </a:xfrm>
        </p:grpSpPr>
        <p:sp>
          <p:nvSpPr>
            <p:cNvPr id="375" name=""/>
            <p:cNvSpPr/>
            <p:nvPr/>
          </p:nvSpPr>
          <p:spPr>
            <a:xfrm>
              <a:off x="168120" y="228600"/>
              <a:ext cx="8820360" cy="6093000"/>
            </a:xfrm>
            <a:prstGeom prst="roundRect">
              <a:avLst>
                <a:gd name="adj" fmla="val 11046"/>
              </a:avLst>
            </a:prstGeom>
            <a:noFill/>
            <a:ln cap="sq"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2120" y="1709640"/>
              <a:ext cx="7692840" cy="0"/>
            </a:xfrm>
            <a:prstGeom prst="line">
              <a:avLst/>
            </a:prstGeom>
            <a:ln cap="sq"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dt" idx="22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23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24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2E9C0B2-9671-4A84-A1F1-76B5E3B8F3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0" y="0"/>
            <a:ext cx="7238880" cy="1978200"/>
            <a:chOff x="0" y="0"/>
            <a:chExt cx="7238880" cy="1978200"/>
          </a:xfrm>
        </p:grpSpPr>
        <p:sp>
          <p:nvSpPr>
            <p:cNvPr id="457" name=""/>
            <p:cNvSpPr/>
            <p:nvPr/>
          </p:nvSpPr>
          <p:spPr>
            <a:xfrm>
              <a:off x="0" y="925560"/>
              <a:ext cx="7120080" cy="105264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0" y="0"/>
              <a:ext cx="7238880" cy="190008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5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6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A02FF93-20D4-40DC-B628-120D0C756323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006560" y="25992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imes New Roman"/>
              </a:rPr>
              <a:t>Классификация соревнований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360360" y="1655280"/>
            <a:ext cx="7561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соревнования  классифицируются по различным признака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 масштаб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 целям и задач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 условиям заче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 форме организ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dur="indefinite" fill="hold">
                            <p:stCondLst>
                              <p:cond delay="2040"/>
                            </p:stCondLst>
                            <p:childTnLst>
                              <p:par>
                                <p:cTn id="1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2540"/>
                            </p:stCondLst>
                            <p:childTnLst>
                              <p:par>
                                <p:cTn id="1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" dur="500"/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3040"/>
                            </p:stCondLst>
                            <p:childTnLst>
                              <p:par>
                                <p:cTn id="2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3540"/>
                            </p:stCondLst>
                            <p:childTnLst>
                              <p:par>
                                <p:cTn id="2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dur="indefinite" fill="hold">
                            <p:stCondLst>
                              <p:cond delay="4040"/>
                            </p:stCondLst>
                            <p:childTnLst>
                              <p:par>
                                <p:cTn id="2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" dur="500"/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509840" y="44100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Tahoma"/>
              </a:rPr>
              <a:t>По целям и задача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31640" y="1440000"/>
            <a:ext cx="6336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ревнования делятся 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целев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отборочн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контрольн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зачетно-классификационн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оказательн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массово-оздоровительны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4" name="" descr=""/>
          <p:cNvPicPr/>
          <p:nvPr/>
        </p:nvPicPr>
        <p:blipFill>
          <a:blip r:embed="rId2"/>
          <a:stretch/>
        </p:blipFill>
        <p:spPr>
          <a:xfrm>
            <a:off x="5397480" y="1655640"/>
            <a:ext cx="31701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0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230200" y="151920"/>
            <a:ext cx="453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</a:rPr>
              <a:t>По условиям зачет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31640" y="1440000"/>
            <a:ext cx="46087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ревнования делятся 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личн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командные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лично-командны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2"/>
          <a:stretch/>
        </p:blipFill>
        <p:spPr>
          <a:xfrm>
            <a:off x="3527280" y="4046400"/>
            <a:ext cx="5099040" cy="2433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0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934560" y="72720"/>
            <a:ext cx="7417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Tahoma"/>
              </a:rPr>
              <a:t>По форме организац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42560" y="1510920"/>
            <a:ext cx="5832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ревнования делятся 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открыт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закрыт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матчевые встречи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2"/>
          <a:stretch/>
        </p:blipFill>
        <p:spPr>
          <a:xfrm>
            <a:off x="4459320" y="2376360"/>
            <a:ext cx="4110120" cy="2789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0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0:37:56Z</dcterms:created>
  <dc:creator>Люба</dc:creator>
  <dc:description/>
  <dc:language>en-US</dc:language>
  <cp:lastModifiedBy>Люба</cp:lastModifiedBy>
  <dcterms:modified xsi:type="dcterms:W3CDTF">2008-02-01T06:43:04Z</dcterms:modified>
  <cp:revision>70</cp:revision>
  <dc:subject/>
  <dc:title>Виды лыжного спорта</dc:title>
</cp:coreProperties>
</file>