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BF5-4C1C-4307-A690-5D896ED3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DBFB-17AA-4086-ADD0-62EB8265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9D3-047A-40CD-806C-C28692E6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A01-B1B3-47E4-ABB1-BA754285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277D-8E33-42C6-9E93-6107A84F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56B6-0A56-45E1-BEA3-63C2327D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D899-1B1F-470A-9596-556443DA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6A88-0A71-415C-9915-911C8E49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9156-0D99-44B6-95B3-F66D8593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9BA5-3450-4C59-80DA-79BBF529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24DE-DC57-441A-8843-F8ED0A9B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F0B7-3AE5-4FE7-B348-C1D6BCBC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25D2-A628-46A9-8C67-42403F9B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8AE6-B97C-45D9-98F7-A6AE8A0A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7509-79F1-4605-8E4F-9438F38E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4CDE-AAB6-46BE-9FE3-4C249ECD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67D2-D73D-4F33-A4CF-FC057D6D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C2174-ADA8-4B9C-917F-5EC16D30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25A82-8199-47E8-AA2D-F15964AF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2CD79-3B4A-49D5-81AE-1705E857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F9924-9F64-4F5D-AFBC-7D396BE3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D33FA-E554-4AB9-ADBC-39E020B7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943B-D5F9-4B25-98DD-88906513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FE52C-13C4-4F88-B8F1-0C0D62A5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A348D-A0F0-4A11-B39B-89D04D3F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13B1-7F8B-4C14-A347-E13B99D3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DE3B4-FDA9-4CB9-8E19-94B89B8D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F9E20-BA54-405F-8ACD-FC372C29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9C72C-A2C1-4FFA-A460-1BACDDAD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B15DD-FAAB-436C-9DB4-9129A7DC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49FCE-7EB5-4DF5-9549-9F2E933C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595A1-4C4E-429E-985F-794F5045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AD318-C74A-48DA-BBD1-0784946F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856-809A-47A5-B658-6204D36B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B5405-ABBB-42EE-BAF1-D1ABF7DB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6AF7E-5DF2-4191-AB8F-6E8C238C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CB41A-0D55-4840-8704-F878E5B9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C3113-2274-4C05-8D62-121ADC02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B3B5E-1DE3-4491-A3E9-1E8F6A41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7E0BD-A053-4FAA-A5BD-4EC3E42A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47E66-DF28-4D2E-A105-BAC35066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92671-FF20-47E0-B7C3-BA888C28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AAA70-D178-45D4-BE2E-5847DAA1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0CD-CBC4-4529-BD9C-F2EC42FA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5D7-2089-4115-9D86-0BB632A6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B99-A99B-432B-995E-1C6FC888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DBD-BF25-45D3-98D5-EBFED8C4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A74E-8D17-4059-A894-3677ED4F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4f81b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81b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c0504d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373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95b3d7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81bd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4f81b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f81b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54DC-C734-471B-B924-883E65069E12}" type="slidenum">
              <a:rPr b="0" lang="ru-RU" sz="900" spc="-1" strike="noStrike">
                <a:solidFill>
                  <a:srgbClr val="4f81bd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4f81b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81b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c0504d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373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95b3d7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81bd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4f81b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f81b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6F74-3267-4080-921D-B8A4B4CCE010}" type="slidenum">
              <a:rPr b="0" lang="ru-RU" sz="900" spc="-1" strike="noStrike">
                <a:solidFill>
                  <a:srgbClr val="4f81bd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4f81b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81b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c0504d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373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95b3d7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81bd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4f81b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5b3d7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5b3d7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f81b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4ABC-1325-4432-9AAA-22DB2CF63F0C}" type="slidenum">
              <a:rPr b="0" lang="ru-RU" sz="900" spc="-1" strike="noStrike">
                <a:solidFill>
                  <a:srgbClr val="4f81bd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4f81b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81b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c0504d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373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95b3d7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81bd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4f81b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5b3d7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5b3d7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f81b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02B6-ADC7-490E-9A32-ADC2B7064F16}" type="slidenum">
              <a:rPr b="0" lang="ru-RU" sz="900" spc="-1" strike="noStrike">
                <a:solidFill>
                  <a:srgbClr val="4f81bd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6040" y="249120"/>
            <a:ext cx="859608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Тема:</a:t>
            </a:r>
            <a:br>
              <a:rPr sz="4000"/>
            </a:br>
            <a:br>
              <a:rPr sz="2600"/>
            </a:br>
            <a:endParaRPr b="0" lang="en-US" sz="4000" spc="-1" strike="noStrike">
              <a:solidFill>
                <a:srgbClr val="4f81bd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16040" y="3022560"/>
            <a:ext cx="859608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Цель: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рямоугольник 4"/>
          <p:cNvSpPr/>
          <p:nvPr/>
        </p:nvSpPr>
        <p:spPr>
          <a:xfrm>
            <a:off x="1560600" y="876240"/>
            <a:ext cx="7423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картонной фигурки с элементами движ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"/>
          <p:cNvSpPr/>
          <p:nvPr/>
        </p:nvSpPr>
        <p:spPr>
          <a:xfrm>
            <a:off x="485640" y="3821040"/>
            <a:ext cx="936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тся выполнять картонную фигурку с элементами движ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Объект 3" descr=""/>
          <p:cNvPicPr/>
          <p:nvPr/>
        </p:nvPicPr>
        <p:blipFill>
          <a:blip r:embed="rId1"/>
          <a:stretch/>
        </p:blipFill>
        <p:spPr>
          <a:xfrm>
            <a:off x="2800440" y="2470320"/>
            <a:ext cx="4351320" cy="326232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4" descr=""/>
          <p:cNvPicPr/>
          <p:nvPr/>
        </p:nvPicPr>
        <p:blipFill>
          <a:blip r:embed="rId2"/>
          <a:stretch/>
        </p:blipFill>
        <p:spPr>
          <a:xfrm>
            <a:off x="755640" y="244440"/>
            <a:ext cx="5684760" cy="426240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5"/>
          <p:cNvSpPr/>
          <p:nvPr/>
        </p:nvSpPr>
        <p:spPr>
          <a:xfrm>
            <a:off x="113400" y="355680"/>
            <a:ext cx="637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Объект 3" descr=""/>
          <p:cNvPicPr/>
          <p:nvPr/>
        </p:nvPicPr>
        <p:blipFill>
          <a:blip r:embed="rId1"/>
          <a:stretch/>
        </p:blipFill>
        <p:spPr>
          <a:xfrm>
            <a:off x="2387520" y="2160720"/>
            <a:ext cx="5176800" cy="38811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"/>
          <p:cNvPicPr/>
          <p:nvPr/>
        </p:nvPicPr>
        <p:blipFill>
          <a:blip r:embed="rId2"/>
          <a:stretch/>
        </p:blipFill>
        <p:spPr>
          <a:xfrm>
            <a:off x="750960" y="249120"/>
            <a:ext cx="5705280" cy="428004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5"/>
          <p:cNvSpPr/>
          <p:nvPr/>
        </p:nvSpPr>
        <p:spPr>
          <a:xfrm>
            <a:off x="108720" y="343080"/>
            <a:ext cx="637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5" descr=""/>
          <p:cNvPicPr/>
          <p:nvPr/>
        </p:nvPicPr>
        <p:blipFill>
          <a:blip r:embed="rId1"/>
          <a:stretch/>
        </p:blipFill>
        <p:spPr>
          <a:xfrm>
            <a:off x="5791320" y="1969920"/>
            <a:ext cx="6207120" cy="4656240"/>
          </a:xfrm>
          <a:prstGeom prst="rect">
            <a:avLst/>
          </a:prstGeom>
          <a:ln w="0">
            <a:noFill/>
          </a:ln>
        </p:spPr>
      </p:pic>
      <p:pic>
        <p:nvPicPr>
          <p:cNvPr id="241" name="Объект 3" descr=""/>
          <p:cNvPicPr/>
          <p:nvPr/>
        </p:nvPicPr>
        <p:blipFill>
          <a:blip r:embed="rId2"/>
          <a:stretch/>
        </p:blipFill>
        <p:spPr>
          <a:xfrm>
            <a:off x="957240" y="214200"/>
            <a:ext cx="5800680" cy="435132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4"/>
          <p:cNvSpPr/>
          <p:nvPr/>
        </p:nvSpPr>
        <p:spPr>
          <a:xfrm>
            <a:off x="315000" y="214200"/>
            <a:ext cx="637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4" descr=""/>
          <p:cNvPicPr/>
          <p:nvPr/>
        </p:nvPicPr>
        <p:blipFill>
          <a:blip r:embed="rId1"/>
          <a:stretch/>
        </p:blipFill>
        <p:spPr>
          <a:xfrm>
            <a:off x="6118200" y="2266920"/>
            <a:ext cx="5819760" cy="4363920"/>
          </a:xfrm>
          <a:prstGeom prst="rect">
            <a:avLst/>
          </a:prstGeom>
          <a:ln w="0">
            <a:noFill/>
          </a:ln>
        </p:spPr>
      </p:pic>
      <p:pic>
        <p:nvPicPr>
          <p:cNvPr id="244" name="Объект 3" descr=""/>
          <p:cNvPicPr/>
          <p:nvPr/>
        </p:nvPicPr>
        <p:blipFill>
          <a:blip r:embed="rId2"/>
          <a:stretch/>
        </p:blipFill>
        <p:spPr>
          <a:xfrm>
            <a:off x="814320" y="203040"/>
            <a:ext cx="6040440" cy="452916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5"/>
          <p:cNvSpPr/>
          <p:nvPr/>
        </p:nvSpPr>
        <p:spPr>
          <a:xfrm>
            <a:off x="172080" y="330120"/>
            <a:ext cx="637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4" descr=""/>
          <p:cNvPicPr/>
          <p:nvPr/>
        </p:nvPicPr>
        <p:blipFill>
          <a:blip r:embed="rId1"/>
          <a:stretch/>
        </p:blipFill>
        <p:spPr>
          <a:xfrm>
            <a:off x="6054840" y="2305080"/>
            <a:ext cx="5857920" cy="4394160"/>
          </a:xfrm>
          <a:prstGeom prst="rect">
            <a:avLst/>
          </a:prstGeom>
          <a:ln w="0">
            <a:noFill/>
          </a:ln>
        </p:spPr>
      </p:pic>
      <p:pic>
        <p:nvPicPr>
          <p:cNvPr id="247" name="Объект 3" descr=""/>
          <p:cNvPicPr/>
          <p:nvPr/>
        </p:nvPicPr>
        <p:blipFill>
          <a:blip r:embed="rId2"/>
          <a:stretch/>
        </p:blipFill>
        <p:spPr>
          <a:xfrm>
            <a:off x="954000" y="214200"/>
            <a:ext cx="5802480" cy="435132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5"/>
          <p:cNvSpPr/>
          <p:nvPr/>
        </p:nvSpPr>
        <p:spPr>
          <a:xfrm>
            <a:off x="96120" y="214200"/>
            <a:ext cx="942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Объект 3" descr=""/>
          <p:cNvPicPr/>
          <p:nvPr/>
        </p:nvPicPr>
        <p:blipFill>
          <a:blip r:embed="rId1"/>
          <a:stretch/>
        </p:blipFill>
        <p:spPr>
          <a:xfrm>
            <a:off x="1730520" y="360360"/>
            <a:ext cx="7993080" cy="599616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4"/>
          <p:cNvSpPr/>
          <p:nvPr/>
        </p:nvSpPr>
        <p:spPr>
          <a:xfrm>
            <a:off x="299520" y="214200"/>
            <a:ext cx="942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3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4"/>
          <p:cNvSpPr/>
          <p:nvPr/>
        </p:nvSpPr>
        <p:spPr>
          <a:xfrm>
            <a:off x="316800" y="214200"/>
            <a:ext cx="942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514520" y="537840"/>
            <a:ext cx="67406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ноухий очень ловко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трам грызет морковку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от волка и лисы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прячется в кусты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такой он, этот серый,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есется кувырком?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м сер, зимою - белый,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, скажите, вам знаком?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6730920" y="54500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85880" y="798480"/>
            <a:ext cx="8370720" cy="57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готовление деталей с помощью шаблон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вести шаблон на картон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резать детал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Сборка игрушк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делать отверстие в деталях, для продевания проволок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единить детали проволокой между собой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единить нитью подвижные част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Объект 3" descr=""/>
          <p:cNvPicPr/>
          <p:nvPr/>
        </p:nvPicPr>
        <p:blipFill>
          <a:blip r:embed="rId1"/>
          <a:stretch/>
        </p:blipFill>
        <p:spPr>
          <a:xfrm>
            <a:off x="1227240" y="0"/>
            <a:ext cx="8997840" cy="67485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315000" y="214200"/>
            <a:ext cx="637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4" descr=""/>
          <p:cNvPicPr/>
          <p:nvPr/>
        </p:nvPicPr>
        <p:blipFill>
          <a:blip r:embed="rId1"/>
          <a:stretch/>
        </p:blipFill>
        <p:spPr>
          <a:xfrm>
            <a:off x="5576760" y="1967040"/>
            <a:ext cx="6356520" cy="4767120"/>
          </a:xfrm>
          <a:prstGeom prst="rect">
            <a:avLst/>
          </a:prstGeom>
          <a:ln w="0">
            <a:noFill/>
          </a:ln>
        </p:spPr>
      </p:pic>
      <p:pic>
        <p:nvPicPr>
          <p:cNvPr id="223" name="Объект 3" descr=""/>
          <p:cNvPicPr/>
          <p:nvPr/>
        </p:nvPicPr>
        <p:blipFill>
          <a:blip r:embed="rId2"/>
          <a:stretch/>
        </p:blipFill>
        <p:spPr>
          <a:xfrm>
            <a:off x="747720" y="201600"/>
            <a:ext cx="5614920" cy="42102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105480" y="201600"/>
            <a:ext cx="637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Объект 3" descr=""/>
          <p:cNvPicPr/>
          <p:nvPr/>
        </p:nvPicPr>
        <p:blipFill>
          <a:blip r:embed="rId1"/>
          <a:stretch/>
        </p:blipFill>
        <p:spPr>
          <a:xfrm>
            <a:off x="684360" y="154080"/>
            <a:ext cx="5800680" cy="43513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4" descr=""/>
          <p:cNvPicPr/>
          <p:nvPr/>
        </p:nvPicPr>
        <p:blipFill>
          <a:blip r:embed="rId2"/>
          <a:stretch/>
        </p:blipFill>
        <p:spPr>
          <a:xfrm>
            <a:off x="5938920" y="2087640"/>
            <a:ext cx="6033960" cy="452736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5"/>
          <p:cNvSpPr/>
          <p:nvPr/>
        </p:nvSpPr>
        <p:spPr>
          <a:xfrm>
            <a:off x="42120" y="264960"/>
            <a:ext cx="637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5" descr=""/>
          <p:cNvPicPr/>
          <p:nvPr/>
        </p:nvPicPr>
        <p:blipFill>
          <a:blip r:embed="rId1"/>
          <a:stretch/>
        </p:blipFill>
        <p:spPr>
          <a:xfrm>
            <a:off x="5783400" y="1957320"/>
            <a:ext cx="6111720" cy="4584600"/>
          </a:xfrm>
          <a:prstGeom prst="rect">
            <a:avLst/>
          </a:prstGeom>
          <a:ln w="0">
            <a:noFill/>
          </a:ln>
        </p:spPr>
      </p:pic>
      <p:pic>
        <p:nvPicPr>
          <p:cNvPr id="229" name="Объект 3" descr=""/>
          <p:cNvPicPr/>
          <p:nvPr/>
        </p:nvPicPr>
        <p:blipFill>
          <a:blip r:embed="rId2"/>
          <a:stretch/>
        </p:blipFill>
        <p:spPr>
          <a:xfrm>
            <a:off x="801720" y="162000"/>
            <a:ext cx="5624640" cy="421776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159480" y="209520"/>
            <a:ext cx="637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4" descr=""/>
          <p:cNvPicPr/>
          <p:nvPr/>
        </p:nvPicPr>
        <p:blipFill>
          <a:blip r:embed="rId1"/>
          <a:stretch/>
        </p:blipFill>
        <p:spPr>
          <a:xfrm>
            <a:off x="6226200" y="2327400"/>
            <a:ext cx="5635440" cy="4225680"/>
          </a:xfrm>
          <a:prstGeom prst="rect">
            <a:avLst/>
          </a:prstGeom>
          <a:ln w="0">
            <a:noFill/>
          </a:ln>
        </p:spPr>
      </p:pic>
      <p:pic>
        <p:nvPicPr>
          <p:cNvPr id="232" name="Объект 3" descr=""/>
          <p:cNvPicPr/>
          <p:nvPr/>
        </p:nvPicPr>
        <p:blipFill>
          <a:blip r:embed="rId2"/>
          <a:stretch/>
        </p:blipFill>
        <p:spPr>
          <a:xfrm>
            <a:off x="776160" y="150840"/>
            <a:ext cx="5802480" cy="43513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5"/>
          <p:cNvSpPr/>
          <p:nvPr/>
        </p:nvSpPr>
        <p:spPr>
          <a:xfrm>
            <a:off x="134280" y="150840"/>
            <a:ext cx="637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6T14:45:14Z</dcterms:created>
  <dc:creator>HP</dc:creator>
  <dc:description/>
  <dc:language>en-US</dc:language>
  <cp:lastModifiedBy>Windows User</cp:lastModifiedBy>
  <dcterms:modified xsi:type="dcterms:W3CDTF">2017-05-24T07:44:12Z</dcterms:modified>
  <cp:revision>9</cp:revision>
  <dc:subject/>
  <dc:title>Презентация PowerPoint</dc:title>
</cp:coreProperties>
</file>