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38C-9CAC-432B-BF36-E085C017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04BB-72F5-4DCA-A902-4BBF78D6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142-7848-47DA-933E-ECCF5E2E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03C7-C888-4AC8-A649-C9CBE16E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5D92-95C4-4776-BCCA-71FBECAA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58DC-78B6-44BB-A87B-4ADBEDC5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AD33-CFC7-485A-B3DE-901728F8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46EF-4118-47C4-9746-5B73C942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71CA-58C2-4723-B774-C5944861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23D6-189C-4897-9EF6-6FA98926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8CC9-29C3-48F9-968B-FFBED261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DA7-1AF9-4660-A27E-0BFB5127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97F7-174C-46C5-BE84-3A7988D9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2032-5DCD-4633-8DE2-5FEA8209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5C44-822C-41DE-AD85-748E9B7D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CE78-B4B0-42C5-A344-17A91AF5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88F5-03E1-4AA2-BAA5-FC5458AF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9B765-93D5-4230-90EB-B277621D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06893-CB95-406A-8134-97FE0D35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FC68A-3A2D-4EF4-8B7E-5F7D719E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B6F1E-8F5D-479B-84A5-0AA526A4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9E0EB-1F36-4BB9-BA30-D4EA4305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9751-7E76-4D70-B916-041038DC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B343C-70A4-4487-B701-3C474715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9FC30-47E9-4CE2-B904-D775E9FB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3A097-028C-447B-BB60-9794B879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40698-9DB5-4382-AEA8-9670DA98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CC269-DD8F-45C3-A1F1-6B1E7BB0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41867-321B-4F66-A33B-E977EF3D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4BC05-A8B5-471D-A1C8-6B5AE160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24744-0C76-4148-BAF3-DC348AA4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5237E-E613-46B7-B7A6-D0858CAB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CF3F8-80CE-40EF-9EE0-0FF6B238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E6FD-1628-4C3E-9DBE-CBAAE55A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27468-140C-466A-968B-091EF4AE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82B15-39E2-42B2-914E-7CE7F2E1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31121-1E1B-48E9-9D7B-3EF125D9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BC403-62FE-4904-9AD9-BDABCDB3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ED683-CAAE-4F31-9687-CF7B1F0F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1401F-037D-4E48-B768-BB3FDBAA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94D8B-EE1A-493F-9E4C-0F031369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E9CB1-0A54-460A-B5AB-C33F5245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897FC-B2AC-44E1-B87D-196A3F06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C50-B9B0-46DC-8726-0E938B98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135-98C1-4BB8-8D67-9698B6E4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C1B-9EC4-4318-AB80-802977E4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833F-7CF5-4F2A-B1A3-3B1F61C9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784-DC19-4E36-BC4B-DAABA722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4f81b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81b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c0504d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373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95b3d7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81bd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4f81b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f81b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6C95-BF9B-4D88-9B82-EDF08A5916CC}" type="slidenum">
              <a:rPr b="0" lang="ru-RU" sz="900" spc="-1" strike="noStrike">
                <a:solidFill>
                  <a:srgbClr val="4f81bd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4f81b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81b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c0504d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373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95b3d7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81bd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4f81b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f81b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2B47-A0DA-4DDE-A5B4-78D10689BDED}" type="slidenum">
              <a:rPr b="0" lang="ru-RU" sz="900" spc="-1" strike="noStrike">
                <a:solidFill>
                  <a:srgbClr val="4f81bd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4f81b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81b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c0504d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373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95b3d7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81bd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4f81b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5b3d7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5b3d7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f81b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9318-AB13-4380-8C2F-5873BA6D2F80}" type="slidenum">
              <a:rPr b="0" lang="ru-RU" sz="900" spc="-1" strike="noStrike">
                <a:solidFill>
                  <a:srgbClr val="4f81bd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4f81b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81b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c0504d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373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95b3d7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81bd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4f81b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5b3d7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5b3d7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f81b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765A-26A1-4E01-8C9A-7DDA37EA4E47}" type="slidenum">
              <a:rPr b="0" lang="ru-RU" sz="900" spc="-1" strike="noStrike">
                <a:solidFill>
                  <a:srgbClr val="4f81bd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6040" y="249120"/>
            <a:ext cx="859608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Тема:</a:t>
            </a:r>
            <a:br>
              <a:rPr sz="4000"/>
            </a:br>
            <a:br>
              <a:rPr sz="2600"/>
            </a:br>
            <a:endParaRPr b="0" lang="en-US" sz="40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16040" y="3022560"/>
            <a:ext cx="859608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Цель: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рямоугольник 4"/>
          <p:cNvSpPr/>
          <p:nvPr/>
        </p:nvSpPr>
        <p:spPr>
          <a:xfrm>
            <a:off x="1560600" y="876240"/>
            <a:ext cx="7423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картонной фигурки с элементами движ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5"/>
          <p:cNvSpPr/>
          <p:nvPr/>
        </p:nvSpPr>
        <p:spPr>
          <a:xfrm>
            <a:off x="485640" y="3821040"/>
            <a:ext cx="936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тся выполнять картонную фигурку с элементами движ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Объект 3" descr=""/>
          <p:cNvPicPr/>
          <p:nvPr/>
        </p:nvPicPr>
        <p:blipFill>
          <a:blip r:embed="rId1"/>
          <a:stretch/>
        </p:blipFill>
        <p:spPr>
          <a:xfrm>
            <a:off x="2800440" y="2470320"/>
            <a:ext cx="4351320" cy="326232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4" descr=""/>
          <p:cNvPicPr/>
          <p:nvPr/>
        </p:nvPicPr>
        <p:blipFill>
          <a:blip r:embed="rId2"/>
          <a:stretch/>
        </p:blipFill>
        <p:spPr>
          <a:xfrm>
            <a:off x="755640" y="244440"/>
            <a:ext cx="5684760" cy="426240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5"/>
          <p:cNvSpPr/>
          <p:nvPr/>
        </p:nvSpPr>
        <p:spPr>
          <a:xfrm>
            <a:off x="113400" y="355680"/>
            <a:ext cx="637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Объект 3" descr=""/>
          <p:cNvPicPr/>
          <p:nvPr/>
        </p:nvPicPr>
        <p:blipFill>
          <a:blip r:embed="rId1"/>
          <a:stretch/>
        </p:blipFill>
        <p:spPr>
          <a:xfrm>
            <a:off x="2387520" y="2160720"/>
            <a:ext cx="5176800" cy="38811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"/>
          <p:cNvPicPr/>
          <p:nvPr/>
        </p:nvPicPr>
        <p:blipFill>
          <a:blip r:embed="rId2"/>
          <a:stretch/>
        </p:blipFill>
        <p:spPr>
          <a:xfrm>
            <a:off x="750960" y="249120"/>
            <a:ext cx="5705280" cy="428004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5"/>
          <p:cNvSpPr/>
          <p:nvPr/>
        </p:nvSpPr>
        <p:spPr>
          <a:xfrm>
            <a:off x="108720" y="343080"/>
            <a:ext cx="637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5" descr=""/>
          <p:cNvPicPr/>
          <p:nvPr/>
        </p:nvPicPr>
        <p:blipFill>
          <a:blip r:embed="rId1"/>
          <a:stretch/>
        </p:blipFill>
        <p:spPr>
          <a:xfrm>
            <a:off x="5791320" y="1969920"/>
            <a:ext cx="6207120" cy="4656240"/>
          </a:xfrm>
          <a:prstGeom prst="rect">
            <a:avLst/>
          </a:prstGeom>
          <a:ln w="0">
            <a:noFill/>
          </a:ln>
        </p:spPr>
      </p:pic>
      <p:pic>
        <p:nvPicPr>
          <p:cNvPr id="241" name="Объект 3" descr=""/>
          <p:cNvPicPr/>
          <p:nvPr/>
        </p:nvPicPr>
        <p:blipFill>
          <a:blip r:embed="rId2"/>
          <a:stretch/>
        </p:blipFill>
        <p:spPr>
          <a:xfrm>
            <a:off x="957240" y="214200"/>
            <a:ext cx="5800680" cy="435132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4"/>
          <p:cNvSpPr/>
          <p:nvPr/>
        </p:nvSpPr>
        <p:spPr>
          <a:xfrm>
            <a:off x="315000" y="214200"/>
            <a:ext cx="637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4" descr=""/>
          <p:cNvPicPr/>
          <p:nvPr/>
        </p:nvPicPr>
        <p:blipFill>
          <a:blip r:embed="rId1"/>
          <a:stretch/>
        </p:blipFill>
        <p:spPr>
          <a:xfrm>
            <a:off x="6118200" y="2266920"/>
            <a:ext cx="5819760" cy="4363920"/>
          </a:xfrm>
          <a:prstGeom prst="rect">
            <a:avLst/>
          </a:prstGeom>
          <a:ln w="0">
            <a:noFill/>
          </a:ln>
        </p:spPr>
      </p:pic>
      <p:pic>
        <p:nvPicPr>
          <p:cNvPr id="244" name="Объект 3" descr=""/>
          <p:cNvPicPr/>
          <p:nvPr/>
        </p:nvPicPr>
        <p:blipFill>
          <a:blip r:embed="rId2"/>
          <a:stretch/>
        </p:blipFill>
        <p:spPr>
          <a:xfrm>
            <a:off x="814320" y="203040"/>
            <a:ext cx="6040440" cy="452916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5"/>
          <p:cNvSpPr/>
          <p:nvPr/>
        </p:nvSpPr>
        <p:spPr>
          <a:xfrm>
            <a:off x="172080" y="330120"/>
            <a:ext cx="637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4" descr=""/>
          <p:cNvPicPr/>
          <p:nvPr/>
        </p:nvPicPr>
        <p:blipFill>
          <a:blip r:embed="rId1"/>
          <a:stretch/>
        </p:blipFill>
        <p:spPr>
          <a:xfrm>
            <a:off x="6054840" y="2305080"/>
            <a:ext cx="5857920" cy="4394160"/>
          </a:xfrm>
          <a:prstGeom prst="rect">
            <a:avLst/>
          </a:prstGeom>
          <a:ln w="0">
            <a:noFill/>
          </a:ln>
        </p:spPr>
      </p:pic>
      <p:pic>
        <p:nvPicPr>
          <p:cNvPr id="247" name="Объект 3" descr=""/>
          <p:cNvPicPr/>
          <p:nvPr/>
        </p:nvPicPr>
        <p:blipFill>
          <a:blip r:embed="rId2"/>
          <a:stretch/>
        </p:blipFill>
        <p:spPr>
          <a:xfrm>
            <a:off x="954000" y="214200"/>
            <a:ext cx="5802480" cy="435132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5"/>
          <p:cNvSpPr/>
          <p:nvPr/>
        </p:nvSpPr>
        <p:spPr>
          <a:xfrm>
            <a:off x="96120" y="214200"/>
            <a:ext cx="9428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Объект 3" descr=""/>
          <p:cNvPicPr/>
          <p:nvPr/>
        </p:nvPicPr>
        <p:blipFill>
          <a:blip r:embed="rId1"/>
          <a:stretch/>
        </p:blipFill>
        <p:spPr>
          <a:xfrm>
            <a:off x="1730520" y="360360"/>
            <a:ext cx="7993080" cy="599616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4"/>
          <p:cNvSpPr/>
          <p:nvPr/>
        </p:nvSpPr>
        <p:spPr>
          <a:xfrm>
            <a:off x="299520" y="214200"/>
            <a:ext cx="9428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3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4"/>
          <p:cNvSpPr/>
          <p:nvPr/>
        </p:nvSpPr>
        <p:spPr>
          <a:xfrm>
            <a:off x="316800" y="214200"/>
            <a:ext cx="9428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514520" y="537840"/>
            <a:ext cx="67406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ноухий очень ловко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трам грызет морковку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от волка и лисы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прячется в кусты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такой он, этот серый,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есется кувырком?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м сер, зимою - белый,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, скажите, вам знаком?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6730920" y="54500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85880" y="798480"/>
            <a:ext cx="8370720" cy="57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готовление деталей с помощью шаблон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вести шаблон на картон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резать детал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Сборка игрушк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делать отверстие в деталях, для продевания проволок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единить детали проволокой между собой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единить нитью подвижные част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Объект 3" descr=""/>
          <p:cNvPicPr/>
          <p:nvPr/>
        </p:nvPicPr>
        <p:blipFill>
          <a:blip r:embed="rId1"/>
          <a:stretch/>
        </p:blipFill>
        <p:spPr>
          <a:xfrm>
            <a:off x="1227240" y="0"/>
            <a:ext cx="8997840" cy="67485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315000" y="214200"/>
            <a:ext cx="637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4" descr=""/>
          <p:cNvPicPr/>
          <p:nvPr/>
        </p:nvPicPr>
        <p:blipFill>
          <a:blip r:embed="rId1"/>
          <a:stretch/>
        </p:blipFill>
        <p:spPr>
          <a:xfrm>
            <a:off x="5576760" y="1967040"/>
            <a:ext cx="6356520" cy="4767120"/>
          </a:xfrm>
          <a:prstGeom prst="rect">
            <a:avLst/>
          </a:prstGeom>
          <a:ln w="0">
            <a:noFill/>
          </a:ln>
        </p:spPr>
      </p:pic>
      <p:pic>
        <p:nvPicPr>
          <p:cNvPr id="223" name="Объект 3" descr=""/>
          <p:cNvPicPr/>
          <p:nvPr/>
        </p:nvPicPr>
        <p:blipFill>
          <a:blip r:embed="rId2"/>
          <a:stretch/>
        </p:blipFill>
        <p:spPr>
          <a:xfrm>
            <a:off x="747720" y="201600"/>
            <a:ext cx="5614920" cy="42102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5"/>
          <p:cNvSpPr/>
          <p:nvPr/>
        </p:nvSpPr>
        <p:spPr>
          <a:xfrm>
            <a:off x="105480" y="201600"/>
            <a:ext cx="637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Объект 3" descr=""/>
          <p:cNvPicPr/>
          <p:nvPr/>
        </p:nvPicPr>
        <p:blipFill>
          <a:blip r:embed="rId1"/>
          <a:stretch/>
        </p:blipFill>
        <p:spPr>
          <a:xfrm>
            <a:off x="684360" y="154080"/>
            <a:ext cx="5800680" cy="43513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4" descr=""/>
          <p:cNvPicPr/>
          <p:nvPr/>
        </p:nvPicPr>
        <p:blipFill>
          <a:blip r:embed="rId2"/>
          <a:stretch/>
        </p:blipFill>
        <p:spPr>
          <a:xfrm>
            <a:off x="5938920" y="2087640"/>
            <a:ext cx="6033960" cy="452736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5"/>
          <p:cNvSpPr/>
          <p:nvPr/>
        </p:nvSpPr>
        <p:spPr>
          <a:xfrm>
            <a:off x="42120" y="264960"/>
            <a:ext cx="637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5" descr=""/>
          <p:cNvPicPr/>
          <p:nvPr/>
        </p:nvPicPr>
        <p:blipFill>
          <a:blip r:embed="rId1"/>
          <a:stretch/>
        </p:blipFill>
        <p:spPr>
          <a:xfrm>
            <a:off x="5783400" y="1957320"/>
            <a:ext cx="6111720" cy="4584600"/>
          </a:xfrm>
          <a:prstGeom prst="rect">
            <a:avLst/>
          </a:prstGeom>
          <a:ln w="0">
            <a:noFill/>
          </a:ln>
        </p:spPr>
      </p:pic>
      <p:pic>
        <p:nvPicPr>
          <p:cNvPr id="229" name="Объект 3" descr=""/>
          <p:cNvPicPr/>
          <p:nvPr/>
        </p:nvPicPr>
        <p:blipFill>
          <a:blip r:embed="rId2"/>
          <a:stretch/>
        </p:blipFill>
        <p:spPr>
          <a:xfrm>
            <a:off x="801720" y="162000"/>
            <a:ext cx="5624640" cy="421776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159480" y="209520"/>
            <a:ext cx="637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4" descr=""/>
          <p:cNvPicPr/>
          <p:nvPr/>
        </p:nvPicPr>
        <p:blipFill>
          <a:blip r:embed="rId1"/>
          <a:stretch/>
        </p:blipFill>
        <p:spPr>
          <a:xfrm>
            <a:off x="6226200" y="2327400"/>
            <a:ext cx="5635440" cy="4225680"/>
          </a:xfrm>
          <a:prstGeom prst="rect">
            <a:avLst/>
          </a:prstGeom>
          <a:ln w="0">
            <a:noFill/>
          </a:ln>
        </p:spPr>
      </p:pic>
      <p:pic>
        <p:nvPicPr>
          <p:cNvPr id="232" name="Объект 3" descr=""/>
          <p:cNvPicPr/>
          <p:nvPr/>
        </p:nvPicPr>
        <p:blipFill>
          <a:blip r:embed="rId2"/>
          <a:stretch/>
        </p:blipFill>
        <p:spPr>
          <a:xfrm>
            <a:off x="776160" y="150840"/>
            <a:ext cx="5802480" cy="43513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5"/>
          <p:cNvSpPr/>
          <p:nvPr/>
        </p:nvSpPr>
        <p:spPr>
          <a:xfrm>
            <a:off x="134280" y="150840"/>
            <a:ext cx="637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6T14:45:14Z</dcterms:created>
  <dc:creator>HP</dc:creator>
  <dc:description/>
  <dc:language>en-US</dc:language>
  <cp:lastModifiedBy>Windows User</cp:lastModifiedBy>
  <dcterms:modified xsi:type="dcterms:W3CDTF">2017-05-24T07:44:12Z</dcterms:modified>
  <cp:revision>9</cp:revision>
  <dc:subject/>
  <dc:title>Презентация PowerPoint</dc:title>
</cp:coreProperties>
</file>