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629-C9CC-4D4C-9777-17922133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DF9B-B831-4C7F-9FE7-B8C78A83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A803-7A17-4430-9AB6-4090E951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9EF3-6715-4CDF-8FF7-25250B5B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44A8-70D4-4BEC-B703-9EB78DFC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570-EA02-4B2F-8890-4B79B883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41A6-B5CC-4A1E-900E-EB130418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DAB5-8AB6-43BB-AAF8-5A2AA44C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6F3-B78F-4375-88F2-87E50A80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9BF-2F18-4C1B-B78D-B4123A14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0F7B-CCAE-4D56-B00C-FB75467D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405-26F6-449D-8058-E0C66754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C173-756D-49D6-870E-48A816705B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428760" y="119016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 – 90 =                   380 + 130=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0 – 70 =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820 – 740 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 + 570 =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90 +360 =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+100 =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510 – 260 =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" name="Прямая со стрелкой 3"/>
          <p:cNvCxnSpPr/>
          <p:nvPr/>
        </p:nvCxnSpPr>
        <p:spPr>
          <a:xfrm>
            <a:off x="2571840" y="1499760"/>
            <a:ext cx="2071800" cy="114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" name="Прямая со стрелкой 4"/>
          <p:cNvCxnSpPr/>
          <p:nvPr/>
        </p:nvCxnSpPr>
        <p:spPr>
          <a:xfrm flipH="1" flipV="1">
            <a:off x="2642760" y="2071080"/>
            <a:ext cx="1991520" cy="562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" name="Прямая со стрелкой 7"/>
          <p:cNvCxnSpPr/>
          <p:nvPr/>
        </p:nvCxnSpPr>
        <p:spPr>
          <a:xfrm flipV="1">
            <a:off x="2643120" y="1571040"/>
            <a:ext cx="200088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" name="Прямая со стрелкой 9"/>
          <p:cNvCxnSpPr/>
          <p:nvPr/>
        </p:nvCxnSpPr>
        <p:spPr>
          <a:xfrm flipH="1" rot="16200000">
            <a:off x="3857400" y="2428560"/>
            <a:ext cx="1500840" cy="72000"/>
          </a:xfrm>
          <a:prstGeom prst="curvedConnector5">
            <a:avLst>
              <a:gd name="adj1" fmla="val 50000"/>
              <a:gd name="adj2" fmla="val 49748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" name="Прямая со стрелкой 14"/>
          <p:cNvCxnSpPr/>
          <p:nvPr/>
        </p:nvCxnSpPr>
        <p:spPr>
          <a:xfrm flipH="1" flipV="1">
            <a:off x="2857320" y="2642400"/>
            <a:ext cx="1776960" cy="562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" name="Прямая со стрелкой 16"/>
          <p:cNvCxnSpPr/>
          <p:nvPr/>
        </p:nvCxnSpPr>
        <p:spPr>
          <a:xfrm flipV="1">
            <a:off x="2714760" y="2071080"/>
            <a:ext cx="2071800" cy="57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Прямая со стрелкой 18"/>
          <p:cNvCxnSpPr/>
          <p:nvPr/>
        </p:nvCxnSpPr>
        <p:spPr>
          <a:xfrm flipH="1">
            <a:off x="2428560" y="2071800"/>
            <a:ext cx="2286720" cy="1072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84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3, 123, 423, 623, 223, 72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679680" y="565560"/>
            <a:ext cx="796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положите числовую последователь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порядке убыв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величьте каждое из однозначных натуральных чисел  в 100 раз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  •  100 = 100  •  3 = 30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  •  100 = 100  •  8 = 80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  •  100 = 100  •  5 = 500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  •  100 = 100  •  9 = 900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  •  100 = 100  •  4 = 40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  •  100 = 100  •  7 = 70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3  •  100 = 100  •  23 = 230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282888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Заголовок 3"/>
          <p:cNvSpPr/>
          <p:nvPr/>
        </p:nvSpPr>
        <p:spPr>
          <a:xfrm>
            <a:off x="2928960" y="428760"/>
            <a:ext cx="282888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Заголовок 3"/>
          <p:cNvSpPr/>
          <p:nvPr/>
        </p:nvSpPr>
        <p:spPr>
          <a:xfrm>
            <a:off x="5929200" y="357120"/>
            <a:ext cx="2828880" cy="25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Заголовок 3"/>
          <p:cNvSpPr/>
          <p:nvPr/>
        </p:nvSpPr>
        <p:spPr>
          <a:xfrm>
            <a:off x="142920" y="3571920"/>
            <a:ext cx="282888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Заголовок 3"/>
          <p:cNvSpPr/>
          <p:nvPr/>
        </p:nvSpPr>
        <p:spPr>
          <a:xfrm>
            <a:off x="3000240" y="3571920"/>
            <a:ext cx="282924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Заголовок 3"/>
          <p:cNvSpPr/>
          <p:nvPr/>
        </p:nvSpPr>
        <p:spPr>
          <a:xfrm>
            <a:off x="5929200" y="3571920"/>
            <a:ext cx="282888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0T00:11:51Z</dcterms:created>
  <dc:creator>User</dc:creator>
  <dc:description/>
  <dc:language>en-US</dc:language>
  <cp:lastModifiedBy>User</cp:lastModifiedBy>
  <dcterms:modified xsi:type="dcterms:W3CDTF">2016-03-10T01:09:14Z</dcterms:modified>
  <cp:revision>6</cp:revision>
  <dc:subject/>
  <dc:title>Слайд 1</dc:title>
</cp:coreProperties>
</file>