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791-07F6-4798-882D-7A5234E7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77C-4503-48D5-B4F1-6C631C7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B78-8EB0-429E-9C6D-C84C20BF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62D-0C4D-45FC-B11B-20D146D8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E7B-DACC-42E6-BB75-EC4F53FD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9CC-B289-46D3-B485-B663A951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B4B-7E1E-40CF-A3A2-F6FB632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B50-ED2B-40AB-AF55-959C2AE9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FE6-A56E-4454-81A8-4735DF0D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67D-155A-4314-B587-9614665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F7D-3F77-46D7-9AD6-4E4BB68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06E-314A-4A76-81C3-86318BF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179-3326-4F09-B38C-444ED15D5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28760" y="119016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– 90 =                   380 + 130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 – 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820 – 740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+ 5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90 +3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+100 =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510 – 2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Прямая со стрелкой 3"/>
          <p:cNvCxnSpPr/>
          <p:nvPr/>
        </p:nvCxnSpPr>
        <p:spPr>
          <a:xfrm>
            <a:off x="2571840" y="1499760"/>
            <a:ext cx="20718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4"/>
          <p:cNvCxnSpPr/>
          <p:nvPr/>
        </p:nvCxnSpPr>
        <p:spPr>
          <a:xfrm flipH="1" flipV="1">
            <a:off x="2642760" y="2071080"/>
            <a:ext cx="199152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7"/>
          <p:cNvCxnSpPr/>
          <p:nvPr/>
        </p:nvCxnSpPr>
        <p:spPr>
          <a:xfrm flipV="1">
            <a:off x="2643120" y="1571040"/>
            <a:ext cx="20008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9"/>
          <p:cNvCxnSpPr/>
          <p:nvPr/>
        </p:nvCxnSpPr>
        <p:spPr>
          <a:xfrm flipH="1" rot="16200000">
            <a:off x="3857400" y="2428560"/>
            <a:ext cx="150084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14"/>
          <p:cNvCxnSpPr/>
          <p:nvPr/>
        </p:nvCxnSpPr>
        <p:spPr>
          <a:xfrm flipH="1" flipV="1">
            <a:off x="2857320" y="2642400"/>
            <a:ext cx="177696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16"/>
          <p:cNvCxnSpPr/>
          <p:nvPr/>
        </p:nvCxnSpPr>
        <p:spPr>
          <a:xfrm flipV="1">
            <a:off x="2714760" y="2071080"/>
            <a:ext cx="20718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18"/>
          <p:cNvCxnSpPr/>
          <p:nvPr/>
        </p:nvCxnSpPr>
        <p:spPr>
          <a:xfrm flipH="1">
            <a:off x="2428560" y="2071800"/>
            <a:ext cx="228672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3, 123, 423, 623, 223, 72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679680" y="565560"/>
            <a:ext cx="796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положите числовую последова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орядке убы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еличьте каждое из однозначных натуральных чисел  в 100 раз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 •  100 = 100  •  3 = 3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 •  100 = 100  •  8 = 8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 •  100 = 100  •  5 = 5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 •  100 = 100  •  9 = 9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 •  100 = 100  •  4 = 4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 •  100 = 100  •  7 = 7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3  •  100 = 100  •  23 = 230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2828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3"/>
          <p:cNvSpPr/>
          <p:nvPr/>
        </p:nvSpPr>
        <p:spPr>
          <a:xfrm>
            <a:off x="2928960" y="42876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3"/>
          <p:cNvSpPr/>
          <p:nvPr/>
        </p:nvSpPr>
        <p:spPr>
          <a:xfrm>
            <a:off x="5929200" y="357120"/>
            <a:ext cx="28288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3"/>
          <p:cNvSpPr/>
          <p:nvPr/>
        </p:nvSpPr>
        <p:spPr>
          <a:xfrm>
            <a:off x="14292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3"/>
          <p:cNvSpPr/>
          <p:nvPr/>
        </p:nvSpPr>
        <p:spPr>
          <a:xfrm>
            <a:off x="3000240" y="3571920"/>
            <a:ext cx="28292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3"/>
          <p:cNvSpPr/>
          <p:nvPr/>
        </p:nvSpPr>
        <p:spPr>
          <a:xfrm>
            <a:off x="592920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00:11:51Z</dcterms:created>
  <dc:creator>User</dc:creator>
  <dc:description/>
  <dc:language>en-US</dc:language>
  <cp:lastModifiedBy>User</cp:lastModifiedBy>
  <dcterms:modified xsi:type="dcterms:W3CDTF">2016-03-10T01:09:14Z</dcterms:modified>
  <cp:revision>6</cp:revision>
  <dc:subject/>
  <dc:title>Слайд 1</dc:title>
</cp:coreProperties>
</file>