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7F9-C4BD-4990-A887-2F39D67D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8640"/>
            <a:ext cx="90723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628-899D-4D89-99B4-1B0D6FE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05864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D27-DB2C-4252-ACD1-218149BA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864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05864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058640"/>
            <a:ext cx="29210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D2B-B04C-4545-A754-C634CEC6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C0C-940E-429A-9894-86901B18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EE6-AF7E-4559-9C2E-386A1401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8F3-E43F-429A-B18D-860C60A3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0C1-AE7B-4F62-A2E2-61764554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1B7-5E0D-4CA5-A664-AC79D13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D52-E968-42D4-8F0C-73BA7EA0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05864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45B-8AA5-4AF8-B8A9-691FDA55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90723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B7A-05CC-4FB6-A5CA-AD383D98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5966-2F49-4534-853E-8CF8C95143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изическая культура для учащихся 1-11 классов под редакцией В. И. Ля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79440"/>
            <a:ext cx="9072360" cy="11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ыные отличия и приимущества программы В. И. Ляха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мплексный подх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личие базовой и вариативной ч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можность использования для 2-х и 3-х уроков в недел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дробное описание содержания и методов физического воспитания как для урочной, так и внекласной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добная форма изложения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уктура УМК 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физической культуре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38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мплексная программа физического воспитания 1-11 классов        Учебник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Мой друг физкультура" для 1-4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Физическая культура" для 5-7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"Физическая культура" для 8-9 и 10-11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ческие пособия для учит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-7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-9 классов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-11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260360" y="1079640"/>
            <a:ext cx="1924200" cy="2700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4140360" y="1260360"/>
            <a:ext cx="2160360" cy="30592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3"/>
          <a:stretch/>
        </p:blipFill>
        <p:spPr>
          <a:xfrm>
            <a:off x="7020000" y="1079640"/>
            <a:ext cx="2601720" cy="3060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4"/>
          <a:stretch/>
        </p:blipFill>
        <p:spPr>
          <a:xfrm>
            <a:off x="720720" y="3959280"/>
            <a:ext cx="2879640" cy="3600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"/>
          <p:cNvPicPr/>
          <p:nvPr/>
        </p:nvPicPr>
        <p:blipFill>
          <a:blip r:embed="rId5"/>
          <a:stretch/>
        </p:blipFill>
        <p:spPr>
          <a:xfrm>
            <a:off x="3959280" y="4500720"/>
            <a:ext cx="252072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"/>
          <p:cNvPicPr/>
          <p:nvPr/>
        </p:nvPicPr>
        <p:blipFill>
          <a:blip r:embed="rId6"/>
          <a:stretch/>
        </p:blipFill>
        <p:spPr>
          <a:xfrm>
            <a:off x="6970680" y="4500720"/>
            <a:ext cx="2568600" cy="2885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Berezya</dc:creator>
  <dc:description/>
  <dc:language>en-US</dc:language>
  <cp:lastModifiedBy>Berezya</cp:lastModifiedBy>
  <dcterms:modified xsi:type="dcterms:W3CDTF">2017-05-24T17:27:47Z</dcterms:modified>
  <cp:revision>9</cp:revision>
  <dc:subject/>
  <dc:title>Презентация PowerPoint</dc:title>
</cp:coreProperties>
</file>