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CD9-B27B-4321-A006-FF0DBA5E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90723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B0A-DBC7-4164-8E54-1C432EA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5C6-5A70-422C-9891-92699106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05864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864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114-C0AD-4F75-B371-19009EFB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3D3-07BC-4EAC-B531-B430CC3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837-9737-4EE5-9693-99E98F26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46B-069D-4E2B-9F1A-C14630F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F4B-3FA9-4968-BFC6-A0EF6BF6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380-D77D-4472-A475-8FC3FACE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B52-C34E-46E1-801B-BD7E15D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B68-3CDB-49CC-8901-4D642CF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90723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194-1705-484B-AFD4-13CCC9E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001D-F987-4047-8574-0B58969E82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изическая культура для учащихся 1-11 классов под редакцией В. И. Ля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79440"/>
            <a:ext cx="907236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ные отличия и приимущества программы В. И. Ляха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мплексный подх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личие базовой и вариативной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ь использования для 2-х и 3-х уроков в недел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дробное описание содержания и методов физического воспитания как для урочной, так и внеклас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добная форма изложения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уктура УМК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физической культуре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мплексная программа физического воспитания 1-11 классов        Учебник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Мой друг физкультура" для 1-4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Физическая культура" для 5-7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Физическая культура" для 8-9 и 10-11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пособия для уч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-7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-9 классов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-11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192420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4140360" y="1260360"/>
            <a:ext cx="2160360" cy="3059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7020000" y="1079640"/>
            <a:ext cx="2601720" cy="3060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4"/>
          <a:stretch/>
        </p:blipFill>
        <p:spPr>
          <a:xfrm>
            <a:off x="720720" y="3959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5"/>
          <a:stretch/>
        </p:blipFill>
        <p:spPr>
          <a:xfrm>
            <a:off x="3959280" y="4500720"/>
            <a:ext cx="252072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6"/>
          <a:stretch/>
        </p:blipFill>
        <p:spPr>
          <a:xfrm>
            <a:off x="6970680" y="4500720"/>
            <a:ext cx="2568600" cy="288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Berezya</dc:creator>
  <dc:description/>
  <dc:language>en-US</dc:language>
  <cp:lastModifiedBy>Berezya</cp:lastModifiedBy>
  <dcterms:modified xsi:type="dcterms:W3CDTF">2017-05-24T17:27:47Z</dcterms:modified>
  <cp:revision>9</cp:revision>
  <dc:subject/>
  <dc:title>Презентация PowerPoint</dc:title>
</cp:coreProperties>
</file>