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4E6-C929-40B4-8D17-F84A44A72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58D-80C0-4D86-8388-388356CA2B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F952-4A6A-4473-A721-4624A6D5AA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786-27F4-419D-B8BD-1E7F62D889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1B7-AE28-4E30-8ADD-340455DC11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554-4FB8-47C3-AB61-6CC94534CE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7A4-B0DF-4C2A-86F3-B241FD7706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13B-08CF-4AC1-A1A0-1482637EA8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29A-20B7-4EC9-9EF3-36786001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53B-2462-4851-9060-44DD547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497-2BAB-403B-AE4D-21B6D7E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A9A-37E6-4AA9-B2BE-449A0AF1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C69-C27F-45F6-B8D6-543934BC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EA30-4177-4405-BB79-BF4B7A22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4BA-F3D7-492F-8C71-15E2817E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E579-6B9B-48B0-9447-CFD6C31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8B6-FE18-44C1-A273-01CEE163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101-5965-4A2E-B442-6F0F969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1F4-A824-456F-A513-0E1D7284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6B3-F663-4D19-AC72-B2CCA3C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75B1-D780-453F-98A3-519A6F4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EAA-A698-470E-82EE-1727895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AD70-2FDD-4421-87AB-8165892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5EE-D738-44A1-8F6D-480139B2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084-6A2C-46A7-9FA8-DD3A55AE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FA-4B10-4738-BE9A-C77F2D71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76C-F502-4E40-9DFA-5163606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26A-9A6E-4D85-A3CE-A7A7A8D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D94-B55C-416C-9554-EABEA0A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B66-2D59-41B8-A489-9D50E9C6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DAC-9CD1-48A9-86A4-F0460C5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DA1-5021-4A28-BF74-27A05941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6AFB-794C-472E-A37B-2AAF77FC06FA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FE58-3C0A-4180-89F7-5828BB26F1B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FA8-DBA5-4B0C-B849-11C72482AAE6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52C1-65EC-4AF7-B9B7-7BD0BBC7F989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AF3-CF1D-43D6-8E89-9648785584EB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883-8B64-45B9-B031-0B07CAAFF48C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ЩИТА ИНФОРМ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2A3-0FE9-48AA-81BC-8174A651AFA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C7A1-CD27-4B3D-A6AE-4A9D82884F66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ahoma"/>
              </a:rPr>
              <a:t>Меры защиты персональной информации отдельного пользовател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иодически осуществля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зервное копировани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файлы с наиболее важными данными дублировать и сохранять на внешних носителя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улярно осуществля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ивирусную проверку компьютер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ок бесперебойного питания (ББП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1DD6-C812-4936-9701-49987FF76875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BF6-E503-4A1B-AA5B-F0B9338C0AF8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Меры защиты компьютеров, подключённых к се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защитных программ  -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рандмауэр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изическая защита канал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криптографических шифров (существующие методы шифрования делятся на методы с закрытым ключом и методы с открытым ключом; ключ определяет алгоритм дешифрования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цифровых подписей и сертификатов.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Цифровая подпись –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дивидуальный секретный шифр, ключ которого известен только владельц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Цифровой сертификат 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бщение, подписанное полномочным органом сертификации, который подтверждает, что открытый ключ действительно относится к владельцу подписи и может быть использован для дешифрова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EEB6-EC8D-415E-B6D2-2C6E33BE2102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D697-5EDA-46F2-B37B-96E7AFCB792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ые методы защиты информации в компьютерных систем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нституция РФ, статьи 2, 23, 24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еральный закон РФ «Об информации, информатизации и защите информации». Принят 25 мая 1995г.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еральный закон РФ  «О безопасности». Принят 25 декабря 1992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272  УК РФ «Неправомерный доступ к компьютерной информации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273  УК РФ «Создание, использование и  распространение  вредоносных программ для ЭВМ», части 1,2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274  УК РФ «Нарушение правил эксплуатации ЭВМ, системы ЭВМ или их сети», части 1,2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138  УК РФ «Нарушение тайны переписки, телефонных переговоров, почтовых, телеграфных и иных сообщений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201  УК РФ «Злоупотребление полномочи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4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365-9A4A-4FA8-AFC8-19B6CCBC753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омер слайда 6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7F8-190D-4EF0-820D-28B3B3CD3A3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ные в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j0292982"/>
          <p:cNvPicPr/>
          <p:nvPr/>
        </p:nvPicPr>
        <p:blipFill>
          <a:blip r:embed="rId1"/>
          <a:stretch/>
        </p:blipFill>
        <p:spPr>
          <a:xfrm>
            <a:off x="5726160" y="3586320"/>
            <a:ext cx="1843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8006-5B23-4746-8C38-2638EBA35FA3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50E8-D263-461D-97D5-0CFC93E72960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термины и определения</a:t>
            </a:r>
            <a:br>
              <a:rPr sz="28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ОСТ Р 50922-96 ГОСУДАРСТВЕННЫЙ СТАНДАРТ РОССИЙСКОЙ ФЕДЕРАЦИИ. Защита информации. ОСНОВНЫЕ ТЕРМИНЫ И ОПРЕДЕЛ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ифровая информация -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я, хранение, передача и обработка которой осуществляется средствами И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щищаемая информация 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я, являющаяся предметом собственности и подлежащая защите в соответствии с требованиями правовых документов или требованиями, устанавливаемыми собственником информ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щита информации 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ь по предотвращению утечки защищаемой информации, несанкционированных и непреднамеренных воздействий на защищаемую информа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2BB-AB6A-454B-A6BE-9A687327A5C9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2C17-8A7B-4500-9BCB-02CAFFF575BB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иды угроз для цифровой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1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личают два  основных вида угроз для цифровой информ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жа или утечка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ушение, уничтожение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78A-5CA1-44FE-9311-3489EF622703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F7BF-E839-4642-B5E2-0F7605167432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1143000" y="1981080"/>
            <a:ext cx="71978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рушение информации может бы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санкционированным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реднамеренны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B9F1-0307-4AF4-81B4-4CBE4EC6A38D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D63E-E668-49E1-9677-98D5036F67F0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6854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санкционированное воздействие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– преднамеренная порча или уничтожение информации, а также информационного оборудования со стороны лиц, не имеющих на это права (санкции).  К этой категории угроз относится деятельность людей, занимающихся созданием и распространением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омпьютерных вирусов – вредоносных программных кодов, способных нанести ущерб данным на компьютере или вывести его из стро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оме вирусов-разрушителей существуют вирусы-шпионы.  Их называют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роянцами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есанкционированному вмешательству относится криминальная деятельность  хакеров – « взломщиков» информационных систем с целью воздействия на их содержание и работоспособ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ольшой вред наносят хакерские атаки.  Атака – одновременное обращение с большого количества компьютеров на сервер информационной системы. Сервер не справляется с таким валом запросов, что приводит к «зависанию» в его рабо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преднамеренное воздействие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происходит вследствие ошибок пользователя, а также из-за сбоев  в работе оборудования, программного обеспечения, аварии электросети, пожар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8483-307C-4C07-BCB4-7CD6AF5F097C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21E-476F-408B-A0E3-0D7C261D074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омендуемые страте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ноз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делать да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ша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685800"/>
          <a:ext cx="7467480" cy="4876920"/>
        </p:xfrm>
        <a:graphic>
          <a:graphicData uri="http://schemas.openxmlformats.org/drawingml/2006/table">
            <a:tbl>
              <a:tblPr/>
              <a:tblGrid>
                <a:gridCol w="3911760"/>
                <a:gridCol w="3555720"/>
              </a:tblGrid>
              <a:tr h="90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уте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1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намеренная кража, копирование, прослушивание и 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никновение в память компьютера, в базы данных информационных сист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хват в каналах передачи данных, искажение, подлог дан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5F5-290F-4620-8F36-58691CAB795B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010-498F-4FC5-9375-8C7A7B52091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омендуемые страте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ноз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делать да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ша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95280" y="1219320"/>
          <a:ext cx="7086600" cy="4255920"/>
        </p:xfrm>
        <a:graphic>
          <a:graphicData uri="http://schemas.openxmlformats.org/drawingml/2006/table">
            <a:tbl>
              <a:tblPr/>
              <a:tblGrid>
                <a:gridCol w="3711600"/>
                <a:gridCol w="3375000"/>
              </a:tblGrid>
              <a:tr h="91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раз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санкционированное раз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преднамеренное раз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едоносные программные коды-вирусы; деятельность хакеров, ат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шибки пользователя, сбои оборудования, ошибки и сбои в работе ПО,  форс-мажорные обстоятель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7F5-1051-41C1-BF0C-6B47036BBD93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CCF-B972-462A-AF44-B25FE2E2BEC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19320"/>
          <a:ext cx="8229600" cy="4959360"/>
        </p:xfrm>
        <a:graphic>
          <a:graphicData uri="http://schemas.openxmlformats.org/drawingml/2006/table">
            <a:tbl>
              <a:tblPr/>
              <a:tblGrid>
                <a:gridCol w="4043520"/>
                <a:gridCol w="1976400"/>
                <a:gridCol w="2209680"/>
              </a:tblGrid>
              <a:tr h="914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ы защи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уте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раз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защита каналов; криптографические шифры; цифровая подпись и сертифик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ивирусные программы; брандмауэры; межсетевые эк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ое копирование; использование ББП; контроль и профилактика оборудования; разграничение досту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1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9F0C-ADC3-43CC-9838-BEF8B5F52E7C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Нижний колонтитул 2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865-3922-4623-BA7A-3CCFDD10A468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4040" cy="582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7T10:27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