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3AFE-1026-47C5-9838-0538112410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A590-E81A-45D3-977B-90B9EE2050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F82B-7C03-4B11-A6EA-3F09F4B148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6692-0FF9-4A6A-9348-4AEC5C18E0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0863-D1ED-4BD0-806A-46760A73CB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2E8B-8DA1-48F6-AB63-7B3ED60756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6930-6C37-40E3-8F5B-105BD4B4E7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BC4F-F0A2-43AA-9AAE-6FC8251364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262-8C6A-4B1B-A1CF-AAA813AA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3E1-99C3-4BBB-A1E7-2F653F82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F67-A931-4FB6-8CCC-98D2F202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984-BC88-4BC5-B1FC-55E56B04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1DF1-F72E-440B-BDFA-0FC5CA55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3449-F785-441F-82BD-7912D9DA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F119-59EC-4430-948C-B95ADEA7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98B6-A051-4978-837B-F5D9F7B3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757F-E2DE-4F8E-8AEC-DF6C505F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5796-34CC-430D-8119-38E06791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6F3D-C711-4A71-8FEF-62C93ED0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005-D7FA-44FF-8D5A-CA98733F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969D-6B24-4627-87F6-1D937C9F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2CE6-6606-4C48-BD18-65D18F9D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C2A7-2D67-4ABA-96E6-9CDBF098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2111-DE1B-49A3-A724-FFEFD55D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FD6D-8C49-4CE9-9CE7-1FA7F58E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6CB-6471-4B49-A32F-827691A2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3CF-9EA4-41F5-822A-51AA8C23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92A-0AAB-4306-8005-41E3897C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F55-2DB0-4E83-8797-C256ADED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7CC-B07F-46ED-8577-C0C24637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A23-AE28-42F7-AC42-5F6FB38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042-953F-4488-8ADE-AA31DD7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AB2C-8743-4351-93A7-C4A41C5AFB5F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8E16-F2AA-4756-90C0-A16570E5071B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FB25-FDE4-4794-9CF7-F0BB9438347F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DEC5-0D8C-4A10-AFC5-819E127BF87B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88C9-E908-4FFC-AE5E-7246A252A7E0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6E74-A47B-4BB2-913E-51FE1CA62FCF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ЩИТА ИНФОРМ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67F0-E16F-4B32-ADEF-8CB3859303A0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FFA7-4E55-49B0-A72D-3794432D8812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94920" y="15238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ahoma"/>
              </a:rPr>
              <a:t>Меры защиты персональной информации отдельного пользовател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иодически осуществлять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зервное копировани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файлы с наиболее важными данными дублировать и сохранять на внешних носителя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гулярно осуществлять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ивирусную проверку компьютер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овать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лок бесперебойного питания (ББП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C593-D178-4B3B-B040-56C47CAD6410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F8A4-8F55-4667-9F94-FCF8322158FC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18960" y="1676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Меры защиты компьютеров, подключённых к сет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ользование защитных программ  -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брандмауэр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изическая защита канал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ользование криптографических шифров (существующие методы шифрования делятся на методы с закрытым ключом и методы с открытым ключом; ключ определяет алгоритм дешифрования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ользование цифровых подписей и сертификатов.</a:t>
            </a:r>
            <a:r>
              <a:rPr b="0" lang="ru-RU" sz="16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Цифровая подпись –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дивидуальный секретный шифр, ключ которого известен только владельц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Цифровой сертификат 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общение, подписанное полномочным органом сертификации, который подтверждает, что открытый ключ действительно относится к владельцу подписи и может быть использован для дешифрова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38D-0AE4-4D02-A6BB-A4FD284BB977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34C9-7880-47CA-961E-9D402C2964A4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ые методы защиты информации в компьютерных систем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онституция РФ, статьи 2, 23, 24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едеральный закон РФ «Об информации, информатизации и защите информации». Принят 25 мая 1995г.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едеральный закон РФ  «О безопасности». Принят 25 декабря 1992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атья  272  УК РФ «Неправомерный доступ к компьютерной информации»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атья  273  УК РФ «Создание, использование и  распространение  вредоносных программ для ЭВМ», части 1,2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атья 274  УК РФ «Нарушение правил эксплуатации ЭВМ, системы ЭВМ или их сети», части 1,2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атья  138  УК РФ «Нарушение тайны переписки, телефонных переговоров, почтовых, телеграфных и иных сообщений»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349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атья 201  УК РФ «Злоупотребление полномочи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4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9A76-4807-45EC-B5C0-71EA3F1AE8CF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Номер слайда 6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3E4A-8EB5-4225-92D1-C50C20E640A7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трольные в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j0292982"/>
          <p:cNvPicPr/>
          <p:nvPr/>
        </p:nvPicPr>
        <p:blipFill>
          <a:blip r:embed="rId1"/>
          <a:stretch/>
        </p:blipFill>
        <p:spPr>
          <a:xfrm>
            <a:off x="5726160" y="3586320"/>
            <a:ext cx="184320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EEA8-0987-426A-83B1-A4DDB4964E0A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03A6-331B-46ED-A5B3-B2933DE5B90D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ые термины и определения</a:t>
            </a:r>
            <a:br>
              <a:rPr sz="28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ГОСТ Р 50922-96 ГОСУДАРСТВЕННЫЙ СТАНДАРТ РОССИЙСКОЙ ФЕДЕРАЦИИ. Защита информации. ОСНОВНЫЕ ТЕРМИНЫ И ОПРЕДЕЛ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ифровая информация -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я, хранение, передача и обработка которой осуществляется средствами ИК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щищаемая информация –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я, являющаяся предметом собственности и подлежащая защите в соответствии с требованиями правовых документов или требованиями, устанавливаемыми собственником информ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щита информации –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ятельность по предотвращению утечки защищаемой информации, несанкционированных и непреднамеренных воздействий на защищаемую информа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9DA-F7B5-445F-9ACC-9AFA345CEA18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4F92-8316-497F-83CB-683AACD09117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иды угроз для цифровой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71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личают два  основных вида угроз для цифровой информ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жа или утечка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рушение, уничтожение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0865-B3A4-4E36-944F-29D1C40C29AF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149E-BE45-4BDD-B6A8-98D514D663E0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0"/>
          <p:cNvSpPr/>
          <p:nvPr/>
        </p:nvSpPr>
        <p:spPr>
          <a:xfrm>
            <a:off x="1143000" y="1981080"/>
            <a:ext cx="71978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рушение информации может бы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санкционированным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преднамеренны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57B2-402F-4720-BE06-B98A49B6BA61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F40D-1127-4279-840B-9FB33DB99803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8960" y="6854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санкционированное воздействие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– преднамеренная порча или уничтожение информации, а также информационного оборудования со стороны лиц, не имеющих на это права (санкции).  К этой категории угроз относится деятельность людей, занимающихся созданием и распространением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компьютерных вирусов – вредоносных программных кодов, способных нанести ущерб данным на компьютере или вывести его из стро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оме вирусов-разрушителей существуют вирусы-шпионы.  Их называют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роянцами.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есанкционированному вмешательству относится криминальная деятельность  хакеров – « взломщиков» информационных систем с целью воздействия на их содержание и работоспособн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Большой вред наносят хакерские атаки.  Атака – одновременное обращение с большого количества компьютеров на сервер информационной системы. Сервер не справляется с таким валом запросов, что приводит к «зависанию» в его рабо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преднамеренное воздействие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происходит вследствие ошибок пользователя, а также из-за сбоев  в работе оборудования, программного обеспечения, аварии электросети, пожара и т.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16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77CD-41C7-4D16-A0CE-98EBA1D4F36D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9C25-C33A-408D-AB09-DFFA6C90A344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комендуемые страте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ноз результ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делать дальш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ша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685800"/>
          <a:ext cx="7467480" cy="4876920"/>
        </p:xfrm>
        <a:graphic>
          <a:graphicData uri="http://schemas.openxmlformats.org/drawingml/2006/table">
            <a:tbl>
              <a:tblPr/>
              <a:tblGrid>
                <a:gridCol w="3911760"/>
                <a:gridCol w="3555720"/>
              </a:tblGrid>
              <a:tr h="905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роза уте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1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намеренная кража, копирование, прослушивание и п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никновение в память компьютера, в базы данных информационных сист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хват в каналах передачи данных, искажение, подлог дан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BFA7-08A8-4F39-9834-C742393061C4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28CF-6BF9-4EBC-8DED-1D40253499C9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комендуемые страте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ноз результ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делать дальш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ша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95280" y="1219320"/>
          <a:ext cx="7086600" cy="4255920"/>
        </p:xfrm>
        <a:graphic>
          <a:graphicData uri="http://schemas.openxmlformats.org/drawingml/2006/table">
            <a:tbl>
              <a:tblPr/>
              <a:tblGrid>
                <a:gridCol w="3711600"/>
                <a:gridCol w="3375000"/>
              </a:tblGrid>
              <a:tr h="914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роза разру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санкционированное разру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преднамеренное разру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едоносные программные коды-вирусы; деятельность хакеров, ат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шибки пользователя, сбои оборудования, ошибки и сбои в работе ПО,  форс-мажорные обстоятель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2CAA-3000-4494-A4E9-C7C46B666A21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0C25-C761-4896-BEFA-5E4D9E7245C6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219320"/>
          <a:ext cx="8229600" cy="4959360"/>
        </p:xfrm>
        <a:graphic>
          <a:graphicData uri="http://schemas.openxmlformats.org/drawingml/2006/table">
            <a:tbl>
              <a:tblPr/>
              <a:tblGrid>
                <a:gridCol w="4043520"/>
                <a:gridCol w="1976400"/>
                <a:gridCol w="2209680"/>
              </a:tblGrid>
              <a:tr h="914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ы защи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роза уте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роза разру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ческая защита каналов; криптографические шифры; цифровая подпись и сертифик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тивирусные программы; брандмауэры; межсетевые экр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ое копирование; использование ББП; контроль и профилактика оборудования; разграничение досту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1"/>
          <p:cNvSpPr/>
          <p:nvPr/>
        </p:nvSpPr>
        <p:spPr>
          <a:xfrm>
            <a:off x="6553080" y="6480360"/>
            <a:ext cx="18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7F99-DC1B-4913-95DC-90D357A8ACEF}" type="datetime">
              <a:rPr b="0" lang="ru-RU" sz="1200" spc="-1" strike="noStrike">
                <a:solidFill>
                  <a:srgbClr val="b2b2b2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Нижний колонтитул 2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И.С.Пархоменк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C912-FC25-4CE0-84A3-F73A5F618EAF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4040" cy="582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17T10:27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