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071-9D33-4001-BD53-A49D9068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504-2EAB-4B11-B353-C8409A1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6D3-9887-4C7E-8EFA-B5F3494B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F6F-5A2B-44F0-ABC7-395352C0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236-A9C5-4FCF-9E3A-2AEE5B7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067-F3DD-482B-84E6-7F089331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D62-1B4A-4D20-B5ED-17CC0A0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AF0-10F9-4B73-B0BB-437FBAA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4D1-E703-4D14-9EF7-8DCF0277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2F3-8637-4541-83CF-9FE7400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E7D-FD44-4544-B116-E1B9D4B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4AC-D1E5-485A-A119-BDD6F2F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0AC2-0C15-46D1-89EA-579A9DE3C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46200" y="1689120"/>
            <a:ext cx="8070840" cy="2852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6840" y="335412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134040" y="4367160"/>
            <a:ext cx="29052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аждый пишет, что он слышит, Каждый слышит, как он дышит, Как он дышит, так и пишет, Не стараясь угодить. Так природа захотела, Почему, не наше дело, Для чего, не нам суди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www.kirov.spb.ru/sc/501/templates/Christmas/images/logo.gif"/>
          <p:cNvPicPr/>
          <p:nvPr/>
        </p:nvPicPr>
        <p:blipFill>
          <a:blip r:embed="rId2"/>
          <a:stretch/>
        </p:blipFill>
        <p:spPr>
          <a:xfrm>
            <a:off x="457200" y="5105520"/>
            <a:ext cx="191448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здание страниц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14480" y="1266840"/>
            <a:ext cx="5305320" cy="331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2681280" y="1711440"/>
            <a:ext cx="5477040" cy="342252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3"/>
          <p:cNvSpPr/>
          <p:nvPr/>
        </p:nvSpPr>
        <p:spPr>
          <a:xfrm rot="20136600">
            <a:off x="5753160" y="3398400"/>
            <a:ext cx="1396800" cy="243000"/>
          </a:xfrm>
          <a:prstGeom prst="leftArrow">
            <a:avLst>
              <a:gd name="adj1" fmla="val 50000"/>
              <a:gd name="adj2" fmla="val 4997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2041560" y="4245120"/>
            <a:ext cx="4159080" cy="259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Дополнительные возмож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писка на новые сообщения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ть вопрос авто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в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ление любых ссылок в содержание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тистика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 источника т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ографический обхват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ловия размещения рекламных объ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gnti.ru/imgdump/4522-gnti-XjRLe1MOe74.jpg"/>
          <p:cNvPicPr/>
          <p:nvPr/>
        </p:nvPicPr>
        <p:blipFill>
          <a:blip r:embed="rId1"/>
          <a:stretch/>
        </p:blipFill>
        <p:spPr>
          <a:xfrm>
            <a:off x="2602080" y="22017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://dialoguestudio.ru/wp-content/uploads/2011/12/right/noexp/2.jpg"/>
          <p:cNvPicPr/>
          <p:nvPr/>
        </p:nvPicPr>
        <p:blipFill>
          <a:blip r:embed="rId2"/>
          <a:stretch/>
        </p:blipFill>
        <p:spPr>
          <a:xfrm rot="1529400">
            <a:off x="5951160" y="722160"/>
            <a:ext cx="2131920" cy="213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igorchernomoretz.com/wp-content/uploads/2015/06/finish.jpg"/>
          <p:cNvPicPr/>
          <p:nvPr/>
        </p:nvPicPr>
        <p:blipFill>
          <a:blip r:embed="rId3"/>
          <a:stretch/>
        </p:blipFill>
        <p:spPr>
          <a:xfrm rot="20175000">
            <a:off x="1344600" y="7318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 Light"/>
              </a:rPr>
              <a:t>Преимущества ведения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ие материала и ссылок на веб-стра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е коммента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авка видео, презентаций, гипертекстов, ауд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ие домашнего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доступный материал для родителей. Он-лайн консуль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 интересный 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латформа </a:t>
            </a: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Blogspo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2400" y="1292040"/>
            <a:ext cx="78868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дает огромной интегра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другими сервисами Гуг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учетная запись позво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неограничен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б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рес, присваиваем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огу, может быть люб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ий вид блога может быть изменен неограниченное количество 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гая политика администрации не разрешает размещать материалы с высоким рейтингом, Гугл запрещает нарушение авторских прав, спам, материалы 18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использовать собственный дом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gizn-biz.ru/wp-content/uploads/2013/11/blogspot-298x300.jpg"/>
          <p:cNvPicPr/>
          <p:nvPr/>
        </p:nvPicPr>
        <p:blipFill>
          <a:blip r:embed="rId1"/>
          <a:stretch/>
        </p:blipFill>
        <p:spPr>
          <a:xfrm>
            <a:off x="485640" y="442800"/>
            <a:ext cx="933480" cy="93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1.bp.blogspot.com/-nqkBauzwK34/UQ1TGS_eS_I/AAAAAAAADpg/sIie8xJFgNo/s1600/google-picasa-web.png"/>
          <p:cNvPicPr/>
          <p:nvPr/>
        </p:nvPicPr>
        <p:blipFill>
          <a:blip r:embed="rId2"/>
          <a:stretch/>
        </p:blipFill>
        <p:spPr>
          <a:xfrm>
            <a:off x="5172120" y="1363680"/>
            <a:ext cx="1717560" cy="125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s://www.musttechnews.com/wp-content/uploads/2016/02/google-docs-voice.jpg"/>
          <p:cNvPicPr/>
          <p:nvPr/>
        </p:nvPicPr>
        <p:blipFill>
          <a:blip r:embed="rId3"/>
          <a:stretch/>
        </p:blipFill>
        <p:spPr>
          <a:xfrm>
            <a:off x="5745240" y="1886040"/>
            <a:ext cx="1650960" cy="106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im0-tub-ru.yandex.net/i?id=88be31d32754acee5587f50d55603246&amp;n=33&amp;h=215&amp;w=428"/>
          <p:cNvPicPr/>
          <p:nvPr/>
        </p:nvPicPr>
        <p:blipFill>
          <a:blip r:embed="rId4"/>
          <a:stretch/>
        </p:blipFill>
        <p:spPr>
          <a:xfrm>
            <a:off x="6889680" y="2522520"/>
            <a:ext cx="202896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3882960" y="3143160"/>
            <a:ext cx="2060640" cy="128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Регистрация  на платформе Гуг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//accounts.google.com/sign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714240"/>
            <a:ext cx="8582040" cy="536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37960" y="790560"/>
            <a:ext cx="869796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Шаблоны и гаджеты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90600" y="1285920"/>
            <a:ext cx="8351640" cy="521964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лево 7"/>
          <p:cNvSpPr/>
          <p:nvPr/>
        </p:nvSpPr>
        <p:spPr>
          <a:xfrm>
            <a:off x="1228680" y="37926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2367000" y="1454040"/>
            <a:ext cx="485640" cy="9781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лево 9"/>
          <p:cNvSpPr/>
          <p:nvPr/>
        </p:nvSpPr>
        <p:spPr>
          <a:xfrm>
            <a:off x="5505480" y="375768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1"/>
          <p:cNvSpPr/>
          <p:nvPr/>
        </p:nvSpPr>
        <p:spPr>
          <a:xfrm>
            <a:off x="1228680" y="3411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>
            <a:off x="1079640" y="4791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Дизайнер шаблон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абл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рину отдельных бло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з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168800" y="1457280"/>
            <a:ext cx="4648320" cy="290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684600" y="2908440"/>
            <a:ext cx="4621320" cy="288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892600" y="4170240"/>
            <a:ext cx="4298760" cy="268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общение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бор кол-ва сообщений на главной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л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дели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ть или убрать настро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 фото и видио (есть возм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размер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398840" y="1266840"/>
            <a:ext cx="4496040" cy="28098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верх 3"/>
          <p:cNvSpPr/>
          <p:nvPr/>
        </p:nvSpPr>
        <p:spPr>
          <a:xfrm>
            <a:off x="7149960" y="2286000"/>
            <a:ext cx="355680" cy="977760"/>
          </a:xfrm>
          <a:prstGeom prst="upArrow">
            <a:avLst>
              <a:gd name="adj1" fmla="val 50000"/>
              <a:gd name="adj2" fmla="val 4997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490920" y="3467160"/>
            <a:ext cx="4014720" cy="250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95240" y="4352760"/>
            <a:ext cx="3699000" cy="2311560"/>
          </a:xfrm>
          <a:prstGeom prst="rect">
            <a:avLst/>
          </a:prstGeom>
          <a:ln w="0">
            <a:noFill/>
          </a:ln>
        </p:spPr>
      </p:pic>
      <p:sp>
        <p:nvSpPr>
          <p:cNvPr id="84" name="Стрелка вправо 4"/>
          <p:cNvSpPr/>
          <p:nvPr/>
        </p:nvSpPr>
        <p:spPr>
          <a:xfrm>
            <a:off x="5646600" y="4110120"/>
            <a:ext cx="903600" cy="24264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0:01:15Z</dcterms:created>
  <dc:creator>Инна</dc:creator>
  <dc:description/>
  <dc:language>en-US</dc:language>
  <cp:lastModifiedBy>user</cp:lastModifiedBy>
  <dcterms:modified xsi:type="dcterms:W3CDTF">2017-05-25T08:10:43Z</dcterms:modified>
  <cp:revision>24</cp:revision>
  <dc:subject/>
  <dc:title>Название презентации</dc:title>
</cp:coreProperties>
</file>