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DE2B-1EC9-4B40-AE36-126F924BD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89BB-98EC-4DBC-8F86-2287E907E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0D20-6173-4D7F-8BE7-BB59C4294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7A12-BE82-4E84-BD1F-3662C15C9E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E4F4-9678-4A42-99E1-DB2BA8573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10B9-6E0F-421A-BE7D-747A9FB88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8BAE-C1C4-4776-94E9-6EBEBFFB8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13AC-E649-4DA9-8CD2-E34C46ED3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C76D-9AB9-4139-A51A-E9E00D429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6ED8-C8A9-4C29-9915-307DB5303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B3E2-5086-47CB-9004-F8867731B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4578-698E-439E-9E5F-58E94CD38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C7582C-2973-4591-B2F2-9BA89D34917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-8128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907920"/>
            <a:ext cx="5904000" cy="122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перактивные   дети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565360"/>
            <a:ext cx="6400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ndara"/>
              </a:rPr>
              <a:t>Педагог – псих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Candara"/>
              </a:rPr>
              <a:t>ГБДОУ центр развития ребёнка- детский сад №1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ndara"/>
              </a:rPr>
              <a:t>Кузнецова Вероника Арк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3130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ndara"/>
              </a:rPr>
              <a:t>Поведенческая программ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 прибегайте к физическим наказания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чаще хвалите ребен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оставьте список обязанностей ребенка и повесьте на вид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оспитывайте в детях навыки управления гневом и агресси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степенно расширяйте обязанности, предварительно обсудив 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 ребенк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 разрешайте откладывать выполнение задания на другое вре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 давайте ребенку поручений, не соответствующих его возрасту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я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 давайте одновременно несколько указа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могайте ребенку приступить к выполнению задания, так как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трудный эта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объясните ребенку о его проблемах и учите справл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им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мните, что наиболее действенными будут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ежд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тел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ения удовольств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илегий, досрочное отправление в постель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наказания необходимо позитивное эмоц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креп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-706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680" y="189000"/>
            <a:ext cx="8785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И на последок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По мнению ученых, подобные проблемы поведения присущи многим гениям и выдающимся великим людям.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Гиперактивностью страдал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Александр Македонс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Леонардо да Винчи, Лев Толстой, Моцарт, Бетховен, Пушкин, Эйнштейн, Эдисо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Эдгар По, Пабло Пикассо, Хемингуэй и Дисней.</a:t>
            </a:r>
            <a:r>
              <a:rPr b="1" lang="ru-RU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Так что ваш непосед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 неплохой компани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58080" y="4653000"/>
            <a:ext cx="2074680" cy="21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770040"/>
            <a:ext cx="8686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ндром гиперактивност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требует своевременно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диагностики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и комплексной коррекци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психологической, медицинской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педагогической</a:t>
            </a:r>
            <a:br>
              <a:rPr sz="24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-1035000"/>
            <a:ext cx="4319640" cy="47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о помнит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-706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4680" y="0"/>
            <a:ext cx="9144000" cy="6858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2997360"/>
            <a:ext cx="3384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-128916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268280"/>
            <a:ext cx="82296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ungsuh"/>
              </a:rPr>
              <a:t>Гиперактивность — совокупность симптом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ungsuh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Gungsuh"/>
              </a:rPr>
              <a:t>связанных с чрезмерной моторной и психической активностью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80-х годах превышающая норму двигательная активность получила статус самостоятельного заболевания. Её стали называть СДВГ, или синдром дефицита внимания с гиперактив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Calibri"/>
              </a:rPr>
              <a:t>Этой патологией страдает довольно большое количество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Calibri"/>
              </a:rPr>
              <a:t>По последним исследованиям приводят данные от 3 до 10 %, что составляет 1-2 человека на группу из 27-30 деток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Мальчики страдают СДВГ примерно в 6 раз чаще девочек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63640" y="333360"/>
            <a:ext cx="5686560" cy="981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то такое гиперактивность?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-128916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8370360" y="-1873080"/>
            <a:ext cx="8713440" cy="3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75640" y="4869000"/>
            <a:ext cx="201744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62864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мериканский психолог В. Оклендер так характер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иперактивных детей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тим детям трудно сидеть, они суетливы, много двигаются, вертятся на месте, иногда чрезмерно говорливы, могут раздражать манерой своего поведения. Часто у этих детей плохая координация или недостаточный мышечный контроль. Могут быть неуклюжи, ломать и ронять вещи. Таким детям трудно концентрировать свое внимание, они легко отвлекаются, часто задают много вопросов, но редко дожидаются ответо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-1008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58920" y="0"/>
            <a:ext cx="6438960" cy="1366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ртрет гиперактивного ребенка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00360" y="4437000"/>
            <a:ext cx="324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-706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981000"/>
            <a:ext cx="82296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ungsuh"/>
              </a:rPr>
              <a:t>Дефицит активного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1. Непоследователен, ребенку трудно удерживать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2. Не слушает когда к нему обращ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3. С большим энтузиазмом берется за задание, но та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е  заканчивает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4. Испытывает трудности в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5. Часто теряет ве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6. Избегает скучных и требу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мственных усилий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7. Часто бывает забывч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835280" y="260280"/>
            <a:ext cx="54864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cc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итерии гиперактивности</a:t>
            </a:r>
            <a:endParaRPr b="0" lang="en-US" sz="1800" spc="1" strike="noStrike">
              <a:ln cap="sq" w="19080">
                <a:solidFill>
                  <a:srgbClr val="cc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51640" y="4292640"/>
            <a:ext cx="3097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549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ungsuh"/>
              </a:rPr>
              <a:t>Двигательная расторможенност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1. Постоянно ерз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2. Проявляет признаки беспокойства (барабанит пальцами, ерзает на стуле, бегает, забирается куда – либ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3. Спит намного меньше,  чем другие дети, даже во младенч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4. Очень говорли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ungsuh"/>
              </a:rPr>
              <a:t>Импульс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692280"/>
            <a:ext cx="822960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1.Начинает отвечать, не дослушав во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2. Не способен дождаться своей очереди, ча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вмешивается в разговор, переб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3. Плохо сосредотачивает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4. Не может дождаться вознаграждения, если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действием и вознаграждением есть пау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5. Не может контролировать и регулировать св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действия. Поведение слабоуправляемо правил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6. При выполнении заданий ведет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по-разному и показывает очень 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результаты (на некоторых занятиях ребенок спокоен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других – нет,  на одних уро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спешен, на других –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508720" y="4869000"/>
            <a:ext cx="28796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-42372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ndara"/>
              </a:rPr>
              <a:t>Изменение поведения взрослого и его отношения к ребе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проявляйте достаточно твердости и последовательности в воспитании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помните, что чрезмерная болтливость, подвижность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едисциплинированность не являются  умышленными. Остав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покойным. Нет хладнокровия – нет преимущества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контролируйте поведение ребенка, не навязывая ему жестких правил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е давать ребенку категорических указаний, избегать слов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ет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и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  “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ельзя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тройте взаимоотношения с ребенком на взаимопонимании и доверии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избегайте, с одной стороны, чрезмерной мягкости, с другой – завыш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требований к ребенку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реагируйте на действия ребенка неожиданными  спос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(пошутите, повторите действия ребенка, сфотографир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его, оставьте одного в комнате и т.д.)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повторяйте одну и ту же просьбу одними и теми же  словами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выслушайте внимательно то, что хочет сказать ребенок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для подкрепления устных инструкций используйте зритель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тимуляцию и тактильный конта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03280" y="18900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 взаимодесйтия  с   гиперактивными  детьми </a:t>
            </a:r>
            <a:endParaRPr b="0" lang="en-US" sz="1800" spc="1" strike="noStrike">
              <a:ln cap="sq" w="9360">
                <a:solidFill>
                  <a:srgbClr val="cc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308720" y="4292640"/>
            <a:ext cx="16560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ndara"/>
              </a:rPr>
              <a:t>Изменение психологического микроклимата в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765000"/>
            <a:ext cx="871380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уделяйте достаточно внимания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 проводите досуг всей семьей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-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не допускайте ссор в при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Организация работы с гиперактивным ребе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установите твердый распорядок дня для ребенка и всех членов семьи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работайте с ребенком в начале дня, а не вечером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делите работу на более короткие, но более частые периоды (если необходи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уменьшайте рабочую нагрузку)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избегайте влияние отвлекающих факторов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снижайте требования к аккуратности в начале работы, что бы сформир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чувство успеха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договаривайтесь с ребенком о тех или иных действиях заранее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давайте четкие и конкретные инструкции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используйте тактильный контакт (массаж, прикосновения, поглаживания)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используйте гибкую систему поощрений и наказаний (поощряйте сразу)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предоставляйте ребенку возможность выбора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избегайте больших скоплений людей. Помните переутомление способству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снижению самоконтроля и нарастанию гиперактив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23200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00720" y="692280"/>
            <a:ext cx="2552760" cy="150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7:28:18Z</dcterms:created>
  <dc:creator>Соснина</dc:creator>
  <dc:description/>
  <dc:language>en-US</dc:language>
  <cp:lastModifiedBy>Наташа</cp:lastModifiedBy>
  <dcterms:modified xsi:type="dcterms:W3CDTF">2016-11-09T18:19:00Z</dcterms:modified>
  <cp:revision>51</cp:revision>
  <dc:subject/>
  <dc:title>Слайд 1</dc:title>
</cp:coreProperties>
</file>