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9.jpeg" ContentType="image/jpeg"/>
  <Override PartName="/ppt/media/image8.png" ContentType="image/png"/>
  <Override PartName="/ppt/media/image30.jpeg" ContentType="image/jpeg"/>
  <Override PartName="/ppt/media/image5.jpeg" ContentType="image/jpeg"/>
  <Override PartName="/ppt/media/image35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7EA-DBD8-443A-9B8A-7ED3B895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194-FAE5-4BBC-953E-7C012A8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BE9-CFDF-4032-98D9-D1D946EA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568-A957-4A82-A3F5-1431DC16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AC1-D2DA-4650-9F61-82600DF4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C41F-D3F7-45DB-A69C-C6BDDD6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DDF6-AF68-4F37-90CB-F3919922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8E91-73D2-4CC4-A441-B6AFE674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752B-1BB4-4B62-A97E-858568BF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B59D-21A8-4BF7-BAAB-22582E0A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D3BB-B509-4428-810A-D7600EE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BA8-E50F-4E7C-9F91-782FE8CE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3DC-5929-443D-A49A-CAB9D40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03B3-8AD0-497B-8845-A3FF6D44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8144-8471-4893-A927-430B60A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9015-072B-421E-AFA6-EB2F1F92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2E8-FE5F-4146-98BA-8795922E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7456-6E6E-4104-A221-73B7D46E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6BF0-1D39-473A-8CE4-79A1AC34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E5EB-E732-4231-964C-1D8D99C1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E8D0-AB30-41BA-951B-30B1928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A63E-17F6-4FC9-864F-2DA3228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D79-78DA-4CB8-8B38-77A238B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0AA5-4191-44BA-885B-8EB63CB2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2DF7-5E91-43EB-9704-E751FE8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641D-3256-461B-ADD4-5EAA3C24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F22A-74BA-4D9B-974F-1725111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9AB3-8924-41BB-B40D-8803D1BB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1C29-6829-4231-92AA-08FBFF8C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9D00-5730-4D04-BEBA-A991604B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4131-8A55-495D-9A06-A86CA5D0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2C8A-3EDF-4E7E-8F4F-5CB3AF4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C476-BE40-49AB-B347-A35654FF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B78-C6E4-4A73-B30B-231EB9C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7717-BDE1-4838-A252-05CF349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B167-CBED-41BB-A3B4-C8A55B5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74B8-272D-4F95-99F1-BA507358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ACDD-5200-49BB-A2AA-FC6CC6AA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4F5F-493D-48F9-AEE6-009E0A3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F49C-5519-43C1-9944-B6D2DD8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2D92-9B71-46DE-94F1-FB8E5725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5C43-30F8-46C8-9DED-07D9C2FD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9B4E-4171-4315-A24B-B5C67460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FD8-3789-4B07-BC5A-E482CAFE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CBD-9236-4CC0-92E9-4F02B05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9C1-5FD2-42A3-AD10-8A5A887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40C-3554-4E90-9910-9A798EB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028-2EBD-4BF8-9893-C23B298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11F6A-268A-4DA4-AD49-C0C98B63D09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70CF9-994D-4249-A14B-E20440B0047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E4A74-29C5-408F-ABE7-8844D0A2C14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40031-6B6B-4448-9699-357E610B358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15"/>
          <p:cNvSpPr txBox="1"/>
          <p:nvPr/>
        </p:nvSpPr>
        <p:spPr>
          <a:xfrm>
            <a:off x="990720" y="2895480"/>
            <a:ext cx="7162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гостях  у  сказк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1447920" y="7621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90400" y="276120"/>
            <a:ext cx="7105680" cy="94716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то попил воды и стал козленочком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970560" y="23097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334120" y="22557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Иванушка- дурач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450800" y="4743360"/>
            <a:ext cx="20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Брате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Ивануш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562720" y="475128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3191040" y="2878200"/>
            <a:ext cx="1152360" cy="17208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7010280" y="2703600"/>
            <a:ext cx="1067040" cy="19047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"/>
          <p:cNvPicPr/>
          <p:nvPr/>
        </p:nvPicPr>
        <p:blipFill>
          <a:blip r:embed="rId3"/>
          <a:stretch/>
        </p:blipFill>
        <p:spPr>
          <a:xfrm>
            <a:off x="3389400" y="4992840"/>
            <a:ext cx="1163520" cy="1685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4"/>
          <a:stretch/>
        </p:blipFill>
        <p:spPr>
          <a:xfrm>
            <a:off x="7280280" y="5151600"/>
            <a:ext cx="1482840" cy="16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26584"/>
          <p:cNvPicPr/>
          <p:nvPr/>
        </p:nvPicPr>
        <p:blipFill>
          <a:blip r:embed="rId1"/>
          <a:stretch/>
        </p:blipFill>
        <p:spPr>
          <a:xfrm>
            <a:off x="0" y="0"/>
            <a:ext cx="9144000" cy="8458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сказки все время лежал на печ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358640" y="250344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5856840" y="24271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004760" y="4343400"/>
            <a:ext cx="23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Соловей-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разбойни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5851440" y="43210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Цар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7566120" y="4578480"/>
            <a:ext cx="1577880" cy="22050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2789280" y="4502160"/>
            <a:ext cx="1973160" cy="23558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4579920" y="2506680"/>
            <a:ext cx="1233360" cy="2071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" descr=""/>
          <p:cNvPicPr/>
          <p:nvPr/>
        </p:nvPicPr>
        <p:blipFill>
          <a:blip r:embed="rId4"/>
          <a:stretch/>
        </p:blipFill>
        <p:spPr>
          <a:xfrm>
            <a:off x="3006720" y="2678040"/>
            <a:ext cx="1403280" cy="1824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1003282188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прогнал лису из дома зайчика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129320" y="242712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обак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02040" y="235116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петуш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27160" y="4343400"/>
            <a:ext cx="14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бы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699160" y="433872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гуси-лебед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2543040" y="2617920"/>
            <a:ext cx="1708200" cy="24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"/>
          <p:cNvPicPr/>
          <p:nvPr/>
        </p:nvPicPr>
        <p:blipFill>
          <a:blip r:embed="rId2"/>
          <a:stretch/>
        </p:blipFill>
        <p:spPr>
          <a:xfrm>
            <a:off x="7013520" y="2232000"/>
            <a:ext cx="2076480" cy="2365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"/>
          <p:cNvPicPr/>
          <p:nvPr/>
        </p:nvPicPr>
        <p:blipFill>
          <a:blip r:embed="rId3"/>
          <a:stretch/>
        </p:blipFill>
        <p:spPr>
          <a:xfrm>
            <a:off x="2543040" y="4456080"/>
            <a:ext cx="1641600" cy="2335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"/>
          <p:cNvPicPr/>
          <p:nvPr/>
        </p:nvPicPr>
        <p:blipFill>
          <a:blip r:embed="rId4"/>
          <a:stretch/>
        </p:blipFill>
        <p:spPr>
          <a:xfrm>
            <a:off x="6553080" y="4722840"/>
            <a:ext cx="2536920" cy="2165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0" y="304812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Прямоугольник 1" descr=""/>
          <p:cNvPicPr/>
          <p:nvPr/>
        </p:nvPicPr>
        <p:blipFill>
          <a:blip r:embed="rId3"/>
          <a:stretch/>
        </p:blipFill>
        <p:spPr>
          <a:xfrm>
            <a:off x="2425680" y="2968560"/>
            <a:ext cx="429264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609480" y="685800"/>
            <a:ext cx="7620120" cy="70344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разрушил теремок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671400" y="232344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ло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5486400" y="2398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Носор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825120" y="425592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Медве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626440" y="4332240"/>
            <a:ext cx="19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Бегемо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5622840" y="2905200"/>
            <a:ext cx="1524240" cy="1293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" descr=""/>
          <p:cNvPicPr/>
          <p:nvPr/>
        </p:nvPicPr>
        <p:blipFill>
          <a:blip r:embed="rId2"/>
          <a:stretch/>
        </p:blipFill>
        <p:spPr>
          <a:xfrm>
            <a:off x="1173240" y="5030640"/>
            <a:ext cx="1523880" cy="13431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3"/>
          <a:stretch/>
        </p:blipFill>
        <p:spPr>
          <a:xfrm>
            <a:off x="5486400" y="5018040"/>
            <a:ext cx="2043000" cy="14907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"/>
          <p:cNvPicPr/>
          <p:nvPr/>
        </p:nvPicPr>
        <p:blipFill>
          <a:blip r:embed="rId4"/>
          <a:stretch/>
        </p:blipFill>
        <p:spPr>
          <a:xfrm>
            <a:off x="666720" y="2809800"/>
            <a:ext cx="2057400" cy="1528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ниги Мир hi-te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380880"/>
            <a:ext cx="8381880" cy="192240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в сказке вместо удочки использовал свой хвост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53720" y="2960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мыш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851440" y="289548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лоша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222920" y="475632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лис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851440" y="475632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вол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1287360" y="555156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" descr=""/>
          <p:cNvPicPr/>
          <p:nvPr/>
        </p:nvPicPr>
        <p:blipFill>
          <a:blip r:embed="rId2"/>
          <a:stretch/>
        </p:blipFill>
        <p:spPr>
          <a:xfrm>
            <a:off x="1363680" y="3435480"/>
            <a:ext cx="1447920" cy="15699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"/>
          <p:cNvPicPr/>
          <p:nvPr/>
        </p:nvPicPr>
        <p:blipFill>
          <a:blip r:embed="rId3"/>
          <a:stretch/>
        </p:blipFill>
        <p:spPr>
          <a:xfrm>
            <a:off x="5757840" y="3456000"/>
            <a:ext cx="2038320" cy="1380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4"/>
          <a:stretch/>
        </p:blipFill>
        <p:spPr>
          <a:xfrm>
            <a:off x="6159600" y="5275440"/>
            <a:ext cx="1346040" cy="148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304920" y="609480"/>
            <a:ext cx="845820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во настоящее имя       Царевны- лягушки?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914400" y="25034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1. Василиса Разум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029200" y="2438280"/>
            <a:ext cx="3352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Василис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Прекрас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14400" y="426708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3. Василиса Премудр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057640" y="4210200"/>
            <a:ext cx="30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4. Василиса Прелест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2629080" y="2967120"/>
            <a:ext cx="1760400" cy="13158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2"/>
          <a:stretch/>
        </p:blipFill>
        <p:spPr>
          <a:xfrm>
            <a:off x="7162920" y="2746440"/>
            <a:ext cx="1447560" cy="17557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"/>
          <p:cNvPicPr/>
          <p:nvPr/>
        </p:nvPicPr>
        <p:blipFill>
          <a:blip r:embed="rId3"/>
          <a:stretch/>
        </p:blipFill>
        <p:spPr>
          <a:xfrm>
            <a:off x="2344680" y="4844880"/>
            <a:ext cx="1933560" cy="2013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4"/>
          <a:stretch/>
        </p:blipFill>
        <p:spPr>
          <a:xfrm>
            <a:off x="7299360" y="4844880"/>
            <a:ext cx="1311120" cy="18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Царевна-лягушка - Кни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228600"/>
            <a:ext cx="9144000" cy="21967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ого первым встречает героиня сказки "Гуси-лебеди", отправившаяся на поиски брата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900720" y="307980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р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5634720" y="30607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Бабу Яг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898560" y="485136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яблон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643360" y="485136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п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898560" y="3598920"/>
            <a:ext cx="1879560" cy="13446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"/>
          <p:cNvPicPr/>
          <p:nvPr/>
        </p:nvPicPr>
        <p:blipFill>
          <a:blip r:embed="rId2"/>
          <a:stretch/>
        </p:blipFill>
        <p:spPr>
          <a:xfrm>
            <a:off x="6819840" y="3321000"/>
            <a:ext cx="1927440" cy="2336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3"/>
          <a:stretch/>
        </p:blipFill>
        <p:spPr>
          <a:xfrm>
            <a:off x="5632560" y="5370480"/>
            <a:ext cx="1904760" cy="1471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"/>
          <p:cNvPicPr/>
          <p:nvPr/>
        </p:nvPicPr>
        <p:blipFill>
          <a:blip r:embed="rId4"/>
          <a:stretch/>
        </p:blipFill>
        <p:spPr>
          <a:xfrm>
            <a:off x="2766960" y="4749840"/>
            <a:ext cx="1819440" cy="2209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97857833125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45:50Z</dcterms:created>
  <dc:creator>Дом</dc:creator>
  <dc:description/>
  <dc:language>en-US</dc:language>
  <cp:lastModifiedBy>Ванюшка</cp:lastModifiedBy>
  <dcterms:modified xsi:type="dcterms:W3CDTF">2017-05-25T18:50:3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