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7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29.jpeg" ContentType="image/jpeg"/>
  <Override PartName="/ppt/media/image8.png" ContentType="image/png"/>
  <Override PartName="/ppt/media/image30.jpeg" ContentType="image/jpeg"/>
  <Override PartName="/ppt/media/image5.jpeg" ContentType="image/jpeg"/>
  <Override PartName="/ppt/media/image35.gif" ContentType="image/gif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42C-72DB-43BF-9DF9-9E2C3A69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599-A832-430F-8EBF-F346F152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33BD-E41C-44C9-8038-541609C0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7930-F1AE-4DB0-90DE-4A31570E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EDBA-2145-4971-82C8-6267ABE6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B920-39BD-42A5-817C-AEFBF8F2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AF3E-BF21-448F-B997-D800FD04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887D-3438-4BF5-99B4-D97CEC37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52B2-0903-4230-9E99-6E5F2202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1F98-D1ED-4909-9305-435D159D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F02F-FA7A-475B-A405-9D1B67E7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AB7-7F6E-4FB2-AF43-115C234B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85DE-286F-4BF1-BF10-9BDA05E0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C60E-261A-4AA6-8C13-7AFB3D98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9B0E-1C1B-4D4B-B5A9-45C8AB3C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90B2-D257-4503-A0EB-0947BFE0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F171-E14A-4BD8-A75E-5D2FBEA4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ACEFE-87EC-4323-8027-1E63FA78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1EA25-57CF-4CA6-86A0-196CE5AE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B0DE2-C23F-4D26-97A0-EA851391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CC363-3A13-4265-8F32-540C1257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64588-3D8B-45D1-B420-F3C06960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EAB-929B-46A6-A2B0-EF4A5563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813E-326C-4A2D-B06C-FCAA00F5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002A7-7F08-4E35-A147-F2EA82A3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1143D-C7D2-4C15-867F-41638696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D6DCF-BB77-46D9-9E28-F65BE3DC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BC6F5-89E7-42E1-98E2-633EFDBC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E191B-47C0-4CE3-BA46-59C80334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8A602-AB2B-4E14-9916-3DE39876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B4036-BD09-4DC4-9AE4-9CEDDDD8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C0F15-470E-494E-B94D-AD61CAAF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B6879-A25C-48B7-ABF7-E8ACD2B5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F19-6BD2-44D8-A0BF-53BC0BD8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5E8B8-B428-4AFE-94D3-A368A04D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FED85-6998-4001-A9FF-ABD11AE9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C3D11-31BD-41BF-8DD8-53569060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4C0E8-4256-4C1B-92EA-923A4970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759AF-A04B-4B83-9074-0A3944F1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10694-9973-4EE3-B83C-E913C394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C2F51-1D4B-47F1-8288-951D9202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88CE9-929A-495F-981D-D84A87C9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7DD05-71C6-4469-BAD4-77968AA7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EC03-AD5F-4D80-94D0-2B4A5E69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8F5-E3FC-4A6F-996F-EBFDC89D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AF6-CFDB-4AF6-B6C6-A8AA5887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65D-24B0-4622-9525-45FCAADB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4836-4452-4C31-99E9-7973A2E1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3DBD2-DF3F-417C-B413-6BDB93C63B2B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E6EC2-AE9F-4403-8517-C0D1CBB0DED7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CAC98-F707-4089-BA08-25AF70EA2703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CFAAD-B66B-40AD-A540-D6B29E36C890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15"/>
          <p:cNvSpPr txBox="1"/>
          <p:nvPr/>
        </p:nvSpPr>
        <p:spPr>
          <a:xfrm>
            <a:off x="990720" y="2895480"/>
            <a:ext cx="71625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 гостях  у  сказк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1447920" y="762120"/>
            <a:ext cx="6629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90400" y="276120"/>
            <a:ext cx="7105680" cy="94716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Кто попил воды и стал козленочком?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970560" y="230976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Иван-Цареви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334120" y="225576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 Иванушка- дурачо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1450800" y="4743360"/>
            <a:ext cx="203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Братец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Иванушк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5562720" y="4751280"/>
            <a:ext cx="17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Емел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9" name="Рисунок 1" descr=""/>
          <p:cNvPicPr/>
          <p:nvPr/>
        </p:nvPicPr>
        <p:blipFill>
          <a:blip r:embed="rId1"/>
          <a:stretch/>
        </p:blipFill>
        <p:spPr>
          <a:xfrm>
            <a:off x="3191040" y="2878200"/>
            <a:ext cx="1152360" cy="172080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2" descr=""/>
          <p:cNvPicPr/>
          <p:nvPr/>
        </p:nvPicPr>
        <p:blipFill>
          <a:blip r:embed="rId2"/>
          <a:stretch/>
        </p:blipFill>
        <p:spPr>
          <a:xfrm>
            <a:off x="7010280" y="2703600"/>
            <a:ext cx="1067040" cy="19047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" descr=""/>
          <p:cNvPicPr/>
          <p:nvPr/>
        </p:nvPicPr>
        <p:blipFill>
          <a:blip r:embed="rId3"/>
          <a:stretch/>
        </p:blipFill>
        <p:spPr>
          <a:xfrm>
            <a:off x="3389400" y="4992840"/>
            <a:ext cx="1163520" cy="16858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"/>
          <p:cNvPicPr/>
          <p:nvPr/>
        </p:nvPicPr>
        <p:blipFill>
          <a:blip r:embed="rId4"/>
          <a:stretch/>
        </p:blipFill>
        <p:spPr>
          <a:xfrm>
            <a:off x="7280280" y="5151600"/>
            <a:ext cx="1482840" cy="161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7" descr="26584"/>
          <p:cNvPicPr/>
          <p:nvPr/>
        </p:nvPicPr>
        <p:blipFill>
          <a:blip r:embed="rId1"/>
          <a:stretch/>
        </p:blipFill>
        <p:spPr>
          <a:xfrm>
            <a:off x="0" y="0"/>
            <a:ext cx="9144000" cy="8458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914400" y="533520"/>
            <a:ext cx="7696080" cy="131292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акой герой сказки все время лежал на печи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358640" y="2503440"/>
            <a:ext cx="16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Емел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5856840" y="242712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Иван-Цареви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1004760" y="4343400"/>
            <a:ext cx="23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Соловей-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разбойни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5851440" y="4321080"/>
            <a:ext cx="18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Цар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9" name="Рисунок 1" descr=""/>
          <p:cNvPicPr/>
          <p:nvPr/>
        </p:nvPicPr>
        <p:blipFill>
          <a:blip r:embed="rId1"/>
          <a:stretch/>
        </p:blipFill>
        <p:spPr>
          <a:xfrm>
            <a:off x="7566120" y="4578480"/>
            <a:ext cx="1577880" cy="220500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2" descr=""/>
          <p:cNvPicPr/>
          <p:nvPr/>
        </p:nvPicPr>
        <p:blipFill>
          <a:blip r:embed="rId2"/>
          <a:stretch/>
        </p:blipFill>
        <p:spPr>
          <a:xfrm>
            <a:off x="2789280" y="4502160"/>
            <a:ext cx="1973160" cy="235584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3" descr=""/>
          <p:cNvPicPr/>
          <p:nvPr/>
        </p:nvPicPr>
        <p:blipFill>
          <a:blip r:embed="rId3"/>
          <a:stretch/>
        </p:blipFill>
        <p:spPr>
          <a:xfrm>
            <a:off x="4579920" y="2506680"/>
            <a:ext cx="1233360" cy="207180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4" descr=""/>
          <p:cNvPicPr/>
          <p:nvPr/>
        </p:nvPicPr>
        <p:blipFill>
          <a:blip r:embed="rId4"/>
          <a:stretch/>
        </p:blipFill>
        <p:spPr>
          <a:xfrm>
            <a:off x="3006720" y="2678040"/>
            <a:ext cx="1403280" cy="1824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1003282188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914400" y="533520"/>
            <a:ext cx="7696080" cy="131292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то прогнал лису из дома зайчика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129320" y="2427120"/>
            <a:ext cx="18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 собак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5702040" y="235116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петушо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1127160" y="4343400"/>
            <a:ext cx="14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 бы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5699160" y="4338720"/>
            <a:ext cx="28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 гуси-лебед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9" name="Рисунок 1" descr=""/>
          <p:cNvPicPr/>
          <p:nvPr/>
        </p:nvPicPr>
        <p:blipFill>
          <a:blip r:embed="rId1"/>
          <a:stretch/>
        </p:blipFill>
        <p:spPr>
          <a:xfrm>
            <a:off x="2543040" y="2617920"/>
            <a:ext cx="1708200" cy="24271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2" descr=""/>
          <p:cNvPicPr/>
          <p:nvPr/>
        </p:nvPicPr>
        <p:blipFill>
          <a:blip r:embed="rId2"/>
          <a:stretch/>
        </p:blipFill>
        <p:spPr>
          <a:xfrm>
            <a:off x="7013520" y="2232000"/>
            <a:ext cx="2076480" cy="23655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3" descr=""/>
          <p:cNvPicPr/>
          <p:nvPr/>
        </p:nvPicPr>
        <p:blipFill>
          <a:blip r:embed="rId3"/>
          <a:stretch/>
        </p:blipFill>
        <p:spPr>
          <a:xfrm>
            <a:off x="2543040" y="4456080"/>
            <a:ext cx="1641600" cy="23353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4" descr=""/>
          <p:cNvPicPr/>
          <p:nvPr/>
        </p:nvPicPr>
        <p:blipFill>
          <a:blip r:embed="rId4"/>
          <a:stretch/>
        </p:blipFill>
        <p:spPr>
          <a:xfrm>
            <a:off x="6553080" y="4722840"/>
            <a:ext cx="2536920" cy="2165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4"/>
          <p:cNvSpPr txBox="1"/>
          <p:nvPr/>
        </p:nvSpPr>
        <p:spPr>
          <a:xfrm>
            <a:off x="0" y="3048120"/>
            <a:ext cx="8534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4" name="Прямоугольник 1" descr=""/>
          <p:cNvPicPr/>
          <p:nvPr/>
        </p:nvPicPr>
        <p:blipFill>
          <a:blip r:embed="rId3"/>
          <a:stretch/>
        </p:blipFill>
        <p:spPr>
          <a:xfrm>
            <a:off x="2425680" y="2968560"/>
            <a:ext cx="429264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609480" y="685800"/>
            <a:ext cx="7620120" cy="70344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то разрушил теремок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671400" y="2323440"/>
            <a:ext cx="16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 Слон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5486400" y="23986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 Носорог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825120" y="425592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 Медвед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626440" y="4332240"/>
            <a:ext cx="199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Бегемо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8" name="Рисунок 2" descr=""/>
          <p:cNvPicPr/>
          <p:nvPr/>
        </p:nvPicPr>
        <p:blipFill>
          <a:blip r:embed="rId1"/>
          <a:stretch/>
        </p:blipFill>
        <p:spPr>
          <a:xfrm>
            <a:off x="5622840" y="2905200"/>
            <a:ext cx="1524240" cy="12938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3" descr=""/>
          <p:cNvPicPr/>
          <p:nvPr/>
        </p:nvPicPr>
        <p:blipFill>
          <a:blip r:embed="rId2"/>
          <a:stretch/>
        </p:blipFill>
        <p:spPr>
          <a:xfrm>
            <a:off x="1173240" y="5030640"/>
            <a:ext cx="1523880" cy="13431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"/>
          <p:cNvPicPr/>
          <p:nvPr/>
        </p:nvPicPr>
        <p:blipFill>
          <a:blip r:embed="rId3"/>
          <a:stretch/>
        </p:blipFill>
        <p:spPr>
          <a:xfrm>
            <a:off x="5486400" y="5018040"/>
            <a:ext cx="2043000" cy="14907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9" descr=""/>
          <p:cNvPicPr/>
          <p:nvPr/>
        </p:nvPicPr>
        <p:blipFill>
          <a:blip r:embed="rId4"/>
          <a:stretch/>
        </p:blipFill>
        <p:spPr>
          <a:xfrm>
            <a:off x="666720" y="2809800"/>
            <a:ext cx="2057400" cy="1528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книги Мир hi-tec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457200" y="380880"/>
            <a:ext cx="8381880" cy="192240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акой герой в сказке вместо удочки использовал свой хвост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1053720" y="2960640"/>
            <a:ext cx="17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 мыш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5851440" y="289548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 лошад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222920" y="4756320"/>
            <a:ext cx="14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 лис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851440" y="4756320"/>
            <a:ext cx="14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 вол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8" name="Рисунок 1" descr=""/>
          <p:cNvPicPr/>
          <p:nvPr/>
        </p:nvPicPr>
        <p:blipFill>
          <a:blip r:embed="rId1"/>
          <a:stretch/>
        </p:blipFill>
        <p:spPr>
          <a:xfrm>
            <a:off x="1287360" y="5551560"/>
            <a:ext cx="1524240" cy="12189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2" descr=""/>
          <p:cNvPicPr/>
          <p:nvPr/>
        </p:nvPicPr>
        <p:blipFill>
          <a:blip r:embed="rId2"/>
          <a:stretch/>
        </p:blipFill>
        <p:spPr>
          <a:xfrm>
            <a:off x="1363680" y="3435480"/>
            <a:ext cx="1447920" cy="156996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3" descr=""/>
          <p:cNvPicPr/>
          <p:nvPr/>
        </p:nvPicPr>
        <p:blipFill>
          <a:blip r:embed="rId3"/>
          <a:stretch/>
        </p:blipFill>
        <p:spPr>
          <a:xfrm>
            <a:off x="5757840" y="3456000"/>
            <a:ext cx="2038320" cy="13809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4" descr=""/>
          <p:cNvPicPr/>
          <p:nvPr/>
        </p:nvPicPr>
        <p:blipFill>
          <a:blip r:embed="rId4"/>
          <a:stretch/>
        </p:blipFill>
        <p:spPr>
          <a:xfrm>
            <a:off x="6159600" y="5275440"/>
            <a:ext cx="1346040" cy="1485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7" descr="image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304920" y="609480"/>
            <a:ext cx="8458200" cy="131292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аково настоящее имя       Царевны- лягушки?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914400" y="25034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1. Василиса Разумна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029200" y="2438280"/>
            <a:ext cx="3352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Василис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Прекрасна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914400" y="4267080"/>
            <a:ext cx="28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3. Василиса Премудра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5057640" y="4210200"/>
            <a:ext cx="30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4. Василиса Прелестна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8" name="Рисунок 1" descr=""/>
          <p:cNvPicPr/>
          <p:nvPr/>
        </p:nvPicPr>
        <p:blipFill>
          <a:blip r:embed="rId1"/>
          <a:stretch/>
        </p:blipFill>
        <p:spPr>
          <a:xfrm>
            <a:off x="2629080" y="2967120"/>
            <a:ext cx="1760400" cy="13158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" descr=""/>
          <p:cNvPicPr/>
          <p:nvPr/>
        </p:nvPicPr>
        <p:blipFill>
          <a:blip r:embed="rId2"/>
          <a:stretch/>
        </p:blipFill>
        <p:spPr>
          <a:xfrm>
            <a:off x="7162920" y="2746440"/>
            <a:ext cx="1447560" cy="17557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3" descr=""/>
          <p:cNvPicPr/>
          <p:nvPr/>
        </p:nvPicPr>
        <p:blipFill>
          <a:blip r:embed="rId3"/>
          <a:stretch/>
        </p:blipFill>
        <p:spPr>
          <a:xfrm>
            <a:off x="2344680" y="4844880"/>
            <a:ext cx="1933560" cy="20131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"/>
          <p:cNvPicPr/>
          <p:nvPr/>
        </p:nvPicPr>
        <p:blipFill>
          <a:blip r:embed="rId4"/>
          <a:stretch/>
        </p:blipFill>
        <p:spPr>
          <a:xfrm>
            <a:off x="7299360" y="4844880"/>
            <a:ext cx="1311120" cy="1886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Царевна-лягушка - Книг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0" y="228600"/>
            <a:ext cx="9144000" cy="219672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ого первым встречает героиня сказки "Гуси-лебеди", отправившаяся на поиски брата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900720" y="307980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 речку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5634720" y="306072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 Бабу Ягу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898560" y="4851360"/>
            <a:ext cx="22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 яблоню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643360" y="4851360"/>
            <a:ext cx="15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 печку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8" name="Рисунок 1" descr=""/>
          <p:cNvPicPr/>
          <p:nvPr/>
        </p:nvPicPr>
        <p:blipFill>
          <a:blip r:embed="rId1"/>
          <a:stretch/>
        </p:blipFill>
        <p:spPr>
          <a:xfrm>
            <a:off x="898560" y="3598920"/>
            <a:ext cx="1879560" cy="13446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" descr=""/>
          <p:cNvPicPr/>
          <p:nvPr/>
        </p:nvPicPr>
        <p:blipFill>
          <a:blip r:embed="rId2"/>
          <a:stretch/>
        </p:blipFill>
        <p:spPr>
          <a:xfrm>
            <a:off x="6819840" y="3321000"/>
            <a:ext cx="1927440" cy="23367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"/>
          <p:cNvPicPr/>
          <p:nvPr/>
        </p:nvPicPr>
        <p:blipFill>
          <a:blip r:embed="rId3"/>
          <a:stretch/>
        </p:blipFill>
        <p:spPr>
          <a:xfrm>
            <a:off x="5632560" y="5370480"/>
            <a:ext cx="1904760" cy="14716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5" descr=""/>
          <p:cNvPicPr/>
          <p:nvPr/>
        </p:nvPicPr>
        <p:blipFill>
          <a:blip r:embed="rId4"/>
          <a:stretch/>
        </p:blipFill>
        <p:spPr>
          <a:xfrm>
            <a:off x="2766960" y="4749840"/>
            <a:ext cx="1819440" cy="2209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9785783312533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3:45:50Z</dcterms:created>
  <dc:creator>Дом</dc:creator>
  <dc:description/>
  <dc:language>en-US</dc:language>
  <cp:lastModifiedBy>Ванюшка</cp:lastModifiedBy>
  <dcterms:modified xsi:type="dcterms:W3CDTF">2017-05-25T18:50:3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