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B0D-4EF2-4F43-8414-1078F568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403-5EF9-4821-AF48-E2E0E82F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2F8-7940-41D8-9924-AABE0C64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991-EA30-488A-83B3-A96332D1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AFE-3424-4BB6-9E24-62E7283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33B-56B0-4F85-91B4-7298C39B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6BE-6AC9-46F5-BF78-AA166C94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D50-0D33-4F49-AE55-52B9A24D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FB6-F06E-4A97-A433-424AF7FF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69E-00EE-4E0E-A771-88B58A43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623-D6A2-483E-9A7F-2306C23D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31D-EF03-4E8C-9745-61887018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A4B6-7966-435E-9EFF-3FE96461F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00000" y="1484280"/>
            <a:ext cx="7488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История возникновения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6" descr="220px-Cake_quarters.svg.png"/>
          <p:cNvPicPr/>
          <p:nvPr/>
        </p:nvPicPr>
        <p:blipFill>
          <a:blip r:embed="rId1"/>
          <a:stretch/>
        </p:blipFill>
        <p:spPr>
          <a:xfrm>
            <a:off x="2916360" y="2205000"/>
            <a:ext cx="3495600" cy="265428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3"/>
          <p:cNvSpPr/>
          <p:nvPr/>
        </p:nvSpPr>
        <p:spPr>
          <a:xfrm>
            <a:off x="3419640" y="5084640"/>
            <a:ext cx="57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полнила:  ученица 5-В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КОУ ЗАТО Знаменск СОШ 2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лашеина 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ль:   Сарсемалиева Р.К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а внимание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7328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чески дроби возникли в процессе из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азделить пойманную добычу, древним людям пришлось столкнуться с такой задачей: разделить на равные части одну туш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дробь, с которой познакомились люди, это полов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загружено.jpg"/>
          <p:cNvPicPr/>
          <p:nvPr/>
        </p:nvPicPr>
        <p:blipFill>
          <a:blip r:embed="rId2"/>
          <a:stretch/>
        </p:blipFill>
        <p:spPr>
          <a:xfrm>
            <a:off x="3492360" y="4221000"/>
            <a:ext cx="2505240" cy="1828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rticle015_05s"/>
          <p:cNvPicPr/>
          <p:nvPr/>
        </p:nvPicPr>
        <p:blipFill>
          <a:blip r:embed="rId1"/>
          <a:stretch/>
        </p:blipFill>
        <p:spPr>
          <a:xfrm>
            <a:off x="6588000" y="1413000"/>
            <a:ext cx="2160720" cy="30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article015_04s"/>
          <p:cNvPicPr/>
          <p:nvPr/>
        </p:nvPicPr>
        <p:blipFill>
          <a:blip r:embed="rId2"/>
          <a:stretch/>
        </p:blipFill>
        <p:spPr>
          <a:xfrm>
            <a:off x="539640" y="1413000"/>
            <a:ext cx="2043360" cy="30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rticle015_01s"/>
          <p:cNvPicPr/>
          <p:nvPr/>
        </p:nvPicPr>
        <p:blipFill>
          <a:blip r:embed="rId3"/>
          <a:stretch/>
        </p:blipFill>
        <p:spPr>
          <a:xfrm>
            <a:off x="2987640" y="1628640"/>
            <a:ext cx="3311640" cy="2168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 rot="339000">
            <a:off x="2700000" y="115560"/>
            <a:ext cx="403236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4869000"/>
            <a:ext cx="8569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ей дробью была треть. Египетская письменность имела для дробей специальные обозначения: чтобы изобразить дробь, просто ставилась точка над чис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Так обозначались дроби в древнем Егип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_0006"/>
          <p:cNvPicPr/>
          <p:nvPr/>
        </p:nvPicPr>
        <p:blipFill>
          <a:blip r:embed="rId1"/>
          <a:stretch/>
        </p:blipFill>
        <p:spPr>
          <a:xfrm>
            <a:off x="250920" y="2997360"/>
            <a:ext cx="8497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русь"/>
          <p:cNvPicPr/>
          <p:nvPr/>
        </p:nvPicPr>
        <p:blipFill>
          <a:blip r:embed="rId1"/>
          <a:stretch/>
        </p:blipFill>
        <p:spPr>
          <a:xfrm>
            <a:off x="324000" y="1484280"/>
            <a:ext cx="5184720" cy="359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3"/>
          <p:cNvPicPr/>
          <p:nvPr/>
        </p:nvPicPr>
        <p:blipFill>
          <a:blip r:embed="rId2"/>
          <a:stretch/>
        </p:blipFill>
        <p:spPr>
          <a:xfrm>
            <a:off x="5651640" y="1413000"/>
            <a:ext cx="291456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2050920" y="620640"/>
            <a:ext cx="5400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91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яя Рус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11280" y="5373720"/>
            <a:ext cx="8064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пытно, что двоичными дробями пользовались, по сути дела, в Древней Руси, где были такие дроби, как половина, четь, пол-чети, пол-пол-чет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часть первоначальной дроби получала своё собственное название. Половину в древней Руси  называ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ти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 четвёртой части говорили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 восьмой части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ч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 шестнадцатой части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полч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 д. Равные части целой мерки называ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четвёртые доли, восьмые, шестнадцатые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Periodic_decimals2.jpg"/>
          <p:cNvPicPr/>
          <p:nvPr/>
        </p:nvPicPr>
        <p:blipFill>
          <a:blip r:embed="rId1"/>
          <a:stretch/>
        </p:blipFill>
        <p:spPr>
          <a:xfrm>
            <a:off x="1979640" y="4076640"/>
            <a:ext cx="5688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collection.edu.yar.ru/dlrstore/cc975e36-20ef-f050-b103-158579fb6cd5/72933.jpg"/>
          <p:cNvPicPr/>
          <p:nvPr/>
        </p:nvPicPr>
        <p:blipFill>
          <a:blip r:embed="rId1"/>
          <a:stretch/>
        </p:blipFill>
        <p:spPr>
          <a:xfrm>
            <a:off x="28440" y="1197000"/>
            <a:ext cx="90806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ractions"/>
          <p:cNvPicPr/>
          <p:nvPr/>
        </p:nvPicPr>
        <p:blipFill>
          <a:blip r:embed="rId1"/>
          <a:stretch/>
        </p:blipFill>
        <p:spPr>
          <a:xfrm>
            <a:off x="1547640" y="3357720"/>
            <a:ext cx="6202440" cy="24811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84360" y="62064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ая система записи дробей с числителем и знаменателем была создана в Индии, только там не писали дробной черты. А записывать дробь в точности так, как сейчас, стали ара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вод: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би сопровождают нас везде, обойтись без них никак нельз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4:11:09Z</dcterms:created>
  <dc:creator>Югова</dc:creator>
  <dc:description/>
  <dc:language>en-US</dc:language>
  <cp:lastModifiedBy>RePack by SPecialiST</cp:lastModifiedBy>
  <dcterms:modified xsi:type="dcterms:W3CDTF">2017-05-25T18:03:26Z</dcterms:modified>
  <cp:revision>27</cp:revision>
  <dc:subject/>
  <dc:title>Слайд 1</dc:title>
</cp:coreProperties>
</file>