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A24-8021-4915-AC1E-2FD3558B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1E6-BC91-4B0B-BB07-375223D4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D85-D969-4673-84A0-99D65159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31A-D4B2-4B93-BCF8-E05EEFB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A3E-356E-47A1-97DA-132E6E8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8B5-B21A-4794-832C-22D4A40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280-C688-4A7F-A893-0D62068B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A45-59CF-44D0-9A61-226EFE95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C48-3002-4B48-B3BC-ECB8BA6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563-B6F8-490D-9481-5F32915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CDD-869E-48FA-97DD-7A1B6D8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DEC-B250-4ACC-8B7E-8711C4C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DEF-8067-410C-8860-7A6EFF6F3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1484280"/>
            <a:ext cx="748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История возникновения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6" descr="220px-Cake_quarters.svg.png"/>
          <p:cNvPicPr/>
          <p:nvPr/>
        </p:nvPicPr>
        <p:blipFill>
          <a:blip r:embed="rId1"/>
          <a:stretch/>
        </p:blipFill>
        <p:spPr>
          <a:xfrm>
            <a:off x="2916360" y="2205000"/>
            <a:ext cx="3495600" cy="265428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3"/>
          <p:cNvSpPr/>
          <p:nvPr/>
        </p:nvSpPr>
        <p:spPr>
          <a:xfrm>
            <a:off x="3419640" y="5084640"/>
            <a:ext cx="57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олнила:  ученица 5-В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КОУ ЗАТО Знаменск СОШ 2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лашеин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ль:   Сарсемалиева Р.К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чески дроби возникли в процессе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зделить пойманную добычу, древним людям пришлось столкнуться с такой задачей: разделить на равные части одну туш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дробь, с которой познакомились люди, это полов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загружено.jpg"/>
          <p:cNvPicPr/>
          <p:nvPr/>
        </p:nvPicPr>
        <p:blipFill>
          <a:blip r:embed="rId2"/>
          <a:stretch/>
        </p:blipFill>
        <p:spPr>
          <a:xfrm>
            <a:off x="3492360" y="422100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rticle015_05s"/>
          <p:cNvPicPr/>
          <p:nvPr/>
        </p:nvPicPr>
        <p:blipFill>
          <a:blip r:embed="rId1"/>
          <a:stretch/>
        </p:blipFill>
        <p:spPr>
          <a:xfrm>
            <a:off x="6588000" y="1413000"/>
            <a:ext cx="216072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article015_04s"/>
          <p:cNvPicPr/>
          <p:nvPr/>
        </p:nvPicPr>
        <p:blipFill>
          <a:blip r:embed="rId2"/>
          <a:stretch/>
        </p:blipFill>
        <p:spPr>
          <a:xfrm>
            <a:off x="539640" y="1413000"/>
            <a:ext cx="204336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rticle015_01s"/>
          <p:cNvPicPr/>
          <p:nvPr/>
        </p:nvPicPr>
        <p:blipFill>
          <a:blip r:embed="rId3"/>
          <a:stretch/>
        </p:blipFill>
        <p:spPr>
          <a:xfrm>
            <a:off x="2987640" y="1628640"/>
            <a:ext cx="3311640" cy="2168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 rot="339000">
            <a:off x="2700000" y="115560"/>
            <a:ext cx="403236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4869000"/>
            <a:ext cx="85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ей дробью была треть. Египетская письменность имела для дробей специальные обозначения: чтобы изобразить дробь, просто ставилась точка над чи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Так обозначались дроби в древнем Егип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0006"/>
          <p:cNvPicPr/>
          <p:nvPr/>
        </p:nvPicPr>
        <p:blipFill>
          <a:blip r:embed="rId1"/>
          <a:stretch/>
        </p:blipFill>
        <p:spPr>
          <a:xfrm>
            <a:off x="250920" y="2997360"/>
            <a:ext cx="8497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русь"/>
          <p:cNvPicPr/>
          <p:nvPr/>
        </p:nvPicPr>
        <p:blipFill>
          <a:blip r:embed="rId1"/>
          <a:stretch/>
        </p:blipFill>
        <p:spPr>
          <a:xfrm>
            <a:off x="324000" y="1484280"/>
            <a:ext cx="5184720" cy="359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3"/>
          <p:cNvPicPr/>
          <p:nvPr/>
        </p:nvPicPr>
        <p:blipFill>
          <a:blip r:embed="rId2"/>
          <a:stretch/>
        </p:blipFill>
        <p:spPr>
          <a:xfrm>
            <a:off x="5651640" y="1413000"/>
            <a:ext cx="291456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2050920" y="620640"/>
            <a:ext cx="5400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1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яя Рус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1280" y="5373720"/>
            <a:ext cx="8064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пытно, что двоичными дробями пользовались, по сути дела, в Древней Руси, где были такие дроби, как половина, четь, пол-чети, пол-пол-чет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часть первоначальной дроби получала своё собственное название. Половину в древней Руси  назыв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ти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четвёртой части говорили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восьмой части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 шестнадцатой части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полч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 д. Равные части целой мерки назыв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четвёртые доли, восьмые, шестнадцатые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Periodic_decimals2.jpg"/>
          <p:cNvPicPr/>
          <p:nvPr/>
        </p:nvPicPr>
        <p:blipFill>
          <a:blip r:embed="rId1"/>
          <a:stretch/>
        </p:blipFill>
        <p:spPr>
          <a:xfrm>
            <a:off x="1979640" y="4076640"/>
            <a:ext cx="5688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collection.edu.yar.ru/dlrstore/cc975e36-20ef-f050-b103-158579fb6cd5/72933.jpg"/>
          <p:cNvPicPr/>
          <p:nvPr/>
        </p:nvPicPr>
        <p:blipFill>
          <a:blip r:embed="rId1"/>
          <a:stretch/>
        </p:blipFill>
        <p:spPr>
          <a:xfrm>
            <a:off x="28440" y="1197000"/>
            <a:ext cx="9080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ractions"/>
          <p:cNvPicPr/>
          <p:nvPr/>
        </p:nvPicPr>
        <p:blipFill>
          <a:blip r:embed="rId1"/>
          <a:stretch/>
        </p:blipFill>
        <p:spPr>
          <a:xfrm>
            <a:off x="1547640" y="3357720"/>
            <a:ext cx="6202440" cy="24811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84360" y="62064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ая система записи дробей с числителем и знаменателем была создана в Индии, только там не писали дробной черты. А записывать дробь в точности так, как сейчас, стали ара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: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би сопровождают нас везде, обойтись без них никак нельз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11:09Z</dcterms:created>
  <dc:creator>Югова</dc:creator>
  <dc:description/>
  <dc:language>en-US</dc:language>
  <cp:lastModifiedBy>RePack by SPecialiST</cp:lastModifiedBy>
  <dcterms:modified xsi:type="dcterms:W3CDTF">2017-05-25T18:03:26Z</dcterms:modified>
  <cp:revision>27</cp:revision>
  <dc:subject/>
  <dc:title>Слайд 1</dc:title>
</cp:coreProperties>
</file>