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8CB-A9A5-4D70-A761-18D400E4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055-CCDF-4693-A59C-791DAB32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603-446E-4C56-9DB9-187B4BE7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CBD-D374-4771-BF42-B099D1B4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5323-EE08-42F4-A12F-E1A983A5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16E0-6260-4E89-B7F5-85068896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003B-7F5F-42DE-814D-EBC86BCC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D65E-68F8-49C5-B2D3-BB7E4E75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6E7F-E45F-40DC-9D85-74E42EA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760E-690B-4291-B52F-E1FD0E30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808B-832B-4BD4-8C7A-A250EC5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5A7-2729-421F-A161-2EEB79D1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D5BA-E15E-456F-9188-BFAC9EB7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7BF5-3D7A-4FA8-A205-1D1CDE2D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DFF0-3717-4128-AC6D-C4B43BD3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5EAC-7B7F-4761-BDCF-B91FC9B0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8975-D044-46F9-BF7C-4F6D8FE0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6EE4-5339-40B8-8B10-E04F1F2E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BDE0-BB08-403A-BA06-D623EF7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5444-7B3F-4EF8-B3BB-EEE9E0A2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36F1-3C43-41D0-8962-036FA2A5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0CE1-4868-416E-99B4-D5FD2B4A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4ED-4913-4154-856B-9171781E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94E3-90C7-463F-A843-D0526810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DEBE-EF4C-4C2B-BBEB-913ADB87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926A9-0D49-4C09-A844-FB04B51D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83F4-2A81-475A-BB20-D38B54E9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9485-C81B-40F5-B296-556E4529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B1CE-5098-45C0-A1B8-63FB75A4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72382-032B-4B03-9B66-2B7183F3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30166-F1BF-4EA6-A217-42A9CAD2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78B4-22C3-4522-A5E9-646B7034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467C-2FB0-46B7-AFBC-1474479B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4BA-11A0-4478-86D1-430745DE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DDF6-9E93-4EEF-869E-FB6475C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8045-93E7-4BF8-A8C5-CB043AB3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6002E-6D67-4F5B-8C13-6C9BDCFE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200E-A92A-4E11-A94F-444451E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66A8-3399-4010-8134-492C0BC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2FAF-58C4-4152-80D1-0C22A2D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94ED7-6F9C-4E1E-82BF-38297AE6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1625-7933-499C-817A-C00AF777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EBC4-68DD-4752-9C49-643D0476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22457-51E4-4BC5-BEC2-6EBF1DDF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620-0DEF-42D0-B669-42861F2B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3E00E-924E-4A1D-91F8-936B5CCF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D347-4581-42B6-BBE3-C8AE9A45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7270F-54F9-478D-85CD-6D594194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928E-9977-4AA8-9292-E4D9B622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D4FBE-36E9-4003-87C7-AAB2516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59D27-1CAA-49B5-9823-7542CB7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A0D30-87A2-4660-830D-F8F87E6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5983-AA60-464A-81D5-084B2A2E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7512-B307-4A7C-85EC-F510FC00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0D044-FC70-4ED6-A8D6-EE1B9351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F1D-E839-4C25-8BA8-6BE977F3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2D361-B80E-43FD-912D-457D32C7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48A-8006-46C7-81C7-6877D58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696-7AE6-4F3E-90FF-E61F304C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F8F-6A22-4C78-830C-BE0915B8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41A7-A31F-4E24-935B-4378D1AB716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314A-8A3A-4CC8-84E6-A09A4579F5C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0DAC-92BB-4EA0-B172-C32D7F5BD7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03DC-6916-40C9-AA5F-65D46E8052C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26FB-670B-49A6-A006-FD64303806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УРОК МАТЕМАТИКИ В 1-А КЛАССЕ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подготовила и провела учитель начальных классов МБОУ «СОШ №16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Г.Новочебоксарс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Захарова Татьяна Ива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1599840"/>
            <a:ext cx="81835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2" descr="C:\Users\Татьяна Ивановна\Desktop\откр урок\001 (2).jpg"/>
          <p:cNvPicPr/>
          <p:nvPr/>
        </p:nvPicPr>
        <p:blipFill>
          <a:blip r:embed="rId1"/>
          <a:stretch/>
        </p:blipFill>
        <p:spPr>
          <a:xfrm>
            <a:off x="785880" y="0"/>
            <a:ext cx="757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722160" y="167652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Сначала дополняем первое слагаемое до 10,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а потом прибавляем оставшиеся единиц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2-го слагаемог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5 + …</a:t>
            </a:r>
            <a:br>
              <a:rPr sz="7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9 + …</a:t>
            </a:r>
            <a:br>
              <a:rPr sz="7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7 + …</a:t>
            </a:r>
            <a:br>
              <a:rPr sz="7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4 + …</a:t>
            </a:r>
            <a:br>
              <a:rPr sz="7200"/>
            </a:b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10= 8 + …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Тема урока: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ложение однозначных чисел с переходом через десято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22160" y="167652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Сначала дополняем первое слагаемое до 10,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а потом прибавляем оставшиеся единиц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5c00"/>
                </a:solidFill>
                <a:latin typeface="Verdana"/>
              </a:rPr>
              <a:t>2-го слагаемог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305920" cy="314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ик-так, тик-так,  в доме кто умеет так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маятник в часах, отбивает каждый так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 в часах сидит кукуш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У неё своя избуш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кукует птичка врем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нова спрячется за дверь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трелки движутся по круг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е касаются друг друг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вернёмся мы с тоб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тив стрелки часов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 часы идут, иду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ногда вдруг отстаю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 бывает, что спеша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ловно убежать хотят! Если их не заведу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о они совсем встают. </a:t>
            </a:r>
            <a:br>
              <a:rPr sz="20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2" descr="C:\Users\Татьяна Ивановна\Desktop\00.jpg"/>
          <p:cNvPicPr/>
          <p:nvPr/>
        </p:nvPicPr>
        <p:blipFill>
          <a:blip r:embed="rId1"/>
          <a:stretch/>
        </p:blipFill>
        <p:spPr>
          <a:xfrm>
            <a:off x="5867280" y="137160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380880" y="2484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ычисли, сколько всего прибавили к числу, и найди сум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9 + 1 + 3 =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6 + 4 +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8 + 2 + 4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7 + 3 +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7 + 3 + 5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9 + 1 +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380880" y="2484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ычисли, сколько всего прибавили к числу, и найди сум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9 + 1 + 3 = 9 + 4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6 + 4 +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8 + 2 + 4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7 + 3 +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7 + 3 + 5 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9 + 1 +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183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На тарелке 8 огурцов, а в кастрюле на 3 огурца больше. Сколько всего  огурцов  на тарелке и в кастрюле вместе? 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0512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3" descr="C:\Users\Татьяна\Desktop\05.jpg"/>
          <p:cNvPicPr/>
          <p:nvPr/>
        </p:nvPicPr>
        <p:blipFill>
          <a:blip r:embed="rId1"/>
          <a:srcRect l="0" t="15357" r="3770" b="0"/>
          <a:stretch/>
        </p:blipFill>
        <p:spPr>
          <a:xfrm>
            <a:off x="4572000" y="25146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8"/>
          <p:cNvSpPr/>
          <p:nvPr/>
        </p:nvSpPr>
        <p:spPr>
          <a:xfrm flipV="1" rot="10800000">
            <a:off x="2085480" y="2617560"/>
            <a:ext cx="55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9"/>
          <p:cNvSpPr/>
          <p:nvPr/>
        </p:nvSpPr>
        <p:spPr>
          <a:xfrm>
            <a:off x="4724280" y="3124080"/>
            <a:ext cx="382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,на 3 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0" descr="C:\Users\Татьяна\Desktop\svezhie-ogurtsy-v-tarelke-na-derevyannom-fone-0009560017-preview.jpg"/>
          <p:cNvPicPr/>
          <p:nvPr/>
        </p:nvPicPr>
        <p:blipFill>
          <a:blip r:embed="rId2"/>
          <a:srcRect l="6966" t="7208" r="30315" b="10926"/>
          <a:stretch/>
        </p:blipFill>
        <p:spPr>
          <a:xfrm>
            <a:off x="914400" y="2590920"/>
            <a:ext cx="3429000" cy="33526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2"/>
          <p:cNvSpPr/>
          <p:nvPr/>
        </p:nvSpPr>
        <p:spPr>
          <a:xfrm flipV="1" rot="10800000">
            <a:off x="2506320" y="2951640"/>
            <a:ext cx="84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Татьяна Ивановна</cp:lastModifiedBy>
  <dcterms:modified xsi:type="dcterms:W3CDTF">2017-04-13T07:39:5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