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1E2-098A-4F49-B734-9E831E02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311-B102-4ABC-BA12-1534966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634-14F7-471F-9A1A-AA4DF625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E92-914F-4096-9C8D-2CFF46BC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114-7800-474D-B716-66C612FB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206-5C8F-40C0-9267-F3E10F9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CE7E-ADD7-45D0-9F8A-55010ECE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5719-ED8B-4D09-AE5D-676BF70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737-69C6-46EF-9F3E-85AC281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F92-43FF-46D4-8819-F92F4AC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824-634D-4FAD-9EF1-17894D1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A58-0608-413E-8A65-9FF13ABC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E92-F8B4-4551-9B19-6B332C0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B680-C931-4D7A-96BF-A418829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EE25-515D-4A06-9786-B13C771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4605-F102-4C3D-8067-F5C0D718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0CDF-FA5B-4CF6-8269-0637A8ED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6E54-9E33-440F-9B5C-704E455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EC3E-DC77-4949-9C4F-2826A14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7061-C0C4-48FB-8683-08080F8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2A31-8AAA-4029-BD4B-136E5714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E808-A5EE-40FD-92FC-2E7ED08E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C94-3A3F-4775-872B-1B69B5AD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F178-F7C8-4961-96BF-51F4D4A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3E86-96A2-497C-B4DB-9F380CB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D53B-2256-4753-A4D7-B4033DC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CAE2-9E73-449F-BB15-B4CF627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2818-1D2C-4E05-87AA-8305E5F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17D1-9C46-4177-94B7-DD65AA2F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CBAA-91EA-44BD-A812-752AFEA1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CF59-7C93-46DF-A0EF-29D70137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CDCE-9925-4AC8-A4B3-6D4B854F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CD7B-04E7-4034-9EB1-17E66DB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264-F917-4891-B57F-F3EFF56D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45CD-C739-4F5E-8649-651D499F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F56A-FE0E-4F18-9AF0-CA1A933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8523-A02A-4AEC-8C2C-A50E98D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827D-A75B-46EB-A9DD-9B07C9B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9090-00BC-4EF6-8387-C6830FE5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48F3-D1C1-42FB-8E4B-FCC4A4A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5735-F901-41B2-A444-A01DECC0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ED10-0F2B-4808-A750-F344FD1F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0A90-D07C-41B4-BC54-48DF652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92F47-FBC2-4AA2-A2D5-28AC859B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04A-A650-4302-8D91-60A9B23E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B1A1-778C-4067-95D6-2DAA385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209F-D2A8-4129-BA4D-970F8C5E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9FB16-F3DF-4D39-B237-D8016E7A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C27E-DC17-4BF8-AF72-0726A89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8581-7DD4-44A2-A718-20D1536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2F9B-B27A-486D-9690-2F35A3E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61D9B-FA1A-41A6-B8A5-0802555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F962-48F9-4D8E-8798-9807CA3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519D-C4B5-4B2F-B1FE-41F8156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C01D-6FD2-4569-8247-0506656F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198-DF6C-4391-83AB-FBDD04B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1595-512F-453C-9A21-A8D1AA03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4A6-9552-4EC9-82E3-86106A5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E29-C72B-4F12-B388-273FB5A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6DA-D3F2-4F35-9EE4-08EFCC6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7114-270A-48FF-8445-CC3A5E3258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4B1-0170-48B7-BEC6-BFBD59C91F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57D-04E1-4C77-A71C-B0C5950AB2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85CB-DA11-43FE-B673-C12474B865D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B41-CD4E-41AB-B8E7-BC90D70A50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УРОК МАТЕМАТИКИ В 1-А КЛАСС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подготовила и провела учитель начальных классов МБОУ «СОШ №16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Г.Новочебокса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Захаров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599840"/>
            <a:ext cx="81835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Users\Татьяна Ивановна\Desktop\откр урок\001 (2).jpg"/>
          <p:cNvPicPr/>
          <p:nvPr/>
        </p:nvPicPr>
        <p:blipFill>
          <a:blip r:embed="rId1"/>
          <a:stretch/>
        </p:blipFill>
        <p:spPr>
          <a:xfrm>
            <a:off x="785880" y="0"/>
            <a:ext cx="757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22160" y="167652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Сначала дополняем первое слагаемое до 10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а потом прибавляем оставшиеся единиц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2-го слагаемог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5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9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7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4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8 + …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Тема урока: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жение однозначных чисел с переходом через десято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22160" y="167652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Сначала дополняем первое слагаемое до 10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а потом прибавляем оставшиеся единиц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2-го слагаемог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305920" cy="31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к-так, тик-так,  в доме кто умеет та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маятник в часах, отбивает каждый так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в часах сидит кукуш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ё своя избуш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кукует птичка врем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нова спрячется за дверь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трелки движутся по круг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касаются друг друг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вернёмся мы с тоб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тив стрелки часов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часы идут, иду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ногда вдруг отстаю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бывает, что спеша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ловно убежать хотят! Если их не заведу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о они совсем встают. </a:t>
            </a:r>
            <a:br>
              <a:rPr sz="20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2" descr="C:\Users\Татьяна Ивановна\Desktop\00.jpg"/>
          <p:cNvPicPr/>
          <p:nvPr/>
        </p:nvPicPr>
        <p:blipFill>
          <a:blip r:embed="rId1"/>
          <a:stretch/>
        </p:blipFill>
        <p:spPr>
          <a:xfrm>
            <a:off x="5867280" y="13716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80880" y="248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числи, сколько всего прибавили к числу, и найди су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9 + 1 + 3 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6 + 4 +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8 + 2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7 + 3 +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7 + 3 + 5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9 + 1 +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380880" y="248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числи, сколько всего прибавили к числу, и найди су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9 + 1 + 3 = 9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6 + 4 +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8 + 2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7 + 3 +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7 + 3 + 5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9 + 1 +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183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На тарелке 8 огурцов, а в кастрюле на 3 огурца больше. Сколько всего  огурцов  на тарелке и в кастрюле вместе?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0512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3" descr="C:\Users\Татьяна\Desktop\05.jpg"/>
          <p:cNvPicPr/>
          <p:nvPr/>
        </p:nvPicPr>
        <p:blipFill>
          <a:blip r:embed="rId1"/>
          <a:srcRect l="0" t="15357" r="3770" b="0"/>
          <a:stretch/>
        </p:blipFill>
        <p:spPr>
          <a:xfrm>
            <a:off x="4572000" y="25146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8"/>
          <p:cNvSpPr/>
          <p:nvPr/>
        </p:nvSpPr>
        <p:spPr>
          <a:xfrm flipV="1" rot="10800000">
            <a:off x="2085480" y="2617560"/>
            <a:ext cx="5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9"/>
          <p:cNvSpPr/>
          <p:nvPr/>
        </p:nvSpPr>
        <p:spPr>
          <a:xfrm>
            <a:off x="4724280" y="3124080"/>
            <a:ext cx="382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,на 3 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0" descr="C:\Users\Татьяна\Desktop\svezhie-ogurtsy-v-tarelke-na-derevyannom-fone-0009560017-preview.jpg"/>
          <p:cNvPicPr/>
          <p:nvPr/>
        </p:nvPicPr>
        <p:blipFill>
          <a:blip r:embed="rId2"/>
          <a:srcRect l="6966" t="7208" r="30315" b="10926"/>
          <a:stretch/>
        </p:blipFill>
        <p:spPr>
          <a:xfrm>
            <a:off x="914400" y="259092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2"/>
          <p:cNvSpPr/>
          <p:nvPr/>
        </p:nvSpPr>
        <p:spPr>
          <a:xfrm flipV="1" rot="10800000">
            <a:off x="2506320" y="2951640"/>
            <a:ext cx="84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Татьяна Ивановна</cp:lastModifiedBy>
  <dcterms:modified xsi:type="dcterms:W3CDTF">2017-04-13T07:39:5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