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9C3-D069-43D2-BE2D-56A13AD0B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ACA6-E2A9-444D-9BC3-C34EA7CC9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F9D-F9BF-4DC3-AC20-00E9CFB63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A21-A5E6-4FC0-B0DC-79C808318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F6C-5C08-421C-8470-4065CB1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665-9EA8-4B25-86DB-550139D7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87F-8911-48CE-86B2-0F2BFA7B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786-F823-4B3F-8479-D7E23D77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B00-7F10-4AC0-B9AF-FEDC707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F82-8C32-46F2-89CC-C23D3FBA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D8F-A7B8-4728-A57F-9D4236DD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BBC-B6E2-4E96-97AA-9FFF898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836-037B-4677-A776-F69DE54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4BC-C69A-44CC-89F8-6F1E618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F4D-05E3-458E-9FE2-47976B9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E54-CD2C-484D-9818-66E0547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A39-FC5E-4BC4-8BBB-3F0BB2446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116000" y="765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990099"/>
                </a:solidFill>
                <a:latin typeface="Arial Unicode MS"/>
                <a:ea typeface="Arial Unicode MS"/>
              </a:rPr>
              <a:t>Организация семей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edium_1307142712_spisok-knig-dlya-chteniya-letom-3-klass"/>
          <p:cNvPicPr/>
          <p:nvPr/>
        </p:nvPicPr>
        <p:blipFill>
          <a:blip r:embed="rId1"/>
          <a:stretch/>
        </p:blipFill>
        <p:spPr>
          <a:xfrm>
            <a:off x="2268360" y="2565360"/>
            <a:ext cx="41529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16000" y="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403280" y="407880"/>
            <a:ext cx="70563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. Русские народные сказки. «Умный работник», «Лиса и журавль», «Иван-Царевич и Серый вол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. Э.Н.Успенский. «Дядя Фёдор, кот и пёс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. Русские народные сказки: «Царевна Несмеяна», «Летучий корабль», «Иван-царевич и серый волк», «Финист-Ясный сокол», «Сказка о молодильных яблоках и живой воде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. П.П.Ершов. «Конёк — Горбуно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. Ш.Перро. Сказки «Кот в сапогах», «Мальчик с пальчик», «Спящая красавица» «Золушка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. Г.-Х.Андерсен, Братья Гримм. (по выбору), сказ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. В.Ф.Одоевский. «Мороз Иванович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. А.С.Пушкин. «Сказка о рыбаке и рыбке», «Сказка о мёртвой царевне и о семи богатырях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9. Н.Н.Носов. Рассказ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. В.Ю.Драгунский. «Денискины рассказы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. В.В.Бианки. «Как Муравьишко домой спешил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2. Леонид Пантелеев. «Честное слово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. Борис Житков. «Рассказы о животных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Список литературы достаточно велик, чтобы было из чего выбрать, основываясь на интересах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0-1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919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258920" y="115920"/>
            <a:ext cx="691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ЦЕЛ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формирование у ребенка потребности в чт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возрождение традиций семейного чтения, бережного отношения в семье к книге, с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16000" y="981000"/>
            <a:ext cx="75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ая книга – источник радости. Талантливая, интересная книга учит и облагораживает человека незаметно для него самого. Семейная атмосфера чтения является основным фактором в воспитании                 потребности     и интереса     к  чт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0-361"/>
          <p:cNvPicPr/>
          <p:nvPr/>
        </p:nvPicPr>
        <p:blipFill>
          <a:blip r:embed="rId2"/>
          <a:stretch/>
        </p:blipFill>
        <p:spPr>
          <a:xfrm>
            <a:off x="1476360" y="115920"/>
            <a:ext cx="3006720" cy="351144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  <p:sp>
        <p:nvSpPr>
          <p:cNvPr id="56" name="Прямоугольник 4"/>
          <p:cNvSpPr/>
          <p:nvPr/>
        </p:nvSpPr>
        <p:spPr>
          <a:xfrm>
            <a:off x="1979640" y="3933720"/>
            <a:ext cx="5905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НИГА ЗАКЛАДЫВАЕТ ОСНОВЫ БУДУЩЕГО МИРОВОЗЗРЕНИЯ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116000" y="549360"/>
            <a:ext cx="755964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подходяще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и у родителей и у ребенка хорошее настроение, и все готовы получить удовольствие от общения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з книжки ребен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аривать с ребенком веселым, естественным голосом, показывать кар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удовольствия от общения с ребен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е забывать все время показывать ребенку свою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е за ребен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ь за его настроением. Прекращать чтение, если он начнет капризни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ость ч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несколько минут в день имеют большое значение в становлении чи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547640" y="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ЕМЕЙ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47640" y="765000"/>
            <a:ext cx="66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979640" y="4365720"/>
            <a:ext cx="6696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ы не должны забывать, что наши дети, став большими, совершенно походят на нас, имеют те же страсти и те же желания, что и 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он Ло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20210525"/>
          <p:cNvPicPr/>
          <p:nvPr/>
        </p:nvPicPr>
        <p:blipFill>
          <a:blip r:embed="rId2"/>
          <a:stretch/>
        </p:blipFill>
        <p:spPr>
          <a:xfrm>
            <a:off x="1042920" y="1052640"/>
            <a:ext cx="4249800" cy="283500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16000" y="0"/>
            <a:ext cx="748836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ство – важнейший период человеческой жизни, не подготовка к будущей жизни, а настоящая, яркая, самобытная, неповторимая жизнь. И от того, как прошло детство, кто вел ребёнка за руку в детские годы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то вошло в его разум и сердце из окружающего ми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- от этого в решающей степени зависит, каким человеком станет сегодняшний малы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042920" y="0"/>
            <a:ext cx="7561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талант писателя, а есть талант читателя. Как любой талант (а он спрятан в каждом ), его надо открывать, выращивать, лелеять, и на это уходят долгие годы детства, отрочества, ю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9a0f1f9f5749f9a99094d33a9c5f1818"/>
          <p:cNvPicPr/>
          <p:nvPr/>
        </p:nvPicPr>
        <p:blipFill>
          <a:blip r:embed="rId2"/>
          <a:stretch/>
        </p:blipFill>
        <p:spPr>
          <a:xfrm>
            <a:off x="1979640" y="3357720"/>
            <a:ext cx="3913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619280" y="132840"/>
            <a:ext cx="6840360" cy="63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писок книг на л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. Г.Х.Андерсе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винопа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тойкий оловянный солдат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2. А.Л.Барто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3. В.Д.Берестов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4. В.В.Бианки. По выбору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Мышонок П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Оранжевое горлышк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Хвос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Музыкальная канарей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иничкин календар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Лесная газе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Чей нос больш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и д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5. Братья Гримм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Бабушка Метелиц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сказ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6. А.П.Гайдар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Ёлка в тайг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7. В.М.Гарши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Лягушка-путешественниц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8. Дж.Харрис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казки дядюшки Рим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9. В.Ю.Драгун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Первый де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0. В.А.Жуков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Как мыши кота хорони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1. М.М.Зощенк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Учёная обезьян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2. В.П.Катае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Цветик-семицвет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3. Р.Киплинг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Откуда у кита такая глот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Почему у верблюда гор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лонён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4. Л.Кэрролл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Алиса в стране чуде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5. М.Ю.Лермонтов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6. С.Я.Маршак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7. С.В.Михалко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Дядя Стёп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и другие стих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8. Н.Н.Носо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Фантазё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Незнайка на Лу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9. К.Г.Паустов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Барсучий но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20. М.М.Пришви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Земля показалас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6:37:46Z</dcterms:created>
  <dc:creator>Customer</dc:creator>
  <dc:description/>
  <dc:language>en-US</dc:language>
  <cp:lastModifiedBy>lenovo</cp:lastModifiedBy>
  <dcterms:modified xsi:type="dcterms:W3CDTF">2017-05-25T16:45:15Z</dcterms:modified>
  <cp:revision>17</cp:revision>
  <dc:subject/>
  <dc:title>Слайд 1</dc:title>
</cp:coreProperties>
</file>