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6DAA-F145-4C51-976B-F6775357F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620F-7A51-4151-A3EA-3DF89FE3E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F4D-08B5-4E07-9070-114C4B74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857-05D3-4BFB-8F6A-7F836BC1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471-3CC2-4689-AAF7-597D3D68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59D-6F19-47FB-8547-26309E59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59C-C200-4085-A36D-56CD24D5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BFE-3F41-4BE2-8730-BED29863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FBC-C0F7-4F88-8B6A-3C7706DA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D56-603B-450E-9F16-18387DB1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180-26B8-4263-AA87-26410759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70E-7411-4768-AECE-56D8FF3D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1B8-A594-43E4-8880-5885BA89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DBD-527D-4792-BD2A-CD362D7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AFB9-B1E7-44DA-A4EE-39F8DFF466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choolguide.ru/index.php/english/engfavourite.html" TargetMode="External"/><Relationship Id="rId2" Type="http://schemas.openxmlformats.org/officeDocument/2006/relationships/hyperlink" Target="https://schoolguide.ru/index.php/english/engfavourite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740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МК «Перспективная начальная школа»</a:t>
            </a:r>
            <a:br>
              <a:rPr sz="4500"/>
            </a:br>
            <a:br>
              <a:rPr sz="4500"/>
            </a:b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втор: Чуракова Н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учета индивидуальных возможностей и способностей школьников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58920" y="1676160"/>
            <a:ext cx="7532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хранение разноуровневого представления знаний в течение всех лет начального обу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освоить всё содержание образования на уровне обязательного миниму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ы прочности и наглядности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2960" y="907920"/>
            <a:ext cx="82310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рез рассмотрение частного(конкретное наблюдение) к пониманию общего(постижению закономерности); от общего, т.е. от постигнутой закономерности, к частному, т.е. к способу решения конкретной учебной задач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лагает жёстко продуманную систему повторения, т. е. неоднократное возвращение к уже пройденному материал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охраны и укрепления психического и физического здоровья детей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71280" y="2060640"/>
            <a:ext cx="75610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ривычек к чистоте, порядку, аккурат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людение режима д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активного участия детей в оздоровительных мероприятиях (утренняя гимнастика, динамические паузы во время занятий в школе, экскурсии на природу и др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51280" y="1600200"/>
            <a:ext cx="16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00000" y="1052280"/>
            <a:ext cx="7056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учебно-методический комплект «Перспективная начальная школа» позволяет достичь оптимального индивидуального развития каждого ребё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858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МК «Перспективная начальная школа» включает в себя следующие завершенные предметные линии учеб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79280" y="1268280"/>
            <a:ext cx="878544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 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 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гаркова Н.Г., Агарков Ю.А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уракова Н.А., Каленчук М.Л., Малаховская О.В., Байкова Т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е чтение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втор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уракова Н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кин А.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и ИКТ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2-4 классы).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вторы: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ененсон Е.П., Паутова А.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 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това О.Н., Трафимова Г.В., Трафимов С.А., Царева Л. 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религиозных культур и светской этики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класс). 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духовно-нравственной культуры народов России. Основы светской этики.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асильева Т.Д., Савченко К.В., Тюляева Т.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шекова И.Э., Кашеков А.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елышева Т.В., Кузнецова В.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гозина Т.М., Гринева А.А., Голованова И.Л., Мылова И.Б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Шишкина А.В., Алимпиева О.П., Брехов Л.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язык 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«</a:t>
            </a:r>
            <a:r>
              <a:rPr b="1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Favourite»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-4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ы). 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ер-Минасова С.Г., Узунова Л.М., Обукаускайте Д.С., Сухина Е.И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53735"/>
                </a:solidFill>
                <a:latin typeface="Times New Roman"/>
              </a:rPr>
              <a:t>Информационно-образовательная среда</a:t>
            </a:r>
            <a:br>
              <a:rPr sz="2900"/>
            </a:br>
            <a:r>
              <a:rPr b="1" lang="ru-RU" sz="2900" spc="-1" strike="noStrike">
                <a:solidFill>
                  <a:srgbClr val="953735"/>
                </a:solidFill>
                <a:latin typeface="Times New Roman"/>
              </a:rPr>
              <a:t> УМК»перспективная начальная школа»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684360" y="2060640"/>
            <a:ext cx="2340000" cy="863640"/>
          </a:xfrm>
          <a:prstGeom prst="flowChartAlternateProcess">
            <a:avLst/>
          </a:prstGeom>
          <a:gradFill rotWithShape="0">
            <a:gsLst>
              <a:gs pos="0">
                <a:srgbClr val="ff99ff"/>
              </a:gs>
              <a:gs pos="100000">
                <a:srgbClr val="bb75fb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b363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1692360" y="2997360"/>
            <a:ext cx="0" cy="288720"/>
          </a:xfrm>
          <a:prstGeom prst="line">
            <a:avLst/>
          </a:prstGeom>
          <a:ln w="38160">
            <a:solidFill>
              <a:srgbClr val="99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179280" y="3141720"/>
            <a:ext cx="3456000" cy="2735280"/>
          </a:xfrm>
          <a:prstGeom prst="flowChartAlternateProcess">
            <a:avLst/>
          </a:prstGeom>
          <a:gradFill rotWithShape="0">
            <a:gsLst>
              <a:gs pos="0">
                <a:srgbClr val="ff99ff"/>
              </a:gs>
              <a:gs pos="100000">
                <a:srgbClr val="bb75fb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b363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программы(для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и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стома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ые и контр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6372360" y="1341360"/>
            <a:ext cx="2376360" cy="115092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c757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ог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4788000" y="2997360"/>
            <a:ext cx="4105080" cy="352728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c757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и для самостояте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для развития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источ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(хрестома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- сай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ный 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7667640" y="2565360"/>
            <a:ext cx="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7101000"/>
            <a:ext cx="4194000" cy="15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7676640"/>
            <a:ext cx="4194000" cy="7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532360" y="6524280"/>
            <a:ext cx="419436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71640" y="404640"/>
            <a:ext cx="7632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53735"/>
                </a:solidFill>
                <a:latin typeface="Times New Roman"/>
              </a:rPr>
              <a:t>Приоритетом учебно-методического комплекта</a:t>
            </a:r>
            <a:r>
              <a:rPr b="1" lang="ru-RU" sz="3200" spc="-1" strike="noStrike">
                <a:solidFill>
                  <a:srgbClr val="953735"/>
                </a:solidFill>
                <a:latin typeface="Times New Roman"/>
              </a:rPr>
              <a:t> становится формирование дея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знаватель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ч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ая идея УМК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Перспективная начальная школа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5280" y="1676160"/>
            <a:ext cx="778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птимальное развитие каждого ребенка на основе педагогической поддержки его индивидуальности (возраста, способностей, интереса, склонностей, развития) в условиях специально организованной учебной деятельности, где ученик как равноправный участник процесса обучения  выступает то в роли обучаемого, то в роли обучающего, то в роли организатора учебной ситу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ринципы УМК «Перспективная начальная шко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Принцип непрерывного общего развития кажд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00000" y="980640"/>
            <a:ext cx="79423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ает работу с разными источниками информации(учебник, хрестоматия, рабочая тетрадь, словари, Интернет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у в сотрудничестве(в малой, большой учебной групп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 разном качестве(ведущего, ведомого, организатора учебной деятельности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ую рабо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целостности картины мира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920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воссоздать целостность картины мира,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обеспечить осознание ребёнком разнообразных связей между его объектами и явлениями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учитывать межпредметные связи и разрабатывать интегрированные курсы по русскому языку и литературному чтению, по окружающему миру и технологии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 rot="10800000">
            <a:off x="456480" y="6125400"/>
            <a:ext cx="469116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18:36Z</dcterms:created>
  <dc:creator>РОМАН</dc:creator>
  <dc:description/>
  <dc:language>en-US</dc:language>
  <cp:lastModifiedBy>Юля</cp:lastModifiedBy>
  <dcterms:modified xsi:type="dcterms:W3CDTF">2017-05-25T17:41:58Z</dcterms:modified>
  <cp:revision>26</cp:revision>
  <dc:subject/>
  <dc:title>«Перспективная начальная школа»</dc:title>
</cp:coreProperties>
</file>